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11D4-A6FD-46AA-A581-829C64DA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5C4B-DEA8-40CC-9731-8247F8D0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95BE-2980-4096-A605-121F9BEFE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F4DF-F9D5-4270-B888-AA2310D1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64CA9-BED4-4C4D-9DE0-0630008F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FD559-5F9E-4320-8A81-B1312D03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0785D-A1AB-45F1-8029-90AC05DB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C96F7-63D5-4375-B810-24BBAE89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388CF-88CC-4254-BA4D-A16BDEB6A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E3E38-36CA-40C0-97D3-69E3E7C7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DC486-F9E7-45E8-B156-26ACDE2E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7D4-9121-49AF-8552-729CA763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59978F-3871-453D-B902-76142BDE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7F1F58-640C-4D31-8E29-2B47C9529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A6844-04D4-4AE3-BEAE-187D6151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C08C5-09C6-42ED-9221-ACA60BEE5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51FA5-6382-4D9E-9BAC-5FA8959C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4E2-9098-4742-ABD6-4B6DB6D20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1D88-5613-4E38-AAC0-6C5F5322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0EF5-3134-4565-833F-B7635D5B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D486-321D-4042-BF65-3A10F9548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92A2-FE0C-4603-B3C0-937A69AA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0F5A-218E-4814-98A1-CE308BE1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987D-130D-4FCD-A7CF-4DAE7950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B8E4-2EEA-472F-9ADA-E34F9D912A9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86FC-F25A-4DF5-BBF3-29D41F3DA3D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mly Lab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 Sanitiz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rgonomic inform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5E2C-07C4-4AD5-8C1B-7756819C9B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0512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lowercase string using a key, preserving spaces in # the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a lowercase string to be encoded (toEncode) and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integer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DF2-E9FC-4424-AA63-6D8FE954CE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ll-named parameters make documentation easi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’m not strict on the pre/post format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ust need to be clear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the function does (at high leve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s of 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 of th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caller knows what to pass to the function and if they should assign the output to a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F479-324A-434A-9B0D-D48032341A5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al or No Deal Over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ave 26 cases with various amounts of mone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mounts are know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selects a case (hope has the big jackpot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 each round, player opens up cas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veals amounts that are not in the case they cho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anker makes an offer to buy the ca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decides if want to take the de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Is the offer more than what is in the ca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ake decision based on amounts that haven’t been opened yet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Games ends when only one more case to open or player takes the deal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2198-B16F-40F5-B702-17913EE968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: Deal or No De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lay the game, written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: partial solution in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r job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, understand given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l in the functions for a complete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46F8-99BC-4CC9-8F8C-FE79509F18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6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arm up problems us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al or No Dea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CD48-2E0F-4AAC-8AA9-837064F0A6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 functions at top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statements at top of program (outside of any function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/algorithm improv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through the string as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ather than iterating through positions in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encode a letter if it’s not a spa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66680" y="5288040"/>
            <a:ext cx="46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h != “ “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# convert to ASCII, etc.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89B-4DB1-40FF-A8E6-8D9DBD420D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gic Numb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lot of you used 97, 122, 26 explicitly in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times not documented (commented) wh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ASCII values changed or used different representa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to use constants and lookup valu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65320" y="4640400"/>
            <a:ext cx="6835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WER_BOUND = ord(‘a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PPER_BOUND = ord(‘z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GE = UPPER_BOUND-LOWER_BOUND +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A2D9-89D7-4CF9-9CC7-454168667C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ability/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ed translate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d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lightly decreased efficiency because adds another function ca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yoff in readability domina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635-3CA2-4545-87F1-D00FA5926BC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functions, programs/modules at high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inside functions at low-level (implementation de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derived from students’ submissions)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365720"/>
            <a:ext cx="8305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5445-4B93-40D9-8522-5D62832B9A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is This a Good Commen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s the input parameters’ types and implies the type of the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ys that if you give it negative numbers, you could get a goofy answer 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include implementation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ells caller how to us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066680"/>
            <a:ext cx="83055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10E2-5513-4C60-A6B2-56E3FCC170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5680" y="373392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B62-96C0-4BF6-86C6-8E29490F3F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666880"/>
            <a:ext cx="8077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single character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eters are a single,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 lowercas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tring (char) and an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nteger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A79-EB9B-4716-AAC2-0C2FC5AB06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666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21A0-D25D-42D6-B284-D1E146EFE9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3T16:58:19Z</cp:lastPrinted>
  <dcterms:modified xsi:type="dcterms:W3CDTF">2007-10-23T18:50:03Z</dcterms:modified>
  <cp:revision>2297</cp:revision>
  <dc:subject/>
  <dc:title>PowerPoint Presentation</dc:title>
</cp:coreProperties>
</file>