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0573-C1B0-47F2-A5DD-AB9E6F9D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359-5DCF-4FA3-8C94-AA1A8899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59EC-E331-470A-A2C4-50079F0E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D0B5-0EA0-4C21-B23A-481D63080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97BD-8CE5-4050-83DC-DAAC928B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D329-1022-44DD-87BF-AA0E137E6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EB0D-BC0C-4C44-908E-0B8EE6B7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C32C-A00C-468B-8267-5C2CEC58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B9A3-640C-49F5-88A2-E9EE01C4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88FD-7516-4C9A-AA94-5BC5BD7D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4B8-5BDB-4FA4-BF92-4D19F137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FC5E-F071-41E3-A59D-B88DDE95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2, 2007</a:t>
            </a:r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706DBA0-340D-438A-B56D-E9D0DA87B588}" type="slidenum">
              <a:rPr b="0" lang="en-GB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inux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Why programming languages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Compiled vs. Interpreted Languag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gramming in Pyth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ata typ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xpress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ariab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om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rithmet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5720-B782-40B7-9334-2A28748C0FC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vs. Interpret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4038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388620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5562720"/>
            <a:ext cx="1371600" cy="83808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3"/>
            <a:endCxn id="141" idx="1"/>
          </p:cNvCxnSpPr>
          <p:nvPr/>
        </p:nvCxnSpPr>
        <p:spPr>
          <a:xfrm>
            <a:off x="4952520" y="434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6" idx="1"/>
            <a:endCxn id="143" idx="3"/>
          </p:cNvCxnSpPr>
          <p:nvPr/>
        </p:nvCxnSpPr>
        <p:spPr>
          <a:xfrm flipH="1">
            <a:off x="5638320" y="598140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04920" y="3962520"/>
            <a:ext cx="2057400" cy="7617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3"/>
            <a:endCxn id="142" idx="1"/>
          </p:cNvCxnSpPr>
          <p:nvPr/>
        </p:nvCxnSpPr>
        <p:spPr>
          <a:xfrm>
            <a:off x="2361960" y="434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6629400" y="5486400"/>
            <a:ext cx="17524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1" idx="3"/>
            <a:endCxn id="146" idx="3"/>
          </p:cNvCxnSpPr>
          <p:nvPr/>
        </p:nvCxnSpPr>
        <p:spPr>
          <a:xfrm>
            <a:off x="8152920" y="434304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095880" y="15238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1371600"/>
            <a:ext cx="1600200" cy="990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2892600"/>
            <a:ext cx="137160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1" idx="3"/>
            <a:endCxn id="150" idx="1"/>
          </p:cNvCxnSpPr>
          <p:nvPr/>
        </p:nvCxnSpPr>
        <p:spPr>
          <a:xfrm>
            <a:off x="4952520" y="1866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55" idx="0"/>
            <a:endCxn id="150" idx="2"/>
          </p:cNvCxnSpPr>
          <p:nvPr/>
        </p:nvCxnSpPr>
        <p:spPr>
          <a:xfrm flipH="1" flipV="1">
            <a:off x="7124040" y="2208960"/>
            <a:ext cx="57204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304920" y="14479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1" idx="1"/>
          </p:cNvCxnSpPr>
          <p:nvPr/>
        </p:nvCxnSpPr>
        <p:spPr>
          <a:xfrm>
            <a:off x="2361960" y="186660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6934320" y="2892600"/>
            <a:ext cx="152388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0" idx="3"/>
            <a:endCxn id="155" idx="3"/>
          </p:cNvCxnSpPr>
          <p:nvPr/>
        </p:nvCxnSpPr>
        <p:spPr>
          <a:xfrm>
            <a:off x="8152920" y="1866600"/>
            <a:ext cx="305640" cy="140868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0" idx="2"/>
            <a:endCxn id="152" idx="0"/>
          </p:cNvCxnSpPr>
          <p:nvPr/>
        </p:nvCxnSpPr>
        <p:spPr>
          <a:xfrm flipH="1">
            <a:off x="5257440" y="2209320"/>
            <a:ext cx="186768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952880" y="198108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80" y="3505320"/>
            <a:ext cx="1671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d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0" y="990720"/>
            <a:ext cx="1875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ed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60560" y="472428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2360" y="2692440"/>
            <a:ext cx="3170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immediate feedback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9040" y="5257800"/>
            <a:ext cx="266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execution speed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ts of an Algorith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mitive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at data you have, what you can do to the dat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m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dentify things we’re us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nditional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ndle special cas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petition/Loop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broutin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ll, reuse similar techniqu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 rot="2493000">
            <a:off x="5218920" y="3566880"/>
            <a:ext cx="34606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n overview for the semester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B66A-AE82-45D7-A65C-C60642A624A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6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Variabl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ypes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re the kind of thing a variable can hold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roadly, the categories of primitive types a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umer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oolea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064C-002F-4513-8B0E-58015424950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2280" y="1143000"/>
          <a:ext cx="8686800" cy="498780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6169320" y="6434280"/>
            <a:ext cx="167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Copy on board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33D-19D2-481F-AC33-53E7387D9ED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464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w big (or small or precise) can we ge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We cannot represent all val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blem: Computer has a finite capac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computer only has so much memory that it can devote to one valu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ventually, reach a cutoff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Limits size of value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Limits precision of value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5181480"/>
            <a:ext cx="5791320" cy="533520"/>
          </a:xfrm>
          <a:prstGeom prst="rect">
            <a:avLst/>
          </a:prstGeom>
          <a:noFill/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240" y="5867280"/>
            <a:ext cx="81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n reality, computers represent data in 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nary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, using only 0s and 1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69800" y="5181480"/>
            <a:ext cx="530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Tahoma"/>
              </a:rPr>
              <a:t>0  0  0  0  0  3  .  1  4  1  5  9  2  6  5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1148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I 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has more decimals, but we’re out of space!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084800" y="4876920"/>
            <a:ext cx="384120" cy="533160"/>
          </a:xfrm>
          <a:prstGeom prst="line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4C11-9D9F-456F-90D4-D62D534949F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Strings: </a:t>
            </a:r>
            <a:r>
              <a:rPr b="1" lang="en-GB" sz="4000" spc="-1" strike="noStrike">
                <a:solidFill>
                  <a:srgbClr val="2017b8"/>
                </a:solidFill>
                <a:latin typeface="Courier New"/>
              </a:rPr>
              <a:t>st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dicated by double quotes “” or single quotes ‘’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reat what is in the “” or ‘’ literall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nown as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tring litera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ello, world!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at is Sara’s cat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79B1-16EA-4F5C-AD59-8BFC7F26838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ooleans: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bo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2 val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re on these later…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value’s typ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90720" y="1422360"/>
          <a:ext cx="6858000" cy="42163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.0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+6j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“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”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047583648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‘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’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E52E-9733-4B02-84FB-D2ACD4F28757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troduction to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Variables have names, called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identifi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variable name (identifier) can be any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word that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sists of letters, numbers, or _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start with a numb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be a Python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served wor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like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etc.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ython is case-sensitive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hang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isn’t the same as </a:t>
            </a: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hang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5069-5F0C-4E20-AE9F-85693B4940D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Name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7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Variables start with lowercase lette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Constants (values that won’t change) are in all capital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Example: Variable for the current yea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 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4952880"/>
            <a:ext cx="1752480" cy="53352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19320" y="5105520"/>
            <a:ext cx="1600200" cy="45720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D431-2D59-4B80-9564-762E61F02DA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do you …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earn more about a Linux command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ist the files in a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hange your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ke a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nd out the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the shortcut for …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pa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emantic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2743200"/>
            <a:ext cx="1676520" cy="28195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69800" y="1981080"/>
            <a:ext cx="1518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32004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3434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48006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518148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96252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358128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7360" y="3352680"/>
            <a:ext cx="1352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x = 5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y = x + 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59400" y="2955960"/>
            <a:ext cx="333000" cy="433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3200400"/>
            <a:ext cx="1828800" cy="60948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5400" y="3581280"/>
            <a:ext cx="34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75240" y="4191120"/>
            <a:ext cx="333000" cy="433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4419720"/>
            <a:ext cx="1904760" cy="15228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5400" y="4343400"/>
            <a:ext cx="34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sign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Variables can be given any value using the “=“ sig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lled an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assignment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yntax: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&lt;variable&gt; = &lt;expression&gt;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After a variable is given a value, the variable is said to be </a:t>
            </a:r>
            <a:r>
              <a:rPr b="1" lang="en-GB" sz="3200" spc="-1" strike="noStrike">
                <a:solidFill>
                  <a:srgbClr val="020202"/>
                </a:solidFill>
                <a:latin typeface="Tahoma"/>
              </a:rPr>
              <a:t>initialized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These aren’t equations! Read “=” as “gets”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 = 2007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y_num = 3.4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ption = ‘q’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8521-0F37-41A5-B4FC-A53FFBC11FA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s: The R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6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Only the variable(s) to the left of the = chan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You should initialize a variable before using it on the righthand side (rhs) of a rule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You can only have one variable with any given name in a particular block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52D4-F7BE-4EF4-A5E9-238CA363096E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tera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ieces of data that are not variables are called </a:t>
            </a:r>
            <a:r>
              <a:rPr b="1" lang="en-GB" sz="3200" spc="-1" strike="noStrike">
                <a:solidFill>
                  <a:srgbClr val="020202"/>
                </a:solidFill>
                <a:latin typeface="Tahoma"/>
              </a:rPr>
              <a:t>literals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Ex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3.2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q’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ooks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3D4-09BE-49D1-87FC-634649A6AC4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rithmetic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71600" y="1398600"/>
          <a:ext cx="6095880" cy="3584520"/>
        </p:xfrm>
        <a:graphic>
          <a:graphicData uri="http://schemas.openxmlformats.org/drawingml/2006/table">
            <a:tbl>
              <a:tblPr/>
              <a:tblGrid>
                <a:gridCol w="2322360"/>
                <a:gridCol w="37735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inder (“mod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onentiation (pow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rithmetic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7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You can use the assignment operator (=) and arithmetic operators to do calculations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member your order of operations! (PEMDAS)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 thing on the left gets changed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= 4+3*10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y = 3.0/2.0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z = x+y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411480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The right-hand sides are </a:t>
            </a: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, just like in math.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E84-208D-4874-8BEE-24748E214EC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in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prin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is a func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unction: A command to do someth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isplays the result of expression(s) to the termi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int “Hello, class”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int “Your answer is”, answe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2438280" y="2779200"/>
            <a:ext cx="381240" cy="2210040"/>
          </a:xfrm>
          <a:custGeom>
            <a:avLst/>
            <a:gdLst>
              <a:gd name="textAreaLeft" fmla="*/ 243720 w 381240"/>
              <a:gd name="textAreaRight" fmla="*/ 381600 w 38124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61040" y="403560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tring literal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3429000"/>
            <a:ext cx="457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automatically adds a ‘\n’ (carriage return) after it’s printed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886200" y="3657600"/>
            <a:ext cx="838080" cy="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657600" y="5028840"/>
            <a:ext cx="838080" cy="68580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5089680"/>
            <a:ext cx="289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Use commas to print multiple “things” in one line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F411-D7D8-47FE-AE86-8CCE44D72F47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mpts user for input, gets the user’s inpu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put: for numb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aw_input for strin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idth = input(“Enter the width: “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nter the width: 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ssigns width the value the user ent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lor = raw_input(“What is your favorite color? ”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4305240" y="2324160"/>
            <a:ext cx="609840" cy="838080"/>
          </a:xfrm>
          <a:custGeom>
            <a:avLst/>
            <a:gdLst>
              <a:gd name="textAreaLeft" fmla="*/ 389520 w 609840"/>
              <a:gd name="textAreaRight" fmla="*/ 610200 w 6098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96720" y="4564080"/>
            <a:ext cx="4735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that inpu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Use English to describe what your program is doing in </a:t>
            </a: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erything after a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#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is a com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ython does not execute com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Use Com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ocument the author, high-level description of the program at the top of the progra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vide an outline of an algorith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Identifies the steps of the algorithm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cribe difficult-to-understand cod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 File Structur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290960" y="2117880"/>
            <a:ext cx="604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us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16520" y="2133720"/>
            <a:ext cx="58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8080" y="2133720"/>
            <a:ext cx="942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238280" y="-723600"/>
            <a:ext cx="304920" cy="5410080"/>
          </a:xfrm>
          <a:custGeom>
            <a:avLst/>
            <a:gdLst>
              <a:gd name="textAreaLeft" fmla="*/ 89640 w 304920"/>
              <a:gd name="textAreaRight" fmla="*/ 305280 w 304920"/>
              <a:gd name="textAreaTop" fmla="*/ 225360 h 5410080"/>
              <a:gd name="textAreaBottom" fmla="*/ 5184720 h 541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48200" y="16002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33360" y="1092240"/>
            <a:ext cx="266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48200" y="2590920"/>
            <a:ext cx="0" cy="990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4200480" y="-380880"/>
            <a:ext cx="380880" cy="7238880"/>
          </a:xfrm>
          <a:custGeom>
            <a:avLst/>
            <a:gdLst>
              <a:gd name="textAreaLeft" fmla="*/ 111960 w 380880"/>
              <a:gd name="textAreaRight" fmla="*/ 381240 w 380880"/>
              <a:gd name="textAreaTop" fmla="*/ 301320 h 7238880"/>
              <a:gd name="textAreaBottom" fmla="*/ 6937560 h 723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84720" y="3581280"/>
            <a:ext cx="134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ours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1880" y="3581280"/>
            <a:ext cx="134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35800" y="3565440"/>
            <a:ext cx="839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29280" y="30481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19400" y="30481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91040" y="3581280"/>
            <a:ext cx="689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mp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0400" y="3606840"/>
            <a:ext cx="1061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facult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80960" y="4419720"/>
            <a:ext cx="1600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our directori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19400" y="39625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7560" y="4444920"/>
            <a:ext cx="992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s11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5560" y="5511960"/>
            <a:ext cx="738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lab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5560" y="6197760"/>
            <a:ext cx="755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lab0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9400" y="5105520"/>
            <a:ext cx="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19400" y="586728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48200" y="39625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8080" y="5207040"/>
            <a:ext cx="1433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96640" y="5207040"/>
            <a:ext cx="942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urni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14880" y="4267080"/>
            <a:ext cx="1844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our web pag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396252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1280" y="4800600"/>
            <a:ext cx="53352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4800600"/>
            <a:ext cx="106668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4400" y="5943600"/>
            <a:ext cx="2689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ths through tre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lative path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dentify the Pieces of a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295280"/>
            <a:ext cx="861048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Demonstrate numeric and string in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by Sara Sprenkle for CS111 on 9/12/07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lor = raw_input("What is your favorite color? "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print "Cool!  My favorite color is _light_", color, "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cale = input("On a scale of 1 to 10, how much do you like Matt Damon? "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print "Cool!  I like him ", scale*1.8, " much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4791240"/>
            <a:ext cx="81532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fy the comments, variables, functions, expressions, assignments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dentify the Pieces of a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1295280"/>
            <a:ext cx="891540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 Demonstrate numeric and string in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 by Sara Sprenkle for CS111 on 9/12/07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lor </a:t>
            </a:r>
            <a:r>
              <a:rPr b="0" lang="en-US" sz="2000" spc="-1" strike="noStrike">
                <a:solidFill>
                  <a:srgbClr val="de67b4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aw_inpu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What is your favorite color?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Cool!  My favorite color is _light_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, color,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cale </a:t>
            </a:r>
            <a:r>
              <a:rPr b="0" lang="en-US" sz="2000" spc="-1" strike="noStrike">
                <a:solidFill>
                  <a:srgbClr val="de67b4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pu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On a scale of 1 to 10, how much do you like Matt Damon?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Cool!  I like him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fff4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1.8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 much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4791240"/>
            <a:ext cx="81532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fy the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omment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functions, </a:t>
            </a:r>
            <a:r>
              <a:rPr b="0" lang="en-US" sz="2400" spc="-1" strike="noStrike">
                <a:solidFill>
                  <a:srgbClr val="ffcc13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de67b4"/>
                </a:solidFill>
                <a:latin typeface="Arial"/>
              </a:rPr>
              <a:t>assignments,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23120" y="4114800"/>
            <a:ext cx="1652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cc13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429000" y="350496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c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verage three numb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9F18-7E5D-4B10-97F2-699B44651B04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3200400"/>
            <a:ext cx="2819520" cy="1523880"/>
            <a:chOff x="0" y="3200400"/>
            <a:chExt cx="2819520" cy="1523880"/>
          </a:xfrm>
        </p:grpSpPr>
        <p:sp>
          <p:nvSpPr>
            <p:cNvPr id="84" name=""/>
            <p:cNvSpPr/>
            <p:nvPr/>
          </p:nvSpPr>
          <p:spPr>
            <a:xfrm>
              <a:off x="2666880" y="3352680"/>
              <a:ext cx="152640" cy="13716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200400"/>
              <a:ext cx="25909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grammer (YOU!)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lates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from problem to algorithm (solution) to program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0" y="4846680"/>
            <a:ext cx="2819520" cy="943920"/>
            <a:chOff x="0" y="4846680"/>
            <a:chExt cx="2819520" cy="943920"/>
          </a:xfrm>
        </p:grpSpPr>
        <p:sp>
          <p:nvSpPr>
            <p:cNvPr id="87" name=""/>
            <p:cNvSpPr/>
            <p:nvPr/>
          </p:nvSpPr>
          <p:spPr>
            <a:xfrm>
              <a:off x="2666880" y="4923000"/>
              <a:ext cx="152640" cy="6094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4846680"/>
              <a:ext cx="25909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ython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interpreter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translates into bytecod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548640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5257800"/>
            <a:ext cx="2590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ytho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prete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ecutes the bytecode in a “virtual machine”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untime errors (e.g., divide by 0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emantic errors (not what you </a:t>
            </a: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meant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662880" y="4427640"/>
            <a:ext cx="1566720" cy="753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4386240"/>
            <a:ext cx="1219320" cy="871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75200" y="5951520"/>
            <a:ext cx="104472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1" idx="3"/>
            <a:endCxn id="100" idx="1"/>
          </p:cNvCxnSpPr>
          <p:nvPr/>
        </p:nvCxnSpPr>
        <p:spPr>
          <a:xfrm flipV="1">
            <a:off x="5029200" y="4804560"/>
            <a:ext cx="1634400" cy="183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5" idx="0"/>
            <a:endCxn id="100" idx="2"/>
          </p:cNvCxnSpPr>
          <p:nvPr/>
        </p:nvCxnSpPr>
        <p:spPr>
          <a:xfrm flipH="1" flipV="1">
            <a:off x="7446600" y="5180760"/>
            <a:ext cx="40248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7162920" y="5951520"/>
            <a:ext cx="137160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0" idx="3"/>
            <a:endCxn id="105" idx="3"/>
          </p:cNvCxnSpPr>
          <p:nvPr/>
        </p:nvCxnSpPr>
        <p:spPr>
          <a:xfrm>
            <a:off x="8229240" y="4805280"/>
            <a:ext cx="305640" cy="152496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0" idx="2"/>
            <a:endCxn id="102" idx="0"/>
          </p:cNvCxnSpPr>
          <p:nvPr/>
        </p:nvCxnSpPr>
        <p:spPr>
          <a:xfrm flipH="1">
            <a:off x="5496840" y="5181120"/>
            <a:ext cx="195012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419360" y="2311560"/>
            <a:ext cx="4648680" cy="433800"/>
            <a:chOff x="4419360" y="2311560"/>
            <a:chExt cx="4648680" cy="433800"/>
          </a:xfrm>
        </p:grpSpPr>
        <p:sp>
          <p:nvSpPr>
            <p:cNvPr id="109" name=""/>
            <p:cNvSpPr/>
            <p:nvPr/>
          </p:nvSpPr>
          <p:spPr>
            <a:xfrm>
              <a:off x="509112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41936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8600" y="4724280"/>
            <a:ext cx="29876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way to test expression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you were doing in the “shell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ur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5020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51022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5" idx="3"/>
            <a:endCxn id="114" idx="1"/>
          </p:cNvCxnSpPr>
          <p:nvPr/>
        </p:nvCxnSpPr>
        <p:spPr>
          <a:xfrm>
            <a:off x="4952520" y="407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9" idx="0"/>
            <a:endCxn id="114" idx="2"/>
          </p:cNvCxnSpPr>
          <p:nvPr/>
        </p:nvCxnSpPr>
        <p:spPr>
          <a:xfrm flipH="1" flipV="1">
            <a:off x="7124040" y="456840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0492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3"/>
            <a:endCxn id="115" idx="1"/>
          </p:cNvCxnSpPr>
          <p:nvPr/>
        </p:nvCxnSpPr>
        <p:spPr>
          <a:xfrm>
            <a:off x="2361960" y="407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6934320" y="51022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4" idx="3"/>
            <a:endCxn id="119" idx="3"/>
          </p:cNvCxnSpPr>
          <p:nvPr/>
        </p:nvCxnSpPr>
        <p:spPr>
          <a:xfrm>
            <a:off x="8152920" y="407340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4" idx="2"/>
            <a:endCxn id="116" idx="0"/>
          </p:cNvCxnSpPr>
          <p:nvPr/>
        </p:nvCxnSpPr>
        <p:spPr>
          <a:xfrm flipH="1">
            <a:off x="5257440" y="456876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029200" y="426420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4797360"/>
            <a:ext cx="4419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t feedback about which line caused the problem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preter stops validating/executing lin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A6F-EBDE-465A-AB15-79ED908FD7A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s: Java, C++, C, etc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ile whole program into bytecode/executable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n, execute the bytecode/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49320"/>
            <a:ext cx="86868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Languag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de67b4"/>
                </a:solidFill>
                <a:latin typeface="Tahoma"/>
              </a:rPr>
              <a:t>Compil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compiles program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lvl="1" marL="1093680" indent="-35388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Tahoma"/>
              <a:buChar char="•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Validate program, report syntax errors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1093680" indent="-35388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Tahoma"/>
              <a:buChar char="•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Creates </a:t>
            </a:r>
            <a:r>
              <a:rPr b="0" lang="en-GB" sz="2600" spc="-1" strike="noStrike">
                <a:solidFill>
                  <a:srgbClr val="cb98fe"/>
                </a:solidFill>
                <a:latin typeface="Tahoma"/>
              </a:rPr>
              <a:t>executable</a:t>
            </a: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 (bytecode or machine code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Execute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executable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38098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73392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5334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1" idx="3"/>
            <a:endCxn id="130" idx="1"/>
          </p:cNvCxnSpPr>
          <p:nvPr/>
        </p:nvCxnSpPr>
        <p:spPr>
          <a:xfrm>
            <a:off x="4952520" y="419076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5" idx="1"/>
            <a:endCxn id="132" idx="3"/>
          </p:cNvCxnSpPr>
          <p:nvPr/>
        </p:nvCxnSpPr>
        <p:spPr>
          <a:xfrm flipH="1">
            <a:off x="5409360" y="5829120"/>
            <a:ext cx="12200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04920" y="38098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3"/>
            <a:endCxn id="131" idx="1"/>
          </p:cNvCxnSpPr>
          <p:nvPr/>
        </p:nvCxnSpPr>
        <p:spPr>
          <a:xfrm>
            <a:off x="2361960" y="419076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6629400" y="5334120"/>
            <a:ext cx="17524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0" idx="3"/>
            <a:endCxn id="135" idx="3"/>
          </p:cNvCxnSpPr>
          <p:nvPr/>
        </p:nvCxnSpPr>
        <p:spPr>
          <a:xfrm>
            <a:off x="8152920" y="419076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5560560" y="342900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A13F-0BBB-4EE0-9763-CD1CED2E118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cp:lastPrinted>2007-09-10T23:03:20Z</cp:lastPrinted>
  <dcterms:modified xsi:type="dcterms:W3CDTF">2007-09-13T00:58:36Z</dcterms:modified>
  <cp:revision>458</cp:revision>
  <dc:subject/>
  <dc:title>Intro to Java</dc:title>
</cp:coreProperties>
</file>