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F45-454F-4B0C-B61A-A59D36D3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710-923E-477D-900A-4FCF18E7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A6D-6691-40AF-9679-37C44432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6E30-AFED-4262-BB73-503940F5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C7C48-CD16-4AFB-A5CE-F0DA1B08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28285-318D-45DF-A8CE-58F569DE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80383-20CE-42EA-90BA-FF3B39A2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E1A79-4222-465F-B8BC-B82D3622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B32FB-AA80-4058-ABC4-0EDF3EF4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1EC7D-B0DC-4CB8-B4F4-0D34DAEE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3E6F6-ADE2-42F3-B1C7-F931F864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488-E20A-44CF-AC74-E3C19983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362B2-0DA9-437D-97B1-C06AC48F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2C384-1BAA-417D-89E7-CA5415C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8FE8A-51C2-4E8B-9EEE-C28F00A7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FB02F-F13C-4616-8B9F-F3582DC0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4591C-2201-48FD-A75F-F6DB10D4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BBC-C573-4C49-AFB7-DF22CB9C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EB2-6F0F-4EE2-B2A1-AFAA5801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4440-6CF9-478A-8D4C-14ADE605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618-A9E0-4AB8-9172-0DFB81FC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206-209E-4916-90AF-8D29BB88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787-842E-4076-8563-79EF3B9A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EDF-3268-479D-BE98-F4710950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A20B-C9F4-4667-9C82-3C91569884D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B643-E598-405A-9507-60834ABB1CE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roduction to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orking with 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EC9-AF2E-4BC4-BC8D-6D1A5AC1FC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year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BE4-B008-4FA0-9069-BA148FE77B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F3E-91EB-4317-835E-16DD0CD81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of reading from a file using file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file: data/years.d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is what Python printed different than the file’s conten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to fix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2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l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1752480"/>
            <a:ext cx="3787560" cy="1557000"/>
            <a:chOff x="5105520" y="1752480"/>
            <a:chExt cx="3787560" cy="1557000"/>
          </a:xfrm>
        </p:grpSpPr>
        <p:sp>
          <p:nvSpPr>
            <p:cNvPr id="132" name=""/>
            <p:cNvSpPr/>
            <p:nvPr/>
          </p:nvSpPr>
          <p:spPr>
            <a:xfrm>
              <a:off x="5638680" y="1752480"/>
              <a:ext cx="325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Typically use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da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or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tx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file extension for these types of data/text files 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105520" y="2514240"/>
              <a:ext cx="9144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0B6-2170-432D-8424-DBDAB2B7C2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9320" y="42022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29718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800" y="30942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38120" y="34750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7800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22B-B15C-421B-AEC0-9CFBAD3C62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search a file for some term.  We want to know which lines of the file contain that term and a count of the number of lines that contained that te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988-6DF1-4DAD-BDEF-E6B8455064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ime, we want to ignore all lines that begin with “#” (a.k.a., the line is a commen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would we have comments in a data fi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ata/years2.da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we revise the previous solution to do thi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93F-13AF-43D4-9D5D-9C73C915ED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ling Numeric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been dealing with reading and writing string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 we need to do to read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numb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rom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write numbers to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9A5-512D-4E27-AA65-E32276E511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to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file object in write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yFile = file(“years.txt”, “w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create a file from 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e_write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happens if execute the program again with different user inp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4760" y="63453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6E2-3142-4DD9-9CBB-2F0BEA3D58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temp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EFD-264C-4D87-8FC5-DFBC0B1F61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C53-CF6F-4FDB-A282-ABEC0B2879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rger programs require functions to maintain readabilit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main() and other functions to break up your program into smaller, more manageable chunk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Abstrac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away” the detai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s before, you can still write smaller scripts without any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try out functions using smaller script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eed the main() function when using other functions to keep “driver” at top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therwise, functions need to be defined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842-108A-4042-8F2A-F29DA0AAB9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9320" y="39736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27432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3800" y="28656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038120" y="32464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5514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669-2C99-4BA5-B568-C0B2632BD4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tional Useful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63720"/>
          <a:ext cx="8458200" cy="5387760"/>
        </p:xfrm>
        <a:graphic>
          <a:graphicData uri="http://schemas.openxmlformats.org/drawingml/2006/table">
            <a:tbl>
              <a:tblPr/>
              <a:tblGrid>
                <a:gridCol w="2971800"/>
                <a:gridCol w="548640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ip([chars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the string with the leading and trailing characters removed.  Defaults to whitespace if no characters specified.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--stripping whitespace from beginning and end and using whitespace characters as the delimiter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, using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as the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delimiter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string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start[,end]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lowest index in the string where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.  Return -1 if not fou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lace(old, new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copy of string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ld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replaced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ew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19A-0DB2-4B6E-9411-D66C91A77B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Paradigm: Imperativ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modern programming languages ar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numbers and strings in variable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operation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data using operations, such as + (addition and concatenation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and operations are separa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to imperative: object-oriented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1A6-E062-4A5B-A6DC-4B0A32566A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is a collection of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mb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and method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interact by invoking methods on other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 perform some operation on obj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C3D-F2D4-47F8-BF94-B81611674C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been using objects and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Just didn’t call them objec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: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data type (or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 creat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type (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nimal = “cow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ound = “moo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029200"/>
            <a:ext cx="2895480" cy="10666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imal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c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u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moo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4100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58672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0800" y="45687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5114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Objects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 of type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800" y="5562720"/>
            <a:ext cx="137160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" y="4975200"/>
            <a:ext cx="161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Variable names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identifi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562720"/>
            <a:ext cx="83844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F9D-98E4-44AD-8121-76D842D546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efined methods that you can use on objects of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methods: lower, replace, find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 are similar to functions but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alled/us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ifferent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bjectname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name([parameter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 animal.upper(), sound.center(1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day: new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with its own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AD4-1912-4ECD-B52A-68755C408C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ow if need to enter a lot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ror-pro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User enters the wrong value!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f want to run again after program gets modifi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57F-D301-408F-8254-0F62CBCEE4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data once into a file, save it, and reuse it in your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for large amounts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s can use files to communic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able to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read 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write to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80060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48769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724280"/>
            <a:ext cx="121932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cri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>
            <a:off x="2228400" y="529560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3"/>
            <a:endCxn id="107" idx="1"/>
          </p:cNvCxnSpPr>
          <p:nvPr/>
        </p:nvCxnSpPr>
        <p:spPr>
          <a:xfrm>
            <a:off x="5047920" y="5295600"/>
            <a:ext cx="16390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733920" y="586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DA4-03A6-42BF-BCE1-B48B6AE02A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Use of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05092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257720"/>
            <a:ext cx="167616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974960"/>
            <a:ext cx="121896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  <a:endCxn id="115" idx="1"/>
          </p:cNvCxnSpPr>
          <p:nvPr/>
        </p:nvCxnSpPr>
        <p:spPr>
          <a:xfrm>
            <a:off x="1923840" y="254592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4" idx="0"/>
          </p:cNvCxnSpPr>
          <p:nvPr/>
        </p:nvCxnSpPr>
        <p:spPr>
          <a:xfrm>
            <a:off x="4114440" y="3137040"/>
            <a:ext cx="1080" cy="11023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200400" y="1066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eb Page (Text File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42577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1"/>
          </p:cNvCxnSpPr>
          <p:nvPr/>
        </p:nvCxnSpPr>
        <p:spPr>
          <a:xfrm>
            <a:off x="4971960" y="4676400"/>
            <a:ext cx="14104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564600" y="36781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irefo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22840" y="528804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nders” web page for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9CF-6857-4FE5-9AA2-41F2997B94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7T21:27:22Z</cp:lastPrinted>
  <dcterms:modified xsi:type="dcterms:W3CDTF">2007-10-17T21:59:52Z</dcterms:modified>
  <cp:revision>1804</cp:revision>
  <dc:subject/>
  <dc:title>PowerPoint Presentation</dc:title>
</cp:coreProperties>
</file>