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5722-4673-4CB8-BE6D-74C98BE96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2720-F927-4653-B600-1987C19C1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7C87-6710-4F71-B279-0E81024B0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EBAA-BF55-4942-935B-D74F649AA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11B9F8-1E49-491A-AEEB-7A6E6A32E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39FE08-7DE8-4429-AB9C-376B7DD20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6EA9F2-F9BB-49F9-AF65-F29A46AD2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4BBC14-D645-4FED-B908-D62E53CED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631AD5-B898-49EF-A9AC-77C7FE930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2430FD-52A9-4CAC-AA77-FD3DCE400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7392B2-25DC-4A08-BE90-8A3517813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3D90-EE10-4C6D-8123-DE792F692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7AF57E-FC49-42DE-A938-A45DE7F79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AE491E-3919-42EF-AB91-2FF59808F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B0DAD2-F12E-4617-AA48-91DBFF8F2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BA6AA8-CEDA-400D-B60E-C2F8DF427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777D77-3964-4F60-8E29-EF574FF7D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C59E-6EFE-4CFE-BB85-2E1934AD0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E15A-42C0-498B-ABAA-6DB053503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D45D-E14F-4A35-A8DB-1D1B432F5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7C72-7B5C-410D-B912-A4D916D3D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9ADB-C5E5-4714-9A94-50D863DC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8F0C-388B-4A57-9C8B-7FD6F622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671A-1F01-4F7C-869D-0BB4BDA7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Oct 23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1A2BB-66A8-4F41-80DF-5DE09CC266DA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DA0AC-3A4B-4A4E-9582-C9EF51A88CD7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armly Lab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and Sanitiz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rgonomic informa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0489-3B66-441A-A809-DD75842AC74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menting Exercis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rite a comment for this function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1905120"/>
            <a:ext cx="8077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Encodes a lowercase string using a key, preserving spaces in # the string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PRE: a lowercase string to be encoded (toEncode) and the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integer key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POST: returns the encoded string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def encode(toEncode, key):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65EF-BA35-4F4E-A32C-3EB9B93D744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menting Not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ell-named parameters make documentation easi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’m not strict on the pre/post format.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Just need to be clear 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hat the function does (at high level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ypes of parameter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ype of the outpu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e caller knows what to pass to the function and if they should assign the output to a variab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97AA-0E36-43BE-B07E-45B258E496E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eal or No Deal Overview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Have 26 cases with various amounts of money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Amounts are known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Player selects a case (hope has the big jackpot)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In each round, player opens up cases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Reveals amounts that are not in the case they chos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Banker makes an offer to buy the case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Player decides if want to take the deal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Is the offer more than what is in the case?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Make decision based on amounts that haven’t been opened yet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Games ends when only one more case to open or player takes the deal.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F6CC-FAF6-4998-8627-EA8AA5A900A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gramming: Deal or No Deal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lay the game, written in Pyth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iven: partial solution in cod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Your job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ad, understand given cod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ill in the functions for a complete solu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AF60-0323-4AC8-9F8F-507E2F58BB7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6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arm up problems using lis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al or No Dea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F339-A45B-4461-BD6A-D60A35648D1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5 Feedback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ogram organiza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ain functions at top of program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mport statements at top of program (outside of any functions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ogram/algorithm improvemen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terate through the string as character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Rather than iterating through positions in string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nly encode a letter if it’s not a spac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66680" y="5288040"/>
            <a:ext cx="466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if ch != “ “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# convert to ASCII, etc. …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B000-8A1D-40C0-A4A1-39EB198F5C9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Magic Numb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 lot of you used 97, 122, 26 explicitly in progra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ometimes not documented (commented) wh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if ASCII values changed or used different representation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etter to use constants and lookup values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65320" y="4640400"/>
            <a:ext cx="68356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LOWER_BOUND = ord(‘a’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UPPER_BOUND = ord(‘z’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RANGE = UPPER_BOUND-LOWER_BOUND + 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3AE0-D332-4428-9CC5-663F2970FE4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Readability/Efficienc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dded translateLett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mproved readabilit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lightly decreased efficiency because adds another function cal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ayoff in readability dominat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1265-0BFB-4432-85EB-63CD42DA837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ment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mment functions, programs/modules at high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mment inside functions at low-level (implementation details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 (derived from students’ submissions):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4365720"/>
            <a:ext cx="830592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This function calculates the speeding ticket fine, if speeding.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PRE: Input params are two </a:t>
            </a:r>
            <a:r>
              <a:rPr b="0" lang="en-US" sz="2200" spc="-1" strike="noStrike">
                <a:solidFill>
                  <a:srgbClr val="020202"/>
                </a:solidFill>
                <a:latin typeface="Tahoma"/>
              </a:rPr>
              <a:t>positive</a:t>
            </a: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20202"/>
                </a:solidFill>
                <a:latin typeface="Tahoma"/>
              </a:rPr>
              <a:t>numbers</a:t>
            </a: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 representing the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speed limit and the clocked speed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POST: Return the </a:t>
            </a:r>
            <a:r>
              <a:rPr b="0" lang="en-US" sz="2200" spc="-1" strike="noStrike">
                <a:solidFill>
                  <a:srgbClr val="020202"/>
                </a:solidFill>
                <a:latin typeface="Tahoma"/>
              </a:rPr>
              <a:t>computed</a:t>
            </a: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 fine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def calculateFine(speed_limit, clock_speed):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…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37A3-A119-45BD-97B9-A3D3A59D24A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y is This a Good Comment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276720"/>
            <a:ext cx="8686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scribes the input parameters’ types and implies the type of the outpu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ays that if you give it negative numbers, you could get a goofy answer back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oes not include implementation detail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Tells caller how to use the func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066680"/>
            <a:ext cx="830556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This function calculates the speeding ticket fine, if speeding.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PRE: Input params are two </a:t>
            </a:r>
            <a:r>
              <a:rPr b="0" lang="en-US" sz="2200" spc="-1" strike="noStrike">
                <a:solidFill>
                  <a:srgbClr val="020202"/>
                </a:solidFill>
                <a:latin typeface="Tahoma"/>
              </a:rPr>
              <a:t>positive</a:t>
            </a: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20202"/>
                </a:solidFill>
                <a:latin typeface="Tahoma"/>
              </a:rPr>
              <a:t>numbers</a:t>
            </a: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 representing the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speed limit and the clocked speed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POST: Return the </a:t>
            </a:r>
            <a:r>
              <a:rPr b="0" lang="en-US" sz="2200" spc="-1" strike="noStrike">
                <a:solidFill>
                  <a:srgbClr val="020202"/>
                </a:solidFill>
                <a:latin typeface="Tahoma"/>
              </a:rPr>
              <a:t>computed</a:t>
            </a: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 fine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def calculateFine(speed_limit, clock_speed):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…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7A3D-DCAD-4390-9E07-ED90875AD9B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menting Exercis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rite a comment for this function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85680" y="3733920"/>
            <a:ext cx="439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def translateLetter(char, key)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71D7-442F-4F95-81C5-DD8947C0151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menting Exercis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rite a comment for this function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2666880"/>
            <a:ext cx="80773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Encodes a single character.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PRE: Input parameters are a single,</a:t>
            </a:r>
            <a:r>
              <a:rPr b="0" lang="en-US" sz="2200" spc="-1" strike="noStrike">
                <a:solidFill>
                  <a:srgbClr val="020202"/>
                </a:solidFill>
                <a:latin typeface="Tahoma"/>
              </a:rPr>
              <a:t> lowercase</a:t>
            </a: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 character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string (char) and an </a:t>
            </a:r>
            <a:r>
              <a:rPr b="0" lang="en-US" sz="2200" spc="-1" strike="noStrike">
                <a:solidFill>
                  <a:srgbClr val="020202"/>
                </a:solidFill>
                <a:latin typeface="Tahoma"/>
              </a:rPr>
              <a:t>integer</a:t>
            </a: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 key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POST: returns the encoded character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def translateLetter(char, key):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B15F-E8B5-4422-9F77-EDEE353BCB5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menting Exercis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rite a comment for this function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26668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def encode(toEncode, key)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190A-2DA4-4767-8F08-ABA7B1AA608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cp:lastPrinted>2007-10-23T16:58:19Z</cp:lastPrinted>
  <dcterms:modified xsi:type="dcterms:W3CDTF">2007-10-23T18:50:03Z</dcterms:modified>
  <cp:revision>2297</cp:revision>
  <dc:subject/>
  <dc:title>PowerPoint Presentation</dc:title>
</cp:coreProperties>
</file>