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9E9-B96D-4FBF-B385-FF3BAF94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586A-13A9-4EDA-A2A1-4652421C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5491-4C04-4A23-8349-89F34A81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80C1-E0C0-4358-939A-02E73595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71470-18D9-4E26-9C9E-B266109B6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FCB0D-6C01-4262-B950-650F0391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BC993-2024-422C-97E2-0CBC4842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931630-B0A1-49EB-9A8A-C72CAC65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37EF0-D469-400F-835A-6C5176F5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DB3F5A-97CF-4F2B-8C98-37E86ECC0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941B2-BC09-4E4A-8189-948556FA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9402-ED0A-4F32-823D-57F59792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165F6-1142-423B-B595-F9C0F2CC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FE356-EAC0-44BD-9C30-0AA6AFF2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C2BAB-4D52-44E1-8B9F-29FFFCAC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3D2A1-FCDD-43D5-8393-3DC5914D3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7F0D6-AF83-4947-923F-BE77F8F7C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CBC7-1DB2-4666-91DD-EE8075BB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3B88-7FB7-4899-B5FA-B1C50E36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7AD-EB2A-431C-8D38-864F40116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0274-7184-4777-A6AD-575B6AC0B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CFD2-4244-4685-AC3A-FCE1E9A1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388-8F71-4315-A9F0-1B736A177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FE8A-6E5A-4ABD-B5A1-C7884625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1B39-9C6C-4930-951D-7B24A635BDD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D9F1-A8EA-4412-B5FA-89ED52382F6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ssing arrays to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35F8-0AD1-4858-B6BB-0DD9CEAEC5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ssues: Open  sour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urce is available to be read/edit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nux kernel is open sour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nux kernel is fre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 distributions add additional software, charge for O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prietary vs. open-source softwa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o has contro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you trust them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8648-BA64-4950-A8AB-A8250D7049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5T22:45:01Z</dcterms:modified>
  <cp:revision>1459</cp:revision>
  <dc:subject/>
  <dc:title>PowerPoint Presentation</dc:title>
</cp:coreProperties>
</file>