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93FE-AE55-491B-B55E-9C539BBD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493-8AB6-4610-99D8-400ABDC1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F1F-6748-4831-9FD3-9651D2F2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E39-07D1-4B1C-9F70-5A65FCC6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95A67-0495-48D6-9064-F37E01E6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2300A-061C-4873-AE12-58C09392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905DC-48A6-45ED-88B1-4803203A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932E7-847C-4522-8E73-36527C2C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E84B3-2CA8-4AFA-96E7-B06BE9BA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25F6C-A47A-4DFD-B9AF-DCC975D6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B95F7-D35C-41DB-91F5-F7963AA6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98C-B48F-4801-8063-ED587A65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D20CA-99A9-43C1-B8C1-0342AC8E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317D2-0708-4045-85F6-B9F7D2A4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50EE3-2590-461A-814F-3851D832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AD902-6FE4-4D3B-9BBC-C23FF56C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D696D-D856-49B3-919B-790DF291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705-8861-4118-9205-8CD7FC46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37C-7248-433E-BCF7-53F95903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A9B-4BC1-4B44-894B-761FBD3A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A9E-D557-47D0-9113-CBD85150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CEB-3C3F-4B06-858B-284B95D1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7642-D955-4D26-85D7-266C7C8A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760-2552-4076-A2EA-F5ECC2A8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97D8-0245-4F5E-89D5-F8E8B957CFC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4DFD-D1FD-4052-B586-B29F8D16EEF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terminism vs. Non-Determinis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no input and no randomn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 always executes the same way with the sam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nown as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r programs have been 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ing the random functions will make our program non-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ing program multiple times will result in different execution,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code readability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ter variable na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ptive, useful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blank lines with comments to separate code “block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tty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3080" y="1066680"/>
            <a:ext cx="8169480" cy="5582520"/>
          </a:xfrm>
          <a:prstGeom prst="rect">
            <a:avLst/>
          </a:prstGeom>
          <a:solidFill>
            <a:srgbClr val="ff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first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ft_s = COURT_LENGTH / jenny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ft_s = COURT_LENGTH / laura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ft_s = COURT_LENGTH / venus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second calculations to mi/h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mi_hr = (jenny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mi_hr = (laura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mi_hr = (venus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Display output nicely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      CISC111 Tennis Pros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--------------------------------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\t\t ft/s\t  mi/hr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Laura\t\t%5.2f\t %6.2f" % (laura_ft_s, laura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Jennifer \t%5.2f\t %6.2f" % (jenny_ft_s, jenny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Venus\t\t%5.2f\t %6.2f" % (venus_ft_s, venus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438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Comments, Space between blocks of cod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95680" y="2819520"/>
            <a:ext cx="1371600" cy="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4720" y="380880"/>
            <a:ext cx="32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Descriptive variable name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Use of constant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23520" y="762120"/>
            <a:ext cx="297180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33560" y="914400"/>
            <a:ext cx="990360" cy="83808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838080"/>
            <a:ext cx="38088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mplate string with 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nclude other characters besides format specifi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have more than one 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Venus %20.2f %10.2f” % (fpers, mph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%3d|” % (x*y)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3400" y="545004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Needs to be in parenthes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352680" y="4572000"/>
            <a:ext cx="60984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member to remove ~ files before prin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aves paper because extra file isn’t getting printed o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02:33Z</dcterms:created>
  <dc:creator>Sara Sprenkle</dc:creator>
  <dc:description/>
  <dc:language>en-US</dc:language>
  <cp:lastModifiedBy>Sara Sprenkle</cp:lastModifiedBy>
  <cp:lastPrinted>2007-10-02T17:42:22Z</cp:lastPrinted>
  <dcterms:modified xsi:type="dcterms:W3CDTF">2007-10-02T18:19:23Z</dcterms:modified>
  <cp:revision>29</cp:revision>
  <dc:subject/>
  <dc:title>PowerPoint Presentation</dc:title>
</cp:coreProperties>
</file>