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D81-BD43-4B20-B9FA-46A5EBDD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3EE-A93D-4CF9-A036-87FD4275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049-0B09-4D6F-A51C-BB1C4307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35B-B872-4E32-8551-926CEA94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7FCBD-154C-445B-89B6-899456AE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2D374-571A-4B66-A95D-F8880B3A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65C52-B3A8-4ADD-A0EF-DE9359C0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6E6A0-0345-4F84-9264-C41180A4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9BE7A-2E4E-4343-BA82-C3D15D52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38324-F138-41CD-8C88-1FF342A8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52D6E-D2C5-438E-BBE7-F5010AD4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D2F-1332-4D25-95D3-EB4C62F3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09B25-9010-4B76-8B5F-B972C6AE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3E7E5-B628-483F-97DC-00DE3358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D190E-073D-47D0-9AAB-85059252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2A947-3247-43DC-8224-59FC0CD6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5AE31-352C-4ED6-882C-11CA514D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4EB-945F-4A37-A857-8812BB5A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ECD-AA4D-4E79-B438-46CB39E8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F8C-A4DC-440E-9CE1-78CE86D2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275-72F4-4F70-95DB-9CBF9C1E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B1A-C35F-45CF-A018-3F6BC6E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F87-EE36-4A02-8972-B731E3FB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BEF-11E0-4BFD-ADC3-900538E6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438F-E2D9-404D-90D9-A2F477BC2D7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144D-7898-4426-84FB-C0CE2B8BC51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F17-C85D-4C36-B360-419CD8E061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2"/>
            <a:endCxn id="125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endCxn id="126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1"/>
            <a:endCxn id="126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2"/>
            <a:endCxn id="136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2644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2"/>
            <a:endCxn id="132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  <a:endCxn id="141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0" idx="2"/>
            <a:endCxn id="144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2"/>
            <a:endCxn id="147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7" idx="2"/>
            <a:endCxn id="132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8F7-BB76-437E-A829-AF58C11133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9" idx="2"/>
            <a:endCxn id="157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7" idx="2"/>
            <a:endCxn id="156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2"/>
            <a:endCxn id="161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3168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48B-9A1E-424E-BB77-E35863F4C1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return to “shortcut”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output as soon as know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are efficiency of two functions in binaryToDecimal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8E6-69F2-4741-BE3C-493412402F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ed example with swap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F69-0302-45EE-8DEB-FFA62B111E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of program scrip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d before u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a separat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s code in ma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to reuse by importing from a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tains the “black box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229-606C-4C01-B5F8-F900FCE580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any languages, you put the “driver” for your program in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ou can (and should) do this in Python as wel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thods go at the top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ers can quickly see what program do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usually takes no 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1520" y="48769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def main()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D4A-AD53-478B-B704-EC90F48A6F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l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 at the bottom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de-effect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not need to define functions befo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an “see”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 tha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function that calls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20202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unction can call other functions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18660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ldmac.p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FF6-84EE-462C-8560-E65593F560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 with a main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ldmac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F54-C5D7-4A7F-B2C3-887C445E61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hy can we name two variables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81C-368D-48A2-9188-9BB78D4B11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6320" y="426708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7680" y="60199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unction name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are like last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5486040"/>
            <a:ext cx="182880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232160"/>
            <a:ext cx="2743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Tahoma"/>
              </a:rPr>
              <a:t>Variable names</a:t>
            </a:r>
            <a:r>
              <a:rPr b="0" lang="en-US" sz="2300" spc="-1" strike="noStrike">
                <a:solidFill>
                  <a:srgbClr val="010199"/>
                </a:solidFill>
                <a:latin typeface="Tahoma"/>
              </a:rPr>
              <a:t> are like first names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24120" y="5029200"/>
            <a:ext cx="1143000" cy="3049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CFC-255A-415F-BF98-9096FB8509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it ou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987-7E39-4BDF-A384-605011CF2C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(num1, num2)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733920"/>
            <a:ext cx="99036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3733920"/>
            <a:ext cx="129564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828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alled the 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, so need to add its parameters to 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554-6A38-4FCC-BA45-CACD4CF247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E63-3A6C-4762-851C-80D44B004E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7A9-432F-41B7-B1BE-A233587AB7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0574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returned, so we no longer have to keep track of its variables on the stack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ifetim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those variables is ov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4E0-7B6D-4F7A-A311-E4B8C98A89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unctions can have the same parameter and variable names as other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ed to look at the variable’s </a:t>
            </a: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scop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determine which one you’re looking a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the stack to figure out which variable you’re us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Scope level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Loc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unction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Can only be seen within the function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ile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Whole program can acces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More on these later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92320" y="60958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cop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1BE-41B5-4BAD-B6BB-943D0A12F7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output of this program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user enters 4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720" y="2489040"/>
            <a:ext cx="67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square(n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n * 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 = input("Enter a number to be squared: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quare(num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e square is: ",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DC3-0051-4CAF-AAA9-4A6DF6ED1F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an “intuitive chunk”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oesn’t do too much or too little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reusable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Always have comment that tells what the function doe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4E6-531D-4ECE-805B-88B994B14E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e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must be true in order for the function to work correctl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num must be eve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ost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will be true when function finishes (if precondition is true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the returned value is the max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020-4035-4416-941A-EC648DAA82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good comments for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tyle: Each function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a com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ten at a high-leve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clude the precondition, postcond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be the parameters (their types) and the result (precondition and postcondition may cover thi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2C4-0F38-4FC3-8FCD-C6855EB62D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like functions, no special keyword to define a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dules are named by the file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, oldma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Python shell: import oldmac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plain what happen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04E-0DDC-447B-9272-C8957868B0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F51-6374-4ECC-B7DE-473ACB49B5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 that our program doesn’t execute when it is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import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a program, at bottom, ad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__name__ == '__main__’ 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e files now listed in the direct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536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 important how this works; just know when to u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038480" y="2765520"/>
            <a:ext cx="13716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AB1-7265-440E-8863-74933396F3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would you want to do thi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main function as driver to test functions in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access one of the defined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EIEI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FCA-53C5-4102-A8A2-199CFAE39A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 Read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icrosoft Excel 2007 bu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381-B5F5-420B-9065-49212380194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368640" y="267336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15D-81E1-42FC-A725-8660C73BAE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F28-D82A-40D2-8706-8A8D57D9C0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3E5-DFC1-4A75-8F42-64176A53CC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D6D-4B45-451C-AF5D-1069E36DA9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Old McDonal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 verse of the song go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on that farm he had a dog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 a ruff, ruff 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a ruff, ruff t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ere a ruff, there a ruff, everywhere a ruff, ruff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rite a function to print a ver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y does it make sense to write a function for the ver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in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out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189-B043-4A32-A026-80A631AAD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output/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A41-AE30-4859-BE17-763080423C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5T20:49:48Z</cp:lastPrinted>
  <dcterms:modified xsi:type="dcterms:W3CDTF">2007-10-15T20:53:54Z</dcterms:modified>
  <cp:revision>1444</cp:revision>
  <dc:subject/>
  <dc:title>PowerPoint Presentation</dc:title>
</cp:coreProperties>
</file>