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140-0FC5-498D-8AEF-AE9D23AE2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0E49-BAD2-48ED-AB23-CBBEC12D5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16FD-3A77-4169-B776-2D235A4C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9C1F-1F79-4CFE-A3BE-38705810D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AC90A-AF7B-4AA0-B2B6-B57FEB1CA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66EB7F-119C-4CE4-A363-DB70B264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A02D18-F74A-4D81-B5D3-23D07F60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27D52-8B6D-4279-80C3-FE3B1782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A7D41-9851-457A-8395-92B98B4D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AF3A80-0CE6-485D-81A1-2ACF48572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26A42A-54D3-4DFE-84DE-F56A921A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E2C9-0680-4EFF-8011-535AC4E8A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92B284-8C54-4219-A93D-8E3356B61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24F6CF-440B-4D92-B586-B7F2D03C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6CD09-629F-462B-8013-2CC0FC8A9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22809C-432E-40D1-98C9-54F9320A6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E33E3-028E-41BE-916B-7D9AE95F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9F5B-F1D7-4D2D-B675-84F52903F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B98F-2281-4BA9-969D-B1FD7D5A1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B2C0-4505-4806-AD5D-95EF5AC3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F5AE-186F-48D6-A72D-840A4855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9F71-2D30-40B0-B7A8-7BFF5951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712C-BDAE-4AED-BBDF-B5775206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F9F-11CF-467C-B84C-2B89E126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14B5-65F8-4F63-AF0B-79132442411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2468-3114-43A8-8853-B240FEBEC99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condition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A41-E60A-4EFE-998B-72A03E2986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Complex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Two logical values: True and False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Combine conditions with </a:t>
            </a: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 operator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only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both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perands are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at leas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ne operand is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no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the operand is not True</a:t>
            </a: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English example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raining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col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Saturday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Sun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3280-F50C-4432-8E4C-38516101BE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7400" y="13719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87B-E077-48F9-9C0C-50AD9348BB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7400" y="1368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F6D3-BC5C-49D8-93D9-FD0B343BFD0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outpu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 = 3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z = 4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 = x==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 = not b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and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or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not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 b, c,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440" y="62485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val_cond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6973-4CC8-4143-BBA4-1B64C429EF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Grade Input Rang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force that user must input a numeric grade between 0 and 1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B95-AE1F-4557-ABBD-DD0F3D611D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hort-circuit Evalu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cessarily need to evaluate all expressions in a compound expres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and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false, compound expression is fal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or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true, compound expression i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 need to evaluate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more important/limiting expression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7320" y="5516640"/>
            <a:ext cx="48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ount &gt; 0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sum/count &gt; 10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o someth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43C-1CCF-449A-BCD8-8E7AA5C453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CC73-5E2F-46E8-91DA-CAEA41019A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 Synta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statement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89154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ke a looped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if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xecute statements only when condition is tru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0320" y="16005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while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360" y="1828800"/>
            <a:ext cx="1981080" cy="15228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E10F-B507-4553-9F65-D3873EE2040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2"/>
            <a:endCxn id="171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72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5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6" idx="2"/>
            <a:endCxn id="172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748-AF41-4387-967D-F0AA3FFF183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  <a:endCxn id="187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91" idx="2"/>
            <a:endCxn id="188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7" idx="2"/>
            <a:endCxn id="191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2"/>
            <a:endCxn id="188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nitialize i before using in condi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38080" y="1143000"/>
            <a:ext cx="914400" cy="380880"/>
          </a:xfrm>
          <a:prstGeom prst="line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2F9B-59F7-4DC3-B697-5767456014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ick Tri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ing the same string repeated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the * operator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Quick way to draw the line in the multiplication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1800" y="39625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 x in xrange(0,14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 += “-”*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83D2-BAD5-4A38-978C-79CA904C1B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Will This Loop Do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count &gt;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cou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+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A37-3644-4426-8CAF-D5D3D82C33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finit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 will never be false so keeps execu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stop an executing program in Linux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-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48E0-A38F-4E42-9E23-68AA207DB2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: Citing Wikipedi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ere the major issues that the article brought up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is article relate to this cour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0200" y="4525920"/>
            <a:ext cx="12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1120" y="4530600"/>
            <a:ext cx="10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7640" y="4518000"/>
            <a:ext cx="11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aur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ADD-6525-4A42-AC67-E26557CAC0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gle founders: Larry Page and Sergey Bri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nford CS graduate stud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infolab.stanford.edu/~backrub/google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ed on PageRan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 href=“webpage”&gt;description&lt;/a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ges linked with same description most get higher ran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ank pages linked from highly-ranked pages hig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0E9A-30FC-41BB-9A3E-347C5D012E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ikiScann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irgil Griffit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rad student, trouble maker :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so discovered vulnerabilities in Black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es information from two databa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of anonymous edi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belong to what compan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6324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solve_ips.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E8B1-086F-4CC4-8A15-8CEDF4F9D4A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uses Linux Clus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high-performance cluster, high up-ti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various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-gathering (spidering the Web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0859-8094-409E-97C7-DE696BC086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lational Operat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75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199"/>
                </a:solidFill>
                <a:latin typeface="Arial"/>
              </a:rPr>
              <a:t>&lt;expression&gt; &lt;relational_operator&gt;&lt;expression&gt;</a:t>
            </a:r>
            <a:endParaRPr b="0" lang="en-US" sz="27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362320"/>
          <a:ext cx="6858000" cy="4049640"/>
        </p:xfrm>
        <a:graphic>
          <a:graphicData uri="http://schemas.openxmlformats.org/drawingml/2006/table">
            <a:tbl>
              <a:tblPr/>
              <a:tblGrid>
                <a:gridCol w="2133360"/>
                <a:gridCol w="472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Relational Operat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=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!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ot 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6200000">
            <a:off x="-632880" y="4582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Low preceden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062-834B-4CCD-B341-D1C591B3D09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f-Else-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6765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8954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93" idx="0"/>
          </p:cNvCxnSpPr>
          <p:nvPr/>
        </p:nvCxnSpPr>
        <p:spPr>
          <a:xfrm flipH="1">
            <a:off x="952200" y="2146320"/>
            <a:ext cx="87696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057400" y="289548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>
            <a:off x="1828440" y="2146320"/>
            <a:ext cx="114372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28600" y="5715000"/>
            <a:ext cx="19810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2"/>
            <a:endCxn id="97" idx="0"/>
          </p:cNvCxnSpPr>
          <p:nvPr/>
        </p:nvCxnSpPr>
        <p:spPr>
          <a:xfrm>
            <a:off x="952200" y="3365280"/>
            <a:ext cx="267120" cy="2337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100" idx="0"/>
          </p:cNvCxnSpPr>
          <p:nvPr/>
        </p:nvCxnSpPr>
        <p:spPr>
          <a:xfrm flipH="1">
            <a:off x="2552400" y="336564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35040" y="2298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0560" y="2286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99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f x %2 == 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a multiple of 2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if x%3==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 is a multiple of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2" marL="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not a multiple of 2 or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038480"/>
            <a:ext cx="23623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1120" y="3441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86200"/>
            <a:ext cx="221004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5" idx="2"/>
            <a:endCxn id="105" idx="0"/>
          </p:cNvCxnSpPr>
          <p:nvPr/>
        </p:nvCxnSpPr>
        <p:spPr>
          <a:xfrm>
            <a:off x="2971440" y="3365280"/>
            <a:ext cx="217260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97" idx="0"/>
          </p:cNvCxnSpPr>
          <p:nvPr/>
        </p:nvCxnSpPr>
        <p:spPr>
          <a:xfrm flipH="1">
            <a:off x="1218960" y="4508640"/>
            <a:ext cx="1334160" cy="1194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  <a:endCxn id="97" idx="0"/>
          </p:cNvCxnSpPr>
          <p:nvPr/>
        </p:nvCxnSpPr>
        <p:spPr>
          <a:xfrm flipH="1">
            <a:off x="1218600" y="4660560"/>
            <a:ext cx="3925080" cy="10422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05792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500F-9BF4-4BFA-8596-50FFF6E03D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9320" y="1298520"/>
            <a:ext cx="3620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362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i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8A3-B1DB-4F62-8187-66FECCA910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9320" y="1298520"/>
            <a:ext cx="36205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5909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286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e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933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is structure can be rewritten as a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-elif-els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89348-6AA1-44BB-B10E-31D8ED3A0D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dify: Check for Other Bad In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is program determines your birth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given your age and current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ge = input("Enter your age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age &gt; 110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Don't be ridiculous, you can't be that old.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urrentYear = input("Enter the current year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birthyear = currentYear - ag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You were either born in", birthyear, "or", birthyear-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06CF-FA72-4EFE-8BB5-F850CCEF960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to Letter Gra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ermine if a numeric grade is a letter grade  (A, B, C, D, or F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2685960"/>
          <a:ext cx="6858000" cy="3105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umeric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tter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0 and abov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0 to below 90 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0 to below 8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 to below 7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elow 6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1A2E-6A5A-4D07-958D-CAEB0CE513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with 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sure have test cases that execute each branch in control flow dia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Each execution path is “covered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6668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2"/>
            <a:endCxn id="127" idx="0"/>
          </p:cNvCxnSpPr>
          <p:nvPr/>
        </p:nvCxnSpPr>
        <p:spPr>
          <a:xfrm flipH="1">
            <a:off x="1942920" y="3137040"/>
            <a:ext cx="87696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048120" y="373392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2"/>
            <a:endCxn id="129" idx="0"/>
          </p:cNvCxnSpPr>
          <p:nvPr/>
        </p:nvCxnSpPr>
        <p:spPr>
          <a:xfrm>
            <a:off x="2819160" y="3137040"/>
            <a:ext cx="114372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95280" y="5943600"/>
            <a:ext cx="198144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31" idx="0"/>
          </p:cNvCxnSpPr>
          <p:nvPr/>
        </p:nvCxnSpPr>
        <p:spPr>
          <a:xfrm>
            <a:off x="1943280" y="4203720"/>
            <a:ext cx="343440" cy="1728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4" idx="0"/>
          </p:cNvCxnSpPr>
          <p:nvPr/>
        </p:nvCxnSpPr>
        <p:spPr>
          <a:xfrm flipH="1">
            <a:off x="3543120" y="420372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25760" y="3289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12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876920"/>
            <a:ext cx="236196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1840" y="42800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724280"/>
            <a:ext cx="220968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9" idx="2"/>
            <a:endCxn id="138" idx="0"/>
          </p:cNvCxnSpPr>
          <p:nvPr/>
        </p:nvCxnSpPr>
        <p:spPr>
          <a:xfrm>
            <a:off x="3962520" y="4203360"/>
            <a:ext cx="217188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2"/>
            <a:endCxn id="131" idx="0"/>
          </p:cNvCxnSpPr>
          <p:nvPr/>
        </p:nvCxnSpPr>
        <p:spPr>
          <a:xfrm flipH="1">
            <a:off x="2285280" y="5346360"/>
            <a:ext cx="1258200" cy="585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2"/>
            <a:endCxn id="131" idx="0"/>
          </p:cNvCxnSpPr>
          <p:nvPr/>
        </p:nvCxnSpPr>
        <p:spPr>
          <a:xfrm flipH="1">
            <a:off x="2285280" y="5499000"/>
            <a:ext cx="3848760" cy="43272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048640" y="4114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9000" y="3048120"/>
            <a:ext cx="1307880" cy="2895480"/>
          </a:xfrm>
          <a:custGeom>
            <a:avLst/>
            <a:gdLst/>
            <a:ahLst/>
            <a:rect l="l" t="t" r="r" b="b"/>
            <a:pathLst>
              <a:path w="824" h="1824">
                <a:moveTo>
                  <a:pt x="824" y="0"/>
                </a:moveTo>
                <a:cubicBezTo>
                  <a:pt x="516" y="64"/>
                  <a:pt x="208" y="128"/>
                  <a:pt x="104" y="432"/>
                </a:cubicBezTo>
                <a:cubicBezTo>
                  <a:pt x="0" y="736"/>
                  <a:pt x="184" y="1592"/>
                  <a:pt x="20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048120"/>
            <a:ext cx="1511280" cy="2895480"/>
          </a:xfrm>
          <a:custGeom>
            <a:avLst/>
            <a:gdLst/>
            <a:ahLst/>
            <a:rect l="l" t="t" r="r" b="b"/>
            <a:pathLst>
              <a:path w="952" h="1824">
                <a:moveTo>
                  <a:pt x="384" y="0"/>
                </a:moveTo>
                <a:cubicBezTo>
                  <a:pt x="628" y="132"/>
                  <a:pt x="872" y="264"/>
                  <a:pt x="912" y="480"/>
                </a:cubicBezTo>
                <a:cubicBezTo>
                  <a:pt x="952" y="696"/>
                  <a:pt x="776" y="1072"/>
                  <a:pt x="624" y="1296"/>
                </a:cubicBezTo>
                <a:cubicBezTo>
                  <a:pt x="472" y="1520"/>
                  <a:pt x="236" y="1672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8120"/>
            <a:ext cx="2717640" cy="2895480"/>
          </a:xfrm>
          <a:custGeom>
            <a:avLst/>
            <a:gdLst/>
            <a:ahLst/>
            <a:rect l="l" t="t" r="r" b="b"/>
            <a:pathLst>
              <a:path w="1712" h="1824">
                <a:moveTo>
                  <a:pt x="144" y="0"/>
                </a:moveTo>
                <a:cubicBezTo>
                  <a:pt x="336" y="188"/>
                  <a:pt x="528" y="376"/>
                  <a:pt x="768" y="576"/>
                </a:cubicBezTo>
                <a:cubicBezTo>
                  <a:pt x="1008" y="776"/>
                  <a:pt x="1712" y="992"/>
                  <a:pt x="1584" y="1200"/>
                </a:cubicBezTo>
                <a:cubicBezTo>
                  <a:pt x="1456" y="1408"/>
                  <a:pt x="728" y="1616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3040" y="31240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ree execution path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5AF-D5CE-42B6-90B7-8122355F41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4T19:07:35Z</dcterms:modified>
  <cp:revision>667</cp:revision>
  <dc:subject/>
  <dc:title>PowerPoint Presentation</dc:title>
</cp:coreProperties>
</file>