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CD1-B939-46EF-9709-A8E53636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513-3441-4C52-ADC4-CBC3ECD9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7D3-C8EC-4209-B6BF-8AA45D72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D31-60A3-4377-943E-8677DADB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32A4E-917D-4957-8461-9C01B468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502DF-D914-4033-8B85-0286EC17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FDEF3-24F5-41C8-9ACF-C5C44114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3912E-27E2-4928-B23D-D885B6CD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BB4F6-FD65-49AA-909A-91179241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6B782-93B5-40A7-8BB2-10A8EEE8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59763-DC67-462F-95F3-D2E456D1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000-F2FD-473C-8779-41CF31C2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CD27E-C550-4004-9C4E-63D26219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568BE-DFAB-4925-8FE9-9CDF6B9A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F9FFE-5BB4-4796-A93E-1847CE9D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95BF3-2047-497C-BD14-C7882196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67BE2-CB03-4C2B-B326-88E0B13C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A25-57CA-4818-B9FC-EF5961D7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E49-4F93-4A84-A7A8-D332EF00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195-93CF-4EAA-BFF5-236E30DA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57B-9C1C-4F3C-86DE-3F1CDACC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B4C-DF0C-470B-91FE-11A9AD3B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CA3C-4C46-4898-A29F-004005C7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323-5113-4CF8-83F2-F2CBC596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F30D-BC77-4382-983E-1FF412C7FB6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3B10-AC35-4D09-8B9F-AF4398DB5FE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presentation: ASCI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oader Issue: Environmental Monito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2880" y="682776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D2D-03FD-4F80-8DB1-4E0715B0C4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string is a sequence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character is stored as a binary number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SCII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American Standard Code for Information Interchange) is one standard encoding for charact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problem with ASCII is that it is based on the English langua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not represent other types of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nicode is a new stand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out: fix second ‘Q’ and ‘R’ to lowerca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0080" y="624528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 Table Hando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94B-E5EA-4648-95D0-1B29A6C4B2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E58-16A3-4FCF-A831-7792F05846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97--1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65--9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96D-12CE-47EA-BC4D-297E5312DF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anslating to/from ASCI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 character into its ASCII numeric code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d('a') ==&gt; 97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n ASCII numeric code into its character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ch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r(97) ==&gt; 'a'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1520" y="5952960"/>
            <a:ext cx="20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tab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306-4E96-4D87-928F-D9E38B97FC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ncryp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cess of encoding information to keep it secu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technique: Substitution Cip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ch character in message is replaced by a new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esar Cip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place with a character X places aw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Julius Caesar used it to communicate with his genera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ap around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ite program(s) to do this in lab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A74-6714-48D8-A541-5832BC9FF7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Comparis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me operations as with numb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==, !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, &l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gt;, &g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in conditions for if statements and 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49800" y="25146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phabetical comparis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2286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08200" y="62452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compa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E30-BA83-4DE0-92DA-BC61D032B6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FC6-3076-4816-8427-1E14D7B411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1CF-C751-472C-AC3D-01FDAB8520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len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358-9D31-4EDE-AD45-863CBED7AB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051-0CC4-4993-8213-EC386A2ABF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002-2BA1-40DE-A840-318B11A914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Environmental Monito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disciplinary projects involving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ant new-ish CS research are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claimer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a seismologist or a biolog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9720" y="4800600"/>
            <a:ext cx="12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8160" y="4830840"/>
            <a:ext cx="11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32960" y="4822920"/>
            <a:ext cx="99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8EF-885D-49BC-B8AE-468D2E73FB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CS challenges to both projec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challenges only applicable to one projec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e environment impact the CS research problems/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id the researchers address these challenge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ddress the challenge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832-3747-490A-BE07-C1048EA406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 CSists thought that efficiency didn’t matter anymo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B of memory, terabytes of storage on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w: small and embedded dev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efficient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169-276F-4CA1-93C4-4025EF1691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issing data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nnectivity (good signal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uplicate data (different sources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ead sensor node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libration of data (time synchronization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stand extreme weather, condition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attery lif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Robustness: recover from software failure/malfunction or bad dat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C60-F91A-4636-A1FE-326A97B11C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curately simulate conditions (which will vary widely over long periods of tim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fferent goals from domain scient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S: push boundaries of sensor network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ample: Improve reliability of data to 95%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eismologists: need 100% reliable data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852-F34F-4640-8393-0E98346614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ar-powered batter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ify all when data gets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ZebraNet: 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nly transmit if zebra gives data to bas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olcano: only when “interesting”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B1A-46F8-4AD9-B9D6-75940C3811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ndancy of data -- verify/validate it is corr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send to zebras with history of reporting back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ather proof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atteries: solar-panels to rechar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A35-8347-450A-AD5E-639A96CA88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vel simul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environment/scenarios on compu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zebras with hor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ush software to make sure it “recovers” appropriately from errors or bad information 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78B9-BF73-4BD4-8E86-FCFD428427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 “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or each character in the string 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64C-9425-427D-BC85-D8A52E0EC9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05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086160" y="632448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797-6134-4267-9670-4500A2035F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035-76A6-46AB-A842-B6E5900647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heck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arch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0A4-0BB2-498E-9B2D-5944CC747B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15760" y="62452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26C-B325-4373-BDC3-B4465E54B9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lternative Solution by Cath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binaryToDecimal2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terate through string using an integer as the index and the substring([]) op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veloping solutions: if iterating (through whatever) in one direction doesn’t work, try the ot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4B6-1208-4A34-A173-53F97FAD31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60600" y="556272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520" y="55926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ntuition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890-7AFC-4E69-8951-8319350A1F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05T20:18:44Z</cp:lastPrinted>
  <dcterms:modified xsi:type="dcterms:W3CDTF">2007-10-05T20:22:41Z</dcterms:modified>
  <cp:revision>1264</cp:revision>
  <dc:subject/>
  <dc:title>PowerPoint Presentation</dc:title>
</cp:coreProperties>
</file>