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F88-8068-4FE1-BF65-9A6ECF2B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A2A-2BF1-454C-9E4A-A86361C5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741-8064-41F4-962E-6FE31904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E0E-429D-49AA-8371-99A61F70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DEAA5-93B9-4810-84AA-7D985A46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DD192-8945-4053-8182-02AE826D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CE348-688A-45A7-B5DE-91C881B9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FBD96-7A32-4D62-B2A1-55BDEDB7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C2C57-BC9E-491D-8495-E1E1B057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534B8-62B7-44B9-8BE3-BB2302DF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48A70-A0CC-4382-A38D-350A40AE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685-972F-45F9-A907-98C47DC9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4F54A-C90F-42D7-8C43-854287D4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FDFE8-8BE4-4A05-AB2A-8C530BCD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7B028-11F8-46D7-AA51-2BCBAAD6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A2F28-FDC8-4E68-8790-45432E8A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A023D-E6D3-49CC-89D8-E45216A2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CDBC-D4D4-4541-B218-AED173ED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917-62A7-455C-94A7-77877B8A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655-F52E-48B3-A245-22E3D95E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4B4-1B1A-4CE6-B931-3C008637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6D6-5D4C-4629-B8F5-51B2D495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E0A-EA50-4014-B261-216293D6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62E-49AF-4678-A6BE-4924C0AC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4755-FE1D-4323-B4C6-4DEC54F20C4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70F4-429C-48AF-AC8F-9827981282E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puter’s representations of data typ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5BB-BFD7-4513-AA8C-0C455C5AC5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DC2-54EF-4F8B-AC78-7613A67C93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 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Err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6027120" y="639756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4D16-EF9F-4772-A6B4-A937F5E2E6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9CA-318E-4027-8764-6FD89476F0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5CF-B1AD-45CC-800C-6DECE61CCA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gram.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F4A-20C4-4F23-85B0-BA893BA66D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d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efore in for loo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aluates to True or Fal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09480" y="2832120"/>
            <a:ext cx="40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ubstr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tring</a:t>
            </a:r>
            <a:r>
              <a:rPr b="1" lang="en-US" sz="28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5320" y="4689360"/>
            <a:ext cx="67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“.py”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, “is a Python script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8EA-66D5-4E09-B073-D4FCE6E634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 are Immutab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: You cannot change the value of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you </a:t>
            </a:r>
            <a:r>
              <a:rPr b="0" lang="en-US" sz="3200" spc="-1" strike="noStrike">
                <a:solidFill>
                  <a:srgbClr val="f4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change a character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[0] = ‘S’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3520" y="3733560"/>
            <a:ext cx="2209680" cy="114300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733920"/>
            <a:ext cx="1905120" cy="106668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7DC-A125-4DE6-93C9-20D382909E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ber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briefly discussed that numbers are stored on the computer in bi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inary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: two values (zero, one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ke a light switch (eith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ff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Bi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each number in a number in binary repres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quivalent of a “digit” in decimal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F51-263B-4141-B318-7AEF87953B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35D-50F2-491D-B992-6D99A7354F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54,08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4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8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7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,000+ 4*1000+ 0*100+ 8*10+ 7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43000" y="403848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AD5-FFF8-4C3C-965F-0230297428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2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7560" y="1828800"/>
            <a:ext cx="52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828800"/>
            <a:ext cx="762120" cy="441972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0  9  8  7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0  1  2  3  4 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1 11 11 11 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3320" y="3840120"/>
            <a:ext cx="25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1 (N-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N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C5A-EB3A-4D7B-A399-0552887C39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 is base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binary number represents a power of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1C7-0960-4877-9502-394EE071D1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10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8+ 1*4+ 0*2+ 1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1676520"/>
          <a:ext cx="4572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DFF-90B0-445D-B7D6-ED7B8A6C93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16+0*8+ 1*4+ 1*2+ 0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167652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B72-3F9C-4421-AEA0-D5EEF1770D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85520" y="5791320"/>
            <a:ext cx="32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FB0-5697-4937-8FE6-EE4DE0A2C6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60600" y="541008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432-D8F0-4D3D-948C-F72C1C4F78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3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07560" y="1828800"/>
            <a:ext cx="52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828800"/>
            <a:ext cx="762120" cy="48006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2 11 10  9  8  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  2  3  4  5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3 13 13 13 13 1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70320" y="3840120"/>
            <a:ext cx="24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3 (N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(N-1)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E5A-83FF-465A-A3BD-A9CE89D80A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rite a program that reads in two numbers. Then use only if statements (no elses) to print "Player 1 wins" if the first number is bigger, "Player 2 wins" if the second number is bigger, and "You tied!" if the numbers are equal.</a:t>
            </a:r>
            <a:endParaRPr b="0" lang="en-US" sz="25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E64-06A0-436C-9995-E753633026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raw the control flow diagram for your Craps solu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o analyze efficiency: are there any execution paths through the control flow diagram that aren’t possib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f so, revisit your solution to see if some other building blocks may be more appropriate (or see me to discuss!)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7F4-9A44-47CD-9F71-3481B48AFC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xt Process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ly focused on number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manipulate strings to do useful wor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type and what you can do with th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hapter 4 of boo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F4D6-C77F-41FB-8BED-A4056A6728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856-C96F-4347-9E5D-817141731A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 “for each character in the string str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2720" y="62485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ython shel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D71-0CA7-4A30-9EAB-C6E63D6BCF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27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4FE-44C3-4BCB-BA2E-8ADFECE941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3T22:08:51Z</dcterms:modified>
  <cp:revision>1054</cp:revision>
  <dc:subject/>
  <dc:title>PowerPoint Presentation</dc:title>
</cp:coreProperties>
</file>