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62D2-4096-404F-A64B-3D6A1ED83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850B-1750-49E3-BDA2-4A77F0546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EBE3-C758-462D-8940-8637079B0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21A0-F62C-4DBD-BFFC-0C4E03CBB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14636D-37B7-48D8-93E9-5FB2C4B13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FDE27E-377A-46AF-9A07-45BCF632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286918-0A6C-4C8E-8879-A95BB29DB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3996F1-B0DF-4B46-AEE9-B909044E6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98B9B9-351E-415F-A276-A6DD046D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0AA7C1-2F32-4949-9B6A-B8BEFF33A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47C535-228B-4DA0-920A-13709234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130A-9A5E-4A8C-A0BF-6D22EE25E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003A5A-6A70-4085-AD39-DD43A190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0F4921-0D4A-4288-95FA-AF6783CC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0CB912-27C6-4AA5-B0A8-73D6E4961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568AA8-08E5-494A-A19D-A8375C488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F31297-DEE0-4168-9B08-B544BF315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6F87-2856-4F87-94B0-0EC36A540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381F-3107-41F6-ADE6-F0F4A348A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FAA7-591A-4E50-94F4-26ABC6F6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840C-C1F5-4B71-BF41-5E016F369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0BE4-C6A9-4868-9525-EEB5611E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77CA-F000-4718-A6DD-5F886CC5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FE05-86BF-4E0F-B11E-21D3FA05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ept 25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7BF22-5342-4008-A9C6-1E69B3879BED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DAB7-00F1-4C0E-BC54-4A67B3BB56BF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ab 1 Feedback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y Linux/UNIX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ab 2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48F8-355B-4936-994C-10F50030C22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enefits of Remote Acces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tilize more resourc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mpute partial answers on different machin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mbine partial answers into final answ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ewer idle CPU cycl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Take advantage of other machine’s resources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pplications: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stributed and parallel process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cientific comput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BB5F-256C-4DF3-9A44-5FCD8135B66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2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cus: formatting output, for lo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actice using Linux remote acces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ess help on stuff you should know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ess help on initial problem-solving ste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imulate the problem/solution on pap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rite out your algorithm on pap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4EF1-79DF-4654-8572-B445530CEE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1 Feedbac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okin’ goo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ood comment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ood naming of variabl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ood test cas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D149-78AB-492C-B264-F64B5E5DA8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1 Feedback: Variable Nam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 descriptive variable nam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for atomic weight, the input from the user about the number of hydrogen atoms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num_h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egin with lowercase letter for typical variabl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ll caps for consta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Variables that don’t change during program execu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F2C3-B42F-4E76-95D0-47F0CFC6A45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1 Feedback: Test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monstrate that your program works using </a:t>
            </a:r>
            <a:r>
              <a:rPr b="1" i="1" lang="en-US" sz="3200" spc="-1" strike="noStrike">
                <a:solidFill>
                  <a:srgbClr val="020202"/>
                </a:solidFill>
                <a:latin typeface="Arial"/>
              </a:rPr>
              <a:t>several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c600"/>
                </a:solidFill>
                <a:latin typeface="Arial"/>
              </a:rPr>
              <a:t>differen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test cases when there is user-inpu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e well-known test cases, when applicabl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or example with F--&gt;C, use 32F, 212F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on’t show me testing from when you were developing the progra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nly after you’ve done all testing/debugg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start IDLE shell to get rid of previous testing resul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AAA4-7E6E-4FF8-9B59-B8300B8404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1 Feedback: Data Typ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on’t need to use constructor/converter if variable is of correct data typ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x = raw_input(“…”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x is a string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 “You entered” + x + “.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Note don’t need to use str(x) because x is already a string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C38C-8CE6-4CBF-A3C5-A3F5A56A71A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y Linux/UNIX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pending on who you ask, you’ll get different answ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DC96-6884-4FCC-9ED1-364257A6E5D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y Linux/UNIX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Operating system reas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tability -- reboot less ofte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fficiency (requires fewer hardware resources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ore secure (fewer viruses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r operations efficienc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duce amount of time that user’s hands leave keyboar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Reduce mouse clicks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20202"/>
                </a:solidFill>
                <a:latin typeface="Arial"/>
              </a:rPr>
              <a:t>Real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multi-user capabiliti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ore than one user can use the machine’s resourc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B686-169F-48DE-88AA-7A08C05FB47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Machine Resources Remotel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4038120"/>
            <a:ext cx="85345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User1 physically sitting at machine named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pascal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User2 physically sitting at machine named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malltalk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User 2 remotely logs into pascal using ssh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SSH: secure shell protocol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38680" y="1371600"/>
            <a:ext cx="2362320" cy="1905120"/>
          </a:xfrm>
          <a:prstGeom prst="rect">
            <a:avLst/>
          </a:prstGeom>
          <a:noFill/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malltalk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867280" y="2286000"/>
            <a:ext cx="1905120" cy="838080"/>
          </a:xfrm>
          <a:prstGeom prst="rect">
            <a:avLst/>
          </a:pr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User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819160" y="2514600"/>
            <a:ext cx="2819160" cy="0"/>
          </a:xfrm>
          <a:prstGeom prst="line">
            <a:avLst/>
          </a:prstGeom>
          <a:ln w="381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82760" y="2054160"/>
            <a:ext cx="6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ss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371600"/>
            <a:ext cx="2362320" cy="2362320"/>
          </a:xfrm>
          <a:prstGeom prst="rect">
            <a:avLst/>
          </a:prstGeom>
          <a:noFill/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asca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2666880"/>
            <a:ext cx="1905120" cy="838440"/>
          </a:xfrm>
          <a:prstGeom prst="rect">
            <a:avLst/>
          </a:prstGeom>
          <a:noFill/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User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FE47-7F89-4C11-8F0A-96E303262CD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Machine Resources Remotel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280" y="4114440"/>
            <a:ext cx="8686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r2 can execute programs </a:t>
            </a:r>
            <a:r>
              <a:rPr b="0" i="1" lang="en-US" sz="3200" spc="-1" strike="noStrike">
                <a:solidFill>
                  <a:srgbClr val="010199"/>
                </a:solidFill>
                <a:latin typeface="Arial"/>
              </a:rPr>
              <a:t>remotely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n 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pascal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machine from command lin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n’t use desktop manag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r1 and User2 share pascal’s resourc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1371600"/>
            <a:ext cx="2362320" cy="2362320"/>
          </a:xfrm>
          <a:prstGeom prst="rect">
            <a:avLst/>
          </a:prstGeom>
          <a:noFill/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asca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2666880"/>
            <a:ext cx="1905120" cy="838440"/>
          </a:xfrm>
          <a:prstGeom prst="rect">
            <a:avLst/>
          </a:prstGeom>
          <a:noFill/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User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638680" y="1371600"/>
            <a:ext cx="2362320" cy="1905120"/>
          </a:xfrm>
          <a:prstGeom prst="rect">
            <a:avLst/>
          </a:prstGeom>
          <a:noFill/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malltalk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286000"/>
            <a:ext cx="1905120" cy="838080"/>
          </a:xfrm>
          <a:prstGeom prst="rect">
            <a:avLst/>
          </a:pr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User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160" y="2514600"/>
            <a:ext cx="2819160" cy="0"/>
          </a:xfrm>
          <a:prstGeom prst="line">
            <a:avLst/>
          </a:prstGeom>
          <a:ln w="381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82760" y="2054160"/>
            <a:ext cx="6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ss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1981080"/>
            <a:ext cx="1066680" cy="457200"/>
          </a:xfrm>
          <a:prstGeom prst="rect">
            <a:avLst/>
          </a:pr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User 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5223-3188-4BAA-AFCD-0A2C9AAC66F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dcterms:modified xsi:type="dcterms:W3CDTF">2007-09-25T16:05:14Z</dcterms:modified>
  <cp:revision>425</cp:revision>
  <dc:subject/>
  <dc:title>PowerPoint Presentation</dc:title>
</cp:coreProperties>
</file>