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DD4-A463-4D00-A5E7-0700C5BF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BAC7-7530-409C-A43D-39C9B8F2C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727C-B291-4B8D-999D-CE9CEEF7C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67DB-68C0-4CEA-A95F-EEE02AC46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18C678-6F06-4D25-B767-AE578752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9F5F2-8DC1-46BA-B47E-322D8CC2F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DC9309-699B-45F5-92D7-940A561F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8DFF2-BE48-4A1B-A8ED-EB3632A3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085878-CAC5-4CF3-A64B-89C5E2D7B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74374-BB21-44FC-8CFC-FE5667DC0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1A90E-CE5F-433E-A25E-780EC041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810A-DB64-47B1-844B-01B9B8D6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2789B-B1D3-4E29-83E0-1DDC9DE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39C9B-22DA-4087-965C-8FE3BE0A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6AADD-F65C-49A3-8918-A8DA60B1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EB8BCA-7E08-4485-96DB-33F21A20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C2B8BB-37D0-4464-AF40-42CA0409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24D1-FA7D-426F-B0A2-B26A28B2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6BD1-18FF-47E6-9BB5-31CE5775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0DE6-EBD7-46A7-8306-E5AAFFCB8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DF52-E1F4-436C-B29A-989A9C4B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8C13-AE53-4ABC-B958-1A4CFD85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14D-B78D-4E0F-BC56-F72649F5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DCA4-F5E5-4885-8746-20263A21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00F21-C5DB-4A1D-B834-90AC281143A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7C03-3D9C-4BC9-8F17-1BCB906FC07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puter’s representations of data typ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E9C-3440-4F6C-852C-D3BB142B1F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570E-AFD9-4175-8480-E2FAC842594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 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Err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027120" y="63975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DC14-CB34-45CE-9F07-DB817766FF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3E6-7DA8-456D-B51B-5F66979C14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633-BDAE-4720-9618-F1D4D423919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gram.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E3C-A432-4C24-BF65-114A2D40D33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d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efore in for loo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aluates to True or Fal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480" y="28321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ubstr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tring</a:t>
            </a:r>
            <a:r>
              <a:rPr b="1" lang="en-US" sz="28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4689360"/>
            <a:ext cx="67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“.py”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, “is a Python script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6FB-5488-40D1-9BDF-BA8CB2553E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 are Immutab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: You cannot change the value of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you </a:t>
            </a:r>
            <a:r>
              <a:rPr b="0" lang="en-US" sz="3200" spc="-1" strike="noStrike">
                <a:solidFill>
                  <a:srgbClr val="f4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change a character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[0] = ‘S’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3733560"/>
            <a:ext cx="2209680" cy="114300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1905120" cy="106668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485-92EB-48CE-93BE-CA64BAA8DA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ber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briefly discussed that numbers are stored on the computer in bi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inary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: two values (zero, one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ke a light switch (eith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ff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each number in a number in binary repres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quivalent of a “digit” in decimal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C35-9934-42B5-B84F-3F57CFD2A6F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40C2-2E04-461F-8F51-8E4710D6D0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54,08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4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8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7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,000+ 4*1000+ 0*100+ 8*10+ 7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403848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D755-DDE3-4DC8-8143-84093AD3CE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2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560" y="1828800"/>
            <a:ext cx="52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828800"/>
            <a:ext cx="762120" cy="4419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0  9  8  7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0  1  2  3  4 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1 11 11 11 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3320" y="384012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1 (N-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N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F966-B3FB-4EBA-BFE4-19179EA7A5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is base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binary number represents a power of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760C-705A-4973-9111-D2244E86DBB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10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8+ 1*4+ 0*2+ 1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4572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FE57-2DAF-423C-A2D5-4CD5E3D81D1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16+0*8+ 1*4+ 1*2+ 0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67652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040-A311-436B-8BCA-C974288926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5520" y="57913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BF0-B502-4FE4-BB5D-46664AF75B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0600" y="541008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8363-7DE6-45D1-B431-AA375D1489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3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7560" y="1828800"/>
            <a:ext cx="52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828800"/>
            <a:ext cx="762120" cy="4800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2 11 10  9  8  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  2  3  4  5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3 13 13 13 13 1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0320" y="384012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3 (N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(N-1)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273-18E4-4DD9-9808-3EA52F3D0F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rite a program that reads in two numbers. Then use only if statements (no elses) to print "Player 1 wins" if the first number is bigger, "Player 2 wins" if the second number is bigger, and "You tied!" if the numbers are equal.</a:t>
            </a:r>
            <a:endParaRPr b="0" lang="en-US" sz="25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04C-F85D-4E33-AEE9-E0AE826368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 the control flow diagram for your Craps solu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o analyze efficiency: are there any execution paths through the control flow diagram that aren’t possib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f so, revisit your solution to see if some other building blocks may be more appropriate (or see me to discuss!)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F90B-8E0A-413E-BD40-01AB05BACE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xt Process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ly focused on number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manipulate strings to do useful wor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type and what you can do with th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hapter 4 of boo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7F9F-8C39-47F8-A0DC-58604D80B6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DA95-7364-4BD4-9FCE-2C753A185B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 “for each character in the string str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2720" y="62485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ython shel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4502-0569-4727-8575-B35793A078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27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A9FD-1E5A-407E-93F7-FD562E66F1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3T22:08:51Z</dcterms:modified>
  <cp:revision>1054</cp:revision>
  <dc:subject/>
  <dc:title>PowerPoint Presentation</dc:title>
</cp:coreProperties>
</file>