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36F-7B9D-43FB-AFF3-78AA915F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84B-FACB-4664-A81D-9E2EBCC0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721-7330-4CDB-8DC8-E3DB77CA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70B-610F-4BDD-A56B-D92F184D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985-63FC-4CE9-91A1-86807AEB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CA3-9683-4379-B561-44481B2F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60C-0EA3-4A22-AC2D-8B4737DF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C06-B482-480C-80AE-528E26A6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CBF-365D-46A7-BE7B-10D47B91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E8E5-C491-4983-8667-222CEB56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F53-24A0-4F7D-98A3-07BB5366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9757-6833-431E-86D9-AF780B0F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3668-7C98-4C5A-A303-A767804F4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077320" cy="4419720"/>
          </a:xfrm>
          <a:prstGeom prst="rightArrow">
            <a:avLst>
              <a:gd name="adj1" fmla="val 50000"/>
              <a:gd name="adj2" fmla="val 45689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56:27Z</dcterms:created>
  <dc:creator>Sara Sprenkle</dc:creator>
  <dc:description/>
  <dc:language>en-US</dc:language>
  <cp:lastModifiedBy>Sara Sprenkle</cp:lastModifiedBy>
  <cp:lastPrinted>2007-10-22T15:56:42Z</cp:lastPrinted>
  <dcterms:modified xsi:type="dcterms:W3CDTF">2007-10-22T15:57:07Z</dcterms:modified>
  <cp:revision>1</cp:revision>
  <dc:subject/>
  <dc:title>PowerPoint Presentation</dc:title>
</cp:coreProperties>
</file>