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9120" cy="928512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654">
                <a:moveTo>
                  <a:pt x="4" y="0"/>
                </a:moveTo>
                <a:arcTo wR="4" hR="4" stAng="16200000" swAng="-5400000"/>
                <a:lnTo>
                  <a:pt x="0" y="28650"/>
                </a:lnTo>
                <a:arcTo wR="4" hR="4" stAng="10800000" swAng="-5400000"/>
                <a:lnTo>
                  <a:pt x="21596" y="2865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68200" y="685440"/>
            <a:ext cx="4671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0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53A8E-F945-4E73-A867-38DED00ACF9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written and used algorithms even if you did not realiz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doing long division, for example, is a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es are anoth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E21F-AC5B-48AB-A9E7-927CB0840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9F5F-AFA0-48CD-996D-B5E400AC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862-BBFA-4A18-8628-82B890B7E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8EBD-568A-4AF9-8C35-E6441A835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9EC7B-285B-4F84-8675-78D27076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2E9D80-BA26-405E-9314-C56515C5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C7FE2-F270-4133-B306-5F054EAC8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20D0D-05F9-4F21-832B-7E736B3B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321EE-062B-4B5B-AD9F-9923084B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81AE4-665F-45EB-B2D2-5532728C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17148-F53C-46A5-A72D-C8893D80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4EF4-EEA1-4A4E-885D-685148E5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5F982-5319-4920-AD97-BC590159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DC21E-C883-4332-A5CB-06EA52E8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999D3C-0C5B-4FFA-827C-CCF9BBE6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43C00-71A5-4411-B552-E3BE9510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766C7-9271-4E14-96AB-F546F1F8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5EE-FD6C-4201-9A0E-F09BC3D5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190D-044F-4494-A87C-0F525D8F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35C-9488-4849-8BEF-AF717953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BF3D-D993-4529-90D2-C2958B9F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641C-C1A5-4627-9985-CBCC3C83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ED3-B974-43AC-8923-A407C746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4D19-7AED-43A6-A8AA-68C61741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C55F4B-33ED-438F-994A-569B47DE52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7D27BE-291E-4B07-A1D0-34CA9E0723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191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Introduction to Programming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0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Lessons To Rememb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cowboy’s wisdom: Good judgment comes from experienc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ow can you get exper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ad judgment works every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 errors can have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bad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event the bad effects--especially before you turn in your assignment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6E0B-9DBE-44E4-A5B9-6FEA731B52E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12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9B46-BF1B-4860-952D-62490B1380A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pecific rules for what is and isn’t allowe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exac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uter carries out commands as they are give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the symbols give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what it mea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 III * IV = 3 x 4 = 12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s ar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nambiguo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230D-49BA-4B18-BA0D-16C03565D82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 common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interpret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irst released by Guido van Rossum in 199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Named after </a:t>
            </a:r>
            <a:r>
              <a:rPr b="0" i="1" lang="en-GB" sz="3200" spc="-1" strike="noStrike">
                <a:solidFill>
                  <a:srgbClr val="020202"/>
                </a:solidFill>
                <a:latin typeface="Tahoma"/>
              </a:rPr>
              <a:t>Monty Python’s Flying Circ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Minimalist syntax, emphasize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lexible, fast, useful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sed by scientists, engineers, systems programm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CE7F-5383-4F90-9D5B-EEDA6858A22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Gives user immediate feedback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01640" indent="-26676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.g., if program contains error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Behind the scenes: </a:t>
            </a:r>
            <a:r>
              <a:rPr b="0" lang="en-GB" sz="26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and then executes the express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207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7" idx="1"/>
          </p:cNvCxnSpPr>
          <p:nvPr/>
        </p:nvCxnSpPr>
        <p:spPr>
          <a:xfrm>
            <a:off x="47239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0"/>
            <a:endCxn id="127" idx="2"/>
          </p:cNvCxnSpPr>
          <p:nvPr/>
        </p:nvCxnSpPr>
        <p:spPr>
          <a:xfrm flipH="1" flipV="1">
            <a:off x="68954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7057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3"/>
            <a:endCxn id="132" idx="3"/>
          </p:cNvCxnSpPr>
          <p:nvPr/>
        </p:nvCxnSpPr>
        <p:spPr>
          <a:xfrm>
            <a:off x="79243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29" idx="0"/>
          </p:cNvCxnSpPr>
          <p:nvPr/>
        </p:nvCxnSpPr>
        <p:spPr>
          <a:xfrm flipH="1">
            <a:off x="50288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733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3"/>
            <a:endCxn id="137" idx="1"/>
          </p:cNvCxnSpPr>
          <p:nvPr/>
        </p:nvCxnSpPr>
        <p:spPr>
          <a:xfrm>
            <a:off x="4952520" y="4304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7" idx="2"/>
          </p:cNvCxnSpPr>
          <p:nvPr/>
        </p:nvCxnSpPr>
        <p:spPr>
          <a:xfrm flipH="1" flipV="1">
            <a:off x="7124040" y="480024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92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3"/>
            <a:endCxn id="138" idx="1"/>
          </p:cNvCxnSpPr>
          <p:nvPr/>
        </p:nvCxnSpPr>
        <p:spPr>
          <a:xfrm>
            <a:off x="2361960" y="430488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34320" y="5334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7" idx="3"/>
            <a:endCxn id="142" idx="3"/>
          </p:cNvCxnSpPr>
          <p:nvPr/>
        </p:nvCxnSpPr>
        <p:spPr>
          <a:xfrm>
            <a:off x="8152920" y="430524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 flipH="1">
            <a:off x="5257440" y="4800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6A3E-F5B5-4334-BF77-271BF81F8DC3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IX/Linux operating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perating syst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Manages the computer’s resources, e.g., CPU, memory, disk spa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s: UNIX, Windows XP, Windows 2000, Mac OSX, Linux, etc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Command-line interface (not a GUI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ype commands into terminal window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 command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cp file1.c file1copy.c       (copy a file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mkdir cisc105                 (make a directory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571F-26A9-4B51-9994-8E6598AF31C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In a Linux terminal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jedit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or idle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 &lt;nameofscript&gt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E.g., python hello.p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447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3"/>
            <a:endCxn id="151" idx="1"/>
          </p:cNvCxnSpPr>
          <p:nvPr/>
        </p:nvCxnSpPr>
        <p:spPr>
          <a:xfrm>
            <a:off x="4876560" y="2018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2"/>
          </p:cNvCxnSpPr>
          <p:nvPr/>
        </p:nvCxnSpPr>
        <p:spPr>
          <a:xfrm flipH="1" flipV="1">
            <a:off x="7048080" y="2514240"/>
            <a:ext cx="57240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0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3"/>
            <a:endCxn id="152" idx="1"/>
          </p:cNvCxnSpPr>
          <p:nvPr/>
        </p:nvCxnSpPr>
        <p:spPr>
          <a:xfrm>
            <a:off x="2286000" y="201888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58000" y="3048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1" idx="3"/>
            <a:endCxn id="156" idx="3"/>
          </p:cNvCxnSpPr>
          <p:nvPr/>
        </p:nvCxnSpPr>
        <p:spPr>
          <a:xfrm>
            <a:off x="8077320" y="2019240"/>
            <a:ext cx="305280" cy="1524960"/>
          </a:xfrm>
          <a:prstGeom prst="bentConnector3">
            <a:avLst>
              <a:gd name="adj1" fmla="val 231759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3" idx="0"/>
          </p:cNvCxnSpPr>
          <p:nvPr/>
        </p:nvCxnSpPr>
        <p:spPr>
          <a:xfrm flipH="1">
            <a:off x="5181120" y="2514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55CA-1D47-49A2-9161-7B51279AA394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CED-41F9-4643-8DBA-0E1FFCAE38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0E8-2F93-4E1C-A89D-3D614C07A04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735E-77F3-4F03-91FB-40679E4E63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s often have a defined type of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lgorithms give the intended output for a set of input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Multiply by 1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/O for a correct algorithm: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5,50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.32, 3.2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x, 10x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examples: Long division, recip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321000" y="4389480"/>
            <a:ext cx="1066680" cy="685800"/>
          </a:xfrm>
          <a:prstGeom prst="rect">
            <a:avLst/>
          </a:prstGeom>
          <a:solidFill>
            <a:srgbClr val="33cccc">
              <a:alpha val="72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nput 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0840" y="4191120"/>
            <a:ext cx="1981080" cy="1044360"/>
          </a:xfrm>
          <a:prstGeom prst="parallelogram">
            <a:avLst>
              <a:gd name="adj" fmla="val 47423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352760"/>
            <a:ext cx="1066680" cy="685800"/>
          </a:xfrm>
          <a:prstGeom prst="rect">
            <a:avLst/>
          </a:prstGeom>
          <a:solidFill>
            <a:srgbClr val="33cc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3"/>
            <a:endCxn id="102" idx="1"/>
          </p:cNvCxnSpPr>
          <p:nvPr/>
        </p:nvCxnSpPr>
        <p:spPr>
          <a:xfrm flipV="1">
            <a:off x="4387320" y="4712400"/>
            <a:ext cx="691560" cy="198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 flipV="1">
            <a:off x="6564240" y="4695480"/>
            <a:ext cx="828000" cy="180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1600" y="507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8800" y="50799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2356-ABC0-4F34-A334-23B79A54D03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king a Peanut Butter &amp; Jelly Sandwic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make a peanut butter and jelly sandwich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ite down the steps so that someone else can follow your instru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ke no assumptions about the person’s knowledge of PB&amp;J sandwich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person has the following material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oaf of bread, Jar of PB, Jelly, 2 Knives, paper plates, napkin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B24C-974E-44E8-8C16-1A192C9A453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computer: a blessing and a c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ognize and meet the challenge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unambiguous, descriptiv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clear for the computer to understan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what I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!  Not what I said!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reating/Implementing an algorith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reak down piec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ry it ou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s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F940-753F-4602-A8C5-427F6305588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prepared for special cas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en’t necessarily spares in real lif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eed to write correct algorithms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using similar techniq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the same thing with a little twis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op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or repeating the same act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EAF-420B-4881-A9E8-E74EB175645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4B8-9CB9-4F72-9312-E4AA8F300B2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dcterms:modified xsi:type="dcterms:W3CDTF">2007-09-19T01:21:11Z</dcterms:modified>
  <cp:revision>121</cp:revision>
  <dc:subject/>
  <dc:title>Intro to Java</dc:title>
</cp:coreProperties>
</file>