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AE6-4D3D-4510-85A6-84987C84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DAA-46F6-4A1D-A179-668404F3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3E9-9DCA-438D-87A8-95C9CDA7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F37-B641-489C-89B0-1BEF16E2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8F23A-2700-4E8A-8341-D31B2FFB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2841C-4664-4C8D-B050-97724B51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14614-BF29-4D46-9F5F-0D6FEDA2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2D34F-B021-416E-9C22-E62B5CC2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7DDD4-43AA-432E-B3EE-667BF414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E0F99-7A4C-4253-B2F0-C7EAFDCD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AED8A-C763-4685-9A06-2E54C026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F36-1F3A-485C-8BB1-612CE5B7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ECDF4-4159-411C-834E-9B6F02A2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D4590-0AC1-426A-892A-AC19074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38EF2-C9C3-40C3-AAC8-F125BE4B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A6B14-824A-4300-B07E-9E6D7368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21810-2128-46A2-BE86-DFF7A974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D57-917E-4911-80EF-D9AB9FAA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A7D-B1EA-4C30-9DE2-BCA623FF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B5B-BC23-441C-96D2-978DDA85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187-7F9E-4DE3-B3F8-E90535DA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0D3-61C8-4903-9A1E-86552212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CED-7E0C-4B2B-AAA7-649E66CF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4FF-F6AA-4CC6-9CC1-5E25D072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0A95-1A02-4275-B5BB-C5FF6210DB8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B530-4045-478D-93A3-312CC4C2B5A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nouncement: Midterm prep doc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D4D-0089-4003-A48E-109557ABA1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son of Code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out func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outfun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function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0F08-48A4-47D7-A6FA-201E275A25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, Problem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o make a funct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hat has some useful code that we may want to reus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ADC-7714-4D7D-BA91-D444BE0A2E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 ft/s to mp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3352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ft/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tput: mp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152388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tpersTo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20968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20968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19782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4960" y="1978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6080" y="1749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Ft/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66000" y="1749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56C-854A-4388-A038-EE5BCBF092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368640" y="272880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E31-683C-4B6F-A2FD-CB9456269F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224-2BC5-4E93-94EB-C0CB632F6B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A4F-EF5E-4F08-8BB7-8022A47856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A2E-A564-4FB3-B58B-1E0435997C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return (see </a:t>
            </a: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menu.p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556-510F-4C1D-9474-D712B3A2A6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your ow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ennifer_mph = ftpsToMPH(jen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ura_mph = ftpsToMPH(laura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nus_mph = ftpsToMPH(venus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Output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is assigned to venus_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720" y="40543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400"/>
            </a:b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0480" y="411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3352680"/>
            <a:ext cx="1143000" cy="5335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962520" y="3504960"/>
            <a:ext cx="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019920" y="3504960"/>
            <a:ext cx="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133360" cy="533520"/>
          </a:xfrm>
          <a:prstGeom prst="rect">
            <a:avLst/>
          </a:prstGeom>
          <a:solidFill>
            <a:srgbClr val="6699ff">
              <a:alpha val="31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25F-89DB-4CC5-8071-B40899785D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you call the function, the computer jumps to the function and executes i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it is done, it returns to the same place in the first code where it left off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98720" y="3427560"/>
            <a:ext cx="391536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2HR = 3600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FT2MI = (1.0/5280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result = ftps * S2HR * FT2MI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6880" y="3580920"/>
            <a:ext cx="1981440" cy="129564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880" y="4952880"/>
            <a:ext cx="1447920" cy="763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800" y="3733920"/>
            <a:ext cx="3624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URT_LEN = 78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#Make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ft_s = COURT_LEN / j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mi_hr = ftpersToMPH(j_ft_s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4160" y="59738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: not great variable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88F-60F4-46F9-94C5-B7AEE55C7A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stants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: don’t change for “life” of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uring one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a constant always (like PI), that’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play Rainbow Dice to 10, 100, or 10000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kes easy to change program once at t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8314-0850-4250-A255-FCE14749A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2"/>
            <a:endCxn id="167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endCxn id="168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3"/>
            <a:endCxn id="172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4" idx="1"/>
            <a:endCxn id="168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2"/>
            <a:endCxn id="178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2"/>
            <a:endCxn id="178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2"/>
            <a:endCxn id="184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02400" y="3505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3" idx="2"/>
            <a:endCxn id="174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4" idx="2"/>
            <a:endCxn id="183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2" idx="2"/>
            <a:endCxn id="186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4" idx="2"/>
            <a:endCxn id="189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2"/>
            <a:endCxn id="174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85F-3140-416F-9128-82E352337C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67080"/>
            <a:ext cx="22096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201" idx="2"/>
            <a:endCxn id="199" idx="0"/>
          </p:cNvCxnSpPr>
          <p:nvPr/>
        </p:nvCxnSpPr>
        <p:spPr>
          <a:xfrm flipH="1">
            <a:off x="66672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3215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34680" y="3733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26708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9" idx="2"/>
            <a:endCxn id="198" idx="0"/>
          </p:cNvCxnSpPr>
          <p:nvPr/>
        </p:nvCxnSpPr>
        <p:spPr>
          <a:xfrm flipH="1">
            <a:off x="5752800" y="367200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5720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(num1, num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9" idx="2"/>
            <a:endCxn id="204" idx="0"/>
          </p:cNvCxnSpPr>
          <p:nvPr/>
        </p:nvCxnSpPr>
        <p:spPr>
          <a:xfrm>
            <a:off x="6667560" y="367200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4" idx="2"/>
          </p:cNvCxnSpPr>
          <p:nvPr/>
        </p:nvCxnSpPr>
        <p:spPr>
          <a:xfrm rot="5400000">
            <a:off x="7035840" y="4178880"/>
            <a:ext cx="443520" cy="156276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822040" y="53341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48261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97D-030A-4C35-9096-605C4DCE38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3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3" idx="2"/>
            <a:endCxn id="212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7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2"/>
            <a:endCxn id="217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DDE-CD6D-4F45-A97D-9CE62F9688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actual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wap 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wap two values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put into a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67A-23B6-4BBD-AB72-3052B4DFB7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078-1379-4128-A511-1954F7AF0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F982-9D3D-4EFC-84BF-E538981EB9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le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call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E0E-1B32-42D3-98CF-744F54F704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Using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one of the string 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021-F7E3-4C39-93FC-A5123561A6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used several built-i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en, input, raw_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s from modules, e.g., math and rando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Functions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e small pieces of code that can be used in other pieces of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bprograms that have been given a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ave 0 or more in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duce 0 or 1 out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e our own func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5DA-CAC6-4C45-BB08-9053735B61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A0B-90B1-4D5D-8F59-F6D63947C6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code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DDB-C33A-4F01-ACC9-75F972624D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8T20:55:54Z</dcterms:modified>
  <cp:revision>1293</cp:revision>
  <dc:subject/>
  <dc:title>PowerPoint Presentation</dc:title>
</cp:coreProperties>
</file>