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F0C-8EED-4A5E-B1F9-DC1606C3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4907-25BD-4D48-A873-B5DDA4760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6175-C976-4FF0-81EA-43AA71F2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6E4B-B722-4FB1-BB37-46DB991E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3A10C-F7B8-4AC8-B8EE-F5CA3D14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103A2-7997-498E-8A8B-41EE08171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05C3E-CAF6-44CE-91B4-7DEE96B3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F88A1-849F-4416-87AE-AFF6FCEF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0C60F-B9E3-49DB-BA32-A6D12E07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200532-ACDB-4ED8-9964-C60572FA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F9027-736C-4C74-B6CD-7A3F6CB6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2ABF-EDF1-4415-96A9-120EB672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79006-5B52-49FF-8855-A638996B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AEA85-CF99-4F29-B209-50376391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1156A9-CE2F-4380-AC6E-014655D62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696C17-86A2-42E8-91F6-1DF3D135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33227-FCC0-40E5-860C-165BABA67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192E-6BA8-4320-9129-E76D88AD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AE6-EAF6-4ADA-85B9-7917774F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6F3-2D99-4F8A-910A-C92FF853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630-FE64-45DD-BA31-1E8062200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759-45FE-4B21-9FFE-FEBAA3AD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1415-77AC-41B5-8335-CD03136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BDFC-6AD9-4740-8BBA-03CDFDB0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D90A-0DFC-4550-B329-9B3DAAE0C14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C302-FC84-4E97-8A72-183B59C5044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1 Feed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Linux/UNIX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9407-8A43-4A9D-AA09-E6C97583E8C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Remote Ac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tilize more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ute partial answers on different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bine partial answers into final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ewer idle CPU cyc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Take advantage of other machine’s resourc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pplication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tributed and parallel process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ientific compu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5EF-4C87-4E64-958E-7B340A6EB3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formatting output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using Linux remote acc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stuff you should kn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initial problem-solving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ulate the problem/solution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out your algorithm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4D97-C1EB-4492-A30E-1772402477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in’ goo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commen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naming of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test cas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D7F-451D-494C-B57B-1ABB39B397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Variable Nam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descriptive variable nam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or atomic weight, the input from the user about the number of hydrogen atom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_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gin with lowercase letter for typical variab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l caps for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s that don’t change during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56D-7339-4450-9339-BE2DB27499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monstrate that your program works using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sever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est cases when there is user-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well-known test cases, when applicab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xample with F--&gt;C, use 32F, 212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show me testing from when you were developing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after you’ve done all testing/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tart IDLE shell to get rid of previous testing resul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1246-D016-4EF9-AE57-7ED3357A1D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Data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ed to use constructor/converter if variable is of correct data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raw_input(“…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x is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entered” + x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ote don’t need to use str(x) because x is already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E1F6-1C09-4827-809F-23386465EE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who you ask, you’ll get different answ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914-EA72-434A-808C-F4334DAAD4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perating system reas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bility -- reboot less ofte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fficiency (requires fewer hardware resourc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ecure (fewer virus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operations efficienc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amount of time that user’s hands leave key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duce mouse click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ulti-user capabilit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than one user can use the machine’s resour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EB1C-1D6A-4781-AEFE-F0AD75CA15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1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2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 2 remotely logs into pascal using ssh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SH: secure shell protocol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5E3-289D-4EA4-BC78-DFF53BC150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2 can execute programs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remotel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pasc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achine from command li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use desktop manag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1 and User2 share pascal’s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81080"/>
            <a:ext cx="1066680" cy="45720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7059-2445-4680-BB2E-1BA45B2CC9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16:05:14Z</dcterms:modified>
  <cp:revision>425</cp:revision>
  <dc:subject/>
  <dc:title>PowerPoint Presentation</dc:title>
</cp:coreProperties>
</file>