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6058-DFA8-4590-AD93-7CBD162BD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BA2F-6C89-414E-9B63-0A3DC248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CE34-2840-4D81-A34D-54912E9D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ADE5-BAB2-47C3-9BDE-B51B1A69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40793-8B10-4288-B628-7263DD449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44BFB-EB17-4196-887B-2A318B9E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DA5836-57B9-4F00-AB20-753AC04E4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60CC8-385F-43DD-AC68-400D6C30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87DB2-86EA-421A-BD0D-FAB03052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72C66-D36A-441E-8156-BAA8A0D5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17FD27-FD18-4A1C-97D2-2B981FA4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CC66-C9C4-4878-9D3E-7EE3DEFCF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5A7D4-3C3C-4E0F-AD88-5530828B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53788-531D-4FDB-8682-6B7166F0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E151A-14A7-4A9F-A143-1104A7C9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FC0374-40A3-4673-ADA9-D5D53C3C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6D25E-B053-491C-ADD7-7997E74BA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65D4-EA7F-4356-9BC5-E33F8AA33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352-CD7D-49EF-A277-A78E992A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B88B-1104-40C9-858D-6C406A6B3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AAB1-67AA-483F-BE1A-0F2889B08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02DF-F17F-4053-8C3F-DDD3BBB3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EBA8-A890-4E2C-9E8D-39E8C8BA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AEFD-992E-4998-BEC3-0782C788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1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7E44-9995-404B-B964-EB63A0757641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2EE63-AE10-4A7D-A668-37DDC5A1E3A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definite for loops, xrang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ting out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 Puzzles From Cyberspac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BC9A-E0F9-4D84-AB07-77777BB13E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 with 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pri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y default, 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puts spaces around numbers when they get printed o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39000" y="2666880"/>
            <a:ext cx="42606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x = 13.54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owe $”, x, “.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1429-198E-412C-99AE-654D842E10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lution: using str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: str() is constructor/converter function to convert other data types to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str(33) </a:t>
            </a:r>
            <a:r>
              <a:rPr b="0" lang="en-US" sz="2800" spc="-1" strike="noStrike">
                <a:solidFill>
                  <a:srgbClr val="0101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‘33’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constructor with th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i.e., concatenation) operator when printing output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owe $” + str(x) + “.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4B86-0890-4331-8474-9995952677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nother problem with pri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146520" y="1522440"/>
            <a:ext cx="877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SALES_TAX=.05 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# the sales tax in V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value = input("How much does your item cost? "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tax = value * (1+SALES_TAX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Your item that cost ($”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, value,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)"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costs $”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, tax,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with tax"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43040" y="617220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ales_tax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077B-EB19-47AB-B910-D3E640F671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using 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2280" y="42667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ormat specifiers give control over how output is displayed to user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ight, left justification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Number of decimals to display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3560" y="2328840"/>
            <a:ext cx="82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Your item that cost ($</a:t>
            </a:r>
            <a:r>
              <a:rPr b="0" lang="en-US" sz="2400" spc="-1" strike="noStrike">
                <a:solidFill>
                  <a:srgbClr val="ff8ef4"/>
                </a:solidFill>
                <a:latin typeface="Courier New"/>
              </a:rPr>
              <a:t>%.2f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)”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urier New"/>
              </a:rPr>
              <a:t>%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 value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costs $</a:t>
            </a:r>
            <a:r>
              <a:rPr b="0" lang="en-US" sz="2400" spc="-1" strike="noStrike">
                <a:solidFill>
                  <a:srgbClr val="ff8ef4"/>
                </a:solidFill>
                <a:latin typeface="Courier New"/>
              </a:rPr>
              <a:t>%.2f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 with tax” </a:t>
            </a:r>
            <a:r>
              <a:rPr b="0" lang="en-US" sz="2400" spc="-1" strike="noStrike">
                <a:solidFill>
                  <a:srgbClr val="33cccc"/>
                </a:solidFill>
                <a:latin typeface="Courier New"/>
              </a:rPr>
              <a:t>%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 t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77280" y="11430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Formatting opera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34320" y="1566720"/>
            <a:ext cx="0" cy="76212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6095880" y="2786040"/>
            <a:ext cx="457200" cy="914400"/>
          </a:xfrm>
          <a:custGeom>
            <a:avLst/>
            <a:gdLst>
              <a:gd name="textAreaLeft" fmla="*/ 0 w 457200"/>
              <a:gd name="textAreaRight" fmla="*/ 16488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08800" y="35020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Replacement valu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7467480" y="2481120"/>
            <a:ext cx="457200" cy="914400"/>
          </a:xfrm>
          <a:custGeom>
            <a:avLst/>
            <a:gdLst>
              <a:gd name="textAreaLeft" fmla="*/ 0 w 457200"/>
              <a:gd name="textAreaRight" fmla="*/ 16488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 rot="16200000">
            <a:off x="5790600" y="1828440"/>
            <a:ext cx="457200" cy="762120"/>
          </a:xfrm>
          <a:custGeom>
            <a:avLst/>
            <a:gdLst>
              <a:gd name="textAreaLeft" fmla="*/ 0 w 457200"/>
              <a:gd name="textAreaRight" fmla="*/ 164880 w 4572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8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27760" y="15969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ef4"/>
                </a:solidFill>
                <a:latin typeface="Tahoma"/>
              </a:rPr>
              <a:t>Format specifi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C067-535E-46A0-BC5F-103D7509FC5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lags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0: zero fill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+: adds a + sign before positive value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-: left-justification (default is right-justification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Minimum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number of character spaces reserved to display the entire valu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cludes decimal point, digits before and after the decimal point and the sign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77120" y="838080"/>
            <a:ext cx="242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[]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mean “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optiona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1F19-20BF-46FC-B62C-61672793B3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ecision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75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Number of digits after the decimal point for </a:t>
            </a:r>
            <a:r>
              <a:rPr b="1" lang="en-US" sz="2700" spc="-1" strike="noStrike">
                <a:solidFill>
                  <a:srgbClr val="020202"/>
                </a:solidFill>
                <a:latin typeface="Arial"/>
              </a:rPr>
              <a:t>real</a:t>
            </a: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 values</a:t>
            </a:r>
            <a:endParaRPr b="0" lang="en-US" sz="27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d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dicates the value’s </a:t>
            </a: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type/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ay to forma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 -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d (or i) - integer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 - floating poi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 - floating point with expone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178C-3233-4DD4-AA1D-90711062FD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asic format i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rin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templatestring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%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(&lt;value1&gt;, &lt;value2&gt;, …, &lt;valuen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template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template for the print statement with format specifiers instead of the 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ach format specifier in templatestring, should have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replacement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row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TypeErr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f not enough replacements for specifiers in template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If only one replacement value, don’t need ()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77280" y="11430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Formatting opera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876920" y="1371600"/>
            <a:ext cx="91440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62880" y="228600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placement valu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6629400" y="685440"/>
            <a:ext cx="380880" cy="3124080"/>
          </a:xfrm>
          <a:custGeom>
            <a:avLst/>
            <a:gdLst>
              <a:gd name="textAreaLeft" fmla="*/ 0 w 380880"/>
              <a:gd name="textAreaRight" fmla="*/ 137520 w 38088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51D8-A7B7-4D4A-823B-777B258C71F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600" y="42667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precision is bigger than the decimal places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field width is smaller than the length of the value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040" y="26640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04920" y="1676520"/>
          <a:ext cx="2971800" cy="517320"/>
        </p:xfrm>
        <a:graphic>
          <a:graphicData uri="http://schemas.openxmlformats.org/drawingml/2006/table">
            <a:tbl>
              <a:tblPr/>
              <a:tblGrid>
                <a:gridCol w="593640"/>
                <a:gridCol w="595440"/>
                <a:gridCol w="593640"/>
                <a:gridCol w="595080"/>
                <a:gridCol w="59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 rot="16200000">
            <a:off x="1562040" y="1104840"/>
            <a:ext cx="457200" cy="2819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657600" y="1523880"/>
          <a:ext cx="5181480" cy="51768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576360"/>
                <a:gridCol w="576360"/>
                <a:gridCol w="574560"/>
                <a:gridCol w="576360"/>
                <a:gridCol w="576000"/>
                <a:gridCol w="57492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245520" y="106380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5d” % mon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65880" y="9907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9.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” % expen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8115120" y="171432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6095880" y="377640"/>
            <a:ext cx="457200" cy="5181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83120" y="31212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99480" y="23623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ecision is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27920" y="33526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Right-justifi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989B-8D4B-4AEB-B309-A6CD733E9B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" y="41148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precision is bigger than the decimal places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Fills decimal with 0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field width is smaller than the length of the value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rints entire valu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6040" y="26640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04920" y="1676520"/>
          <a:ext cx="2971800" cy="517320"/>
        </p:xfrm>
        <a:graphic>
          <a:graphicData uri="http://schemas.openxmlformats.org/drawingml/2006/table">
            <a:tbl>
              <a:tblPr/>
              <a:tblGrid>
                <a:gridCol w="593640"/>
                <a:gridCol w="595440"/>
                <a:gridCol w="593640"/>
                <a:gridCol w="595080"/>
                <a:gridCol w="59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 rot="16200000">
            <a:off x="1562040" y="1104840"/>
            <a:ext cx="457200" cy="2819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3657600" y="1523880"/>
          <a:ext cx="5181480" cy="51768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576360"/>
                <a:gridCol w="576360"/>
                <a:gridCol w="574560"/>
                <a:gridCol w="576360"/>
                <a:gridCol w="576000"/>
                <a:gridCol w="57492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245520" y="106380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5d” % mon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65880" y="9907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9.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” % expen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8115120" y="171432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6095880" y="377640"/>
            <a:ext cx="457200" cy="5181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83120" y="31212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999480" y="23623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ecision is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27920" y="33526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Right-justifi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FF1E-D634-4B7C-990B-B17B375D1C5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output from xrange_analysis.py nic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0EE7-68B2-4132-AC25-537C12DD10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Building Block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type of statement is a building blo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itialization/Assign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Arithmetic, string concatenation, input/raw_inpu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lo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1981080"/>
            <a:ext cx="1523880" cy="6098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1981080"/>
            <a:ext cx="1524240" cy="60984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6600" y="2971800"/>
            <a:ext cx="1752480" cy="609480"/>
          </a:xfrm>
          <a:prstGeom prst="cube">
            <a:avLst>
              <a:gd name="adj" fmla="val 25000"/>
            </a:avLst>
          </a:prstGeom>
          <a:solidFill>
            <a:srgbClr val="00c600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1143000"/>
            <a:ext cx="1752840" cy="609480"/>
          </a:xfrm>
          <a:prstGeom prst="cube">
            <a:avLst>
              <a:gd name="adj" fmla="val 25000"/>
            </a:avLst>
          </a:prstGeom>
          <a:solidFill>
            <a:srgbClr val="ff8ef4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mpo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93C8-843E-49ED-AEEB-5FAE1B3599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Exciting Conclusion of Four Puzzles in Cyberspa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text: Book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Code v2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y Lawrence Lessi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 read Chapter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esents the problems, not the author’s proposed solu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AA73-2517-4810-ACC3-A2DEC318C1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ur Puzzles in Cyberspace Discus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main themes/puzzles of the book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ich is the most important puzzle to solv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CS information would you need to know to be able to propose solu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CAC4-87FF-4117-81C9-0F22D74220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876920" y="426708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, repeatable solution to a commonly occurring problem in software desig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 for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(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Standard Algorithm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et input from us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some compu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38862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34290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3497400"/>
            <a:ext cx="22096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 = input(“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s =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an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FB57-9D38-46C1-B466-793FB56952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count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range(10)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3809880"/>
            <a:ext cx="838080" cy="1981440"/>
          </a:xfrm>
          <a:custGeom>
            <a:avLst/>
            <a:gdLst>
              <a:gd name="textAreaLeft" fmla="*/ 0 w 838080"/>
              <a:gd name="textAreaRight" fmla="*/ 302760 w 8380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14440" y="43434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Body” of for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ets repea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 indent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2DC0-5A5A-4B59-90F5-7B0E8D0FE5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xrange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xrang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built-in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 argument: xrange(stop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 arguments: xrange(start, stop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3 arguments: xrange(start, stop, step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4191120"/>
            <a:ext cx="8534160" cy="0"/>
          </a:xfrm>
          <a:prstGeom prst="line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02080" y="4568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4495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14840" y="4495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54240" y="44956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72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01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67360" y="44956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29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58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50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64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78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92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9068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8840" y="44956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80700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9520" y="44928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0972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12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2160" y="58644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[start, stop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40384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4038480"/>
            <a:ext cx="304560" cy="30492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59320" y="5211720"/>
            <a:ext cx="197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range(10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range(0,10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EC37-414C-432F-A57B-D06C33CA9C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xrange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4495680"/>
            <a:ext cx="8534160" cy="0"/>
          </a:xfrm>
          <a:prstGeom prst="line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02080" y="4873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4800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14840" y="4800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29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54240" y="4800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86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15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2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01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43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67360" y="4800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29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58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50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64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78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92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9068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8840" y="48006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411156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520" y="479736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0972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112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0200" y="365760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range(5, -15, -5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434340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434016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434340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34340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057400"/>
            <a:ext cx="8534160" cy="0"/>
          </a:xfrm>
          <a:prstGeom prst="line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02080" y="2435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43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29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00400" y="2362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14840" y="236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72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54240" y="23623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86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72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01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43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67360" y="23623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29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458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50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64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478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192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9068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8840" y="236232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74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16732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9520" y="23590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0972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112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6520" y="1219320"/>
            <a:ext cx="24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range(1, 15, 3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83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1901880"/>
            <a:ext cx="304560" cy="30492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5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4343400"/>
            <a:ext cx="304560" cy="30492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895480"/>
            <a:ext cx="3048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294920" y="5562720"/>
            <a:ext cx="44197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72600" y="61722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ew_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24E1-C9E3-4883-8AE7-3DC92FB2F3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umulator Design Patte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accumulator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p until don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pdate the value of the accumul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splay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0C35-F32C-45C0-BECC-CBE2302A99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 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 5 numbers, inputted by the us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ep through in memo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E82C-D68A-453F-9F54-72D3A51AB8A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the output from the program easy for user to read, understan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ting Option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str() construc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mat specifi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2059-8211-43F4-8B81-CB2F4CAA2F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24T17:57:21Z</dcterms:modified>
  <cp:revision>341</cp:revision>
  <dc:subject/>
  <dc:title>PowerPoint Presentation</dc:title>
</cp:coreProperties>
</file>