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FE3-1A66-49C8-B5BC-C3D2BC72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1A7-C219-4866-AAB3-30A9ED8C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D23-8966-48CA-BCD1-BB70CBE8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412-1088-4565-888A-2E90EF6A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DE089-1C3C-4CF3-BA8F-CA64B6CB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C1EBE-5176-45F9-8DFB-2CB1F59B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2C10E-E6C0-4701-8108-3FFC386A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167BA-60B3-4B54-8928-E97513B8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C7C6E-9449-424D-B8FE-2BA28536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A55A6-CF0C-4C40-9723-F8AB1CF1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B258E-22F0-4210-A727-930A2D97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586-0D04-4420-894E-D648587A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ACF74-0904-4B20-A8F3-3FE4CF75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37871-4CDE-4654-8EFC-72034B2D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E9D6D-8739-4198-80D2-21EE4016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7F98F-59E9-4A30-9F83-34BC2746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F3671-49CC-4E65-8767-5C9D20C0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B19-A63C-4513-842A-92759E55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118-B255-4226-B8B0-5D426DD4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196-B9E0-4E4A-80DF-C4D19CE7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178-8C18-45CB-A06D-EBFF302A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15C-29FB-471C-8086-5AEEA64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852-32B3-4B93-B48A-7C4018CB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049-43E6-48F5-8821-25A3281A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7A67-19F6-49E8-97A8-F607482BBD4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733B-3DEF-49B6-85D8-204255A3965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condition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3D5-5AF5-4B8F-BAD5-ECA08B27D8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Complex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Two logical values: True and False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Combine conditions with </a:t>
            </a: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 operator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only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both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perands are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at leas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ne operand is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no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the operand is not True</a:t>
            </a: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English example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raining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col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Saturday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Sun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F16-F5CF-4ECC-988C-6BF0D1DD82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7400" y="13719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FED-7D49-4B06-B799-1B0B7804E4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7400" y="1368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348-2293-43A4-BF42-382FBC7FBB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outpu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 = 3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z = 4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 = x==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 = not b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and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or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not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 b, c,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8440" y="62485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val_cond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57F-64DD-43C9-9322-9389BB5A1A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Grade Input Rang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force that user must input a numeric grade between 0 and 1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23E-5478-4CF5-AB83-B5AFF40C5E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hort-circuit Evalu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cessarily need to evaluate all expressions in a compound expres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and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false, compound expression is fal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or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true, compound expression i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 need to evaluate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more important/limiting expression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7320" y="5516640"/>
            <a:ext cx="48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ount &gt; 0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sum/count &gt; 10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o someth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D03-3FD2-4067-96D1-9179B9C7A2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49C-7E7F-4273-8C75-758ACF1459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 Synta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statement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89154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ke a looped </a:t>
            </a: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if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xecute statements only when condition is tru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0320" y="16005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od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while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76360" y="1828800"/>
            <a:ext cx="1981080" cy="15228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BAD-C017-42F9-A113-8B9010B002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2"/>
            <a:endCxn id="171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72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1" idx="2"/>
            <a:endCxn id="175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6" idx="2"/>
            <a:endCxn id="172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086-AB40-4408-B1CB-FC074205ED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2"/>
            <a:endCxn id="187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91" idx="2"/>
            <a:endCxn id="188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7" idx="2"/>
            <a:endCxn id="191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2"/>
            <a:endCxn id="188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8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91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nitialize i before using in condi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38080" y="1143000"/>
            <a:ext cx="914400" cy="380880"/>
          </a:xfrm>
          <a:prstGeom prst="line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0C3-6318-48A6-8617-F28F20E3F6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ick Tri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ing the same string repeated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the * operator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Quick way to draw the line in the multiplication 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1800" y="396252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 x in xrange(0,14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 += “-”*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6AD-3470-4C3D-9FA4-C139A9BD21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Will This Loop Do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count &gt;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cou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+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D89-EF0E-42CA-A7A6-647CF45810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finit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 will never be false so keeps execu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stop an executing program in Linux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-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C83-86EC-40FE-85AD-8F3D5F7D78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: Citing Wikipedi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ere the major issues that the article brought up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is article relate to this cour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0200" y="4525920"/>
            <a:ext cx="12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1120" y="4530600"/>
            <a:ext cx="10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7640" y="4518000"/>
            <a:ext cx="11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aur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B17-6CDD-430A-A9C0-9F59B10FD8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gle founders: Larry Page and Sergey Bri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nford CS graduate stud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infolab.stanford.edu/~backrub/google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ed on PageRan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 href=“webpage”&gt;description&lt;/a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ges linked with same description most get higher ran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ank pages linked from highly-ranked pages hig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16E-CB8E-44D9-98C0-C66F6BE5AC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ikiScann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irgil Griffit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rad student, trouble maker :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so discovered vulnerabilities in Black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es information from two databa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of anonymous edi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belong to what compan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6324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solve_ips.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BA3-A47E-4924-8937-0880DD1211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uses Linux Clus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high-performance cluster, high up-ti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various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-gathering (spidering the Web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BC6-8E37-47FD-BB13-017AED4B50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lational Operat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75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10199"/>
                </a:solidFill>
                <a:latin typeface="Arial"/>
              </a:rPr>
              <a:t>&lt;expression&gt; &lt;relational_operator&gt;&lt;expression&gt;</a:t>
            </a:r>
            <a:endParaRPr b="0" lang="en-US" sz="27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362320"/>
          <a:ext cx="6858000" cy="4049640"/>
        </p:xfrm>
        <a:graphic>
          <a:graphicData uri="http://schemas.openxmlformats.org/drawingml/2006/table">
            <a:tbl>
              <a:tblPr/>
              <a:tblGrid>
                <a:gridCol w="2133360"/>
                <a:gridCol w="472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Relational Operat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=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!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ot 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6200000">
            <a:off x="-632880" y="4582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Low preceden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109-48BA-459A-BACB-0D3E50C6C5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f-Else-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6765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8954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93" idx="0"/>
          </p:cNvCxnSpPr>
          <p:nvPr/>
        </p:nvCxnSpPr>
        <p:spPr>
          <a:xfrm flipH="1">
            <a:off x="952200" y="2146320"/>
            <a:ext cx="87696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2057400" y="289548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2"/>
            <a:endCxn id="95" idx="0"/>
          </p:cNvCxnSpPr>
          <p:nvPr/>
        </p:nvCxnSpPr>
        <p:spPr>
          <a:xfrm>
            <a:off x="1828440" y="2146320"/>
            <a:ext cx="114372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28600" y="5715000"/>
            <a:ext cx="19810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2"/>
            <a:endCxn id="97" idx="0"/>
          </p:cNvCxnSpPr>
          <p:nvPr/>
        </p:nvCxnSpPr>
        <p:spPr>
          <a:xfrm>
            <a:off x="952200" y="3365280"/>
            <a:ext cx="267120" cy="2337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100" idx="0"/>
          </p:cNvCxnSpPr>
          <p:nvPr/>
        </p:nvCxnSpPr>
        <p:spPr>
          <a:xfrm flipH="1">
            <a:off x="2552400" y="336564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35040" y="2298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0560" y="2286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990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f x %2 == 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a multiple of 2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if x%3==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 is a multiple of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2" marL="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not a multiple of 2 or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038480"/>
            <a:ext cx="23623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1120" y="3441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86200"/>
            <a:ext cx="221004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5" idx="2"/>
            <a:endCxn id="105" idx="0"/>
          </p:cNvCxnSpPr>
          <p:nvPr/>
        </p:nvCxnSpPr>
        <p:spPr>
          <a:xfrm>
            <a:off x="2971440" y="3365280"/>
            <a:ext cx="217260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97" idx="0"/>
          </p:cNvCxnSpPr>
          <p:nvPr/>
        </p:nvCxnSpPr>
        <p:spPr>
          <a:xfrm flipH="1">
            <a:off x="1218960" y="4508640"/>
            <a:ext cx="1334160" cy="1194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  <a:endCxn id="97" idx="0"/>
          </p:cNvCxnSpPr>
          <p:nvPr/>
        </p:nvCxnSpPr>
        <p:spPr>
          <a:xfrm flipH="1">
            <a:off x="1218600" y="4660560"/>
            <a:ext cx="3925080" cy="10422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05792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B21-F58A-49FC-AE45-5D85FE3E2E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19320" y="1298520"/>
            <a:ext cx="36205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7524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3623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i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2ED-34E5-452C-9EC3-4F084E7AC4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9320" y="1298520"/>
            <a:ext cx="36205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59092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286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e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933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is structure can be rewritten as a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-elif-els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1CC-F2AC-4987-A7D1-F5A1C5A6C0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dify: Check for Other Bad In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is program determines your birth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given your age and current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ge = input("Enter your age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age &gt; 110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Don't be ridiculous, you can't be that old.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urrentYear = input("Enter the current year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birthyear = currentYear - ag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You were either born in", birthyear, "or", birthyear-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38C-6CB8-41C2-89AB-EC753784D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to Letter Gra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ermine if a numeric grade is a letter grade  (A, B, C, D, or F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2685960"/>
          <a:ext cx="6858000" cy="3105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umeric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tter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0 and abov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0 to below 90 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0 to below 8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 to below 7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elow 6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E9A-26A6-4024-BD77-5827527861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with 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sure have test cases that execute each branch in control flow dia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Each execution path is “covered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6668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2"/>
            <a:endCxn id="127" idx="0"/>
          </p:cNvCxnSpPr>
          <p:nvPr/>
        </p:nvCxnSpPr>
        <p:spPr>
          <a:xfrm flipH="1">
            <a:off x="1942920" y="3137040"/>
            <a:ext cx="87696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048120" y="373392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2"/>
            <a:endCxn id="129" idx="0"/>
          </p:cNvCxnSpPr>
          <p:nvPr/>
        </p:nvCxnSpPr>
        <p:spPr>
          <a:xfrm>
            <a:off x="2819160" y="3137040"/>
            <a:ext cx="114372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295280" y="5943600"/>
            <a:ext cx="198144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31" idx="0"/>
          </p:cNvCxnSpPr>
          <p:nvPr/>
        </p:nvCxnSpPr>
        <p:spPr>
          <a:xfrm>
            <a:off x="1943280" y="4203720"/>
            <a:ext cx="343440" cy="1728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4" idx="0"/>
          </p:cNvCxnSpPr>
          <p:nvPr/>
        </p:nvCxnSpPr>
        <p:spPr>
          <a:xfrm flipH="1">
            <a:off x="3543120" y="420372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25760" y="3289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128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876920"/>
            <a:ext cx="236196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11840" y="42800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724280"/>
            <a:ext cx="220968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9" idx="2"/>
            <a:endCxn id="138" idx="0"/>
          </p:cNvCxnSpPr>
          <p:nvPr/>
        </p:nvCxnSpPr>
        <p:spPr>
          <a:xfrm>
            <a:off x="3962520" y="4203360"/>
            <a:ext cx="217188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2"/>
            <a:endCxn id="131" idx="0"/>
          </p:cNvCxnSpPr>
          <p:nvPr/>
        </p:nvCxnSpPr>
        <p:spPr>
          <a:xfrm flipH="1">
            <a:off x="2285280" y="5346360"/>
            <a:ext cx="1258200" cy="585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2"/>
            <a:endCxn id="131" idx="0"/>
          </p:cNvCxnSpPr>
          <p:nvPr/>
        </p:nvCxnSpPr>
        <p:spPr>
          <a:xfrm flipH="1">
            <a:off x="2285280" y="5499000"/>
            <a:ext cx="3848760" cy="43272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048640" y="41148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9000" y="3048120"/>
            <a:ext cx="1307880" cy="2895480"/>
          </a:xfrm>
          <a:custGeom>
            <a:avLst/>
            <a:gdLst/>
            <a:ahLst/>
            <a:rect l="l" t="t" r="r" b="b"/>
            <a:pathLst>
              <a:path w="824" h="1824">
                <a:moveTo>
                  <a:pt x="824" y="0"/>
                </a:moveTo>
                <a:cubicBezTo>
                  <a:pt x="516" y="64"/>
                  <a:pt x="208" y="128"/>
                  <a:pt x="104" y="432"/>
                </a:cubicBezTo>
                <a:cubicBezTo>
                  <a:pt x="0" y="736"/>
                  <a:pt x="184" y="1592"/>
                  <a:pt x="20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048120"/>
            <a:ext cx="1511280" cy="2895480"/>
          </a:xfrm>
          <a:custGeom>
            <a:avLst/>
            <a:gdLst/>
            <a:ahLst/>
            <a:rect l="l" t="t" r="r" b="b"/>
            <a:pathLst>
              <a:path w="952" h="1824">
                <a:moveTo>
                  <a:pt x="384" y="0"/>
                </a:moveTo>
                <a:cubicBezTo>
                  <a:pt x="628" y="132"/>
                  <a:pt x="872" y="264"/>
                  <a:pt x="912" y="480"/>
                </a:cubicBezTo>
                <a:cubicBezTo>
                  <a:pt x="952" y="696"/>
                  <a:pt x="776" y="1072"/>
                  <a:pt x="624" y="1296"/>
                </a:cubicBezTo>
                <a:cubicBezTo>
                  <a:pt x="472" y="1520"/>
                  <a:pt x="236" y="1672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8120"/>
            <a:ext cx="2717640" cy="2895480"/>
          </a:xfrm>
          <a:custGeom>
            <a:avLst/>
            <a:gdLst/>
            <a:ahLst/>
            <a:rect l="l" t="t" r="r" b="b"/>
            <a:pathLst>
              <a:path w="1712" h="1824">
                <a:moveTo>
                  <a:pt x="144" y="0"/>
                </a:moveTo>
                <a:cubicBezTo>
                  <a:pt x="336" y="188"/>
                  <a:pt x="528" y="376"/>
                  <a:pt x="768" y="576"/>
                </a:cubicBezTo>
                <a:cubicBezTo>
                  <a:pt x="1008" y="776"/>
                  <a:pt x="1712" y="992"/>
                  <a:pt x="1584" y="1200"/>
                </a:cubicBezTo>
                <a:cubicBezTo>
                  <a:pt x="1456" y="1408"/>
                  <a:pt x="728" y="1616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93040" y="31240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ree execution path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37C-2623-4E38-AE4D-7238BBED35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4T19:07:35Z</dcterms:modified>
  <cp:revision>667</cp:revision>
  <dc:subject/>
  <dc:title>PowerPoint Presentation</dc:title>
</cp:coreProperties>
</file>