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EA2B-3C20-430E-B6ED-110D82984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FA67-10A3-41F4-A8E0-04DB8851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487B-3883-4F4F-96E8-CB92F194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849F-1EF5-45F6-A17C-5CC9280A4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02FC78-AEB8-4BF9-9EAD-CDAEA8FA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2A6E0-8389-455F-9489-64353C7A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6DF117-3204-4466-AC39-66F8A153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9EAC0-F3F4-40B5-9A87-9E9F188C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9556D-71AF-4759-996C-5D9CFE37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208A29-EEC0-434D-A621-E24A8D3C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78E94-E8CD-484F-A2FD-D3C63A3C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D848-B29C-4CDE-886C-8A755B32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D00A0-E8DC-49EA-AE2C-E4340E26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EE1D0-123D-4620-A9E6-1981C6F8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18D8F-27CA-46E2-9DD0-9D3086A1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C7C20-0C50-4413-AD89-B823E2E8E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5D8371-1E2A-47AD-A4D2-7AC497B1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B933-B271-4C86-B4FE-A25C1942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B69-EE49-4411-AC2B-4D0A8506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E76-DDAD-4A36-92A6-BFC21EF1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38FE-DDDE-40B0-BDF9-541DC36E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D74-3F78-4FE4-BF0B-504D768A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A4B-95CF-46E1-861C-559EB37C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8D73-4862-4121-A981-5B8354C4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C3AB-E4B0-4E6E-A9CC-CE7DD5E24AE4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7E0F-86A7-415E-ACA9-D6CF3C83341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i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ctionar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ABC2-4205-4741-8EF5-5ECC08B2F2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bonacci Sequ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the first 15 Fibonacci number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12880" y="312408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 = range(15)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reates a list of size 15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0] 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1] 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x in xrange(2,15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ewfib = fibs[x-1]+fibs[x-2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x] = newfi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num in fibs: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print each num on sep lin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n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75120" y="63216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bs2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31320" y="1914480"/>
            <a:ext cx="39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milar to xrang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n use same parame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52680" y="2286000"/>
            <a:ext cx="1371600" cy="9144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B2BB-DE91-4CAF-80E9-F8FE6513A8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vs. Arra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iefly, lists are similar to arrays in other languag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similar to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Vector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C++ and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ArrayLis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Jav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, arrays hav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static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ength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insert and remove elements from arrays so that the length of the array chan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make the array as big as you’ll think you’ll ne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968D-B4B4-4A49-9D92-AD41808AE3B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vs. 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 ar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immu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be mutated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r, can’t be modified/chang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ists can be chang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table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8680" y="3962520"/>
            <a:ext cx="81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groceryList=[“milk”, “eggs”, “bread”, “Doritos”, “OJ”, “sugar”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4080" y="4471920"/>
            <a:ext cx="40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ceryList[0] = “skim milk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ceryList[3] = “popcorn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462640"/>
            <a:ext cx="79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groceryList is now [“skim milk”, “eggs”, “bread”, “popcorn”, “OJ”, “sugar”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177E-D18E-4DE9-8A53-631FD39CCC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pies of L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e following code output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[1, 2, 3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 =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[0] = 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6785-28EE-482F-8C80-7F9761FBA9A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Identifiers are Poin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33523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 is not a copy of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oints to what x points t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to make a copy of 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 = x + [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R: y= [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y.extend(x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00400" y="1806480"/>
          <a:ext cx="3505320" cy="5173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18280" y="160020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2720" y="247176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06480"/>
            <a:ext cx="1828800" cy="2286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371600" y="2263680"/>
            <a:ext cx="167652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43F0-2D0A-4E69-95F4-30FDD8C6677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as Parameters to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modify a list passed as a parameter into a function, the list is modified outside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s ar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passed-by-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fferent from immutable types (e.g., numbers, string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arameter is actually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poin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the list in memory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B6CE-F3D7-4C00-B77F-E57290AB5D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ort a list of 3 numbers, in descending ord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ith list method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we do this using only three comparison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2400" y="3222720"/>
            <a:ext cx="669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# order list such that list[0] &gt;= list[1] &gt;= list[2]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descendSort3Nums( list3 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5720" y="627840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scendSor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46022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lled as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73240" y="5211720"/>
            <a:ext cx="35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ist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scendSort3Nums(list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574-7A6B-4B85-84FC-3979AE3260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w Does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in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Work for List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x in groceries, where groceries is a li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element in list, checks if element equals (==)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the worst case, how many elements does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have to check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improve the search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1452-7407-4250-A05B-B97C64444F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earch Improv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rt the Li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helps search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63960" y="62452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Hi-Low g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EC78-DF9D-4DE0-878A-CF2CE43806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aster Looku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f I wanted to know the Registrar’s phone number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ould I search through an alphabetized list of phone number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, I would look up the Registrar and find the phone numbe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ssociated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with the Registr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s type of data structure is known as a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dictionary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s a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key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o a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7E0-80E5-47C1-934F-4FA6D3C969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Sequences of Dat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ommonly group a sequence of data together and refer to them by one nam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 of the week: Sunday, Monday, Tuesday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nths of the year: January, February, March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pping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represent this data as a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arrays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other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429A-B6AD-4932-81FA-C46D971914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other things we’ve done/used in clas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N CLASS ANSWERS: variable names --&gt; values, function names --&gt; function definitions, ascii value --&gt; character, character --&gt; ascii value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4CA-DCBC-4A15-AB5C-09CD7ADE764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other things we’ve done/used in clas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Keys are not necessarily alphabetiz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ppings are from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key to one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or mor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eys are </a:t>
            </a:r>
            <a:r>
              <a:rPr b="1" i="1" lang="en-US" sz="2800" spc="-1" strike="noStrike">
                <a:solidFill>
                  <a:srgbClr val="010199"/>
                </a:solidFill>
                <a:latin typeface="Arial"/>
              </a:rPr>
              <a:t>uniqu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, Values are not necessarily uniq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F814-5A9F-4F21-9B54-A350A48F65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{&lt;key&gt;:&lt;value&gt;, …, &lt;key&gt;:&lt;value&gt;}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7280" y="3313080"/>
            <a:ext cx="71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empty =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{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 =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 {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‘a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7, ‘b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8, ‘c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9, …, ‘z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122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D395-F6E8-4D7A-883B-8419F417B1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essing Values using Ke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4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KeyError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f key is not in dictio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68760" y="2779560"/>
            <a:ext cx="396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[‘z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irectory[‘registrar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6AC0-C43A-46BE-82D2-2230CE4970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serting Key-Value Pai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 = &lt;valu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scii[‘a’] = 9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9160" y="62485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0F06-B411-462F-A09A-9D56C60A469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Diversity in Computer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56383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cience &amp; Engineering: near 50%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1266840"/>
          <a:ext cx="632448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66840"/>
                    <a:ext cx="63244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4B8-7A61-44BE-96BC-A1F22ADBDC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Music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an album file that has the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rtist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lbum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n album file, print out the number of songs and the total length of the albu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ength has the format min:seco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BA8E-67CA-424B-8AAB-B1A482D767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Diversity in Computer Science 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5562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2001, S&amp;E: 11% full, 22% assoc, 36% ass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S: 8%, 13%, 14%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14400" y="1143000"/>
          <a:ext cx="7238880" cy="44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23888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984-17A1-4916-8B7A-204F9D89C88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enefits of L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oup related items toget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ame with a single variable name instead of creating many separate variab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.g., sunday = “Sun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 has an </a:t>
            </a:r>
            <a:r>
              <a:rPr b="0" i="1" lang="en-US" sz="2800" spc="-1" strike="noStrike">
                <a:solidFill>
                  <a:srgbClr val="00c600"/>
                </a:solidFill>
                <a:latin typeface="Arial"/>
              </a:rPr>
              <a:t>ord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venient for dealing with large amounts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could keep all the temperature data in a list if needed to reuse la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and methods for handling, manipulating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56D9-E43A-42DD-B43A-972B9631CB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: A Closer Loo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41911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&lt;listname&gt;[&lt;int_expr&gt;]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accessing characters in a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InWeek[-1] is “Sat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InWeek[0] is “Sun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43000" y="1803240"/>
          <a:ext cx="7620120" cy="1015920"/>
        </p:xfrm>
        <a:graphic>
          <a:graphicData uri="http://schemas.openxmlformats.org/drawingml/2006/table">
            <a:tbl>
              <a:tblPr/>
              <a:tblGrid>
                <a:gridCol w="1089000"/>
                <a:gridCol w="1087560"/>
                <a:gridCol w="1089000"/>
                <a:gridCol w="1154160"/>
                <a:gridCol w="1023840"/>
                <a:gridCol w="1087560"/>
                <a:gridCol w="1089000"/>
              </a:tblGrid>
              <a:tr h="52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n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on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ue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ed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hu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ri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at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87480" y="113976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2905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osition/index in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371600"/>
            <a:ext cx="53316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2895120"/>
            <a:ext cx="914400" cy="3812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3280" y="32004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len(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aysInWeek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) is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07680" y="1219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aysInWee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C63-CCDC-4C2C-9600-44BA7A27A5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 + &lt;seq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peti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 * &lt;int-expr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[&lt;int-expr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(&lt;seq&gt;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lic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[: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or &lt;var&gt; in &lt;seq&gt;: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mbership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expr&gt; in &lt;seq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87560" y="577044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Similar to operations for strings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24FC-6871-434F-A5BF-B8625FA39B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L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a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very element in the list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quivalent t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56000" y="3317760"/>
            <a:ext cx="274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tem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st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item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39960" y="231624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 item in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38200" y="22860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ist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62520" y="2666880"/>
            <a:ext cx="76176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51080" y="2895480"/>
            <a:ext cx="45720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1760" y="5146560"/>
            <a:ext cx="419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xrange(len(list))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st[x]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5114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terates through </a:t>
            </a:r>
            <a:r>
              <a:rPr b="0" i="1" lang="en-US" sz="2400" spc="-1" strike="noStrike">
                <a:solidFill>
                  <a:srgbClr val="00c6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n list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2819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terates through </a:t>
            </a:r>
            <a:r>
              <a:rPr b="0" i="1" lang="en-US" sz="2400" spc="-1" strike="noStrike">
                <a:solidFill>
                  <a:srgbClr val="00c600"/>
                </a:solidFill>
                <a:latin typeface="Tahoma"/>
              </a:rPr>
              <a:t>items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n list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3000" y="627840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aysOfWeek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E1A-D087-4240-A805-B983C4325F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embershi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heck if a list contains an elemen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Example problem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rolledstudents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is a list of students who are enrolled in the clas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ant to check if a student who attends the class is enrolled in the clas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If have a list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attendingstudents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, check if each attending student is an enrolled studen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71080" y="3962520"/>
            <a:ext cx="540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not student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enrolledstudents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student, “is not enrolled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7545-9091-490B-A895-EBCC70924F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0880" y="1417680"/>
          <a:ext cx="8305920" cy="4865760"/>
        </p:xfrm>
        <a:graphic>
          <a:graphicData uri="http://schemas.openxmlformats.org/drawingml/2006/table">
            <a:tbl>
              <a:tblPr/>
              <a:tblGrid>
                <a:gridCol w="2819520"/>
                <a:gridCol w="5486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append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d element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the end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sort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ort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revers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verse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index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the index of the first occurrence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, Error i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not in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insert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sert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to list at index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count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the number of occurrences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remove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es the first occurrence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pop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es the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h element of the list and returns its valu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BFDD-57A7-4BE6-B949-90CEEA5937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bonacci Sequ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the first 15 Fibonacci number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480" y="3200400"/>
            <a:ext cx="798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 = []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reate an empty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1)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append the first two Fib numb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1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x in xrange(2,16):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ompute the next 13 num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ewfib = fibs[x-1]+fibs[x-2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newfib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fibs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print out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31000" y="632448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b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3E10-9565-43B8-9B20-5AD0BF8D32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2T19:41:06Z</cp:lastPrinted>
  <dcterms:modified xsi:type="dcterms:W3CDTF">2007-10-22T19:51:30Z</dcterms:modified>
  <cp:revision>2147</cp:revision>
  <dc:subject/>
  <dc:title>PowerPoint Presentation</dc:title>
</cp:coreProperties>
</file>