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4D17-16F7-4A86-BDAD-20C8A1A3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A34-D896-4726-A71B-F26018A3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24A9-33A6-412F-93B3-5812E78E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93F2-B3AD-43F2-A272-202A6CF6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A9183-09A2-4554-8CA6-FEF2A3B3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ED291-1D16-42B6-836D-986D6CD4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C6330-1A4A-420B-94A8-B7A9AEB7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C8714-6D39-453A-B4F1-FAC69C0F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DDC4F-E8E8-4902-9541-A567A5FE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5793D-74AB-4512-A209-A1315B5D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92B82-4EF8-4451-9F10-13C2CB4D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98F7-AB66-42DD-BF8C-EA3618C6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3EB22-2823-499D-A045-06B3303F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0CE27-CDB7-4145-B132-8896D980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A75C9-8381-4978-AE9F-A01890E0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B7681-B5AC-4784-9664-B5AB4A43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04E5C-B0FE-414A-A6B0-B39B9941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672F-44D8-4F04-9F33-54F1E647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6332-5AE9-4CFE-91F2-1666CC60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19CD-A768-498C-8F06-B0115393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56A4-1115-4A9C-A0DA-2923F9CE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524C-1CBC-4F94-AB6D-7EED768D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F597-08A4-4830-86BE-19FB0D1B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77B0-5679-42C4-885D-E34C1F07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9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6408-ACF8-4E2B-989A-E6A0ADC31436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328A-2EBA-4D72-B0A1-E427E3B45587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s 1, 2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37160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&gt;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22096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3" idx="2"/>
            <a:endCxn id="84" idx="0"/>
          </p:cNvCxnSpPr>
          <p:nvPr/>
        </p:nvCxnSpPr>
        <p:spPr>
          <a:xfrm flipH="1">
            <a:off x="1028520" y="1828800"/>
            <a:ext cx="876600" cy="38124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4" idx="2"/>
            <a:endCxn id="87" idx="0"/>
          </p:cNvCxnSpPr>
          <p:nvPr/>
        </p:nvCxnSpPr>
        <p:spPr>
          <a:xfrm>
            <a:off x="1028520" y="2666880"/>
            <a:ext cx="952920" cy="381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520920" y="18414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6080" y="114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3" idx="2"/>
            <a:endCxn id="87" idx="0"/>
          </p:cNvCxnSpPr>
          <p:nvPr/>
        </p:nvCxnSpPr>
        <p:spPr>
          <a:xfrm flipH="1" rot="16200000">
            <a:off x="1333440" y="2400120"/>
            <a:ext cx="1219680" cy="76680"/>
          </a:xfrm>
          <a:prstGeom prst="curvedConnector3">
            <a:avLst>
              <a:gd name="adj1" fmla="val 25036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90720" y="304812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g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79132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3" idx="2"/>
            <a:endCxn id="91" idx="0"/>
          </p:cNvCxnSpPr>
          <p:nvPr/>
        </p:nvCxnSpPr>
        <p:spPr>
          <a:xfrm flipH="1">
            <a:off x="1104840" y="5257800"/>
            <a:ext cx="876600" cy="5338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91" idx="2"/>
          </p:cNvCxnSpPr>
          <p:nvPr/>
        </p:nvCxnSpPr>
        <p:spPr>
          <a:xfrm>
            <a:off x="1104840" y="6248520"/>
            <a:ext cx="991440" cy="3690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711360" y="52578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3" idx="2"/>
          </p:cNvCxnSpPr>
          <p:nvPr/>
        </p:nvCxnSpPr>
        <p:spPr>
          <a:xfrm flipH="1" rot="16200000">
            <a:off x="1352520" y="5886000"/>
            <a:ext cx="1371960" cy="115200"/>
          </a:xfrm>
          <a:prstGeom prst="curvedConnector3">
            <a:avLst>
              <a:gd name="adj1" fmla="val 25721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990720" y="480060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==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94956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7" idx="2"/>
            <a:endCxn id="97" idx="0"/>
          </p:cNvCxnSpPr>
          <p:nvPr/>
        </p:nvCxnSpPr>
        <p:spPr>
          <a:xfrm flipH="1">
            <a:off x="1104840" y="3505320"/>
            <a:ext cx="876600" cy="444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7" idx="2"/>
            <a:endCxn id="93" idx="0"/>
          </p:cNvCxnSpPr>
          <p:nvPr/>
        </p:nvCxnSpPr>
        <p:spPr>
          <a:xfrm>
            <a:off x="1104840" y="4406760"/>
            <a:ext cx="876600" cy="3942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597240" y="358128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7" idx="2"/>
            <a:endCxn id="93" idx="0"/>
          </p:cNvCxnSpPr>
          <p:nvPr/>
        </p:nvCxnSpPr>
        <p:spPr>
          <a:xfrm rot="16200000">
            <a:off x="1333440" y="4152960"/>
            <a:ext cx="1295640" cy="360"/>
          </a:xfrm>
          <a:prstGeom prst="curvedConnector2">
            <a:avLst/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6095880" y="129528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&gt;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28600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2" idx="2"/>
            <a:endCxn id="103" idx="0"/>
          </p:cNvCxnSpPr>
          <p:nvPr/>
        </p:nvCxnSpPr>
        <p:spPr>
          <a:xfrm flipH="1">
            <a:off x="5371920" y="1752480"/>
            <a:ext cx="1715040" cy="5338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3" idx="2"/>
            <a:endCxn id="106" idx="0"/>
          </p:cNvCxnSpPr>
          <p:nvPr/>
        </p:nvCxnSpPr>
        <p:spPr>
          <a:xfrm>
            <a:off x="5371920" y="2743200"/>
            <a:ext cx="1752840" cy="198144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5702400" y="17654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07560" y="1066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2" idx="2"/>
            <a:endCxn id="110" idx="0"/>
          </p:cNvCxnSpPr>
          <p:nvPr/>
        </p:nvCxnSpPr>
        <p:spPr>
          <a:xfrm flipH="1" rot="16200000">
            <a:off x="7353360" y="1485720"/>
            <a:ext cx="381600" cy="914760"/>
          </a:xfrm>
          <a:prstGeom prst="curvedConnector3">
            <a:avLst>
              <a:gd name="adj1" fmla="val 25118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7010280" y="213372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g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0" y="3124080"/>
            <a:ext cx="11430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11" idx="2"/>
            <a:endCxn id="106" idx="0"/>
          </p:cNvCxnSpPr>
          <p:nvPr/>
        </p:nvCxnSpPr>
        <p:spPr>
          <a:xfrm flipH="1">
            <a:off x="7124400" y="3581280"/>
            <a:ext cx="1219680" cy="114336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6248520" y="3124080"/>
            <a:ext cx="12952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0" idx="2"/>
            <a:endCxn id="113" idx="0"/>
          </p:cNvCxnSpPr>
          <p:nvPr/>
        </p:nvCxnSpPr>
        <p:spPr>
          <a:xfrm flipH="1">
            <a:off x="6896160" y="2590920"/>
            <a:ext cx="1105200" cy="53352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2"/>
            <a:endCxn id="106" idx="0"/>
          </p:cNvCxnSpPr>
          <p:nvPr/>
        </p:nvCxnSpPr>
        <p:spPr>
          <a:xfrm>
            <a:off x="6896160" y="3581280"/>
            <a:ext cx="228600" cy="114336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6502680" y="26035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0" idx="2"/>
          </p:cNvCxnSpPr>
          <p:nvPr/>
        </p:nvCxnSpPr>
        <p:spPr>
          <a:xfrm flipH="1" rot="16200000">
            <a:off x="7911720" y="2679840"/>
            <a:ext cx="520920" cy="342720"/>
          </a:xfrm>
          <a:prstGeom prst="curvedConnector3">
            <a:avLst>
              <a:gd name="adj1" fmla="val 26901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6324480" y="47242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6320" y="5635800"/>
            <a:ext cx="47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nsider case num1=5, num2=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02FF-FA8E-457E-A272-CEFC8FFA41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 2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129528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&lt;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28600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2"/>
            <a:endCxn id="121" idx="0"/>
          </p:cNvCxnSpPr>
          <p:nvPr/>
        </p:nvCxnSpPr>
        <p:spPr>
          <a:xfrm flipH="1">
            <a:off x="5371920" y="1765080"/>
            <a:ext cx="171504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2"/>
            <a:endCxn id="124" idx="0"/>
          </p:cNvCxnSpPr>
          <p:nvPr/>
        </p:nvCxnSpPr>
        <p:spPr>
          <a:xfrm>
            <a:off x="5372280" y="2755440"/>
            <a:ext cx="1753200" cy="1956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5702400" y="17654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0" idx="2"/>
            <a:endCxn id="127" idx="0"/>
          </p:cNvCxnSpPr>
          <p:nvPr/>
        </p:nvCxnSpPr>
        <p:spPr>
          <a:xfrm flipH="1" rot="16200000">
            <a:off x="7365960" y="1485360"/>
            <a:ext cx="356040" cy="91512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010280" y="213372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l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3124080"/>
            <a:ext cx="11430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8" idx="2"/>
            <a:endCxn id="124" idx="0"/>
          </p:cNvCxnSpPr>
          <p:nvPr/>
        </p:nvCxnSpPr>
        <p:spPr>
          <a:xfrm flipH="1">
            <a:off x="7124040" y="3594240"/>
            <a:ext cx="122004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6248520" y="3124080"/>
            <a:ext cx="12952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7" idx="2"/>
            <a:endCxn id="130" idx="0"/>
          </p:cNvCxnSpPr>
          <p:nvPr/>
        </p:nvCxnSpPr>
        <p:spPr>
          <a:xfrm flipH="1">
            <a:off x="6895440" y="2603160"/>
            <a:ext cx="110556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30" idx="2"/>
            <a:endCxn id="124" idx="0"/>
          </p:cNvCxnSpPr>
          <p:nvPr/>
        </p:nvCxnSpPr>
        <p:spPr>
          <a:xfrm>
            <a:off x="6895800" y="3594240"/>
            <a:ext cx="22932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6502680" y="26035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27" idx="2"/>
          </p:cNvCxnSpPr>
          <p:nvPr/>
        </p:nvCxnSpPr>
        <p:spPr>
          <a:xfrm flipH="1" rot="16200000">
            <a:off x="7917480" y="2685600"/>
            <a:ext cx="508680" cy="343800"/>
          </a:xfrm>
          <a:prstGeom prst="curvedConnector5">
            <a:avLst>
              <a:gd name="adj1" fmla="val 48725"/>
              <a:gd name="adj2" fmla="val 50000"/>
              <a:gd name="adj3" fmla="val 48725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324480" y="47242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20968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==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320040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5" idx="2"/>
            <a:endCxn id="136" idx="0"/>
          </p:cNvCxnSpPr>
          <p:nvPr/>
        </p:nvCxnSpPr>
        <p:spPr>
          <a:xfrm flipH="1">
            <a:off x="952200" y="2679480"/>
            <a:ext cx="171504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6" idx="2"/>
            <a:endCxn id="139" idx="0"/>
          </p:cNvCxnSpPr>
          <p:nvPr/>
        </p:nvCxnSpPr>
        <p:spPr>
          <a:xfrm>
            <a:off x="952560" y="3669840"/>
            <a:ext cx="1753200" cy="1956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1283040" y="26798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5" idx="2"/>
            <a:endCxn id="142" idx="0"/>
          </p:cNvCxnSpPr>
          <p:nvPr/>
        </p:nvCxnSpPr>
        <p:spPr>
          <a:xfrm flipH="1" rot="16200000">
            <a:off x="2946240" y="2399760"/>
            <a:ext cx="356040" cy="91512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2590920" y="304812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l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038480"/>
            <a:ext cx="11430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3" idx="2"/>
            <a:endCxn id="139" idx="0"/>
          </p:cNvCxnSpPr>
          <p:nvPr/>
        </p:nvCxnSpPr>
        <p:spPr>
          <a:xfrm flipH="1">
            <a:off x="2704320" y="4508640"/>
            <a:ext cx="122004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1828800" y="4038480"/>
            <a:ext cx="12952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2" idx="2"/>
            <a:endCxn id="145" idx="0"/>
          </p:cNvCxnSpPr>
          <p:nvPr/>
        </p:nvCxnSpPr>
        <p:spPr>
          <a:xfrm flipH="1">
            <a:off x="2475720" y="3517560"/>
            <a:ext cx="110556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5" idx="2"/>
            <a:endCxn id="139" idx="0"/>
          </p:cNvCxnSpPr>
          <p:nvPr/>
        </p:nvCxnSpPr>
        <p:spPr>
          <a:xfrm>
            <a:off x="2476080" y="4508640"/>
            <a:ext cx="22932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082960" y="3517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2" idx="2"/>
          </p:cNvCxnSpPr>
          <p:nvPr/>
        </p:nvCxnSpPr>
        <p:spPr>
          <a:xfrm flipH="1" rot="16200000">
            <a:off x="3497760" y="3600000"/>
            <a:ext cx="508680" cy="343800"/>
          </a:xfrm>
          <a:prstGeom prst="curvedConnector5">
            <a:avLst>
              <a:gd name="adj1" fmla="val 48725"/>
              <a:gd name="adj2" fmla="val 50000"/>
              <a:gd name="adj3" fmla="val 48725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1905120" y="56386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5080" y="113976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ch tends to be more efficien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1006-7665-48B2-B39F-2857AC4B35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MI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bably better to compute as a float and then round to nearest integ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you do tha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 elegant if/else condi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1840" y="3581280"/>
            <a:ext cx="327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bmi &lt; 19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below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if bmi &gt; 25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abov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in rang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10320" y="4175280"/>
            <a:ext cx="404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bmi &gt;= 19 and bmi &lt;=25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in rang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if bmi &gt; 25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abov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below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365436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As  opposed to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7880" y="6093000"/>
            <a:ext cx="26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Both are corr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277F-45A0-4695-864E-12E0DF27A4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fficiency and Elega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art thinking more about efficiency and elegance when writing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variable names, good comments, good spac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F81D-7EFE-4394-BCC7-DA3DBE375E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4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urn in before end of cla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F238-2BC0-4170-B438-FC9D600630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09-27T16:51:22Z</cp:lastPrinted>
  <dcterms:modified xsi:type="dcterms:W3CDTF">2007-10-10T00:27:57Z</dcterms:modified>
  <cp:revision>514</cp:revision>
  <dc:subject/>
  <dc:title>PowerPoint Presentation</dc:title>
</cp:coreProperties>
</file>