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D91-BCD3-4243-8932-212A070A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416-121A-4E07-AAE2-7BB44A7B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195-1165-44D9-A008-9385045A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F2B-8269-4964-9C08-0ADFF753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D02FA-1EFE-4755-9A6D-3C22ECB1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1E99A-ADD8-4389-99A7-9EDA06EB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6C77B-2B4B-4DB2-8618-B76D3FC6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4ED48-B0D1-443F-85EF-620EB113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B3DB6-A567-4AF6-8B58-8274EF5C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B68AF-3F5A-4272-9872-80D262D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D3D74-C2F2-4B71-92A0-0A09B4D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D07-BDFD-490F-BDB4-52AD7248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0E5DC-93A5-477C-8646-B7C766B0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85126-3D97-4B44-BBE2-A870DE5E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12AF0-64BA-435B-BEA9-DBEC02DB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25520-2FFF-4A38-B688-58197882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5B20A-D158-422C-9C43-BF5A3989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26D-4BAE-47B2-9581-08071CF1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A41-1C5C-4B6F-8432-4EF3CB7E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884-B486-4F19-B6C5-F04EEC6C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C45-2F54-47FC-8367-F11E6DDF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2F3-6C66-412B-949E-5B6521CA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AC0-B982-4112-AB18-3F4304F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921-8AEF-4B8D-839F-1143B8C3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8E20-FE0B-4F00-B4FC-BE6AE60D5FC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B80E-2335-4356-A871-3D0B74621E5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mly Lab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 Sanitiz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rgonomic inform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C03-B4A6-4E65-B69B-5EAE361EC4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lowercase string using a key, preserving spaces in # the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a lowercase string to be encoded (toEncode) and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integer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15E-D2EB-4632-85C8-99022F1DEE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ll-named parameters make documentation easi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’m not strict on the pre/post format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ust need to be clear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the function does (at high leve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s of 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 of th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caller knows what to pass to the function and if they should assign the output to a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DB9-BD05-49D2-8C87-BA1F59CAE6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al or No Deal Over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ave 26 cases with various amounts of mone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mounts are know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selects a case (hope has the big jackpot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 each round, player opens up cas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veals amounts that are not in the case they cho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anker makes an offer to buy the ca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decides if want to take the de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s the offer more than what is in the ca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ake decision based on amounts that haven’t been opened yet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ames ends when only one more case to open or player takes the deal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DD0-EB21-4E15-8760-67B74711F8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: Deal or No De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lay the game, written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: partial solution in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r job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, understand given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l in the functions for a complete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155-A0DF-4B62-B7D2-55E993A57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6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arm up problems us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al or No Dea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D23-4CCD-4ADD-91AC-4B59DAC4A8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 functions at top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statements at top of program (outside of any function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/algorithm improv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through the string as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ather than iterating through positions in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encode a letter if it’s not a spa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6680" y="5288040"/>
            <a:ext cx="46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h != “ “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# convert to ASCII, etc.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63F-DBC1-4436-BB53-9F248971EE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gic Numb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lot of you used 97, 122, 26 explicitly in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times not documented (commented) wh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ASCII values changed or used different representa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to use constants and lookup valu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4640400"/>
            <a:ext cx="683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WER_BOUND = ord(‘a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PPER_BOUND = ord(‘z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GE = UPPER_BOUND-LOWER_BOUND +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52F-7D10-4C3F-9E7B-05CA16482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ability/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ed translate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d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lightly decreased efficiency because adds another function ca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yoff in readability domina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B30-20B4-4286-ADF5-0C6EF2FE71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functions, programs/modules at high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inside functions at low-level (implementation de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derived from students’ submissions)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572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713-AE70-46CE-8DA9-D853E42161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is This a Good Commen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s the input parameters’ types and implies the type of the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ys that if you give it negative numbers, you could get a goofy answer 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include implementation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ells caller how to us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28E-A1CC-4738-8F68-16D6538C4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37339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03F-5E58-4F90-B116-AD39B3A60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66880"/>
            <a:ext cx="8077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single character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eters are a single,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 lowercas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tring (char) and an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1F2-F3DD-4FA5-AC12-01D2B4258E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666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8DB-597C-4A08-8368-6BEB7AE4C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3T16:58:19Z</cp:lastPrinted>
  <dcterms:modified xsi:type="dcterms:W3CDTF">2007-10-23T18:50:03Z</dcterms:modified>
  <cp:revision>2297</cp:revision>
  <dc:subject/>
  <dc:title>PowerPoint Presentation</dc:title>
</cp:coreProperties>
</file>