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4058-E3C5-4B4D-AFB2-3397474AD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EF13-6FB9-40CC-8F67-C5F95A5E2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6A7C-1B11-4609-B29C-500D3D7EF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8FE3-6FCF-4BC3-B8BE-8CAABBCAF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70A590-0618-4675-BE9D-D15DE0891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DD84E5-BAC1-45D3-8F67-07B4A2F3B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13D5D6-9AF6-42FF-B07B-4CCB3E1F2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1EF563-1DFD-4D54-BEE7-8313A2BF6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EFA1B9-081F-43FB-8381-B1EA66494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184B90-A49E-49F7-8570-FFAB0C618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99A669-90D9-4231-AC22-C6BD599F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6DC8-8E4B-4CD1-92C2-E73DD76A9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9D6678-FCA2-4AA8-A85D-87B40985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714378-14C5-4C3E-B697-5924F9721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1DAD02-449D-4039-848C-A7F41A967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19E1B4-20B2-4DF9-A4A0-C3D1C0A13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C478BD-BD59-4212-A501-9882575EE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4FB5-2E66-4A4D-8B93-4C902874B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8BEC-1480-4CF6-A5F4-A31C2F0A0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6480-600D-4BAE-9899-62E9A2EBB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3856-3B96-4592-BFDD-7DEA9BF6C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7B6E-204F-4D62-B432-0A4A16DD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A495-E6F9-4E31-8027-0967F26B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70E0-950E-44FC-8F19-67F005D2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ept 18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AA7EC-076B-4C75-BFE9-4035780E57C8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DA3E0-3AB3-4523-839D-4AACA2BC9E4A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0 Feedback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reat!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tails got some of you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 out cop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py directory to turnin director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ython practice (expressions into shell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eb page changes in index.html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mporting Modu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ython has a rich library of functions and definitions available for your us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he library is broken into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modul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A </a:t>
            </a:r>
            <a:r>
              <a:rPr b="1" lang="en-US" sz="2800" spc="-1" strike="noStrike">
                <a:solidFill>
                  <a:srgbClr val="00c600"/>
                </a:solidFill>
                <a:latin typeface="Tahoma"/>
              </a:rPr>
              <a:t>module</a:t>
            </a: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 is a file containing Python definitions and statemen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o use the definitions in a module, you must first </a:t>
            </a: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impor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the modu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to use the </a:t>
            </a:r>
            <a:r>
              <a:rPr b="1" lang="en-US" sz="2800" spc="-1" strike="noStrike">
                <a:solidFill>
                  <a:srgbClr val="00c600"/>
                </a:solidFill>
                <a:latin typeface="Arial"/>
              </a:rPr>
              <a:t>math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module’s definitions, use the the import statement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ypically import statements are at </a:t>
            </a:r>
            <a:r>
              <a:rPr b="0" i="1" lang="en-US" sz="2800" spc="-1" strike="noStrike">
                <a:solidFill>
                  <a:srgbClr val="010199"/>
                </a:solidFill>
                <a:latin typeface="Arial"/>
              </a:rPr>
              <a:t>top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of program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716080" y="4724280"/>
            <a:ext cx="232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import math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Definitions from Modu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epend constant or function with “modulename.”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s for constants: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math.pi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math.e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s for functions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math.sqr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actic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would we write the expression e</a:t>
            </a:r>
            <a:r>
              <a:rPr b="0" lang="en-US" sz="2800" spc="-1" strike="noStrike" baseline="30000">
                <a:solidFill>
                  <a:srgbClr val="010199"/>
                </a:solidFill>
                <a:latin typeface="Arial"/>
              </a:rPr>
              <a:t>i</a:t>
            </a:r>
            <a:r>
              <a:rPr b="0" lang="en-US" sz="2800" spc="-1" strike="noStrike" baseline="30000">
                <a:solidFill>
                  <a:srgbClr val="010199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+ 1 in Python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01280" y="6248520"/>
            <a:ext cx="29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module_exampl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1 Not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pect comments in program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igh-level comments, authorship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Notes for your algorithms, implementa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pect more testing on program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hat are good test cases for your programs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how the output from those test cases.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But don’t go overboard, testing every possible number!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nor Syste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ledge the Honor Code on printed shee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inux Key -- onlin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s -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Long” listing forma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splays detailed info about fil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Last modified date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File size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Owners, permission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s /home/courses/cs111/handouts/lab0/*.p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.py” extension in comm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S Issues Feedback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rst one: more lenient in grad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ater: tougher on grammar, spelling errors, post as a comment, explicitly summarize the top three points, etc.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pelled out on “CS Issues” pag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uture rubric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Blog entry - 6 p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scussion - 4 p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inux Command Conven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&lt;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rg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&gt;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means fill in the appropriate th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[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rg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]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means optional argumen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: Move or Rename a fi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v &lt;sourcefile&gt; &lt;destination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&lt;destination&gt; is a directory, keeps the original source file’s nam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Ex: mv ~/labs/file.py labs/lab1/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File “file.py” will be in labs/lab1 directory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alling 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unctions perform some task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ay take </a:t>
            </a:r>
            <a:r>
              <a:rPr b="1" lang="en-US" sz="2800" spc="-1" strike="noStrike">
                <a:solidFill>
                  <a:srgbClr val="00c600"/>
                </a:solidFill>
                <a:latin typeface="Arial"/>
              </a:rPr>
              <a:t>arguments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/</a:t>
            </a:r>
            <a:r>
              <a:rPr b="1" lang="en-US" sz="2800" spc="-1" strike="noStrike">
                <a:solidFill>
                  <a:srgbClr val="00c600"/>
                </a:solidFill>
                <a:latin typeface="Arial"/>
              </a:rPr>
              <a:t>parameter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ay </a:t>
            </a:r>
            <a:r>
              <a:rPr b="1" lang="en-US" sz="2800" spc="-1" strike="noStrike">
                <a:solidFill>
                  <a:srgbClr val="00c600"/>
                </a:solidFill>
                <a:latin typeface="Arial"/>
              </a:rPr>
              <a:t>return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a value that can be used in assignmen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yntax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Courier New"/>
              </a:rPr>
              <a:t>func_name(arg0, arg1, …, argn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pending on the function, the arguments may or may not be required</a:t>
            </a: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[ ] 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ndicate an optional argumen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5067360" y="1638360"/>
            <a:ext cx="457200" cy="4038480"/>
          </a:xfrm>
          <a:custGeom>
            <a:avLst/>
            <a:gdLst>
              <a:gd name="textAreaLeft" fmla="*/ 0 w 457200"/>
              <a:gd name="textAreaRight" fmla="*/ 164880 w 457200"/>
              <a:gd name="textAreaTop" fmla="*/ 105120 h 4038480"/>
              <a:gd name="textAreaBottom" fmla="*/ 3933360 h 403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59400" y="2971800"/>
            <a:ext cx="343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Argument/parameter lis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ample 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22096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Courier New"/>
              </a:rPr>
              <a:t>raw_input([prompt]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prompt is given as an argument, prints the prompt without a newline/carriage retur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no prompt, just waits for user’s inpu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turns user’s input (up to “enter”) as a </a:t>
            </a:r>
            <a:r>
              <a:rPr b="1" lang="en-US" sz="2800" spc="-1" strike="noStrike">
                <a:solidFill>
                  <a:srgbClr val="00c600"/>
                </a:solidFill>
                <a:latin typeface="Arial"/>
              </a:rPr>
              <a:t>str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Courier New"/>
              </a:rPr>
              <a:t>input([prompt]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imilar to </a:t>
            </a:r>
            <a:r>
              <a:rPr b="0" lang="en-US" sz="2800" spc="-1" strike="noStrike">
                <a:solidFill>
                  <a:srgbClr val="010199"/>
                </a:solidFill>
                <a:latin typeface="Courier New"/>
              </a:rPr>
              <a:t>raw_inpu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but returns a </a:t>
            </a:r>
            <a:r>
              <a:rPr b="1" lang="en-US" sz="2800" spc="-1" strike="noStrike">
                <a:solidFill>
                  <a:srgbClr val="00c600"/>
                </a:solidFill>
                <a:latin typeface="Arial"/>
              </a:rPr>
              <a:t>numb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1520" y="990720"/>
            <a:ext cx="44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Known as function’s “signature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1371600"/>
            <a:ext cx="990360" cy="106668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311920" y="1487520"/>
            <a:ext cx="47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Template for how to “call” functio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26080" y="194472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Optional argumen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267080" y="2133720"/>
            <a:ext cx="1371600" cy="15228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Getting Input From Us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0202"/>
                </a:solidFill>
                <a:latin typeface="Courier New"/>
              </a:rPr>
              <a:t>inpu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20202"/>
                </a:solidFill>
                <a:latin typeface="Courier New"/>
              </a:rPr>
              <a:t>raw_inpu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are function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ompts user for input, gets the user’s inpu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Courier New"/>
              </a:rPr>
              <a:t>inpu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: for number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Courier New"/>
              </a:rPr>
              <a:t>raw_inpu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: for string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ypically used in assignme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idth = input(“Enter the width: “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 execution, terminal display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nter the width: 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ssigns </a:t>
            </a:r>
            <a:r>
              <a:rPr b="0" lang="en-US" sz="2800" spc="-1" strike="noStrike">
                <a:solidFill>
                  <a:srgbClr val="010199"/>
                </a:solidFill>
                <a:latin typeface="Courier New"/>
              </a:rPr>
              <a:t>width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the value the user enter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4305240" y="2247840"/>
            <a:ext cx="609840" cy="2819520"/>
          </a:xfrm>
          <a:custGeom>
            <a:avLst/>
            <a:gdLst>
              <a:gd name="textAreaLeft" fmla="*/ 0 w 609840"/>
              <a:gd name="textAreaRight" fmla="*/ 220320 w 60984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98640" y="3048120"/>
            <a:ext cx="35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Prompt displayed to us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Getting Input from Us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color = raw_input(“What is your favorite color? ”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3760" y="2590920"/>
            <a:ext cx="541584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&gt; python input_demo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What is your favorite color? </a:t>
            </a:r>
            <a:r>
              <a:rPr b="0" lang="en-US" sz="2400" spc="-1" strike="noStrike">
                <a:solidFill>
                  <a:srgbClr val="6699ff"/>
                </a:solidFill>
                <a:latin typeface="Arial"/>
              </a:rPr>
              <a:t>blu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Cool!  My favorite color is _light_ blue !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2514600"/>
            <a:ext cx="6476760" cy="1371600"/>
          </a:xfrm>
          <a:prstGeom prst="rect">
            <a:avLst/>
          </a:prstGeom>
          <a:noFill/>
          <a:ln w="3168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1680" y="1981080"/>
            <a:ext cx="15537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cc"/>
                </a:solidFill>
                <a:latin typeface="Arial"/>
              </a:rPr>
              <a:t>Terminal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5400000">
            <a:off x="4228920" y="2400120"/>
            <a:ext cx="685800" cy="761760"/>
          </a:xfrm>
          <a:custGeom>
            <a:avLst/>
            <a:gdLst>
              <a:gd name="textAreaLeft" fmla="*/ 438120 w 685800"/>
              <a:gd name="textAreaRight" fmla="*/ 686160 w 68580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631"/>
                </a:lnTo>
                <a:cubicBezTo>
                  <a:pt x="10800" y="9531"/>
                  <a:pt x="5400" y="10431"/>
                  <a:pt x="0" y="10431"/>
                </a:cubicBezTo>
                <a:cubicBezTo>
                  <a:pt x="5400" y="10431"/>
                  <a:pt x="10800" y="11331"/>
                  <a:pt x="10800" y="1223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03880" y="1752480"/>
            <a:ext cx="405432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Grabs every character up to the user presses “enter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197800" y="4564080"/>
            <a:ext cx="55479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Assigns variable </a:t>
            </a:r>
            <a:r>
              <a:rPr b="1" lang="en-US" sz="2400" spc="-1" strike="noStrike">
                <a:solidFill>
                  <a:srgbClr val="010199"/>
                </a:solidFill>
                <a:latin typeface="Courier New"/>
              </a:rPr>
              <a:t>color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the user’s in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85280" y="609588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input_demo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ther Built-in 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ound(x[,n]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ound the float to </a:t>
            </a:r>
            <a:r>
              <a:rPr b="0" lang="en-US" sz="2800" spc="-1" strike="noStrike">
                <a:solidFill>
                  <a:srgbClr val="00c600"/>
                </a:solidFill>
                <a:latin typeface="Courier New"/>
              </a:rPr>
              <a:t>n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digits after the decimal poin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no </a:t>
            </a:r>
            <a:r>
              <a:rPr b="0" lang="en-US" sz="2800" spc="-1" strike="noStrike">
                <a:solidFill>
                  <a:srgbClr val="00c600"/>
                </a:solidFill>
                <a:latin typeface="Courier New"/>
              </a:rPr>
              <a:t>n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, round to nearest 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n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bs(x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turns the absolute value of </a:t>
            </a:r>
            <a:r>
              <a:rPr b="0" lang="en-US" sz="2800" spc="-1" strike="noStrike">
                <a:solidFill>
                  <a:srgbClr val="00c600"/>
                </a:solidFill>
                <a:latin typeface="Courier New"/>
              </a:rPr>
              <a:t>x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ype(x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turn the type of </a:t>
            </a:r>
            <a:r>
              <a:rPr b="0" lang="en-US" sz="2800" spc="-1" strike="noStrike">
                <a:solidFill>
                  <a:srgbClr val="00c600"/>
                </a:solidFill>
                <a:latin typeface="Courier New"/>
              </a:rPr>
              <a:t>x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695560" y="6321600"/>
            <a:ext cx="316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function_exampl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cp:lastPrinted>2007-09-18T17:55:52Z</cp:lastPrinted>
  <dcterms:modified xsi:type="dcterms:W3CDTF">2007-09-18T18:53:02Z</dcterms:modified>
  <cp:revision>69</cp:revision>
  <dc:subject/>
  <dc:title>PowerPoint Presentation</dc:title>
</cp:coreProperties>
</file>