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26A-F28B-45BF-AD13-B48C403F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3B49-10F0-468C-9BDE-66AE55F0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FA1-7269-4ECD-89DD-CD8DC1D5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736B-4D4D-44FB-A569-DFC822291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64FF2-408F-4A94-9DC7-0C1633502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CEA87-71FF-4001-BADB-929FF3E1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BE781-57B0-45BD-8E2E-ED38D8CC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0A29C-47AD-4390-BB57-26F46DE57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B28534-6C04-4A2B-A940-5E903E0A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9D2CC-DDA6-4C29-8035-843B9FD9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D1D3A8-395B-4B27-9800-DAF41382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0CA7-1B46-416D-B24D-719BEAE9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BE926-8BA8-42C7-B627-0C632476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59B87-ACDA-4693-BF4B-0E881D72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F95F3-92DF-4DB2-B9D8-78741D92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93E40E-11AB-4BE0-8F29-79A40D92D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F68E5-EFAC-4ACA-8DF9-E78C21254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5A7-7C61-4821-9109-A261DDE77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C07A-55A2-40A8-BFE8-39960CEF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BFCD-7CF4-46CD-8AFF-1C41404EA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9F8B-47F3-4257-8D0D-8782C42B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88E-D551-41AF-8269-400FDD933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EA1-9F7A-44F2-953A-6BEA40721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C30F-F8C4-4F25-99E2-A7AC2F58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278-8F5C-48BC-9F3F-60EC1FAC606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FA06-817D-4040-A5A0-262606A62A2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terminism vs. Non-Determinis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no input and no randomn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 always executes the same way with the sam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nown as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r programs have been 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ing the random functions will make our program non-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ing program multiple times will result in different execution,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code readability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ter variable na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ptive, useful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blank lines with comments to separate code “block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tty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3080" y="1066680"/>
            <a:ext cx="8169480" cy="5582520"/>
          </a:xfrm>
          <a:prstGeom prst="rect">
            <a:avLst/>
          </a:prstGeom>
          <a:solidFill>
            <a:srgbClr val="ff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first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ft_s = COURT_LENGTH / jenny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ft_s = COURT_LENGTH / laura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ft_s = COURT_LENGTH / venus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second calculations to mi/h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mi_hr = (jenny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mi_hr = (laura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mi_hr = (venus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Display output nicely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      CISC111 Tennis Pros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--------------------------------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\t\t ft/s\t  mi/hr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Laura\t\t%5.2f\t %6.2f" % (laura_ft_s, laura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Jennifer \t%5.2f\t %6.2f" % (jenny_ft_s, jenny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Venus\t\t%5.2f\t %6.2f" % (venus_ft_s, venus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438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Comments, Space between blocks of cod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95680" y="2819520"/>
            <a:ext cx="1371600" cy="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4720" y="380880"/>
            <a:ext cx="32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Descriptive variable name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Use of constant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762120"/>
            <a:ext cx="297180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560" y="914400"/>
            <a:ext cx="990360" cy="83808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838080"/>
            <a:ext cx="38088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mplate string with 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nclude other characters besides format specifi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have more than one 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Venus %20.2f %10.2f” % (fpers, mph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%3d|” % (x*y)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3400" y="54500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Needs to be in parenthes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52680" y="4572000"/>
            <a:ext cx="60984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member to remove ~ files before prin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aves paper because extra file isn’t getting printed o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02:33Z</dcterms:created>
  <dc:creator>Sara Sprenkle</dc:creator>
  <dc:description/>
  <dc:language>en-US</dc:language>
  <cp:lastModifiedBy>Sara Sprenkle</cp:lastModifiedBy>
  <cp:lastPrinted>2007-10-02T17:42:22Z</cp:lastPrinted>
  <dcterms:modified xsi:type="dcterms:W3CDTF">2007-10-02T18:19:23Z</dcterms:modified>
  <cp:revision>29</cp:revision>
  <dc:subject/>
  <dc:title>PowerPoint Presentation</dc:title>
</cp:coreProperties>
</file>