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977-01C4-4C68-AB63-F0506256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521-A61D-44D4-AAF5-160E375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D25-4162-47BB-9DB3-85B84DB4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551-0FD2-411B-8C68-041C62A7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5754E-B780-460B-B2E4-54B3A4C1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D9C8B-D042-4FAD-8223-B838DE4C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FB119-3D4F-4624-B446-BE875450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062DD-EE4C-4CA1-AD45-3AF98D03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7A4B0-EA69-4449-8911-078BE82B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28C86-D18E-4A8C-8734-C94EA39E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4923F-3306-4A67-B857-DFF7E04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415-EDDD-41A9-915E-46832A3E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3F7C3-4FD1-465A-9516-5425896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828E-3680-4D8C-91A4-15EE25EB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AE3A9-9895-4974-8A2A-66736EAF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004E4-9D1A-437E-ACA5-5F714A10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53096-C11A-4C98-ACF5-D8FA8966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3EA-873E-43DB-83F3-EE33DA94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748-5032-448A-8849-00138317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162-2441-4895-B8FB-1A380381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6C5-3A2C-43FB-B23A-EEC6346E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71E-880C-4C43-870A-5728DD29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537-077E-479E-B476-DE2F66F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DFB-4DB7-43C5-B5B7-D20706F9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A9DD-4989-49A7-979D-27F400C83DB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D7EA-1341-4D9E-93CB-9623A9F002E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ssing arrays to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0A1-C2F6-456C-AB8B-C02BF2808C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ssues: Open  sour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urce is available to be read/edit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nux kernel is open sour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nux kernel is fre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 distributions add additional software, charge for O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prietary vs. open-source softwa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o has contro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you trust them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EF9-9DA7-4068-A9BC-717C84525F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5T22:45:01Z</dcterms:modified>
  <cp:revision>1459</cp:revision>
  <dc:subject/>
  <dc:title>PowerPoint Presentation</dc:title>
</cp:coreProperties>
</file>