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2E4F-A3D2-41D8-89C6-8AB87483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C02-775E-4137-8DB3-9BFF32D9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99C-ACCC-4DC3-8B76-3C040CAA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183-760D-435A-90A6-23C6DE88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7DD35-A754-422E-B316-4A4699D2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82E48-A151-4322-A82A-2787C43B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72145-404E-4DA6-9AFB-BB262965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93AF2-A29C-4FF6-821B-DF0C7E70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38D9C-D462-4845-9702-86BD42C6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342A2-2A51-40DA-9F71-0D36E0F3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0BF88-35AF-4275-B895-F9AEA75D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CD0-9241-4AD1-AEE7-A5FEEE70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BD6FF-F1A4-4D19-9D72-1F86AC60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0CCC0-1F7D-40F8-AEC1-DEA051CB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E0D99-D589-4FC7-A3AF-CCF7B0DC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AC255-309D-4B2A-92F6-24638ACD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E9D3A-C0A5-449D-B29D-FB12F904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F73-C2F1-43DA-BAF6-A3BAA87C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DEA5-F6F8-4EAB-9B4F-43B89C22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7038-CDE0-4C2E-AA69-49D68177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B8E-326A-4A43-B92B-A00AADDE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319-FA13-4E7F-AA86-70E5D4AD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0B53-4351-4D51-B2C4-59AECAEB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DA8-1B87-492D-AEB9-89647C02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1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E9CC-5B8E-4149-97E4-85A5BE09974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E1B0-E263-4600-981E-0A171D6FDBC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0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eat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tails got some of you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out co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py directory to turnin directo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practice (expressions into shell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b page changes in index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or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has a rich library of functions and definitions available for your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library is broken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odule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 is a file containing Python definitions and state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the definitions in a module, you must first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impor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to use the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ma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module’s definitions, use the the import statement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ically import statements are at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top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f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16080" y="472428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ort math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Definitions from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epend constant or function with “modulename.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 for constant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pi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 for function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sqr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we write the expression e</a:t>
            </a:r>
            <a:r>
              <a:rPr b="0" lang="en-US" sz="2800" spc="-1" strike="noStrike" baseline="30000">
                <a:solidFill>
                  <a:srgbClr val="010199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10199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+ 1 in Pyth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01280" y="624852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module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Not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pect comments in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igh-level comments, authorshi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es for your algorithms, implem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pect more testing on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are good test cases for your program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 the output from those test cases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ut don’t go overboard, testing every possible number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nor Syste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ledge the Honor Code on printed shee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nux Key -- onlin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s -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ng” listing form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s detailed info about fi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Last modified da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ile siz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wners, permiss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s /home/courses/cs111/handouts/lab0/*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.py” extension in comm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Issues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rst one: more lenient in grad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ter: tougher on grammar, spelling errors, post as a comment, explicitly summarize the top three points, etc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elled out on “CS Issues” pa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ture rubr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log entry - 6 p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cussion - 4 p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nux Command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g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ans fill in the appropriate th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g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ans optional argu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Move or Rename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v &lt;sourcefile&gt; &lt;destinatio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&lt;destination&gt; is a directory, keeps the original source file’s 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: mv ~/labs/file.py labs/lab1/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ile “file.py” will be in labs/lab1 director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all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perform some tas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take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argumen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 value that can be used in 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func_name(arg0, arg1, …, arg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pending on the function, the arguments may or may not be required</a:t>
            </a: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[ ]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dicate an optional argu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5067360" y="1638360"/>
            <a:ext cx="457200" cy="4038480"/>
          </a:xfrm>
          <a:custGeom>
            <a:avLst/>
            <a:gdLst>
              <a:gd name="textAreaLeft" fmla="*/ 0 w 457200"/>
              <a:gd name="textAreaRight" fmla="*/ 164880 w 45720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9400" y="297180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Argument/parameter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raw_input([prompt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prompt is given as an argument, prints the prompt without a newline/carriage retur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 prompt, just waits for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user’s input (up to “enter”) as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put([prompt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ut returns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numb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1520" y="99072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Known as function’s “signatur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1371600"/>
            <a:ext cx="990360" cy="10666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11920" y="14875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Template for how to “call” func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26080" y="19447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Optional argu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267080" y="2133720"/>
            <a:ext cx="1371600" cy="1522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mpts user for input, gets the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numb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 = input(“Enter the width: “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the width: 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signs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he value the user en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305240" y="2247840"/>
            <a:ext cx="609840" cy="2819520"/>
          </a:xfrm>
          <a:custGeom>
            <a:avLst/>
            <a:gdLst>
              <a:gd name="textAreaLeft" fmla="*/ 0 w 609840"/>
              <a:gd name="textAreaRight" fmla="*/ 220320 w 609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8640" y="304812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Prompt displayed to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lor = raw_input(“What is your favorite color? 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4228920" y="2400120"/>
            <a:ext cx="685800" cy="7617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97800" y="4564080"/>
            <a:ext cx="5547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101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he user’s 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5280" y="6095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Built-in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(x[,n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ound the float to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digits after the decimal po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, round to nearest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bs(x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the absolute value of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e(x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the type of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95560" y="632160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unction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09-18T17:55:52Z</cp:lastPrinted>
  <dcterms:modified xsi:type="dcterms:W3CDTF">2007-09-18T18:53:02Z</dcterms:modified>
  <cp:revision>69</cp:revision>
  <dc:subject/>
  <dc:title>PowerPoint Presentation</dc:title>
</cp:coreProperties>
</file>