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B48-682A-4CD9-99F1-0B717385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5E0-4BCD-48FC-A943-A66C1F69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04D-CCD3-44EF-9EEB-2AED1820C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1A91-F303-412D-B628-B36DB4B7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602EF-59A3-42ED-9FEF-08FAB99F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1582D8-3814-4DF3-85B1-C870D3F3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923EC9-6629-4C61-AD88-6579577C5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46780-C3D1-402E-98EC-F1D57704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21DD9-194A-4682-BFAC-FC2131CA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246CFE-45C9-48F0-B46F-0FDD4FBC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E21B4D-5136-4C32-83FE-CA1B265F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745-1F3E-47DB-8A67-5C3262D8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0B157-B8C0-43C3-90CB-0EFBD126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BA726-F979-4D00-B126-86A63828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6B2FB-8E35-42EA-8302-5E454B059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D5F26-5D65-4C64-98B6-CD611008E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A0813-F31D-4FC8-84BD-884988DC5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91C2-831D-4EBF-84C0-016E8A19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CAD4-B541-46EF-A5F6-CFC9DC91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1A79-7EF4-454B-A8F6-258D4823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1D5-1C18-46D0-9E07-31407603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4820-8C84-43B2-A7A0-7EEF64B32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8C33-7980-4D0A-B9BA-00841E6C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E076-34A6-467C-8FFF-741A3ABD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158F6-41F0-4C5C-BBFD-1C54C89DEEA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F946-B097-4671-9B2F-D5EC1284775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3E02-F07B-414D-B7E8-F5CA30DFF3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2"/>
            <a:endCxn id="125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endCxn id="126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3"/>
            <a:endCxn id="130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1"/>
            <a:endCxn id="126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2"/>
            <a:endCxn id="136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2"/>
            <a:endCxn id="142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2644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2"/>
            <a:endCxn id="132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  <a:endCxn id="141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0" idx="2"/>
            <a:endCxn id="144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2" idx="2"/>
            <a:endCxn id="147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7" idx="2"/>
            <a:endCxn id="132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D027-B0FB-453B-8F61-20AF18A8CB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9" idx="2"/>
            <a:endCxn id="157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7" idx="2"/>
            <a:endCxn id="156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7" idx="2"/>
            <a:endCxn id="161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3168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F026-9EFC-44FB-BD95-F0B9350D98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return to “shortcut”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output as soon as know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are efficiency of two functions in binaryToDecimal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7082-25C4-4750-B928-884E696FE3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actu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ed example with swap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290E-3D59-4F60-BBD3-8E1E6838875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of program scrip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d before u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a separat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s code in ma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to reuse by importing from a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tains the “black box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FD53-01A1-4ED8-B98A-BEAE688326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any languages, you put the “driver” for your program in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ou can (and should) do this in Python as wel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thods go at the top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ers can quickly see what program do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usually takes no 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1520" y="48769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def main()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F7E-C254-470C-A106-E8762CC4EC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l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 at the bottom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de-effect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not need to define functions befo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an “see”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 tha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function that calls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20202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unction can call other functions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440" y="618660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ldmac.p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A93D-5939-4C89-AD87-C95BFB8713C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 with a main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ldmac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22B-80D4-478F-A2C3-5CA9D667D7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hy can we name two variables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4F0B-31EA-4F93-8004-07D453659C5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6320" y="426708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7680" y="60199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unction name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are like last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1080" y="5486040"/>
            <a:ext cx="182880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232160"/>
            <a:ext cx="27432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Tahoma"/>
              </a:rPr>
              <a:t>Variable names</a:t>
            </a:r>
            <a:r>
              <a:rPr b="0" lang="en-US" sz="2300" spc="-1" strike="noStrike">
                <a:solidFill>
                  <a:srgbClr val="010199"/>
                </a:solidFill>
                <a:latin typeface="Tahoma"/>
              </a:rPr>
              <a:t> are like first names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24120" y="5029200"/>
            <a:ext cx="1143000" cy="3049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A57C-C0EF-4CA2-AFBD-9E821BAE56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it ou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BCC-4472-4CD8-82D9-A5A132BB71B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(num1, num2)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733920"/>
            <a:ext cx="99036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3733920"/>
            <a:ext cx="129564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828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alled the 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, so need to add its parameters to 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6EE-B372-446B-AC8B-8DBAF6816E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A7C-0515-46D4-B624-C68221117B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7443-6FF1-4383-98F5-D00864ED81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0574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returned, so we no longer have to keep track of its variables on the stack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ifetim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those variables is ov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CA1E-60D5-4F87-9469-FBB75294C88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unctions can have the same parameter and variable names as other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ed to look at the variable’s </a:t>
            </a: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scop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determine which one you’re looking a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the stack to figure out which variable you’re us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Scope level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Loc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unction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Can only be seen within the function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Glob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ile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Whole program can acces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More on these later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92320" y="60958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cop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E93B-326B-4606-97E4-0416462A4E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output of this program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user enters 4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8720" y="2489040"/>
            <a:ext cx="67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square(n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n * 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 = input("Enter a number to be squared: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quare(num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e square is: ",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4B62-EB50-4EF2-85D6-BF5F259F9C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an “intuitive chunk”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oesn’t do too much or too little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reusable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Always have comment that tells what the function doe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B6C-6997-47CF-948C-E06206342B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e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must be true in order for the function to work correctl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num must be eve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ost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will be true when function finishes (if precondition is true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the returned value is the max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7A98-A43C-420D-96DF-CDA69DC2D12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good comments for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tyle: Each function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a com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ten at a high-leve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clude the precondition, postcond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be the parameters (their types) and the result (precondition and postcondition may cover thi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501F-B5FA-4DAF-95E6-15707BB272A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like functions, no special keyword to define a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dules are named by the file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, oldma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Python shell: import oldmac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plain what happen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8F66-EA9D-4476-B6B1-165E3E3BB3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DCE7-4034-4030-9984-2476616F81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 that our program doesn’t execute when it is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import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a program, at bottom, ad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__name__ == '__main__’ 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e files now listed in the direct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536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 important how this works; just know when to u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038480" y="2765520"/>
            <a:ext cx="13716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B5FD-9A5E-4AF2-B4B0-7EB42547B6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would you want to do thi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main function as driver to test functions in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access one of the defined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EIEI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7DC0-79C3-478B-83F4-FC1C554C23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 Read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icrosoft Excel 2007 bu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2704-565A-4938-80CB-A5E38526C0C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368640" y="267336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37A3-D939-4CAA-B7C1-85D973A8D1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C37B-DC47-4A4A-B7D5-93534C1783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D38-27F3-4611-98E9-3FE43596BC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9B9-A7E0-4FC4-885F-A5438E603D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Old McDonal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 verse of the song go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on that farm he had a dog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 a ruff, ruff 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a ruff, ruff t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ere a ruff, there a ruff, everywhere a ruff, ruff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rite a function to print a ver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y does it make sense to write a function for the ver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in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out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D2D3-C36D-4FBA-BC08-10F22CD467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output/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4956-C68D-43E9-9587-D770175AAC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5T20:49:48Z</cp:lastPrinted>
  <dcterms:modified xsi:type="dcterms:W3CDTF">2007-10-15T20:53:54Z</dcterms:modified>
  <cp:revision>1444</cp:revision>
  <dc:subject/>
  <dc:title>PowerPoint Presentation</dc:title>
</cp:coreProperties>
</file>