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FB8D-F547-4866-BA37-1A82B2C6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ED28-FD5D-4455-97BE-825B272F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C2A8-9046-4AC4-8C5C-520A463EE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1EE0-8F5D-4F8E-91F2-4F8817FC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3ACAB-F6B2-4897-87B5-47A1DC425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1FAD97-C4DA-48DE-8F72-F21A1149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1629A-EFFC-4B71-87BF-0573A008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2788E-33A0-40D0-AA95-D70C9C3A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23BE3-23CB-49FD-B04B-2B0F135D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E9F53-E80F-4E53-91E5-AD04CBFB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6DDF4F-704B-4C5A-92E5-C1E3C7BC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D26E-A385-4D75-952D-FDAE92CE7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9F8C5D-70C5-4BC8-BE9C-D79C87D0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6E183-EFB9-4990-9E5C-AAEC66ED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D507FC-1986-48C5-955A-9BEED9C7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319EAC-FF19-43E5-B971-8E71E674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AFEC8-68CE-4049-A456-F7D81F1F8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62DD-81A1-4F7E-92BF-C589CA7D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9FD8-AD1A-407D-9DB6-84DAB3E3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935A-47C1-4308-843F-BA598968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19B7-D774-45DE-AC74-8F97D6AB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9414-6F4C-4C82-8C71-1F945EE5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F24E-801F-42BC-854D-801982D6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807C-2314-4066-A884-C711B060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1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C6538-A69C-401E-AC98-186326EAE19C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55B2-0B74-4466-A8DE-41C2D84A5EB4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rief Conditional Revie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ile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andom Numb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E892-A668-4C7F-BFB5-81A9C6E540C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Loops, comparing use of brea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/* condition shows when loop will stop executing */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 input(“Enter a number”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ile x % 2 != 0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 = input(“Try again.  Enter a number”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x, “ is an even number.”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7960" y="11426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/* have to look inside loop to know when it stops */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ile True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 = input(“Enter a number”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x %2 == 0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break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x, “is an even number.”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1143000"/>
            <a:ext cx="0" cy="5257800"/>
          </a:xfrm>
          <a:prstGeom prst="line">
            <a:avLst/>
          </a:prstGeom>
          <a:ln w="2844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495288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Using break statements: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Best when loop has to execute at least once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6C69-321E-4F66-B51D-ABD55D98141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vs. For Loo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ny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 can be translated into a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whil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 vice vers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whil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s are more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powerfu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han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91E0-7959-40DB-8A87-7B19EE2FA24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mmary of Building Block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ditional state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, if-else, if-else-if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ile, f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CB19-A793-4A6B-9E2B-1DF49A7752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Nondeterministic Decis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metimes, we don’t want to necessarily know that a specific decision is always ma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xample, games often use randomness to make decis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oll di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in flip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ocation and behavior of baddi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93BB-F4ED-4D92-86B8-07CA91C7A7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random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 modu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ython provides the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random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odule to generate pseudo-random numbers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y “pseudo-random”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ctually generates a list of numbers and grabs the next one off the li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 “seed” is used to initialize the random number genera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By default, the current time is used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417D-7F11-40CD-B779-DCDDC2DCFF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Arial"/>
              </a:rPr>
              <a:t>Some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 random 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andom(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s the next random floating point number in the range [0.0, 1.0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andint(a, b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 a random integer N such that a&lt;= N&lt;= b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00160" y="1419120"/>
            <a:ext cx="195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73880" y="624528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andom_test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3F7D-B6A0-47B0-9B33-880CA0E688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imulate Flipping Coi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mulate by randomly selecting between 0 (heads) and 1 (tails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: coinFlip.p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blem: How many flips does it take to get 3 consecutive head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09640" y="6245280"/>
            <a:ext cx="31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onsecutiveHead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46FE-99E7-403B-B1BE-B6D15B8A74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ctober Problem of the Month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welve W&amp;L alumni get together during homecoming to have lunch.  Before they sit down to eat, everyone shakes hands with everyone else exactly once.  How many handshakes take plac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42120" y="624528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hake_hand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9E20-2B52-4767-9F46-379FAFE72A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CS Issu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nvironmental Monitoring with Sensor Network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ee blog entry for links, more info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2BDB-F104-4D98-889A-1A034F94785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ditional Review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gical operators: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an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no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numeric grade convers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num_grade &lt; 0 or num_grade &gt; 100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3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print error messag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ls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3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computa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lternatively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not( num_grade &lt; 0 or num_grade &gt; 100)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3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computa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ls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3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print error messag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F933-1F9D-4A2E-AC65-2AF51DB350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definite Loo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s are </a:t>
            </a:r>
            <a:r>
              <a:rPr b="1" i="1" lang="en-US" sz="3200" spc="-1" strike="noStrike">
                <a:solidFill>
                  <a:srgbClr val="010199"/>
                </a:solidFill>
                <a:latin typeface="Arial"/>
              </a:rPr>
              <a:t>definit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ecute a fixed number of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definite loops: keeps iterating until certain conditions are me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pending on condition, no guarantee in advance of how many times the loop body will be execu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53F2-BCD0-44C6-A3E6-8A0459B3FD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494240" y="2971800"/>
            <a:ext cx="35812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i equals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198108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&lt; 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90" idx="2"/>
            <a:endCxn id="89" idx="0"/>
          </p:cNvCxnSpPr>
          <p:nvPr/>
        </p:nvCxnSpPr>
        <p:spPr>
          <a:xfrm flipH="1">
            <a:off x="6284160" y="2452680"/>
            <a:ext cx="2520" cy="5054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93" idx="2"/>
            <a:endCxn id="90" idx="1"/>
          </p:cNvCxnSpPr>
          <p:nvPr/>
        </p:nvCxnSpPr>
        <p:spPr>
          <a:xfrm flipV="1" rot="16200000">
            <a:off x="4270680" y="2495880"/>
            <a:ext cx="2300760" cy="1728000"/>
          </a:xfrm>
          <a:prstGeom prst="bentConnector4">
            <a:avLst>
              <a:gd name="adj1" fmla="val -20845"/>
              <a:gd name="adj2" fmla="val 124255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646520" y="990720"/>
            <a:ext cx="32767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24120" y="24354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82280" y="170172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6360" y="403848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>
            <a:off x="6284520" y="3443400"/>
            <a:ext cx="1080" cy="5814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4" idx="2"/>
            <a:endCxn id="90" idx="0"/>
          </p:cNvCxnSpPr>
          <p:nvPr/>
        </p:nvCxnSpPr>
        <p:spPr>
          <a:xfrm>
            <a:off x="6284520" y="1461600"/>
            <a:ext cx="2520" cy="5058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4722840" y="5486400"/>
            <a:ext cx="28954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0" name=""/>
          <p:cNvCxnSpPr/>
          <p:nvPr/>
        </p:nvCxnSpPr>
        <p:spPr>
          <a:xfrm flipH="1">
            <a:off x="6170400" y="2209680"/>
            <a:ext cx="1845360" cy="3263040"/>
          </a:xfrm>
          <a:prstGeom prst="bentConnector4">
            <a:avLst>
              <a:gd name="adj1" fmla="val -24351"/>
              <a:gd name="adj2" fmla="val 92596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76320" y="1447920"/>
            <a:ext cx="411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while i &lt; 10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i equals 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80988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Questions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will “i” get printed out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is the condition evaluated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hat is the value of i after the loop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77920" y="632160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hilevsfo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82D4-76CB-41E9-8643-5EC63E94E1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nknown Number of It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ums numbers input by user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op when the user inputs some designated stop value (Enter --&gt; “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52720" y="6245280"/>
            <a:ext cx="21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umtillzero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94DE-63C3-4D95-B311-419E773BB5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sign Pattern: Sentinel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ntinel: when to stop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uard” to the loo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= get in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value != sentinel 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valu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= get in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F9C5-9F76-4C4E-90F2-84BEB710AB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Ques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cc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can we make sure that the loop actually stops (is not infinite)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A7A2-87C9-4526-9D2E-9F08D548AB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Ques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ffcc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can we make sure that the loop actually stops (is not infinite)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990720" indent="-533520"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pdate the condition’s variable inside loo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990720" indent="-533520"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9CA9-93CD-428A-9A74-B987963E8D6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e of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break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 statemen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break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statement can “break you” out of a loop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3733920"/>
            <a:ext cx="358164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 count &lt; 100 :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9040" y="274320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&lt; 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6" idx="2"/>
            <a:endCxn id="115" idx="0"/>
          </p:cNvCxnSpPr>
          <p:nvPr/>
        </p:nvCxnSpPr>
        <p:spPr>
          <a:xfrm flipH="1">
            <a:off x="5371920" y="3214800"/>
            <a:ext cx="2160" cy="5054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9" idx="2"/>
            <a:endCxn id="116" idx="1"/>
          </p:cNvCxnSpPr>
          <p:nvPr/>
        </p:nvCxnSpPr>
        <p:spPr>
          <a:xfrm flipV="1" rot="16200000">
            <a:off x="2919600" y="3696480"/>
            <a:ext cx="2300760" cy="851400"/>
          </a:xfrm>
          <a:prstGeom prst="bentConnector4">
            <a:avLst>
              <a:gd name="adj1" fmla="val -9311"/>
              <a:gd name="adj2" fmla="val 125169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3733920" y="1752480"/>
            <a:ext cx="327636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= 0, count = 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1160" y="319716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69320" y="246384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9880" y="4800600"/>
            <a:ext cx="13716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5" idx="2"/>
            <a:endCxn id="119" idx="0"/>
          </p:cNvCxnSpPr>
          <p:nvPr/>
        </p:nvCxnSpPr>
        <p:spPr>
          <a:xfrm flipH="1">
            <a:off x="4494960" y="4205160"/>
            <a:ext cx="877320" cy="5814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20" idx="2"/>
            <a:endCxn id="116" idx="0"/>
          </p:cNvCxnSpPr>
          <p:nvPr/>
        </p:nvCxnSpPr>
        <p:spPr>
          <a:xfrm>
            <a:off x="5372280" y="2224080"/>
            <a:ext cx="2160" cy="5054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3809880" y="6248520"/>
            <a:ext cx="289584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6" name=""/>
          <p:cNvCxnSpPr/>
          <p:nvPr/>
        </p:nvCxnSpPr>
        <p:spPr>
          <a:xfrm flipH="1">
            <a:off x="5257440" y="2971800"/>
            <a:ext cx="1845360" cy="3263040"/>
          </a:xfrm>
          <a:prstGeom prst="bentConnector4">
            <a:avLst>
              <a:gd name="adj1" fmla="val -24351"/>
              <a:gd name="adj2" fmla="val 92596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5715000" y="4800600"/>
            <a:ext cx="15238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brea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15" idx="2"/>
            <a:endCxn id="127" idx="0"/>
          </p:cNvCxnSpPr>
          <p:nvPr/>
        </p:nvCxnSpPr>
        <p:spPr>
          <a:xfrm>
            <a:off x="5371920" y="4205160"/>
            <a:ext cx="1105560" cy="5814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6077160" y="42670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20480" y="419112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7" idx="2"/>
            <a:endCxn id="125" idx="0"/>
          </p:cNvCxnSpPr>
          <p:nvPr/>
        </p:nvCxnSpPr>
        <p:spPr>
          <a:xfrm flipH="1">
            <a:off x="5257080" y="5272200"/>
            <a:ext cx="1220040" cy="962640"/>
          </a:xfrm>
          <a:prstGeom prst="straightConnector1">
            <a:avLst/>
          </a:prstGeom>
          <a:ln w="3168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489240" y="2697120"/>
            <a:ext cx="2594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=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ount = 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hile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i &lt; 10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count &lt; 100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 += 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lse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brea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0756-6E35-4C06-BFFF-2F74777BA55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02T19:57:10Z</dcterms:modified>
  <cp:revision>941</cp:revision>
  <dc:subject/>
  <dc:title>PowerPoint Presentation</dc:title>
</cp:coreProperties>
</file>