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A06-F0D0-465B-B90C-3E403B69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9B0A-428C-48CE-B0F3-0BB691F4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003-E5B9-4ACC-AB43-2A5787D3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9F0-CCC3-4F31-901F-9A5A1942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30788-2992-4655-83B7-88FF6C6B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BB1C0-FDED-4195-8691-7F4C65B2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68F18-ABDA-436D-9DAF-0EAACD6F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2F780-AF9F-4EF1-9598-0833E131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AB1A9-6389-40FB-B269-8BD6888E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27DD6-7100-4EE3-A6A3-CB980963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F59E8-4725-4CFB-B6C7-6F371D68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8EB-F1A2-4649-B194-D8F02E6B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38CF0-A0C0-4720-AF49-35F83461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E662A-E501-4D0E-AB5F-16666CE9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81523-06D3-4232-BC8C-5E83A2E1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553F6-23AA-40BC-891D-2B18A237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F8D07-CFD1-4838-9E39-9B182342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2E6B-D02D-457B-9A3F-0A156ECF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80A-18E0-4FE3-A10B-20B716FD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6E86-2CAF-479E-A107-CEA88C12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AD3-1D34-40C3-828E-E779CE1A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4FD-8A5B-42EB-8923-4AE43AF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7D7-0BC0-47D8-898D-91E1D4E4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99B-FA84-4FF3-B360-AF3B0C49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2F38-0936-45C7-8A31-F8E6A441547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007B-0407-4656-8D54-76C91117D27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eat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ails got some of you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out co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py directory to turnin direct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practice (expressions into shel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page changes in index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6080" y="47242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initions from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epend constant or function with “modulename.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pi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we write the expression e</a:t>
            </a:r>
            <a:r>
              <a:rPr b="0" lang="en-US" sz="2800" spc="-1" strike="noStrike" baseline="30000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101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+ 1 in Pyth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01280" y="62485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comments i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igh-level comments, authorshi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s for your algorithms, imple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more testing o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good test cases for your program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the output from those test cases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ut don’t go overboard, testing every possible number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nor Syst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edge the Honor Code on printed shee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Key -- onli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-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ng” listing form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s detailed info about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Last modified da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siz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wners, permiss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/home/courses/cs111/handouts/lab0/*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.py” extension in comm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s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rst one: more lenient in grad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ter: tougher on grammar, spelling errors, post as a comment, explicitly summarize the top three points, etc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elled out on “CS Issues” pa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ture rubr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log entry - 6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cussion - 4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Command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fill in the appropriate th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optional arg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Move or Rename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v &lt;sourcefile&gt; &lt;destinatio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&lt;destination&gt; is a directory, keeps the original source file’s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: mv ~/labs/file.py labs/lab1/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“file.py” will be in labs/lab1 direc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perform some tas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tak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argu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 value that can be used in 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func_name(arg0, arg1, …, arg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the function, the arguments may or may not be required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[ ]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dicate an optional argu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067360" y="1638360"/>
            <a:ext cx="457200" cy="4038480"/>
          </a:xfrm>
          <a:custGeom>
            <a:avLst/>
            <a:gdLst>
              <a:gd name="textAreaLeft" fmla="*/ 0 w 457200"/>
              <a:gd name="textAreaRight" fmla="*/ 164880 w 4572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9400" y="2971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Argument/parameter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raw_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prompt is given as an argument, prints the prompt without a newline/carriage retur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prompt, just waits for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user’s input (up to “enter”) a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t return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1520" y="99072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Known as function’s “signatur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371600"/>
            <a:ext cx="990360" cy="10666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11920" y="14875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Template for how to “call” func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26080" y="19447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Optional argu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267080" y="2133720"/>
            <a:ext cx="1371600" cy="1522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Built-i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(x[,n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und the float t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digits after the decimal po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round to nearest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bs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absolute valu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e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the typ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95560" y="63216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unction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18T17:55:52Z</cp:lastPrinted>
  <dcterms:modified xsi:type="dcterms:W3CDTF">2007-09-18T18:53:02Z</dcterms:modified>
  <cp:revision>69</cp:revision>
  <dc:subject/>
  <dc:title>PowerPoint Presentation</dc:title>
</cp:coreProperties>
</file>