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B466-1202-4B32-A7A6-009A92F5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197-FACD-48D8-B52B-EB87DDF6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280B-4262-4410-8F33-E5645ED2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28E-DFB2-45C2-99A5-508A67810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230A4-6A23-4981-95DE-1F9BFC86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57A7CE-4503-4DF6-8935-038E2F42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5DD2B-1466-4068-A835-7B440BAF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06775-8615-4ADE-8FEE-D3969B051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43C59-DA61-4D4B-B2CE-E61858CCC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675F0-7713-4E4F-B950-540B7A71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EE2FC-83C3-4F1C-9244-038399241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CB2D-C271-4AB6-9713-E38E15085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A5017-62B3-442B-BA7D-16A3CD89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4D74C-7C23-4112-BBE3-447F7FFAA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A43F4-401E-4DC4-803D-8C4B1D4AC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C9E05-1211-404F-8A57-B267D058F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080984-75DE-47C9-823D-42A109B32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5C0D-64F2-488D-9435-8EBE3948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B75-9DE2-4B03-A573-FD5AE3EC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8E44-2BFA-4C02-958D-EFD830BF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144D-5BE2-4A32-A139-38A62D81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478A-8044-42D4-AAC1-6C181E5A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336-A50A-44D5-9A10-CCE7E0C7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3D9-B1F7-4291-986F-4E9F80CB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49C1-058F-42E0-AB50-FC154E75B49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AEA02-7457-4BAD-8EDC-6F907D4D100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roduction to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orking with 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5413-D201-4321-BD2D-3455A7D7BCF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year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830E-C2B8-4E39-A59F-3E30BA82F2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D801-4CCC-4BBC-A299-255C294ECA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of reading from a file using file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file: data/years.d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is what Python printed different than the file’s conten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to fix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2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l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1752480"/>
            <a:ext cx="3787560" cy="1557000"/>
            <a:chOff x="5105520" y="1752480"/>
            <a:chExt cx="3787560" cy="1557000"/>
          </a:xfrm>
        </p:grpSpPr>
        <p:sp>
          <p:nvSpPr>
            <p:cNvPr id="132" name=""/>
            <p:cNvSpPr/>
            <p:nvPr/>
          </p:nvSpPr>
          <p:spPr>
            <a:xfrm>
              <a:off x="5638680" y="1752480"/>
              <a:ext cx="3254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Typically use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da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or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tx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file extension for these types of data/text files 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105520" y="2514240"/>
              <a:ext cx="9144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6417-B0FF-45F6-AC65-501D37DB6E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9320" y="42022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29718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3800" y="30942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038120" y="34750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37800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D27C-EC7A-4CE5-BD47-994A76D10B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search a file for some term.  We want to know which lines of the file contain that term and a count of the number of lines that contained that te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5B3-A09D-4EFA-8962-4BDDAC3384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ime, we want to ignore all lines that begin with “#” (a.k.a., the line is a commen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y would we have comments in a data fi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ata/years2.da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an we revise the previous solution to do thi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91CE-EA8A-4F5F-8ED6-D7671652CE6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ling Numeric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been dealing with reading and writing string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 we need to do to read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numb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rom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write numbers to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B2BF-4BFB-40E1-8A0E-96DCDC808AC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to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file object in write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yFile = file(“years.txt”, “w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create a file from 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e_write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happens if execute the program again with different user inp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04760" y="634536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E73-4AE7-4A18-873C-81904BFACB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temp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9E8E-4E9C-4E3A-8F69-01C5C952463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D00-C6F7-42F5-91A9-38AAC19373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rger programs require functions to maintain readabilit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main() and other functions to break up your program into smaller, more manageable chunk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Abstrac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away” the detail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s before, you can still write smaller scripts without any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try out functions using smaller script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eed the main() function when using other functions to keep “driver” at top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therwise, functions need to be defined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5EA8-521C-4E76-AA23-7525581EC3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9320" y="39736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27432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3800" y="28656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038120" y="32464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5514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1DE5-1417-4CDC-8023-660A4919C82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tional Useful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963720"/>
          <a:ext cx="8458200" cy="5387760"/>
        </p:xfrm>
        <a:graphic>
          <a:graphicData uri="http://schemas.openxmlformats.org/drawingml/2006/table">
            <a:tbl>
              <a:tblPr/>
              <a:tblGrid>
                <a:gridCol w="2971800"/>
                <a:gridCol w="548640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ip([chars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the string with the leading and trailing characters removed.  Defaults to whitespace if no characters specified.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--stripping whitespace from beginning and end and using whitespace characters as the delimiter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, using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as the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delimiter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string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start[,end]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lowest index in the string where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.  Return -1 if not fou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lace(old, new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copy of string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ld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replaced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ew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45DF-0757-4976-A7AC-B3628C9DB2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Paradigm: Imperativ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modern programming languages ar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erativ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v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numbers and strings in variable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operation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data using operations, such as + (addition and concatenation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and operations are separa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to imperative: object-oriented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B9F-18C9-4DE6-89A8-BCFD69AD26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is a collection of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mb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and method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interact by invoking methods on other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 perform some operation on obj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2E5A-AD7F-485C-8C87-FEBEF5E6DA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been using objects and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Just didn’t call them objec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: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data type (or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 creat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type (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nimal = “cow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ound = “moo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029200"/>
            <a:ext cx="2895480" cy="10666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imal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c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ou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moo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4100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58672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0800" y="456876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51148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Objects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 of type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57800" y="5562720"/>
            <a:ext cx="137160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760" y="4975200"/>
            <a:ext cx="161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Variable names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identifi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5562720"/>
            <a:ext cx="83844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BA3D-B04A-47EB-8E4A-55C30A60A4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efined methods that you can use on objects of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typ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methods: lower, replace, find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 are similar to functions but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alled/us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ifferent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bjectname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name([parameter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 animal.upper(), sound.center(1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day: new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with its own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B113-F2BB-488F-B688-2EA6A3519F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ow if need to enter a lot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ror-pro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User enters the wrong value!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if want to run again after program gets modifi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614F-3C3C-4837-8F7A-03E6821AA30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data once into a file, save it, and reuse it in your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for large amounts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s can use files to communic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able to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read 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write to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80060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48769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4724280"/>
            <a:ext cx="121932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cri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3"/>
            <a:endCxn id="108" idx="1"/>
          </p:cNvCxnSpPr>
          <p:nvPr/>
        </p:nvCxnSpPr>
        <p:spPr>
          <a:xfrm>
            <a:off x="2228400" y="529560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3"/>
            <a:endCxn id="107" idx="1"/>
          </p:cNvCxnSpPr>
          <p:nvPr/>
        </p:nvCxnSpPr>
        <p:spPr>
          <a:xfrm>
            <a:off x="5047920" y="5295600"/>
            <a:ext cx="16390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733920" y="5864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E5A-8EC6-482D-BCE7-270598869E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Use of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05092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4257720"/>
            <a:ext cx="167616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974960"/>
            <a:ext cx="121896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  <a:endCxn id="115" idx="1"/>
          </p:cNvCxnSpPr>
          <p:nvPr/>
        </p:nvCxnSpPr>
        <p:spPr>
          <a:xfrm>
            <a:off x="1923840" y="254592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4" idx="0"/>
          </p:cNvCxnSpPr>
          <p:nvPr/>
        </p:nvCxnSpPr>
        <p:spPr>
          <a:xfrm>
            <a:off x="4114440" y="3137040"/>
            <a:ext cx="1080" cy="11023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200400" y="1066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eb Page (Text File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42577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Brow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4" idx="3"/>
            <a:endCxn id="119" idx="1"/>
          </p:cNvCxnSpPr>
          <p:nvPr/>
        </p:nvCxnSpPr>
        <p:spPr>
          <a:xfrm>
            <a:off x="4971960" y="4676400"/>
            <a:ext cx="14104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564600" y="36781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irefo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22840" y="5288040"/>
            <a:ext cx="30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nders” web page for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661-633D-408E-BB33-9695EF1100D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7T21:27:22Z</cp:lastPrinted>
  <dcterms:modified xsi:type="dcterms:W3CDTF">2007-10-17T21:59:52Z</dcterms:modified>
  <cp:revision>1804</cp:revision>
  <dc:subject/>
  <dc:title>PowerPoint Presentation</dc:title>
</cp:coreProperties>
</file>