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3809-2CCA-4237-ADA2-F7EF4F4B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C76-356C-4B99-BE65-240C33EE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6BC8-B213-456E-B195-2BC056E8C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F547-943E-4CC0-A5FC-260C3F10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08B04-98F2-4832-BAAB-791BB49C7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4DC66-A3C9-49B7-8759-4AD73EE9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56CE7-BB01-49A5-A13F-0C0B4D85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1F453-B297-48F4-9748-682A4397A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4CACA9-C0FE-40D5-8666-747C58C0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FB8D14-3391-4052-AED5-EC79F131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9883B-FCC5-4247-8784-C647D611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10BD-969E-4999-B129-A87E511CF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26662-30D3-4EC5-A0BE-93CC4ADA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0D23F-1050-4F79-BB14-A82F35A7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027215-C353-430A-AE35-E59A628D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16ACBD-CD3D-4AA8-AA2F-358B937F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AB38A-1938-463D-8AFE-75017415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BF84-DD4A-4830-A69F-79231AB2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51BA-E676-4E02-A791-71FDADC2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05E8-AEB6-4F0B-BEF7-FEF5C622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1697-3C38-4F27-AD0B-410BA2B41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33F-3C5D-47E6-832D-1A804AEC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74ED-4D64-457E-80C6-5234A55D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0253-FBF2-4C10-9917-EC4F3FA9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1330-255D-46EE-894F-869089DCF837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643C-5ED2-4CBE-AB3A-C73DEB5C82F6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arithmetic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specifi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cal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orting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Modulo Operator: %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Modular Arithmetic: Remainder from divis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Works with integers on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6 % 4 is read as “six mod four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3 % 6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7 % 2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7 % 14 =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14 % 7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2996-0B95-4A24-8EC6-F78DB80F08A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Brainsto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1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% 10 do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3 % 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51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40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678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12543 % 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/10 do (integer division)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3/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51/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40/10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678/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12543 /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% 2 do?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5051-0F68-450E-94D2-B47476283B3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rick #1: Type Conver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You can convert a variable’s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Use the type’s </a:t>
            </a:r>
            <a:r>
              <a:rPr b="1" lang="en-GB" sz="2800" spc="-1" strike="noStrike">
                <a:solidFill>
                  <a:srgbClr val="010199"/>
                </a:solidFill>
                <a:latin typeface="Arial"/>
              </a:rPr>
              <a:t>construc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2514600"/>
          <a:ext cx="8610480" cy="3487680"/>
        </p:xfrm>
        <a:graphic>
          <a:graphicData uri="http://schemas.openxmlformats.org/drawingml/2006/table">
            <a:tbl>
              <a:tblPr/>
              <a:tblGrid>
                <a:gridCol w="3657600"/>
                <a:gridCol w="2209680"/>
                <a:gridCol w="27432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version Function/Constructo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Value Returned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3.77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“33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ng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ng(12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2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loat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loat(22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2.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(&lt;any value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(99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9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705B-58D8-4A54-B7F0-B257515115B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rick #2: Arithmetic Shorthan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54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alled </a:t>
            </a:r>
            <a:r>
              <a:rPr b="1" lang="en-GB" sz="3200" spc="-1" strike="noStrike">
                <a:solidFill>
                  <a:srgbClr val="010199"/>
                </a:solidFill>
                <a:latin typeface="Arial"/>
              </a:rPr>
              <a:t>extended assignment operators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crement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=x +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+=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Decrement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= x –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-=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nd oth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/= 2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mount *= 1.05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5935-C563-4916-9C87-84DD19EA573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37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Revise average three numbers to make result have type </a:t>
            </a:r>
            <a:r>
              <a:rPr b="0" lang="en-GB" sz="3200" spc="-1" strike="noStrike">
                <a:solidFill>
                  <a:srgbClr val="020202"/>
                </a:solidFill>
                <a:latin typeface="Courier New"/>
              </a:rPr>
              <a:t>flo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t least two approach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est cas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elsius to Fahrenhei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F = (9/5)C + 3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est cas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54C-9C00-4B42-BD13-5F27D5D2715B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41148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I feel ” + “sleepy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Oops! “ * 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219320"/>
          <a:ext cx="8534160" cy="2251080"/>
        </p:xfrm>
        <a:graphic>
          <a:graphicData uri="http://schemas.openxmlformats.org/drawingml/2006/table">
            <a:tbl>
              <a:tblPr/>
              <a:tblGrid>
                <a:gridCol w="1752480"/>
                <a:gridCol w="2666880"/>
                <a:gridCol w="411480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n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yntax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tr1 + str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e two strings into one str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tr * num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e string </a:t>
                      </a: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num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im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the following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the string variable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promp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or the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so that it prompts the user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8640" y="1828800"/>
            <a:ext cx="322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_MIN = “1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_MAX=“10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 = input( prompt 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952880"/>
            <a:ext cx="80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 a scale of 1 to 10, how much do you like Matt Damon?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1040" y="62485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sca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ODO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tomorro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e some little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view your notes about programm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other half of Four Problems in Cyberspace for Frida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English to describe what your program is doing in 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verything after a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com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does not execute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affect the correctness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s program’s </a:t>
            </a: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for someone else to read and update your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79440" y="156384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Pound sig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190760" y="1828800"/>
            <a:ext cx="1600200" cy="304920"/>
          </a:xfrm>
          <a:prstGeom prst="line">
            <a:avLst/>
          </a:prstGeom>
          <a:ln w="3816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d Development Practi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the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reak into piece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comments FIRST for each ste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aborate on what you’re doing in comments when necess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lement and Test each piece separat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dentify the best pieces to make progres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over each step to improve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1143000"/>
          <a:ext cx="8686800" cy="424512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2132-36A1-4C5E-9BE2-3E9165E451F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Assignment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ssignment statements are NOT math equa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ount = count +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hese are command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x =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y =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x = x + 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What’s the value of 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C0E9-09B7-433E-84C4-040E3EA3F24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Arithmetic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1398600"/>
          <a:ext cx="8229600" cy="3584520"/>
        </p:xfrm>
        <a:graphic>
          <a:graphicData uri="http://schemas.openxmlformats.org/drawingml/2006/table">
            <a:tbl>
              <a:tblPr/>
              <a:tblGrid>
                <a:gridCol w="1936800"/>
                <a:gridCol w="3625560"/>
                <a:gridCol w="26672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ssociativit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mainder (“mod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onentiation (power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igh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520920" y="5511960"/>
            <a:ext cx="65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ual precedence rules (P E - DM% AS)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29520" y="62485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neg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333760" y="5867280"/>
            <a:ext cx="75960" cy="609840"/>
          </a:xfrm>
          <a:prstGeom prst="line">
            <a:avLst/>
          </a:prstGeom>
          <a:ln w="3816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OT Math Cla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to write out all operations explicit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math class, a (b+1) meant a * (b+1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6080" y="25146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Write this way in 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6287760" y="1636200"/>
            <a:ext cx="304920" cy="1450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800 h 1450800"/>
              <a:gd name="textAreaBottom" fmla="*/ 1413000 h 145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280" y="4025880"/>
            <a:ext cx="298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5+3*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* 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-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** 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wo Types of Divi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7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Float Division: Result is a </a:t>
            </a:r>
            <a:r>
              <a:rPr b="0" lang="en-GB" sz="3200" spc="-1" strike="noStrike">
                <a:solidFill>
                  <a:srgbClr val="00b000"/>
                </a:solidFill>
                <a:latin typeface="Courier New"/>
              </a:rPr>
              <a:t>flo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3.0/6.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6.0/3.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t least one number must have a decimal, i.e., have type </a:t>
            </a:r>
            <a:r>
              <a:rPr b="0" lang="en-GB" sz="2800" spc="-1" strike="noStrike">
                <a:solidFill>
                  <a:srgbClr val="010199"/>
                </a:solidFill>
                <a:latin typeface="Courier New"/>
              </a:rPr>
              <a:t>flo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teger Division: Result is an </a:t>
            </a:r>
            <a:r>
              <a:rPr b="0" lang="en-GB" sz="3200" spc="-1" strike="noStrike">
                <a:solidFill>
                  <a:srgbClr val="00b000"/>
                </a:solidFill>
                <a:latin typeface="Courier New"/>
              </a:rPr>
              <a:t>i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3/6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6/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/y, if both x and y are i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Both numbers are </a:t>
            </a:r>
            <a:r>
              <a:rPr b="0" lang="en-GB" sz="2800" spc="-1" strike="noStrike">
                <a:solidFill>
                  <a:srgbClr val="010199"/>
                </a:solidFill>
                <a:latin typeface="Courier New"/>
              </a:rPr>
              <a:t>int</a:t>
            </a: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ABD4-0620-4F7D-AEDC-7980CC6E704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Division Practice (NOT Math class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82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x = 6/4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y = 4 / 6 * 5.0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 = 6/12.0;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b = 6.0/12;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.3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x / 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x / 3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5360" y="1231920"/>
            <a:ext cx="808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17b8"/>
                </a:solidFill>
                <a:latin typeface="Arial"/>
              </a:rPr>
              <a:t>What is the result?  What is the </a:t>
            </a:r>
            <a:r>
              <a:rPr b="1" lang="en-US" sz="2800" spc="-1" strike="noStrike">
                <a:solidFill>
                  <a:srgbClr val="2017b8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2017b8"/>
                </a:solidFill>
                <a:latin typeface="Arial"/>
              </a:rPr>
              <a:t> of the value?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4829-E9F8-495A-816D-534ABAB53CF3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8:16:22Z</dcterms:created>
  <dc:creator>Sara Sprenkle</dc:creator>
  <dc:description/>
  <dc:language>en-US</dc:language>
  <cp:lastModifiedBy>Sara Sprenkle</cp:lastModifiedBy>
  <dcterms:modified xsi:type="dcterms:W3CDTF">2007-09-18T15:12:04Z</dcterms:modified>
  <cp:revision>407</cp:revision>
  <dc:subject/>
  <dc:title>PowerPoint Presentation</dc:title>
</cp:coreProperties>
</file>