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76AE-EC80-4C1C-ABE0-C9B429BA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268-5468-4EFA-98DC-7B6FDC26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999-520B-4A09-AE28-5649F52A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676-F732-47EF-85D6-C6C4DA0E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C7209-6295-4F98-8D7C-BF6BD5D6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726CB-BD3D-4618-A0B3-9142E53C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8B496-7CDB-4A83-A7FC-FE2268E2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2E3E8-3C40-4F58-80D2-34BE257B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6F1CA-6412-47F4-B444-29C8B8B2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10DA5-0C8D-4543-8D4C-82C6FB46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5875C-3689-48F8-9836-B5133D13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DB3-F056-4C02-A8C0-656622A2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585ED-197B-455B-876A-FB668ABD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FC112-89FE-45B9-9D4A-54832EAF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E4606-3B44-4E77-9A51-7F0C210B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59890-91E9-4F3A-ADD1-73087CAC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7C8F4-B4DF-4942-A464-3737D8B7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CAF-8C11-4BDC-B7BF-C4635950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6C2-9E9B-4072-BF7E-3021D827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2C0-70BF-4100-A788-75F23DF0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77B-E465-49CC-8D4B-94CB00F1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18E-98A7-476D-9721-ED47407B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562-7C9F-41F4-AEB6-320F79D9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ABA-C6E6-4AD7-A318-A0636E8D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F535-7095-4C1A-ACFE-543AE288C8B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986D-5BE5-4299-9872-F22E9A102AD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i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FE5-2F8B-49DF-BDA3-C70BD82383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12880" y="312408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range(15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s a list of size 15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0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1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x] = newfi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num in fibs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each num on sep lin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75120" y="63216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31320" y="1914480"/>
            <a:ext cx="39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ilar to xrang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n use same parame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52680" y="2286000"/>
            <a:ext cx="1371600" cy="9144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B1B1-6CF3-47B5-A1A7-167DE1B292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Arra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ly, lists are similar to array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imilar to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Vector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C++ and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ArrayLis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Jav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, arrays hav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atic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ength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insert and remove elements from arrays so that the length of the array chan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make the array as big as you’ll think you’ll ne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9A8-9755-4063-8A00-0AB5422AF1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 ar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immu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be mutat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, can’t be modified/chang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sts can be chang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table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8680" y="3962520"/>
            <a:ext cx="81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=[“milk”, “eggs”, “bread”, “Doritos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4080" y="4471920"/>
            <a:ext cx="40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0] = “skim milk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3] = “popcorn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462640"/>
            <a:ext cx="79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 is now [“skim milk”, “eggs”, “bread”, “popcorn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57C-79F0-4E7C-BF96-7D521814FB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pie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following code outpu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[1, 2, 3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[0] = 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454-AD55-4EED-B34C-7E4CB0655F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Identifiers are Poin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33523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 is not a copy of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ints to what x points t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to make a copy of 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 +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: y=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y.extend(x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00400" y="1806480"/>
          <a:ext cx="3505320" cy="5173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18280" y="16002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2720" y="247176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06480"/>
            <a:ext cx="1828800" cy="2286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71600" y="2263680"/>
            <a:ext cx="167652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70C-1DF1-48FE-9C7C-3154D6EBBD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as Parameters to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modify a list passed as a parameter into a function, the list is modified outsid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s a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assed-by-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fferent from immutable types (e.g., numbers, string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rameter is actually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poin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the list in memory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2BF-1A21-48CF-866D-EDA3818CCD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ort a list of 3 numbers, in descending ord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ith list method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we do this using only three comparison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400" y="3222720"/>
            <a:ext cx="669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# order list such that list[0] &gt;= list[1] &gt;= list[2]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descendSort3Nums( list3 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5720" y="62784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4602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lled a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5211720"/>
            <a:ext cx="35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3Nums(list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106-520A-4339-BC2D-6330E013F9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Does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in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Work for List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x in groceries, where groceries is a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element in list, checks if element equals (==)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worst case, how many elements does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to chec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improve the search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135-D2B5-4D89-B7B7-059785C03F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earch Improv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rt the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helps search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63960" y="62452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i-Low g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659-7329-4D93-B3F8-02FD483BD8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aster Look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I wanted to know the Registrar’s phone number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ould I search through an alphabetized list of phone number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, I would look up the Registrar and find the phone numb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ssociate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with the Registr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ype of data structure is known as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dictionar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s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key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4D1-5CC3-44F8-9DCD-36D7E79B65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Sequences of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ommonly group a sequence of data together and refer to them by one na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 of the week: Sunday, Monday, Tuesday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nths of the year: January, February, March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pping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represent this data as a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arrays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other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4D5E-A8C7-4427-ADD0-E200C90B6F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CLASS ANSWERS: variable names --&gt; values, function names --&gt; function definitions, ascii value --&gt; character, character --&gt; ascii value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D96-0FEC-4954-8541-A9E33DE70B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eys are not necessarily alphabetiz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pings are from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key to one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r mor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uniqu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Values are not necessarily uniq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B7D-4F22-4E30-B5E7-AA475BEC90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BE1-36F3-4662-8B06-AF305178D5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A33-1DD0-41E2-8C02-7839934F31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ert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A13-5857-4AFF-98AB-7116D81D48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56383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cience &amp; Engineering: near 50%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1266840"/>
          <a:ext cx="632448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66840"/>
                    <a:ext cx="63244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AB3-9894-46C0-8A9C-4569E3D957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584E-D3D0-48C0-A489-DFF528D859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2001, S&amp;E: 11% full, 22% assoc, 36% ass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S: 8%, 13%, 14%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14400" y="1143000"/>
          <a:ext cx="7238880" cy="44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23888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DBA-03B0-4ED5-B919-ADF1F6B1C3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 related item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ame with a single variable name instead of creating many separate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.g., sunday = “Sun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has an </a:t>
            </a:r>
            <a:r>
              <a:rPr b="0" i="1" lang="en-US" sz="2800" spc="-1" strike="noStrike">
                <a:solidFill>
                  <a:srgbClr val="00c600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venient for dealing with large amounts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could keep all the temperature data in a list if needed to reuse la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and methods for handling, manipulat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4B6-25DC-472F-90E0-0D8DD0B49F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: A Closer Loo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41911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&lt;listname&gt;[&lt;int_expr&gt;]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accessing characters in a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-1] is “Sat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0] is “Sun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43000" y="1803240"/>
          <a:ext cx="7620120" cy="1015920"/>
        </p:xfrm>
        <a:graphic>
          <a:graphicData uri="http://schemas.openxmlformats.org/drawingml/2006/table">
            <a:tbl>
              <a:tblPr/>
              <a:tblGrid>
                <a:gridCol w="1089000"/>
                <a:gridCol w="1087560"/>
                <a:gridCol w="1089000"/>
                <a:gridCol w="1154160"/>
                <a:gridCol w="1023840"/>
                <a:gridCol w="1087560"/>
                <a:gridCol w="1089000"/>
              </a:tblGrid>
              <a:tr h="52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o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ue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ed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hu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ri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at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87480" y="11397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2905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osition/index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371600"/>
            <a:ext cx="53316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2895120"/>
            <a:ext cx="914400" cy="3812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32004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en(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InWeek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) is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07680" y="1219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aysInWee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541-89E7-45F1-9E53-C45E7A2A56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+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eti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* &lt;int-expr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&lt;int-expr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seq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lic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: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var&gt; in &lt;seq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expr&gt; in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87560" y="577044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imilar to operations for string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09E-2A88-403D-8E64-93C76C50C2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L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very element in the list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quivalent t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56000" y="3317760"/>
            <a:ext cx="27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tem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st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item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39960" y="231624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 item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38200" y="22860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62520" y="2666880"/>
            <a:ext cx="76176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51080" y="2895480"/>
            <a:ext cx="45720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1760" y="5146560"/>
            <a:ext cx="419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range(len(list))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st[x]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5114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819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item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3000" y="627840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OfWeek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28B-2457-4BED-97A5-F6FACA9AD6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embershi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heck if a list contains an elem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Example problem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rolledstudents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is a list of students who are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ant to check if a student who attends the class is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If have a list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attendingstudents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, check if each attending student is an enrolled stud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71080" y="3962520"/>
            <a:ext cx="54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student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enrolledstudents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udent, “is not enrolled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40E-C57F-4333-872F-A831232634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1417680"/>
          <a:ext cx="8305920" cy="4865760"/>
        </p:xfrm>
        <a:graphic>
          <a:graphicData uri="http://schemas.openxmlformats.org/drawingml/2006/table">
            <a:tbl>
              <a:tblPr/>
              <a:tblGrid>
                <a:gridCol w="2819520"/>
                <a:gridCol w="5486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append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 elemen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the e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sort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ort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vers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verse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dex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index of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Error i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not in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ser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ser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to list at index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coun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number of occurrences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move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pop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h element of the list and returns its valu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4FD-D718-4404-B33F-6325E310E1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480" y="3200400"/>
            <a:ext cx="798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[]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 an empty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append the first two Fib numb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6)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ompute the next 13 num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newfib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fib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out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31000" y="63244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319B-B64F-4491-9351-F5C5C5E801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1:06Z</cp:lastPrinted>
  <dcterms:modified xsi:type="dcterms:W3CDTF">2007-10-22T19:51:30Z</dcterms:modified>
  <cp:revision>2147</cp:revision>
  <dc:subject/>
  <dc:title>PowerPoint Presentation</dc:title>
</cp:coreProperties>
</file>