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F30-7B80-4902-BFF3-AE2007B4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41C-6351-48C2-9F8E-BE4E7742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557-2EB1-4F40-BE6E-7C9D41F1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4C0-CD20-45D6-9CD2-4D837661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46E19-D4D7-445F-9264-F3841E4F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11DC9-21B9-4932-BDBC-0C954613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3F92C-11F8-4C19-AC31-D3DAC2A8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42E65-0C67-4599-BF4D-ADD4DDFE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88727-2F34-4440-A777-E3FFF85E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28D58-BC23-4690-8532-42266F8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3D0B-CEC9-4A95-8E13-228CA994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87F-47DC-4612-A230-98E12ED1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E226D-7F41-4109-A918-D0D06F73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FFE2F-A583-44D8-B1E5-7B483B8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24294-E8E9-42AF-AE0E-574E69EE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C46E7-43FA-48C5-AF36-53887C99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AEDE0-4DB1-497E-8E72-9B89E25C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692-4EC9-4DFA-9C45-3F695BF5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D38-6755-44B9-9D8B-8EBD4D05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165-4E6D-462D-870F-774EFD0E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C87-93F5-4A9B-9EAA-01D2353F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899-8FD8-4437-B272-3EA8BB95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10B-6E9B-4C4E-8286-6B4E8C34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5FB-9859-4C85-A7F9-7362AFD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70EE-D911-4D15-A601-152F04B5614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226-59D1-4AC9-B91F-1C45C58E824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Linux, documentation,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programming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ftware development pract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ebugg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dit the program, re-execute/test until everything 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 error is often called a “bug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iagnosing and fixing it is called </a:t>
            </a: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7800"/>
            <a:ext cx="2057400" cy="990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81480"/>
            <a:ext cx="175248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257800"/>
            <a:ext cx="18288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58" idx="1"/>
          </p:cNvCxnSpPr>
          <p:nvPr/>
        </p:nvCxnSpPr>
        <p:spPr>
          <a:xfrm>
            <a:off x="2514600" y="5752800"/>
            <a:ext cx="9151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3"/>
            <a:endCxn id="160" idx="1"/>
          </p:cNvCxnSpPr>
          <p:nvPr/>
        </p:nvCxnSpPr>
        <p:spPr>
          <a:xfrm>
            <a:off x="5486400" y="5752800"/>
            <a:ext cx="13723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09480" y="3505320"/>
            <a:ext cx="2057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(jEdit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9" idx="0"/>
          </p:cNvCxnSpPr>
          <p:nvPr/>
        </p:nvCxnSpPr>
        <p:spPr>
          <a:xfrm>
            <a:off x="1638000" y="4495320"/>
            <a:ext cx="1080" cy="6865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0"/>
            <a:endCxn id="163" idx="3"/>
          </p:cNvCxnSpPr>
          <p:nvPr/>
        </p:nvCxnSpPr>
        <p:spPr>
          <a:xfrm flipV="1" rot="16200000">
            <a:off x="2933280" y="3733200"/>
            <a:ext cx="1257840" cy="17917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091120" y="3581280"/>
            <a:ext cx="243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ERROR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Identify bug, fi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0"/>
            <a:endCxn id="163" idx="3"/>
          </p:cNvCxnSpPr>
          <p:nvPr/>
        </p:nvCxnSpPr>
        <p:spPr>
          <a:xfrm flipV="1" rot="16200000">
            <a:off x="4590720" y="2075760"/>
            <a:ext cx="1257840" cy="510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567040" y="63244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bug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243-D40E-42A8-B5D6-EDC9811D0C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Finishing Up Wednesday’s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63244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vera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EC2-BA43-422D-BE3C-90E43C4B55B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12E-1D9B-430B-9BF7-48B21BB7A9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1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d for tex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In general, I’ll use double quo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mpty string: “” or ‘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 triple quotes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for strings that go across multiple lin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8320" y="4800600"/>
            <a:ext cx="27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“““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long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ike, really long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744-5EEC-4D45-8978-F6FCC23D0CE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imple state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_not_ a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Displays the result of expression(s) to the termina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438280" y="3284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1040" y="45403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Tahoma"/>
                <a:ea typeface="Luxi Sans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78144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4162320"/>
            <a:ext cx="838080" cy="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5381280"/>
            <a:ext cx="838080" cy="68580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44212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1040" y="45435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Unless ends with 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7680" y="62485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mo_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854-67DE-4483-9240-2D82B0B708B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scape Sequen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scape Sequen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newline character (carriage return)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ab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quote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ackslash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print “To print a \\, you must use \”\\\\\”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86A-F9E4-47BE-8CF3-C14D190E8A7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To print a tab, you must use ‘\t’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I said, ”How are you?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0840" y="5983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escape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9D9-F36B-45DA-97C1-F8853CF51A3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the files in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 into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reate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out 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syntax for the copy command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“abbreviation” for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pa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ummarie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English, complete senten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chanics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st as 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om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keep the blog a bit more organ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llow instructions on “CS Issues” about what summary should contai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edit your own pos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want to write in a word processor and then copy over to blo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knew about MMOGs before reading this artic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may of you participated in this or something similar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read onlin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my PDF vers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the Web pag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ill L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72200" y="4723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ur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ill R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724280"/>
            <a:ext cx="1905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Jennifer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Keith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ath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main points (so far)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ery advancement in technology has positive and negative impacts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the positive and negative impacts of email?  Of IM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65160"/>
            <a:ext cx="99072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52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828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4840" y="1523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7120" y="1523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243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2960" y="24382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ublic_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868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596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458784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is a shortname for your home directory, i.e.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hort for 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/home/students/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06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 directory (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160" y="1905120"/>
            <a:ext cx="99036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905120"/>
            <a:ext cx="99072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95480"/>
            <a:ext cx="99036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99072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570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w would you copy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triangle.py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your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public_htm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director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8320" y="3925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iang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8640" y="3809880"/>
            <a:ext cx="304920" cy="1526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217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3328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5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20" idx="1"/>
            <a:endCxn id="117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6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0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4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9" idx="0"/>
            <a:endCxn id="124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5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3"/>
            <a:endCxn id="129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2"/>
            <a:endCxn id="126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80" y="990720"/>
            <a:ext cx="2891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Purely Interpret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’s Imple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ation of compiled and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active mode: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lidate, execute each li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“interpreter” in script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iles Python script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uns Python Virtual Machine that interprets the bytecode and execu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n to Use 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ument the author, high-level description of the program at the top of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vide an outline of an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parates the steps of the algorith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 difficult-to-understand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rr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ometimes the program doesn’t work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ypes of programming erro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yntax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Interpreter shows where the problem i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Logic/semantic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+3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dc0202"/>
                </a:solidFill>
                <a:latin typeface="Arial"/>
              </a:rPr>
              <a:t>anser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 is “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xceptions/Runtime erro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/0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Undefined variable nam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Expose when 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16B-6DA0-4C96-ADB6-5F80A545196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1752840" cy="762120"/>
          </a:xfrm>
          <a:prstGeom prst="rect">
            <a:avLst/>
          </a:prstGeom>
          <a:solidFill>
            <a:srgbClr val="fedc0f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143000"/>
            <a:ext cx="1676520" cy="762120"/>
          </a:xfrm>
          <a:prstGeom prst="rect">
            <a:avLst/>
          </a:prstGeom>
          <a:solidFill>
            <a:srgbClr val="33cccc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0" y="1152360"/>
            <a:ext cx="1946520" cy="752760"/>
          </a:xfrm>
          <a:prstGeom prst="rect">
            <a:avLst/>
          </a:prstGeom>
          <a:solidFill>
            <a:srgbClr val="de6c70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920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Arial"/>
              </a:rPr>
              <a:t>Test Ca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146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case: input used to test the program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rify if </a:t>
            </a:r>
            <a:r>
              <a:rPr b="0" lang="en-US" sz="3200" spc="-1" strike="noStrike">
                <a:solidFill>
                  <a:srgbClr val="d7556d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what you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expected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</a:t>
            </a:r>
            <a:r>
              <a:rPr b="1" i="1" lang="en-US" sz="3200" spc="-1" strike="noStrike">
                <a:solidFill>
                  <a:srgbClr val="00b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test cas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help determine if program is correc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er plays devil’s advocat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ant to expos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gs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before customer/professor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5T16:08:20Z</dcterms:modified>
  <cp:revision>313</cp:revision>
  <dc:subject/>
  <dc:title>PowerPoint Presentation</dc:title>
</cp:coreProperties>
</file>