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B0513-2C28-4431-BFA3-901365AF6D9E}" type="slidenum">
              <a:rPr b="0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8868F-082A-4793-B206-11B09F21A188}" type="slidenum">
              <a:rPr b="0" lang="en-US" sz="1200" spc="-1" strike="noStrike">
                <a:solidFill>
                  <a:srgbClr val="3333c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31840" y="674640"/>
            <a:ext cx="4606920" cy="34545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96400" y="4352760"/>
            <a:ext cx="507708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7D20-114C-429A-BC89-15F9FFEED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7568-0C04-405C-88B1-A99CB9C31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FEB6-26C2-4E6A-8885-CB987C88E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9C5E-9CE1-48E5-B3BF-5607FE6E4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ABC0C2-7BBC-4516-8FCD-8B065EE5E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6C6E76-31D3-4B85-8E81-DC5E6F5C7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BC0B34-DE5B-477B-9860-1F54B1A67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E8A3A6-B25C-4DD7-BEF4-D5545C39C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C1D617-42DD-4E88-8007-8BF69E487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3689BF-3F9A-42EA-81E1-297E5A5A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13D01F-3DBC-4A59-84A2-1747C4052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F74E-B92F-4D4A-A78D-2816F72EA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08DEDD-1295-484B-84CD-32820572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C4E423-05DC-445E-AEDA-1A6CC2273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57A5CA-DF38-4BFC-BAC0-8FC150F25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1921C3-2CE5-4EBD-9A56-07848454C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2192C4-62EF-4163-ADB1-57FDF1DBA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4612-4746-4F36-8E73-EADD70F97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ED84-F31E-4255-BE7F-FBF144063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4F85-CC62-44F1-87E7-63EF933E0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7E01-0045-4D3D-B987-DAC885301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8382-E206-431E-BCBC-663725BE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A4D4-CEEE-458B-8FEB-5CBDBFDA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C054-F213-4158-A694-5ED187BD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ept 24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C38D2-2452-4E2A-B81A-DBD65C114140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5729A-10E0-406B-8690-228D00D6DC32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view: format specifiers, for lo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ested for lo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de readabilit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C308-47CB-4960-B0AC-2041F0A1F2D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ing For Loop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int the following: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11120" y="228600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 2 3 4 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44B8-413E-4AEE-A579-7B84A61ED6A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ing For Loop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int the following: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311120" y="2286000"/>
            <a:ext cx="136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 2 3 4 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 2 3 4 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 2 3 4 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47B6-527C-4E86-854A-1AF70CE7820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mproving Code Readabilit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mme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on’t affect Python’s execu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tart with a ‘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#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’ sig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nsta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hange one value (at top of program) to change value everywhere in program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lexible programs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ets rid of “magic numbers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Give a clear name/purpose to values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1D1F-350E-4A89-A75D-7856A4AABF5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256680"/>
            <a:ext cx="868824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Variable Name Conven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8240" cy="49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Variables start with lowercase lett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Constants (values that won’t change) are in all capital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Example: Variable for the current yea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currentYea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current_yea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current yea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CURRENT_YEA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43000" y="4952880"/>
            <a:ext cx="1752480" cy="533520"/>
          </a:xfrm>
          <a:prstGeom prst="line">
            <a:avLst/>
          </a:prstGeom>
          <a:ln w="31680">
            <a:solidFill>
              <a:srgbClr val="dc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219320" y="5105520"/>
            <a:ext cx="1600200" cy="457200"/>
          </a:xfrm>
          <a:prstGeom prst="line">
            <a:avLst/>
          </a:prstGeom>
          <a:ln w="31680">
            <a:solidFill>
              <a:srgbClr val="dc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410A-8257-4B52-A53E-1F934A015D8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mproving Code Readability/Usabilit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does this program do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would you figure it out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would you do to improve the program’s readability and usability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11800" y="5715000"/>
            <a:ext cx="29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ogram_befor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ogram_after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92E9-8C77-49E9-A207-5DEF515BA67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ence Post Proble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iven some posts and some beams to connect the posts, build a fence that is X fenceposts lo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806440" y="624852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fence_post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10B5-C57F-414E-B318-F1C6ED5ACCD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ssigning Students to Group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ing a for loop and the modulo (%) operato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E526-47C8-4CB9-A553-B41E310F9E7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ODO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ad “Why You Can’t Cite Wikipedia in My Class” for Frida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D761-78A3-49AD-9938-7C18C911744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am-like Review Ques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f you want to use functions or constants that are defined in a module, what type of statement do you use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 module_example.py, when we computed e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i</a:t>
            </a:r>
            <a:r>
              <a:rPr b="0" lang="en-US" sz="3200" spc="-1" strike="noStrike" baseline="30000">
                <a:solidFill>
                  <a:srgbClr val="020202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+ 1, the answer wasn’t 0.  Why?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4533-E276-4440-8619-D508A74CD57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rmatting Outpu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ake the output from the program easy for user to read, understan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ing str() constructo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mat specifiers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ore formatting options for </a:t>
            </a:r>
            <a:r>
              <a:rPr b="1" lang="en-US" sz="2800" spc="-1" strike="noStrike">
                <a:solidFill>
                  <a:srgbClr val="010199"/>
                </a:solidFill>
                <a:latin typeface="Courier New"/>
              </a:rPr>
              <a:t>pri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ntrol over how output is displayed to us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Right, center, left justification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Number of decimals to display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D545-B021-4EC9-9523-D27EB55BD9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olution: using str()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call: str() is 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constructor/converte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function to convert other data types to string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str(33) </a:t>
            </a:r>
            <a:r>
              <a:rPr b="0" lang="en-US" sz="2800" spc="-1" strike="noStrike">
                <a:solidFill>
                  <a:srgbClr val="010199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‘33’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 when printing output with the </a:t>
            </a: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(i.e., concatenation) operato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 “You owe $” + str(x) + “.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E67B-FD40-46ED-A3A8-1B44B6115C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rmat Specifi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eneral format: 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%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[flags][width][.precision]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cod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lags: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0: zero fills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c600"/>
                </a:solidFill>
                <a:latin typeface="Arial"/>
              </a:rPr>
              <a:t>+: include a sign before positive integers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-: left-justification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idth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20202"/>
                </a:solidFill>
                <a:latin typeface="Arial"/>
              </a:rPr>
              <a:t>Minimum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 number of character spaces reserved to display the entire value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Includes decimal point, digits before and after the decimal point and the sign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477120" y="838080"/>
            <a:ext cx="242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The </a:t>
            </a: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[]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mean “</a:t>
            </a: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optional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5A5F-41A5-49A6-8E34-851C40692E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rmat Specifi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eneral format: 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%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[flags][width][.precision]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cod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ecision: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75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20202"/>
                </a:solidFill>
                <a:latin typeface="Arial"/>
              </a:rPr>
              <a:t>Number of digits after the decimal point for </a:t>
            </a:r>
            <a:r>
              <a:rPr b="1" lang="en-US" sz="2700" spc="-1" strike="noStrike">
                <a:solidFill>
                  <a:srgbClr val="020202"/>
                </a:solidFill>
                <a:latin typeface="Arial"/>
              </a:rPr>
              <a:t>real</a:t>
            </a:r>
            <a:r>
              <a:rPr b="0" lang="en-US" sz="2700" spc="-1" strike="noStrike">
                <a:solidFill>
                  <a:srgbClr val="020202"/>
                </a:solidFill>
                <a:latin typeface="Arial"/>
              </a:rPr>
              <a:t> values</a:t>
            </a:r>
            <a:endParaRPr b="0" lang="en-US" sz="27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de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For the value’s </a:t>
            </a:r>
            <a:r>
              <a:rPr b="1" lang="en-US" sz="2800" spc="-1" strike="noStrike">
                <a:solidFill>
                  <a:srgbClr val="020202"/>
                </a:solidFill>
                <a:latin typeface="Arial"/>
              </a:rPr>
              <a:t>type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lnSpc>
                <a:spcPct val="90000"/>
              </a:lnSpc>
              <a:spcBef>
                <a:spcPts val="64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s - string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lnSpc>
                <a:spcPct val="90000"/>
              </a:lnSpc>
              <a:spcBef>
                <a:spcPts val="64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d (or i) - integer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lnSpc>
                <a:spcPct val="90000"/>
              </a:lnSpc>
              <a:spcBef>
                <a:spcPts val="64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f - floating poin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lnSpc>
                <a:spcPct val="90000"/>
              </a:lnSpc>
              <a:spcBef>
                <a:spcPts val="64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e - floating point with exponen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277B-8393-4869-96A8-685103C8D7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Format Specifi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asic format i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prin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&lt;templatestring&gt;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 %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(&lt;value1&gt;, &lt;value2&gt;, …, &lt;valuen&gt;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templatestring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is a template for the print statement with format specifiers instead of the valu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or each format specifier in templatestring, should have a </a:t>
            </a: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replacement valu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hrows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TypeError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f not enough replacements for specifiers in templatestr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199"/>
                </a:solidFill>
                <a:latin typeface="Arial"/>
              </a:rPr>
              <a:t>If only one replacement value, don’t need ()</a:t>
            </a:r>
            <a:endParaRPr b="0" lang="en-US" sz="26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777280" y="1143000"/>
            <a:ext cx="28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Formatting operato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4876920" y="1371600"/>
            <a:ext cx="914400" cy="38088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62880" y="2209680"/>
            <a:ext cx="30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Replacement value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6629040" y="609480"/>
            <a:ext cx="381240" cy="3124080"/>
          </a:xfrm>
          <a:custGeom>
            <a:avLst/>
            <a:gdLst>
              <a:gd name="textAreaLeft" fmla="*/ 0 w 381240"/>
              <a:gd name="textAreaRight" fmla="*/ 137520 w 381240"/>
              <a:gd name="textAreaTop" fmla="*/ 81360 h 3124080"/>
              <a:gd name="textAreaBottom" fmla="*/ 30427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3E4E-4922-4FBA-868B-95836FE0A0E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rmat Specifi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3885840"/>
            <a:ext cx="8686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What if precision is bigger than the decimal places?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4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Fills decimal with 0s</a:t>
            </a:r>
            <a:endParaRPr b="0" lang="en-US" sz="20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What if field width is smaller than the length of the value?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4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Prints entire value</a:t>
            </a:r>
            <a:endParaRPr b="0" lang="en-US" sz="20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For more info: 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4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http://docs.python.org/lib/typesseq-strings.html</a:t>
            </a:r>
            <a:endParaRPr b="0" lang="en-US" sz="20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16040" y="2664000"/>
            <a:ext cx="22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eld width is 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04920" y="1676520"/>
          <a:ext cx="2971800" cy="517320"/>
        </p:xfrm>
        <a:graphic>
          <a:graphicData uri="http://schemas.openxmlformats.org/drawingml/2006/table">
            <a:tbl>
              <a:tblPr/>
              <a:tblGrid>
                <a:gridCol w="593640"/>
                <a:gridCol w="595440"/>
                <a:gridCol w="593640"/>
                <a:gridCol w="595080"/>
                <a:gridCol w="594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 rot="16200000">
            <a:off x="1562040" y="1104840"/>
            <a:ext cx="457200" cy="2819520"/>
          </a:xfrm>
          <a:custGeom>
            <a:avLst/>
            <a:gdLst>
              <a:gd name="textAreaLeft" fmla="*/ 292320 w 457200"/>
              <a:gd name="textAreaRight" fmla="*/ 457560 w 45720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657600" y="1523880"/>
          <a:ext cx="5181480" cy="517680"/>
        </p:xfrm>
        <a:graphic>
          <a:graphicData uri="http://schemas.openxmlformats.org/drawingml/2006/table">
            <a:tbl>
              <a:tblPr/>
              <a:tblGrid>
                <a:gridCol w="576360"/>
                <a:gridCol w="574560"/>
                <a:gridCol w="576360"/>
                <a:gridCol w="576360"/>
                <a:gridCol w="574560"/>
                <a:gridCol w="576360"/>
                <a:gridCol w="576000"/>
                <a:gridCol w="574920"/>
                <a:gridCol w="57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245520" y="1063800"/>
            <a:ext cx="315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%5d” % mont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65880" y="99072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%9.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” % expen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6200000">
            <a:off x="8115120" y="1714320"/>
            <a:ext cx="304560" cy="1143000"/>
          </a:xfrm>
          <a:custGeom>
            <a:avLst/>
            <a:gdLst>
              <a:gd name="textAreaLeft" fmla="*/ 194760 w 304560"/>
              <a:gd name="textAreaRight" fmla="*/ 304920 w 3045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6200000">
            <a:off x="6095880" y="377640"/>
            <a:ext cx="457200" cy="5181480"/>
          </a:xfrm>
          <a:custGeom>
            <a:avLst/>
            <a:gdLst>
              <a:gd name="textAreaLeft" fmla="*/ 292320 w 457200"/>
              <a:gd name="textAreaRight" fmla="*/ 457560 w 457200"/>
              <a:gd name="textAreaTop" fmla="*/ 135000 h 5181480"/>
              <a:gd name="textAreaBottom" fmla="*/ 5046480 h 5181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83120" y="3121200"/>
            <a:ext cx="22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eld width is 9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99480" y="2362320"/>
            <a:ext cx="204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ecision is 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27920" y="335268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17b8"/>
                </a:solidFill>
                <a:latin typeface="Tahoma"/>
              </a:rPr>
              <a:t>Right-justified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0" y="6245280"/>
            <a:ext cx="308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format_specifiers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26FA-05F8-4F85-ABBE-01BC804AE93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mat output from xrange_analysis.py nicel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103A-4A57-4915-B013-516828DE870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dcterms:modified xsi:type="dcterms:W3CDTF">2007-09-25T02:42:01Z</dcterms:modified>
  <cp:revision>312</cp:revision>
  <dc:subject/>
  <dc:title>PowerPoint Presentation</dc:title>
</cp:coreProperties>
</file>