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ct" ContentType="image/x-pict"/>
  <Override PartName="/ppt/media/image4.jpeg" ContentType="image/jpeg"/>
  <Override PartName="/ppt/media/image9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F1C8-675F-4B7B-9C34-59E2698352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science isn’t about computers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know something about computers and how they work to be able to use them.   And, we need to know the terminology used to talk about compu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748-B4C3-421B-9E48-A6DD7FB2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B27-E4D9-4AF5-BACF-A68AC5FD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D74-0753-4EF4-A527-4AF5076B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086-E22C-4F53-B5CE-192FB7E2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9C180-7CF4-44B5-8E61-8190A9B4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7217C-3496-45B8-A48B-864B4B43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0724D-3473-41C2-8DA0-9E1A4F61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ACC70-38FA-4F0E-9944-B8BA2371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B9F5B-4D79-4B1A-AB18-736F55B5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D6AD3-357B-4CBE-8E58-DC7C4A77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9C37B-D4B4-41C3-8FC9-7A328F62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92F-D9A4-4E2D-BA77-6183324F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BB290-9B60-44B2-B122-6C0FFF90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CE885-F6C1-4EE9-A87B-FCFEE00B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B0705-4110-43BA-A9E3-78CEBD37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A0244-8819-491C-B3BA-0DAE28C8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94FE8-AD08-444A-AB20-CF9105BB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4FD-0332-4180-A2DB-7173DE3E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29A-3C3E-4B89-8496-967BE05C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512-1BF9-4629-8743-06C75D3D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1CA-0822-4045-8A1D-C7BC6B09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880-E819-44B0-9D31-AF0D52D0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0D2-5753-4B5F-966D-3FC86AD1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009-6971-4792-9FE3-39BD16FE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Sep 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Sprenkle - CS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3BBF-3A36-475C-81BD-E366D4B01AE8}" type="slidenum"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6209-9B7B-400B-8AD0-4C8D02089537}" type="slidenum"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907920" algn="ctr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3" marL="1309680" algn="ctr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4" marL="1714680" algn="ctr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  <a:p>
            <a:pPr lvl="5" marL="1714680">
              <a:spcBef>
                <a:spcPts val="550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  <a:p>
            <a:pPr lvl="6" marL="1714680">
              <a:spcBef>
                <a:spcPts val="550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CS111</a:t>
            </a:r>
            <a:br>
              <a:rPr sz="4800"/>
            </a:b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Fall 2007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ptember 7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Jeannie Albrech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at </a:t>
            </a:r>
            <a:r>
              <a:rPr b="0" lang="en-US" sz="3200" spc="-1" strike="noStrike">
                <a:solidFill>
                  <a:srgbClr val="461767"/>
                </a:solidFill>
                <a:latin typeface="Tahoma"/>
              </a:rPr>
              <a:t>Williams Colle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ing software that is running and communicating on computers around the world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bbies: surfing, ultimate, rugb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3657600" cy="3652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84520" y="3506760"/>
            <a:ext cx="4507200" cy="33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BC8E-644A-4C93-8E95-0D8E2F809A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Jeff Forb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5562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of the practice at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uke Univers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879560" cy="2247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86360" y="3048120"/>
            <a:ext cx="4981320" cy="3755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0600" y="2819520"/>
            <a:ext cx="410508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15800" indent="-301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 education, intelligent control and robotics, reinforcement learning, and social network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415800" indent="-301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HarambeeN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S education via social network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0ED-B664-4661-8A03-37003A4281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e Lis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cent graduate of 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University of Delawar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uble major in CS and Psychology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erested in decreasing the division between the technological haves and have no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nly 3% of Africans have Internet acces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Cell phones are commonly used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08640" y="1219320"/>
            <a:ext cx="4483080" cy="3514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495680" y="479916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Lucida Grande"/>
              </a:rPr>
              <a:t>Sue with Alex, one of the computer teachers at Ketasco Secondary School, in the computer lab in Keta, Ghana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1219320"/>
            <a:ext cx="4496040" cy="4572000"/>
          </a:xfrm>
          <a:prstGeom prst="rect">
            <a:avLst/>
          </a:prstGeom>
          <a:noFill/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F7C-995A-4107-ACF1-0D1B18203E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ina Bhatti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P Labs Principal Scientis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eads design for novel mobile technologi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ystem for matching your foundation, using pictures from your cell phon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27560" y="393696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187956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838E-06C0-4303-B77E-2CD48B9641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asic Computer Architectur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4114800"/>
            <a:ext cx="7620120" cy="993240"/>
            <a:chOff x="380880" y="4114800"/>
            <a:chExt cx="7620120" cy="993240"/>
          </a:xfrm>
        </p:grpSpPr>
        <p:sp>
          <p:nvSpPr>
            <p:cNvPr id="144" name=""/>
            <p:cNvSpPr/>
            <p:nvPr/>
          </p:nvSpPr>
          <p:spPr>
            <a:xfrm>
              <a:off x="4572000" y="4114800"/>
              <a:ext cx="3429000" cy="990720"/>
            </a:xfrm>
            <a:prstGeom prst="rect">
              <a:avLst/>
            </a:prstGeom>
            <a:solidFill>
              <a:srgbClr val="020202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bfa"/>
                  </a:solidFill>
                  <a:latin typeface="Tahoma"/>
                </a:rPr>
                <a:t>Hardware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4191120"/>
              <a:ext cx="388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The machine, made up of CPU, memory, hard drive, keyboard, etc.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36600" y="3124080"/>
            <a:ext cx="7664400" cy="990720"/>
            <a:chOff x="336600" y="3124080"/>
            <a:chExt cx="7664400" cy="990720"/>
          </a:xfrm>
        </p:grpSpPr>
        <p:sp>
          <p:nvSpPr>
            <p:cNvPr id="147" name=""/>
            <p:cNvSpPr/>
            <p:nvPr/>
          </p:nvSpPr>
          <p:spPr>
            <a:xfrm>
              <a:off x="4572000" y="3124080"/>
              <a:ext cx="3429000" cy="990720"/>
            </a:xfrm>
            <a:prstGeom prst="rect">
              <a:avLst/>
            </a:prstGeom>
            <a:solidFill>
              <a:srgbClr val="010199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bfa"/>
                  </a:solidFill>
                  <a:latin typeface="Tahoma"/>
                </a:rPr>
                <a:t>Operating System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6600" y="3276720"/>
              <a:ext cx="337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Manages hardware resources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72600" y="2403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MSOffice Applications (Excel, Word),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Solitaire, Firefox, Internet Explor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065200" y="1066680"/>
            <a:ext cx="2891880" cy="1067040"/>
            <a:chOff x="5065200" y="1066680"/>
            <a:chExt cx="2891880" cy="1067040"/>
          </a:xfrm>
        </p:grpSpPr>
        <p:sp>
          <p:nvSpPr>
            <p:cNvPr id="151" name=""/>
            <p:cNvSpPr/>
            <p:nvPr/>
          </p:nvSpPr>
          <p:spPr>
            <a:xfrm>
              <a:off x="5065200" y="1066680"/>
              <a:ext cx="289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What we create in CS111!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562720" y="1447920"/>
              <a:ext cx="761760" cy="68580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24480" y="1447920"/>
              <a:ext cx="762120" cy="68580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03920" y="356868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Windows, OSX, UNIX, Linux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2280" y="480060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Dell, Apple, IBM, HP, Toshiba, …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32360" y="2070000"/>
            <a:ext cx="7568640" cy="1054080"/>
            <a:chOff x="432360" y="2070000"/>
            <a:chExt cx="7568640" cy="1054080"/>
          </a:xfrm>
        </p:grpSpPr>
        <p:sp>
          <p:nvSpPr>
            <p:cNvPr id="157" name=""/>
            <p:cNvSpPr/>
            <p:nvPr/>
          </p:nvSpPr>
          <p:spPr>
            <a:xfrm>
              <a:off x="4572000" y="2133720"/>
              <a:ext cx="1371600" cy="99036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2133720"/>
              <a:ext cx="1371600" cy="99036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2438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2360" y="2070000"/>
              <a:ext cx="18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Solve problems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001000" y="2133720"/>
            <a:ext cx="761760" cy="1981080"/>
            <a:chOff x="8001000" y="2133720"/>
            <a:chExt cx="761760" cy="1981080"/>
          </a:xfrm>
        </p:grpSpPr>
        <p:sp>
          <p:nvSpPr>
            <p:cNvPr id="162" name=""/>
            <p:cNvSpPr/>
            <p:nvPr/>
          </p:nvSpPr>
          <p:spPr>
            <a:xfrm>
              <a:off x="8001000" y="2133720"/>
              <a:ext cx="457200" cy="19810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rot="5400000">
              <a:off x="8009280" y="2945880"/>
              <a:ext cx="113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600"/>
                  </a:solidFill>
                  <a:latin typeface="Tahoma"/>
                </a:rPr>
                <a:t>Software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8EE-65D0-40A9-8473-9E2CC73009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496-D256-4F19-9E53-AED1C2684E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: a well-defined recipe for solving a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as a finite number of steps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letes in a finite amount of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n algorithm written in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lso called cod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arge programs, solving many proble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041-CE38-4DAE-A54A-710AD01E2A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This Course Is Abo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S11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problem solv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lgorithms, dealing with information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programming (Python)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UNIX/Linux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broader issues in C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S10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rvey of computer science topics: algorithms, circuits, low-level instructions, web/databas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0A9-8C52-46B7-9328-8F62C54C96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to Expect from this Cla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rst programming cours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ots to learn!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s to a lot of new idea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Different way of think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imilar yet different from math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y get stuck but ask me for help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DF05-A42B-4C69-B30E-38B917149F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ass Detai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urse web p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ttp://www.cs.wlu.edu/~sprenkle/cs111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heck frequently for updat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nday, Wednesday, Friday lectur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lides posted after class, in handout, PDF forma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n’t copy down slides verbati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 lot isn’t on the slide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Use slides later to review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uesday lab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ogramming projects due on Friday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A4F-5557-4854-BF8F-3C28A89383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rvey Says…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3176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at year are you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used a computer regularly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used the Internet regularly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made a web pag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written a program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y are you taking this cours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at is computer scienc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3B2-AC76-4B04-BBDD-62C9CEA4EA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ass Detai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3 Exa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2 Midterms (see schedule online for dates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ina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Tahoma"/>
              </a:rPr>
              <a:t>Discussion of broader issues in CS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rticles about computer science’s effect on </a:t>
            </a:r>
            <a:r>
              <a:rPr b="0" i="1" lang="en-US" sz="2600" spc="-1" strike="noStrike">
                <a:solidFill>
                  <a:srgbClr val="020202"/>
                </a:solidFill>
                <a:latin typeface="Tahoma"/>
              </a:rPr>
              <a:t>everything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Write up on blog, due Friday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Discussion on Friday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Opportunities for extra credit for finding, reading, summarizing additional article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E6A-C947-4F99-AC39-1ACCB4BA2D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structor Responsibilit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Keep your interest in C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mpt, constructive feedback on assign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Office hours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ednesday: 3:30-4:30 p.m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ursday: 12:30-3:30 p.m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Email for appointm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pond within 24 hours to emailed ques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16AC-DD99-4812-A8D0-A8A248DD31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udent Responsibilit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heck W&amp;L email and course web page frequently for updat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view entire syllabus onlin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ttend and participate in class and lectu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ndatory attendanc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e respectful to other stud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rrive promptly to lecture/lab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urn off cell phon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Be patient, flexible, and learn from mistak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ABC-9C1A-4B29-B6A0-26A7318D12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nor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may discuss programming assignments informally with other stud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5520" indent="-3330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ing a solution is an honor violation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should know where to draw the line between getting legitimate outside assistance with course material and outright cheat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5520" indent="-3330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who obtain too much assistance without learning the material ultimately cheat themselves the most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have any uncertainty about what this means, consult with me before you collaborate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written assignments should be done individually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3B3-D56C-4720-B809-7994D6FFAA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Your TODO List: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view the course web p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idterm dat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ad Chapter 1 of Text Book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nly skim 1.4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Due next Frida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irst CS issues reading/writeup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uesday’s lab/assignmen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CFD-90D2-414F-A870-46BC5FE771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eet &amp; gree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computer science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this clas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7539-F639-4B09-9F78-B3E9EE3A61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: What is Computer Scienc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Know any famous computer scientist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6BF-9894-4F29-A32D-14A945E4C9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Computer Scienc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computable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can we compute X most effectively/efficiently/accurately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ptimize speed, space using optimum data structures, algorith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ccurate modeling of “world”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06668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c600"/>
                </a:solidFill>
                <a:latin typeface="Lucida Grande"/>
              </a:rPr>
              <a:t>Computer Science is no more about computers than astronomy is about telescopes.”             --Edsger Dijkstr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CAFD-F91B-4EF3-A56B-1584085241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ften research involves combinations of these field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ot just programming!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ut programming is a foundation to do much, much more!</a:t>
            </a:r>
            <a:endParaRPr b="0" lang="en-US" sz="2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52280" y="1192320"/>
            <a:ext cx="2743200" cy="2609280"/>
            <a:chOff x="152280" y="1192320"/>
            <a:chExt cx="2743200" cy="2609280"/>
          </a:xfrm>
        </p:grpSpPr>
        <p:sp>
          <p:nvSpPr>
            <p:cNvPr id="104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" y="1573200"/>
              <a:ext cx="27432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and parallel system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952880" y="15796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9520" y="1173240"/>
            <a:ext cx="2133360" cy="2931840"/>
            <a:chOff x="2819520" y="1173240"/>
            <a:chExt cx="2133360" cy="2931840"/>
          </a:xfrm>
        </p:grpSpPr>
        <p:sp>
          <p:nvSpPr>
            <p:cNvPr id="108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1571760"/>
              <a:ext cx="2133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and verification,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0" y="1600200"/>
            <a:ext cx="213372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653-B51A-4825-9EE9-5AA6024C37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not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hardwa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Microsoft Windows (or other operating systems) probl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Microsoft Office (or other desktop applications) probl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26B-5DC7-412C-B852-BE5A9E171F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erests: Software testing, empirical studies, distributed syst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cus: Automated web application test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D25C-2032-4E5A-A5A8-23BCCFF52A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238880" cy="4794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44600" y="444492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Tahoma"/>
              </a:rPr>
              <a:t>Find the error(s)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8819-BC02-4B00-B4F2-01482B99EA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tt Wels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at </a:t>
            </a:r>
            <a:r>
              <a:rPr b="0" lang="en-US" sz="3200" spc="-1" strike="noStrike">
                <a:solidFill>
                  <a:srgbClr val="a10000"/>
                </a:solidFill>
                <a:latin typeface="Tahoma"/>
              </a:rPr>
              <a:t>Harvard Univers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distributed systems and network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ensor networks to monitor volcano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rote </a:t>
            </a:r>
            <a:r>
              <a:rPr b="0" i="1" lang="en-US" sz="3200" spc="-1" strike="noStrike">
                <a:solidFill>
                  <a:srgbClr val="020202"/>
                </a:solidFill>
                <a:latin typeface="Tahoma"/>
              </a:rPr>
              <a:t>Running 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2286000" cy="2997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84600" y="76320"/>
            <a:ext cx="4483080" cy="3396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162920" y="41911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of. Welsh at </a:t>
            </a:r>
            <a:r>
              <a:rPr b="0" lang="en-US" sz="2400" spc="-1" strike="noStrike">
                <a:solidFill>
                  <a:srgbClr val="a10000"/>
                </a:solidFill>
                <a:latin typeface="Tahoma"/>
              </a:rPr>
              <a:t>Volcán Reventador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 Ecuador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7543800" y="3048120"/>
            <a:ext cx="457200" cy="12189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BA0-9005-4D1A-B0A7-BEB092DA77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1:23:27Z</dcterms:created>
  <dc:creator>Elon University</dc:creator>
  <dc:description/>
  <dc:language>en-US</dc:language>
  <cp:lastModifiedBy>Sara Sprenkle</cp:lastModifiedBy>
  <cp:lastPrinted>2007-09-07T15:41:18Z</cp:lastPrinted>
  <dcterms:modified xsi:type="dcterms:W3CDTF">2007-09-07T15:43:18Z</dcterms:modified>
  <cp:revision>728</cp:revision>
  <dc:subject/>
  <dc:title>Intro to Java</dc:title>
</cp:coreProperties>
</file>