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701E-6259-4E78-8A49-64EDB0E8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FFC-6335-4615-BE0A-9DBE213C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7AC6-B47E-43FC-9CFD-CF0DC38DD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612-7A80-45A4-86EB-750E1F7D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F87B89-D02D-4E80-AD81-E8057B80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71B49-9626-4DF6-80FA-ED947B14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087A5-525A-4002-A74C-5B9B281E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24190D-742F-44CB-A6EB-C77FBB57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D5FED-7567-44AD-840B-953C14EC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E9726-45BC-4F21-8749-05D0968D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E5DFF7-865A-4BD3-B4B8-38DB3558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604-ECA9-4636-938E-9C29945B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1BBB7-8058-4BBF-9375-F6D06249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9F55E-3FEB-4CF8-B57D-D2BECA78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DA372-1B44-4590-A3BD-E48BACA1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1F364-87E6-4148-B48F-9AA633DA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DDFE8-2DB0-4EE8-9D43-CE391B00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3D2-1962-4D88-93B0-4373232CA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4EB4-5EFB-46F4-B058-B2672FBB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465C-CF3A-459B-8A45-6AFC04DE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D39C-B655-412C-89DD-C4F8C7AD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FE9-01E1-4248-AF77-4D6D1EB6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108D-FB3F-4001-A9CF-DD981B0E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5974-E9E4-45A0-BEEE-27DA43B5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19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CEC8-C2F8-4FFE-9F3D-1D80CAB1657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5F61-07D9-44B3-93D2-3EECFE8D663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Precedence/Arithmetic, importing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finite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6656-98BB-4C04-8CBF-4C71500CBF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ing/Repet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133720"/>
            <a:ext cx="502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862520"/>
            <a:ext cx="49514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38718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peat 10 ti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2"/>
            <a:endCxn id="118" idx="0"/>
          </p:cNvCxnSpPr>
          <p:nvPr/>
        </p:nvCxnSpPr>
        <p:spPr>
          <a:xfrm>
            <a:off x="5752800" y="43434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8" idx="2"/>
            <a:endCxn id="119" idx="1"/>
          </p:cNvCxnSpPr>
          <p:nvPr/>
        </p:nvCxnSpPr>
        <p:spPr>
          <a:xfrm flipV="1" rot="16200000">
            <a:off x="4271400" y="3852000"/>
            <a:ext cx="1234440" cy="1729440"/>
          </a:xfrm>
          <a:prstGeom prst="bentConnector4">
            <a:avLst>
              <a:gd name="adj1" fmla="val -33459"/>
              <a:gd name="adj2" fmla="val 156464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 flipH="1">
            <a:off x="2208960" y="3733920"/>
            <a:ext cx="381240" cy="2361960"/>
          </a:xfrm>
          <a:custGeom>
            <a:avLst/>
            <a:gdLst>
              <a:gd name="textAreaLeft" fmla="*/ -360 w 381240"/>
              <a:gd name="textAreaRight" fmla="*/ 13716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2159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Make 10 PB&amp;J sandwich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C476-123F-4FEE-860A-B1687A1B91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4862520"/>
            <a:ext cx="49514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38718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x </a:t>
            </a: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xrange(10)</a:t>
            </a: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26" idx="0"/>
          </p:cNvCxnSpPr>
          <p:nvPr/>
        </p:nvCxnSpPr>
        <p:spPr>
          <a:xfrm>
            <a:off x="5752800" y="43434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2"/>
            <a:endCxn id="127" idx="1"/>
          </p:cNvCxnSpPr>
          <p:nvPr/>
        </p:nvCxnSpPr>
        <p:spPr>
          <a:xfrm flipV="1" rot="16200000">
            <a:off x="4271400" y="3852000"/>
            <a:ext cx="1234440" cy="1729440"/>
          </a:xfrm>
          <a:prstGeom prst="bentConnector4">
            <a:avLst>
              <a:gd name="adj1" fmla="val -33459"/>
              <a:gd name="adj2" fmla="val 156464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flipH="1">
            <a:off x="2208960" y="3733920"/>
            <a:ext cx="381240" cy="2361960"/>
          </a:xfrm>
          <a:custGeom>
            <a:avLst/>
            <a:gdLst>
              <a:gd name="textAreaLeft" fmla="*/ -360 w 381240"/>
              <a:gd name="textAreaRight" fmla="*/ 13716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2159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Make 10 PB&amp;J sandwich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30040" y="533412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Loop </a:t>
            </a:r>
            <a:r>
              <a:rPr b="1" lang="en-US" sz="2400" spc="-1" strike="noStrike">
                <a:solidFill>
                  <a:srgbClr val="33cccc"/>
                </a:solidFill>
                <a:latin typeface="Tahoma"/>
              </a:rPr>
              <a:t>bod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16120" y="335268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ef4"/>
                </a:solidFill>
                <a:latin typeface="Tahoma"/>
              </a:rPr>
              <a:t>Loop</a:t>
            </a:r>
            <a:r>
              <a:rPr b="1" lang="en-US" sz="2400" spc="-1" strike="noStrike">
                <a:solidFill>
                  <a:srgbClr val="ff8ef4"/>
                </a:solidFill>
                <a:latin typeface="Tahoma"/>
              </a:rPr>
              <a:t> head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9040" y="266688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oop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952880" y="3048120"/>
            <a:ext cx="76320" cy="99036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5760" y="29685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ywor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352680"/>
            <a:ext cx="91440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352680"/>
            <a:ext cx="160020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1609-85B0-4186-BE2B-A44AF08E9D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1337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Times to repea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33560" y="2590920"/>
            <a:ext cx="190476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9F9-0C23-40CB-98F3-EA519E8819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only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to repe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for x in xrange(5): print “Hello!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73600" y="6095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mple_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2F4F-5A99-4168-B257-F60FAC8D45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Goes in the Loop Body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PB&amp;J Sandwi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ther materials (bread, PB, J, knives, plat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pen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2 pieces of bread on pl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read PB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read Jelly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lace PB-side facedown on Jelly-side of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ose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ean knif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away material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6095880"/>
            <a:ext cx="2725920" cy="36684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5181480"/>
            <a:ext cx="24382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 x </a:t>
            </a: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 xrange(10)</a:t>
            </a: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1" idx="2"/>
            <a:endCxn id="150" idx="0"/>
          </p:cNvCxnSpPr>
          <p:nvPr/>
        </p:nvCxnSpPr>
        <p:spPr>
          <a:xfrm flipH="1">
            <a:off x="7459200" y="5652720"/>
            <a:ext cx="8640" cy="42948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2"/>
            <a:endCxn id="151" idx="1"/>
          </p:cNvCxnSpPr>
          <p:nvPr/>
        </p:nvCxnSpPr>
        <p:spPr>
          <a:xfrm flipV="1" rot="16200000">
            <a:off x="6312960" y="5330160"/>
            <a:ext cx="1067760" cy="1226160"/>
          </a:xfrm>
          <a:prstGeom prst="bentConnector4">
            <a:avLst>
              <a:gd name="adj1" fmla="val -20067"/>
              <a:gd name="adj2" fmla="val 129897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485C-F405-47F7-AA75-7205E1C00D4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Goes in the Loop Body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PB&amp;J Sandwi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ther materials (bread, PB, J, knives, plat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pen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ut 2 pieces of bread on pl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pread PB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pread Jelly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lace PB-side facedown on Jelly-side of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ose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ean knif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away material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752480"/>
            <a:ext cx="7924680" cy="99072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819520"/>
            <a:ext cx="7924680" cy="190476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800600"/>
            <a:ext cx="7924680" cy="152388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2133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499680" y="355284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Tahoma"/>
              </a:rPr>
              <a:t>Loop Bod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7640" y="51354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Finaliz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A5F-4885-46ED-86FA-9A8A2DC97A5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1337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Times to repea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733560" y="2590920"/>
            <a:ext cx="190476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8F6-2DD4-469F-B125-5B57F8512E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nalyzing 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o, exactl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74720" y="60958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_analysi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666-3A8A-469D-9550-A91CC4C6FB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e above signature mea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3EE-8059-42A7-93A5-B26C7B560B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1 argument: xrange(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2 arguments: xrange(start, 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3 arguments: xrange(start, stop, ste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6880" y="616896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ing_xran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64BE-DBFC-4862-80BA-8DFDCA8071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ponenti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al: compute -3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uggested: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pow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(-3, 2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Courier New"/>
              </a:rPr>
              <a:t>pow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else could we get tha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fun, what is 2 ** -3 ** 2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982C-18A4-4F12-873E-EC4EAF9E49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1 argument: xrange(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0 to stop-1 with step=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2 arguments: xrange(start, 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start to stop-1 with step=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3 arguments: xrange(start, stop, ste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start to stop-1 with step size=ste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 that with negative numbers,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6880" y="616896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ing_xran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A12-4292-4AF5-A48C-036133556D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5 numbers,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verage 5 numbers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8B91-058D-483E-A3AA-FAE95D2EC9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umulator Design Patte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accumulator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 until do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value of the accumul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play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4434-05ED-4A10-9949-E669E492F7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Libr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has a rich library of functions and definitions available for your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library is broken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is a file containing Python definitions and state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nefits of functions/definitions in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need to rewrite someone else’s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’s in a module, it is a very efficient (in terms of computation speed and memory usag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53B-D325-4F29-8FBB-4243F16FC2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or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To use the definitions in a module, you must first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the modul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: to use the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math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module’s definitions, use the the import statement: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ypically import statements are at </a:t>
            </a:r>
            <a:r>
              <a:rPr b="0" i="1" lang="en-US" sz="2400" spc="-1" strike="noStrike">
                <a:solidFill>
                  <a:srgbClr val="010199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of program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To use, prepend constant or function with “modulename.”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s for constants: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th.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s for functions: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th.sqr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5880" y="22096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ort math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28120" y="617220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module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B5D-9CB7-4E42-86D4-C19F5EB709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ternatively can import only a subset of the modu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library&gt;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name1&gt;, &lt;name2&gt;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math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pi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can use just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stead of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math.p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AF90-2E22-402E-BD9C-7D5F4D2D68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nding Modules To U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 I know if some code that I want already exist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Library Referenc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ttp://docs.python.org/lib/lib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odule has functions/constants for manipulating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the most part, to practice, in the beginning you will write most of your code from scrat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6F5E-337E-44AF-9D21-37FFF1908A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086600" y="51814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type of statement is a building blo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itialization/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rithmetic, string concatenation, input/raw_inpu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an combine them to create more complex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lutions to proble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981080"/>
            <a:ext cx="1523880" cy="6098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48006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43434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38098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34290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1981080"/>
            <a:ext cx="1524240" cy="6098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2971800"/>
            <a:ext cx="175248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143000"/>
            <a:ext cx="175284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1728-D3B9-46AF-B0F0-0229B1E173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B49-6D19-406A-BDE2-880CAAF159C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6920" y="388620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tandard Algorith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 input from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some compu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Today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arn new building block, new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50532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04812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311616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 = input(“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s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an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C597-A715-4E59-9B38-063F33EEFC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19T20:24:05Z</dcterms:modified>
  <cp:revision>229</cp:revision>
  <dc:subject/>
  <dc:title>PowerPoint Presentation</dc:title>
</cp:coreProperties>
</file>