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C916-2BD5-48CB-ABCB-BF58BD0C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BCA-BBD3-4825-BAEE-F229EA05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DD9A-1E81-403D-9AAB-38C389F0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CA0-01E6-410F-B5AF-6FEE6666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5EB03-945E-4A7B-9EBD-AA451609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A4EA1-72A8-4B50-9585-C19B765A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ED6BF-BBD6-4FA6-A057-FA526986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C4A62-EFFA-4FA8-B6FA-856FE4B0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56CC3-A2ED-4EF5-A5F3-F4436E45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C2B75-785D-4762-B317-2CC72BD9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2F089-EBE9-47B0-B26C-ED2353CC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76FE-DE7D-4429-9BE0-2FB9AB82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B2E54-6E43-4F43-8219-C25F431C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C8698-37E3-40DF-899F-2D73A29D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ACE6A-A61B-40B4-A7FA-37ED4070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C6F4C-CDF4-41B0-950C-50AAA1F2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AD6FC-509B-4122-BD9B-3F4A42C0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D9C-C896-47CD-99D1-A7C1B391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F7E-187E-4E0D-82BC-526E5555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60B-9112-4F2E-9544-04B63840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E599-9289-47ED-BC3E-4F6BA799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4ED-2FAB-475C-9884-63E66174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F67-75CC-484B-B235-E023009C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DD86-DD5F-4741-B5CD-5C7D7C67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63A9-4296-4750-A3AB-122F1A63222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DC93-7FA7-4FA5-AD56-88FCF26841F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86D8-4DAD-482A-AE15-F4EE0CF36A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876920"/>
            <a:ext cx="4343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The max is”, z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3886200"/>
            <a:ext cx="22096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z=max(x, y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2"/>
            <a:endCxn id="125" idx="0"/>
          </p:cNvCxnSpPr>
          <p:nvPr/>
        </p:nvCxnSpPr>
        <p:spPr>
          <a:xfrm>
            <a:off x="2323800" y="43578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endCxn id="126" idx="0"/>
          </p:cNvCxnSpPr>
          <p:nvPr/>
        </p:nvCxnSpPr>
        <p:spPr>
          <a:xfrm>
            <a:off x="2323800" y="34434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6" idx="3"/>
            <a:endCxn id="130" idx="1"/>
          </p:cNvCxnSpPr>
          <p:nvPr/>
        </p:nvCxnSpPr>
        <p:spPr>
          <a:xfrm flipV="1">
            <a:off x="3443040" y="1371240"/>
            <a:ext cx="1267560" cy="274392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32" idx="1"/>
            <a:endCxn id="126" idx="3"/>
          </p:cNvCxnSpPr>
          <p:nvPr/>
        </p:nvCxnSpPr>
        <p:spPr>
          <a:xfrm rot="10800000">
            <a:off x="3443400" y="4114080"/>
            <a:ext cx="1953000" cy="144864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 flipV="1">
            <a:off x="1828800" y="3962520"/>
            <a:ext cx="1219320" cy="304560"/>
          </a:xfrm>
          <a:prstGeom prst="line">
            <a:avLst/>
          </a:prstGeom>
          <a:ln w="63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3526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Gets replaced with function’s output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13372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2971800"/>
            <a:ext cx="28195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y = input(“Enter 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2"/>
            <a:endCxn id="136" idx="0"/>
          </p:cNvCxnSpPr>
          <p:nvPr/>
        </p:nvCxnSpPr>
        <p:spPr>
          <a:xfrm>
            <a:off x="2323800" y="2604600"/>
            <a:ext cx="1080" cy="35316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 flipH="1" flipV="1">
            <a:off x="761760" y="2437920"/>
            <a:ext cx="15228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37160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To </a:t>
            </a:r>
            <a:r>
              <a:rPr b="1" lang="en-US" sz="2200" spc="-1" strike="noStrike">
                <a:solidFill>
                  <a:srgbClr val="010199"/>
                </a:solidFill>
                <a:latin typeface="Tahoma"/>
              </a:rPr>
              <a:t>input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 function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9" idx="2"/>
            <a:endCxn id="136" idx="1"/>
          </p:cNvCxnSpPr>
          <p:nvPr/>
        </p:nvCxnSpPr>
        <p:spPr>
          <a:xfrm flipH="1" rot="16200000">
            <a:off x="390240" y="2691360"/>
            <a:ext cx="727560" cy="29124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648320" y="4114800"/>
            <a:ext cx="22096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304812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4" idx="2"/>
            <a:endCxn id="142" idx="0"/>
          </p:cNvCxnSpPr>
          <p:nvPr/>
        </p:nvCxnSpPr>
        <p:spPr>
          <a:xfrm>
            <a:off x="6667200" y="25290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715000" y="2057400"/>
            <a:ext cx="19051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26440" y="3517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3468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411480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2"/>
            <a:endCxn id="132" idx="0"/>
          </p:cNvCxnSpPr>
          <p:nvPr/>
        </p:nvCxnSpPr>
        <p:spPr>
          <a:xfrm>
            <a:off x="5752800" y="4586040"/>
            <a:ext cx="110556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410080" y="5334120"/>
            <a:ext cx="28958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2" idx="2"/>
            <a:endCxn id="141" idx="0"/>
          </p:cNvCxnSpPr>
          <p:nvPr/>
        </p:nvCxnSpPr>
        <p:spPr>
          <a:xfrm flipH="1">
            <a:off x="5752800" y="351936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0" idx="2"/>
            <a:endCxn id="144" idx="0"/>
          </p:cNvCxnSpPr>
          <p:nvPr/>
        </p:nvCxnSpPr>
        <p:spPr>
          <a:xfrm>
            <a:off x="6667200" y="16146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4724280" y="1143000"/>
            <a:ext cx="38862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max(num1, num2)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2" idx="2"/>
            <a:endCxn id="147" idx="0"/>
          </p:cNvCxnSpPr>
          <p:nvPr/>
        </p:nvCxnSpPr>
        <p:spPr>
          <a:xfrm>
            <a:off x="6667560" y="351936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7" idx="2"/>
            <a:endCxn id="132" idx="0"/>
          </p:cNvCxnSpPr>
          <p:nvPr/>
        </p:nvCxnSpPr>
        <p:spPr>
          <a:xfrm flipH="1">
            <a:off x="6857280" y="4586040"/>
            <a:ext cx="118188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4867920" y="258840"/>
            <a:ext cx="37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 gets the value of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 gets the value of 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C41-E2A5-4582-9AAB-2A7FA92969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4267080"/>
            <a:ext cx="22100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9" idx="2"/>
            <a:endCxn id="157" idx="0"/>
          </p:cNvCxnSpPr>
          <p:nvPr/>
        </p:nvCxnSpPr>
        <p:spPr>
          <a:xfrm flipH="1">
            <a:off x="62100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48643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571500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57" idx="2"/>
            <a:endCxn id="156" idx="0"/>
          </p:cNvCxnSpPr>
          <p:nvPr/>
        </p:nvCxnSpPr>
        <p:spPr>
          <a:xfrm flipH="1">
            <a:off x="5142960" y="3672000"/>
            <a:ext cx="106740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41148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1" idx="2"/>
          </p:cNvCxnSpPr>
          <p:nvPr/>
        </p:nvCxnSpPr>
        <p:spPr>
          <a:xfrm rot="5400000">
            <a:off x="5054760" y="5626800"/>
            <a:ext cx="44352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2441160" y="571500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5" name=""/>
          <p:cNvCxnSpPr/>
          <p:nvPr/>
        </p:nvCxnSpPr>
        <p:spPr>
          <a:xfrm rot="5400000">
            <a:off x="41403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7" idx="2"/>
            <a:endCxn id="161" idx="0"/>
          </p:cNvCxnSpPr>
          <p:nvPr/>
        </p:nvCxnSpPr>
        <p:spPr>
          <a:xfrm rot="5400000">
            <a:off x="5119200" y="4609800"/>
            <a:ext cx="2029320" cy="153000"/>
          </a:xfrm>
          <a:prstGeom prst="curvedConnector5">
            <a:avLst>
              <a:gd name="adj1" fmla="val 71504"/>
              <a:gd name="adj2" fmla="val 50000"/>
              <a:gd name="adj3" fmla="val 71504"/>
            </a:avLst>
          </a:prstGeom>
          <a:ln w="3168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6311880" y="4657680"/>
            <a:ext cx="2832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mplicit false branch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Only way got here is if the condition was not tru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C77-4BF8-4ED8-9F6B-4FAF3C39B9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return to “shortcut”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output as soon as know answ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are efficiency of two functions in binaryToDecimal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AE86-59E0-4F43-AE6F-820E969C14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ssing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pi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the actual parameters are given to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actu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parameters in the calling code do not change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ed example with swap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08EC-6254-48EE-8F47-94E9C20391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Organiz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can go inside of program scrip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d before us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can go inside a separate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s code in ma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to reuse by importing from a modu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tains the “black box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6957-E922-4B89-A043-A0500D02C5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main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many languages, you put the “driver” for your program in a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ou can (and should) do this in Python as wel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thods go at the top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ers can quickly see what program do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usually takes no 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91520" y="487692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def main()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3FE5-DCA5-412D-B8A7-C494984D52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a main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ll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 at the bottom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de-effect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not need to define functions befor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can “see” other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e that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function that calls other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20202"/>
                </a:solidFill>
                <a:latin typeface="Arial"/>
              </a:rPr>
              <a:t>Any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unction can call other functions 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9440" y="6186600"/>
            <a:ext cx="18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oldmac.p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294-E129-4B4D-8815-0B2F60724F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 with a main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ldmac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8C5-345C-48B2-855F-E566832EDB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12193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Why can we name two variables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5CC-B05B-43C0-8F40-AEA1E9F661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96320" y="426708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 st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7680" y="601992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unction names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are like last na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981080" y="5486040"/>
            <a:ext cx="182880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4232160"/>
            <a:ext cx="27432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Tahoma"/>
              </a:rPr>
              <a:t>Variable names</a:t>
            </a:r>
            <a:r>
              <a:rPr b="0" lang="en-US" sz="2300" spc="-1" strike="noStrike">
                <a:solidFill>
                  <a:srgbClr val="010199"/>
                </a:solidFill>
                <a:latin typeface="Tahoma"/>
              </a:rPr>
              <a:t> are like first names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324120" y="5029200"/>
            <a:ext cx="1143000" cy="3049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915-605F-4944-B237-F541509F11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write function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llows you to break up a hard problem into smaller, more manageable part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your code easier to understan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ides implementation details (</a:t>
            </a: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abstrac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ovides interface (input, output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part of the code reusable so that you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ly have to type it ou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debug it all a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solates err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make changes in one function (maintainability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A9B-789C-4F1B-847A-2B83B67A7C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x(num1, num2)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733920"/>
            <a:ext cx="990360" cy="99036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3733920"/>
            <a:ext cx="1295640" cy="99036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8288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alled the functio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, so need to add its parameters to the st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4A7-B9E0-4C4D-BB37-EC4C0682DC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352680"/>
            <a:ext cx="99036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3352680"/>
            <a:ext cx="129564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EC8-5C31-45F1-9045-10506F8A7D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3352680"/>
            <a:ext cx="99036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3352680"/>
            <a:ext cx="129564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ED2-7543-48E3-ABA4-B9514E9EA8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205740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unctio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returned, so we no longer have to keep track of its variables on the stack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lifetime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of those variables is ov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EB96-3E1D-484D-B2D5-41B0FFA494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cop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Functions can have the same parameter and variable names as other function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Need to look at the variable’s </a:t>
            </a: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scope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determine which one you’re looking a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Use the stack to figure out which variable you’re using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Scope level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Loca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scope (also called function scope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Can only be seen within the function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Globa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scope (also called file scope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Whole program can acces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More on these later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92320" y="60958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cop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C6D-5F04-4315-8A12-DA7C238A33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output of this program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user enters 4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8720" y="2489040"/>
            <a:ext cx="676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square(n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n * 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um = input("Enter a number to be squared: "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square(num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The square is: ", n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7B9-89FD-4687-ADA8-57BD6E7FBF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“good”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Should be an “intuitive chunk”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Doesn’t do too much or too little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Should be reusable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Always have comment that tells what the function doe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8BB-7EAC-4E81-956A-87882AFE328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“good”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recondi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: Things that must be true in order for the function to work correctl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.g., num must be eve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ostcondi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: Things that will be true when function finishes (if precondition is true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.g., the returned value is the max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99F6-3BCA-4AFC-BF72-08BA74BF33E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good comments for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style: Each function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have a com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ten at a high-leve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clude the precondition, postcondi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scribe the parameters (their types) and the result (precondition and postcondition may cover thi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31C-2C2A-446C-BAE3-96B7352245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nlike functions, no special keyword to define a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dules are named by the file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, oldmac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n Python shell: import oldmac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plain what happene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7363-DF4D-47E5-AB99-C00A089889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is a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black bo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lementation doesn’t mat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care that function generates appropriate output, given appropriate input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care how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 was implemen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73360" y="464832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aw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8080" y="533412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45160" y="533412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040" y="510228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4960" y="5029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17240" y="48006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rom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89720" y="48006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er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715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e saved output in a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310B-6864-468A-A6B6-44F5615C12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 that our program doesn’t execute when it is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importe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a program, at bottom, ad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__name__ == '__main__’ 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n, to call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 the files now listed in the direct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25369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 important how this works; just know when to u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4038480" y="2765520"/>
            <a:ext cx="13716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B7D-CB3B-4383-AD2C-83351413C8E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n, to call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would you want to do thi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main function as driver to test functions in modu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access one of the defined 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EIEI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A1C-B4DA-41D7-BF2D-91FF82F7BA9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 Read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icrosoft Excel 2007 bu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F17-284D-4357-8B64-CF78134F59A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yntax of Function Defin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527040" y="1600200"/>
            <a:ext cx="838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SECOND_TO_HOUR = 3600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FEET_TO_MILE = (1.0/5280)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result = ftps * SECOND_TO_HOUR * FEET_TO_MILE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" y="12841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12400" y="1270080"/>
            <a:ext cx="125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000"/>
            </a:b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75160" y="114300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Input Name/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-368640" y="2673360"/>
            <a:ext cx="220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Body (or function definition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8040" y="510552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How to give outpu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96920" y="1676520"/>
            <a:ext cx="0" cy="8380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68520" y="1905120"/>
            <a:ext cx="0" cy="5331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82600" y="1752480"/>
            <a:ext cx="338040" cy="6652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554120" y="4419720"/>
            <a:ext cx="351000" cy="7617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2438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Function head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2B5-1F0B-4F83-8401-17063BB120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are functions in the cod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be defined in script before use (calling i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be in separat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to use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enu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 in modules when functions are reusable for many different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enefits: shorter code (no function defns), isolate testing of function, write “test driver” scripts to test functions separately from use in scrip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F0F1-25D2-4FED-9178-C1A45A7744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inputs to a function are called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call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/using functions, parameters must appear in same order as in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round(x, 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float to roun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integer of decimal places to round to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723-7210-4824-A983-FACAE2BCB0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orm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named in the the function definition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Actu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or literals that really get used when the function is called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round(x, n) :</a:t>
            </a:r>
            <a:br>
              <a:rPr sz="3200"/>
            </a:b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Celc = round(celc,2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l &amp; actual parameters must match in order, number, and type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orm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48320" y="3429000"/>
            <a:ext cx="12189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105520" y="3429000"/>
            <a:ext cx="7617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590920" y="3276720"/>
            <a:ext cx="12189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048120" y="3276720"/>
            <a:ext cx="7617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7E1-48EF-4797-95E8-8EA5C9FFD7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Old McDonald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 verse of the song go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ld McDonald had a farm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nd on that farm he had a dog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ith a ruff, ruff he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nd a ruff, ruff the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ere a ruff, there a ruff, everywhere a ruff, ruff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ld McDonald had a farm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rite a function to print a vers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y does it make sense to write a function for the verse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at is input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at is output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CB9-09EA-4619-903D-093EB7E37F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the code reaches a statement lik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x is the output returned to the place where function called and the function st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functions that don’t have explicit output, return does not have a value with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ptional: don’t need to have output/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8CB-54A4-4C87-BD89-C8C8589A50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15T20:49:48Z</cp:lastPrinted>
  <dcterms:modified xsi:type="dcterms:W3CDTF">2007-10-15T20:53:54Z</dcterms:modified>
  <cp:revision>1444</cp:revision>
  <dc:subject/>
  <dc:title>PowerPoint Presentation</dc:title>
</cp:coreProperties>
</file>