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D07-00D2-4DBA-B4A5-0993470D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825-C316-4A90-B726-4FDB6CCA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DFC4-D30C-4E54-AF94-8907CAF2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AFF0-AFBC-425D-AC73-36FB8762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1575A-3A1E-44C5-B430-FFBC0CA0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240C8-A480-49CE-83A1-298F076D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E30DC-059E-445E-9170-4E902A69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65841-5F8E-4104-9CF2-FCDDCDFD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A38E0-1152-4374-BD94-68D3E7AC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CDFCF-9479-4F59-8208-943AB32C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4F435-77DA-4102-BA72-F2B76E45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D141-C015-4B9C-B009-3586DE24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AC523-509A-4CBF-9FC3-2BF87BC1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074AB-1240-47A3-AC0F-E8041E47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84AC8-6FC2-4DE7-8D90-CFD6FF22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0196C-5C89-4BEC-8B7D-93ACB4B8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B52A7-0C43-45B0-A110-41BB17BF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37A8-559B-49E8-B123-C1BA3174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E5A9-539A-4EEC-96F0-5844DC85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BDDC-6543-4DD4-A100-07A7C87E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8C0-AB68-4ECA-A77B-7E4711A6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84D1-4666-4735-A99E-9AE41A16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3E33-BA70-4753-92BF-DB020DC9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8390-495C-4A1B-A2F7-9952B7E3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4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4AD9-EF6D-4F35-977E-9810F44B3C8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2024-096E-48D8-95D2-947569FBED68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Dictionari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se end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/improving docum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ault parameter valu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A07E-0150-410C-8A41-E9514C54F8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pecial Value: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Non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pecial value we can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.g., Return value from function when there is an err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milar to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nul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Jav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you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st = list.sort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77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l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s None because list.sort() doe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return anyth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853A-632B-43AE-B775-6EAE293EF8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a file of the for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lastname&gt; &lt;major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e a mapping between the last names and majo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32960" y="62485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jors_dictio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572-EB8C-4E03-8BB6-4C7B7F20FF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dify the previous program to keep track of the number of majors of each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uld we solve this using a lis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49800" y="632448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jors_dictionary2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877-438E-4F49-9445-D576745F53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Docum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di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function that returns a list of methods and attributes in an objec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r(&lt;typ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help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get document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the Python shel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elp(&lt;typ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&lt;module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elp(&lt;modulenam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5916-A673-4BE9-B1DF-D862EA2370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re is Documentation Coming From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es from the code itself in “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doc string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.e., “documentation string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c strings are simply strings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function head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ically use triple-quoted strings because documentation goes across several lin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80060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de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verse(animal, sound)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“””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s a verse of Old MacDonald, filling in the strings for animal and sound “””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5E01-1296-4195-9BE9-D82C998E62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faults for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aw with the xrang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dn’t have to specify start or increment when calling the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ault start to 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ault increment to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assign a default value to a parame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 general, default parameter should come after all the parameters that need to be defin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D713-AB5D-4BAD-8CB1-FCCF0E4CD3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Default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y default the rollDie function could assume that a die has 6 si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8160" y="3201840"/>
            <a:ext cx="51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rollDie(sides</a:t>
            </a: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=6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random.randint(1,sides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200040" y="2789280"/>
            <a:ext cx="762120" cy="8380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46680" y="2286000"/>
            <a:ext cx="43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signs a valu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NLY I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not passed a paramet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4240" y="4648320"/>
            <a:ext cx="48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Examples of calling the function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58800" y="5105520"/>
            <a:ext cx="16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ollDie(6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ollDie(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ollDie(1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84680" y="624852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am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FF9-C6E2-4442-A5E0-76EA91034E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tudent Majo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want to keep track of the number of majors of each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wist: Not every student has a major (don’t declare until sophomore yea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E4B2-F91E-403A-BA1B-8F44824552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tudent Majors, revised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udents can have more than one maj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uld count these separatel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modify the previous program to do that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CECD-9F5A-4445-9640-41CA090911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Music 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have an album file that has the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rtist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lbum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an album file, print out the number of songs and the total length of the albu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44956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ength has the format min:seco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5C7-650C-45E3-970C-3F6C407FA0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ctionaries in 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p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key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Keys are not necessarily alphabetiz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ppings are from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one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key to one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or more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valu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Keys are </a:t>
            </a:r>
            <a:r>
              <a:rPr b="1" i="1" lang="en-US" sz="2600" spc="-1" strike="noStrike">
                <a:solidFill>
                  <a:srgbClr val="020202"/>
                </a:solidFill>
                <a:latin typeface="Arial"/>
              </a:rPr>
              <a:t>unique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, Values are not necessarily uniqu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Example: student ids --&gt; last nam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Keys must be </a:t>
            </a: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immutable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(numbers, strings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milar to Hashtables/Hashmaps in other languag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5788080"/>
            <a:ext cx="882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How would we handle if there is more than one value for a key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6EE6-4AA0-463A-99F2-FCB2E9FDC5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ictionari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ful for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fas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ku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okup by keywo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n’t need to look through entire list or sort list fir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3317-17B0-48F9-A872-F44A5FF67C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s of Diction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keys and values fo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xtbook’s inde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RL (Uniform Resource Locato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from cla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unction name --&gt; function defini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ariable name --&gt;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SCII value --&gt;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BDE-D6DD-48BB-A40C-B0137C6BBF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Dictionaries in 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{&lt;key&gt;:&lt;value&gt;, …, &lt;key&gt;:&lt;value&gt;}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7280" y="3313080"/>
            <a:ext cx="71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empty =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{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 =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 {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‘a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7, ‘b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8, ‘c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9, …, ‘z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122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6BE-E191-4BBB-AC85-5A6F67C560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essing Values using Key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4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KeyError</a:t>
            </a: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f key is not in dictiona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68760" y="2779560"/>
            <a:ext cx="396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[‘z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irectory[‘registrar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6611-F285-4156-A013-D77BB7BE78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dding/Modifying Key-Value Pai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 = &lt;valu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scii[‘a’] = 97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9160" y="624852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_dictio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2CF7-3485-470A-A2FB-3B212B395B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ctionary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43000" y="1397160"/>
          <a:ext cx="6858000" cy="29034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dex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[&lt;key&gt;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(&lt;dict&gt;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t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or &lt;key&gt; in &lt;dict&gt;: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mbership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key&gt; in &lt;dict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e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 &lt;dict&gt;[&lt;key&gt;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80880" y="49323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Unlike strings and lists, doesn’t make sense to do slicing, concatenation, repetition for dictionaries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CB5D-FEE1-4D85-A542-B7473AC1AC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ctionary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1397160"/>
          <a:ext cx="8458200" cy="3263760"/>
        </p:xfrm>
        <a:graphic>
          <a:graphicData uri="http://schemas.openxmlformats.org/drawingml/2006/table">
            <a:tbl>
              <a:tblPr/>
              <a:tblGrid>
                <a:gridCol w="3124080"/>
                <a:gridCol w="5334120"/>
              </a:tblGrid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clear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move all items from dictionary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keys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dictionary’s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keys 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values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dictionary’s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values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get(</a:t>
                      </a:r>
                      <a:r>
                        <a:rPr b="0" i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[,</a:t>
                      </a:r>
                      <a:r>
                        <a:rPr b="0" i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fault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&lt;dict&gt;[</a:t>
                      </a:r>
                      <a:r>
                        <a:rPr b="0" i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] if </a:t>
                      </a:r>
                      <a:r>
                        <a:rPr b="0" i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a key; Otherwise, returns </a:t>
                      </a:r>
                      <a:r>
                        <a:rPr b="0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ne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(or default value)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C15D-994A-4B0A-A709-AA9EC69142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22T19:45:41Z</cp:lastPrinted>
  <dcterms:modified xsi:type="dcterms:W3CDTF">2007-10-24T01:38:19Z</dcterms:modified>
  <cp:revision>2268</cp:revision>
  <dc:subject/>
  <dc:title>PowerPoint Presentation</dc:title>
</cp:coreProperties>
</file>