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B82-AF50-4A13-BB80-3D9BC1AE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070-EE5E-4B33-B74A-B6FEC262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C26-399E-43D4-BB7A-C0D31C10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169-090F-4961-834B-1A52B5C8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4B74F-B13F-4A7D-9C35-B9043DAF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B18CF-1DD7-4DD0-A91A-D7D6BF01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9C1C3-EE99-480D-BDC1-7622FA6E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3EEBB-8357-48D2-9168-0BDFC087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FEE6E-9EA2-45EE-AC1D-0CD8C3EF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545B4-BE01-49EB-B205-23A13BF4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78E67-E8D4-43D5-AAC0-844F3823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865-7C6E-454A-BDE1-A83B5DE5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1961B-0E75-433F-9E1F-3100273F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696D9-E824-4AB8-921A-1A8E1195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45153-95AE-441C-87B4-0AF45A3A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0D3D5-C131-4B26-B7D0-EC100EF9B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70683-0FE9-4B89-A231-CEEC4A07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750-8411-4E3E-9130-47098D54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7ED-CCFA-4BA0-AC9E-DEE9A317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EB5-3220-481B-AB61-5722C550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3EC-97A3-4FD7-9994-1C0A23B9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A8A-1B42-4E0D-83E9-D8E82591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9C0B-2B3D-451D-B603-F4809DF2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F24-AFD0-4A5C-8143-70CBC1F3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55BB-ECEF-447A-A5AF-5318032445B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D887-7896-4877-9E36-3F87D6142B2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se end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/improving docu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parameter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1F3-D0DC-43E9-AD88-BAA962FD86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pecial Value: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ecial value we can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.g., Return value from function when there is an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nul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Jav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= list.sort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s None because list.sort() doe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return any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2AD-DE0C-4FAB-99CB-710969C407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 file of the fo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lastname&gt; &lt;major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mapping between the last names and majo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32960" y="6248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F97-2F63-41B3-A819-3DAD1607C8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the previous program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uld we solve this using a lis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9800" y="63244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96C-FEBE-4323-AE4F-31883EC374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Docu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di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function that returns a list of methods and attributes in an objec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help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get docum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Python she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&lt;module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modulenam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9A6-35EF-4CD3-B53C-917DBB8BE8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is Documentation Coming From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es from the code itself in “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doc string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“documentation string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 strings are simply strings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use triple-quoted strings because documentation goes across several l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80060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verse(animal, sound)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“””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s a verse of Old MacDonald, filling in the strings for animal and sound “””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52D-8ABF-4530-B229-BA80F11404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faults for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w with the xrang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have to specify start or increment when calling the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start to 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increment to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assign a default value to a parame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general, default parameter should come after all the parameters that need to be defin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A4B-8997-4C38-947B-0DC69C71BD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ault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 the rollDie function could assume that a die has 6 si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8160" y="320184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rollDie(sides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=6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random.randint(1,side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00040" y="2789280"/>
            <a:ext cx="76212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46680" y="228600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signs a valu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NLY 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passed a paramet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240" y="4648320"/>
            <a:ext cx="48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Examples of calling the function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8800" y="5105520"/>
            <a:ext cx="16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6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1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84680" y="624852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am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D19-8FAF-48AE-AA5E-AEFFB043C0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wist: Not every student has a major (don’t declare until sophomore yea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201-155C-4AAC-92DE-FD200B90EB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, revise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udents can have more than one maj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uld count these separatel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odify the previous program to do tha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A61-93C1-4429-8B2E-E77BB7F80B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28A-7671-4285-9561-0D49971857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key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not necessarily alphabet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pings are from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key to one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r mor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are </a:t>
            </a:r>
            <a:r>
              <a:rPr b="1" i="1" lang="en-US" sz="2600" spc="-1" strike="noStrike">
                <a:solidFill>
                  <a:srgbClr val="020202"/>
                </a:solidFill>
                <a:latin typeface="Arial"/>
              </a:rPr>
              <a:t>uniqu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, Values are not necessarily uniqu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xample: student ids --&gt; last nam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must be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immutabl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(numbers, strings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Hashtables/Hashmap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788080"/>
            <a:ext cx="882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ow would we handle if there is more than one value for a ke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583-3CA3-44D0-9F41-84F2C440E2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ictionari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ful for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a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k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okup by keywo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look through entire list or sort list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3D6-144B-496C-823C-B6DFC4C935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from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 name --&gt; function defin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 name --&gt;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CII value --&gt;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717-BDF4-4E26-8AA1-1CB5D6C18B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95D-EDA8-455A-99C9-B8ED4992C4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47A-E6E3-439E-900A-06141EE28A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ng/Modify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5E4-ED1B-4857-B297-68E2A85170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43000" y="1397160"/>
          <a:ext cx="6858000" cy="29034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dict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key&gt; in &lt;dict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key&gt; in &lt;dict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 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80880" y="49323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Unlike strings and lists, doesn’t make sense to do slicing, concatenation, repetition for dictionarie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C01-4495-4A38-9C4F-FE4CE668D2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1397160"/>
          <a:ext cx="8458200" cy="3263760"/>
        </p:xfrm>
        <a:graphic>
          <a:graphicData uri="http://schemas.openxmlformats.org/drawingml/2006/table">
            <a:tbl>
              <a:tblPr/>
              <a:tblGrid>
                <a:gridCol w="3124080"/>
                <a:gridCol w="5334120"/>
              </a:tblGrid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clea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ove all items from dictionar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key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keys 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value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values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get(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</a:t>
                      </a:r>
                      <a:r>
                        <a:rPr b="0" i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fault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&lt;dict&gt;[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 if 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a key; Otherwise, returns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ne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(or default value)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CE8-267E-4D9D-8626-547C819AC5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5:41Z</cp:lastPrinted>
  <dcterms:modified xsi:type="dcterms:W3CDTF">2007-10-24T01:38:19Z</dcterms:modified>
  <cp:revision>2268</cp:revision>
  <dc:subject/>
  <dc:title>PowerPoint Presentation</dc:title>
</cp:coreProperties>
</file>