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6AE-9586-438F-8360-2F35270E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2CD-8044-4194-92F0-8197D269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5B4-6CCA-449B-8F87-CF2A26BC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594-B1F8-47AF-B070-08D15457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28ECB-04C6-4428-B5AC-A5B04ACC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C758-3B63-4171-AE1C-A5D8A704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C3437-7CD6-4CC3-BBEA-ECD522EB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02F27-1B25-4B0C-A289-8AA46BCE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F283E-AB0D-4781-91D4-EADDA91F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FCC94-B6E6-4B72-BFFA-70BC991C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B73F9-FDBE-44A0-A46F-C0B941D6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C1D-0EB7-4BF5-BA14-BFE59996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0ACF3-EC84-4056-A664-C85EEA9E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7CF30-EAEE-4698-BFB7-F3772671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15227-8209-4309-8F28-41CE33ED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C1C2F-0889-4A79-B9A8-8EB2AC0E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FA590-F420-4AA9-B9C5-D1FD416C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A1C-6291-4815-8F1B-23380165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1E8-2FD3-463E-B552-01EFD0C0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68B-1444-4458-AA75-887B2099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E53-0286-4C6C-9376-F43708D2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58E-6BF2-4F99-B0B5-68EF27B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800-B7C2-4C0E-8E31-CE4BE2E5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D52-CC11-4EF7-998D-67C3B80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13DB-9E3D-4CD9-8DDB-4EC2774BD11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C52C-611A-4FDE-A52F-58EF320872E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1 Feed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Linux/UNIX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AF5-FA6A-4D28-95D2-120D9CBD07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Remote Ac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tilize more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ute partial answers on different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bine partial answers into final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ewer idle CPU cyc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Take advantage of other machine’s resourc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pplication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tributed and parallel process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ientific compu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3CD-E460-44E0-A623-AF6AEB8821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formatting output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using Linux remote acc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stuff you should kn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initial problem-solving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ulate the problem/solution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out your algorithm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162-E835-42D5-8A94-83F5EB7338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in’ goo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commen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naming of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test cas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470-9F35-4297-BF0A-AB996C8B3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Variable Nam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descriptive variable nam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or atomic weight, the input from the user about the number of hydrogen atom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_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gin with lowercase letter for typical variab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l caps for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s that don’t change during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3A6-41BF-4523-9B54-11C68A6AF2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monstrate that your program works using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sever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est cases when there is user-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well-known test cases, when applicab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xample with F--&gt;C, use 32F, 212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show me testing from when you were developing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after you’ve done all testing/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tart IDLE shell to get rid of previous testing resul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74F-6A02-4FFB-B5DB-3C56BFC179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Data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ed to use constructor/converter if variable is of correct data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raw_input(“…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x is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entered” + x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ote don’t need to use str(x) because x is already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DCB-9546-40AC-86C7-63934628EF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who you ask, you’ll get different answ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E65-C7C4-4D72-9542-523FE7C3C4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perating system reas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bility -- reboot less ofte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fficiency (requires fewer hardware resourc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ecure (fewer virus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operations efficienc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amount of time that user’s hands leave key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duce mouse click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ulti-user capabilit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than one user can use the machine’s resour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5A4-38C5-4826-8644-1C62F8C7D0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1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2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malltalk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 2 remotely logs into pascal using ssh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SH: secure shell protocol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10A-7463-4D79-AAF4-28FEB3B83A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2 can execute programs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remotel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pasc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achine from command li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use desktop manag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1 and User2 share pascal’s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81080"/>
            <a:ext cx="1066680" cy="45720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E3C-4932-4D35-BC1D-2427A52F2F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16:05:14Z</dcterms:modified>
  <cp:revision>425</cp:revision>
  <dc:subject/>
  <dc:title>PowerPoint Presentation</dc:title>
</cp:coreProperties>
</file>