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9E17-5E0B-400F-A19F-4D8BB6800BF7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F7BD-308E-4433-A6CA-060A38D0EDDD}" type="slidenum">
              <a:rPr b="0" lang="en-US" sz="1200" spc="-1" strike="noStrike">
                <a:solidFill>
                  <a:srgbClr val="3333c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606920" cy="3454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6400" y="4352760"/>
            <a:ext cx="50770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630-03EF-48D0-A321-91ED1DF0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E53B-C9F1-473D-A3DF-0DD1723F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8712-29FD-4664-8671-9AC866DF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D27-E898-47FA-8B7C-867C3BE7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03605-18D2-4458-8C8E-5B9D225E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1EA86-4073-4DC0-9B0C-E67EC426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492E3-6A85-4C94-9FA7-F3870BC1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5D980-1264-4A33-A733-3B5461D8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09111-C497-49BF-BEE1-CDA73DCA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C0AB6-CCF4-4FB6-9EDD-6773B147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EA91A-5F0B-49F6-AFC4-A9C9F072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5CAA-2E2F-4AF4-B0D2-5B2ED574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404B2-1083-4960-B5B9-24A66408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1EEB2-2C48-465F-AFE1-39DA9DFE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F5A31-7E86-4BF6-B05A-26580171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DEA98-38B4-4B3B-A34E-018A142B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46C79-A393-4B3A-8F12-63B3E24B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7BFF-2832-4EAB-BDAB-00C7C1C3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3B7D-A4C6-4CC8-96E1-54809A7D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C208-F4B3-44A5-B6D5-3106F785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F825-815A-44CC-A980-A51397EC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458-D65E-414D-8729-7F87C2E4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B8D-68AF-403B-936B-B6AB3C56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1498-F223-4A77-82FD-E1B46E45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D802-4D46-4560-BB42-97AC70073B2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AAD5-1B7E-4984-9BD8-6D296DD87D7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format specifiers,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sted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de 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E15-4AC7-47F3-801D-4C5599D3A3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ing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following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11120" y="22860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49B5-0D0F-4145-9781-C2E6B2C4DF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ing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following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11120" y="2286000"/>
            <a:ext cx="136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D657-EBA0-4F92-A187-C65B57A136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roving Code Read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affect Python’s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rt with a ‘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’ sig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hange one value (at top of program) to change value everywhere in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exible program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s rid of “magic number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Give a clear name/purpose to valu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33C1-45A6-4C0E-9052-6FC8A14CB1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56680"/>
            <a:ext cx="86882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Variable Name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9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Variables start with lowercase l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onstants (values that won’t change) are in all capita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xample: Variable for the current ye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_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 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_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952880"/>
            <a:ext cx="1752480" cy="53352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19320" y="5105520"/>
            <a:ext cx="1600200" cy="45720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649-EB3C-46A6-AB4F-A0F64F06E54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roving Code Readability/Us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is program do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you figure it ou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would you do to improve the program’s readability and usabilit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11800" y="5715000"/>
            <a:ext cx="29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ogram_befor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ogram_afte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EC88-E867-4355-9176-0CEF5AE65E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ence Post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some posts and some beams to connect the posts, build a fence that is X fenceposts lo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06440" y="62485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ence_pos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1B8-A737-4539-A1CC-F7987D6289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signing Students to Grou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a for loop and the modulo (%)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D53-A53E-4700-956C-0D42F2488D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ODO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“Why You Can’t Cite Wikipedia in My Class” for Frida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BE47-D44F-4A3B-A13B-60255DA142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-like Review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you want to use functions or constants that are defined in a module, what type of statement do you us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module_example.py, when we computed e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20202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+ 1, the answer wasn’t 0.  Why?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EB4-C318-488A-992B-14019CEEF0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the output from the program easy for user to read, understa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str() construc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specifi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formatting options for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ntrol over how output is displayed to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ight, center, left justific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umber of decimals to displa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275B-E738-41CC-BB10-BA9F5EDDC4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lution: using str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: str() is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nstructor/conver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unction to convert other data types to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(33) </a:t>
            </a:r>
            <a:r>
              <a:rPr b="0" lang="en-US" sz="2800" spc="-1" strike="noStrike">
                <a:solidFill>
                  <a:srgbClr val="0101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‘33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when printing output with th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i.e., concatenation)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 + str(x)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7E5-E02A-4097-9D0F-60E18C4C1F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ag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0: zero fil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600"/>
                </a:solidFill>
                <a:latin typeface="Arial"/>
              </a:rPr>
              <a:t>+: include a sign before positive integer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-: left-justific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Minimum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number of character spaces reserved to display the entire valu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cludes decimal point, digits before and after the decimal point and the sig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838080"/>
            <a:ext cx="24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[]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mean “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optiona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F81D-DA73-4868-B5F0-FBFB2E6B8E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cision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75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Number of digits after the decimal point for </a:t>
            </a:r>
            <a:r>
              <a:rPr b="1" lang="en-US" sz="27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27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d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For the value’s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 -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 (or i) - integ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 - floating poi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 - floating point with expone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00FB-AC44-4983-AD49-416DBFEFC7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ic format i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templatestring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%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(&lt;value1&gt;, &lt;value2&gt;, …, &lt;valuen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emplate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template for the print statement with format specifiers instead of the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ach format specifier in templatestring, should have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row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TypeErr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f not enough replacements for specifiers in template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If only one replacement value, don’t need ()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876920" y="1371600"/>
            <a:ext cx="9144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2880" y="22096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6629040" y="609480"/>
            <a:ext cx="381240" cy="3124080"/>
          </a:xfrm>
          <a:custGeom>
            <a:avLst/>
            <a:gdLst>
              <a:gd name="textAreaLeft" fmla="*/ 0 w 381240"/>
              <a:gd name="textAreaRight" fmla="*/ 137520 w 38124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715C-FB61-4C21-94F4-01509CD284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38858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Fills decimal with 0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s entire value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For more info: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http://docs.python.org/lib/typesseq-strings.html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0" y="6245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ormat_specifier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894-9127-433A-A478-A87CFEDA28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output from xrange_analysis.py nic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045-229F-4FCF-9040-E4A44A765E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5T02:42:01Z</dcterms:modified>
  <cp:revision>312</cp:revision>
  <dc:subject/>
  <dc:title>PowerPoint Presentation</dc:title>
</cp:coreProperties>
</file>