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4010-0F97-471D-8EBB-22273FA33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1CED-91F7-4E0A-BE78-21E15BC7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4921-F8EA-419F-8604-E39615959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9778-D996-4660-AF6F-5405DEBEF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D6A34-AC8F-423F-8E2F-9D14E5B4F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FE057-4CDD-4633-8929-1A4C34CC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62F7A-5DDC-47CF-B704-692B20AD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658C2-5E8D-41E6-A3AE-D170C4DC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6D268B-7946-49C4-A8B8-4E9985B5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ED1D1-1DA9-4257-810C-FF42EB1D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981F9-ED77-490D-8D33-76E82E7C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E406-00EF-4A53-A71D-7C855536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0D558A-A22F-4A33-AD32-F2854FE4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95DA40-C56A-498F-811A-0F482F7B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B8931-B374-4D52-AD87-AD122770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350750-F4DC-4357-AFBD-3FEBB6D6B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E987E4-24B2-474B-8A11-C29A7E3C8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E622-9FBF-48B1-B829-3B103DCA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716F-7BB3-4F3B-92AC-95CD937E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0990-998A-4B56-9240-EE87B5F5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023F-0E13-4AF0-8DAD-E1E02848D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B3A8-7588-4B98-8DA0-EBF8BBFE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3767-D13A-4FD4-B604-7E939D07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5B89-830F-4995-811A-AFF4F014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17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4A37-B61B-49C7-A2FF-55B507E475C9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E696-AB94-40BD-A187-13B1911C7C2A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gram Organiza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troduction to Objec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orking with text fil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A64B-0772-4979-897A-600FF9E9712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i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ceptually, a file is a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sequenc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data stored in memor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 use a file in a Python script, create an object of type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fi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varname&gt; = file(&lt;filename&gt;,&lt;mode&gt;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&lt;filename&gt; : string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&lt;mode&gt; : string, either “r” for read or “w” for writ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dataFile = file( “years.dat”, “r”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89400" y="2971800"/>
            <a:ext cx="398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Known as the 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construct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 “constructs” a file objec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580920" y="3429000"/>
            <a:ext cx="838440" cy="5335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DBB3-A4BC-478F-93A0-57A5781758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on File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04920" y="1523880"/>
          <a:ext cx="8610480" cy="4141800"/>
        </p:xfrm>
        <a:graphic>
          <a:graphicData uri="http://schemas.openxmlformats.org/drawingml/2006/table">
            <a:tbl>
              <a:tblPr/>
              <a:tblGrid>
                <a:gridCol w="1981080"/>
                <a:gridCol w="66294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ethod Nam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unctionality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(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 the entire content from the file, returned as a string object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line(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 one line from the file, returned as a string object (which includes the “\n”).  If it returns “”, then you’ve reached the end of the file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write(str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Write a string to the file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lose(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lose the file. 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ust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close the file after done reading from/writing to a file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BDB4-BB93-4F7E-9CE2-8D84F50C4E0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ading from a Fi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 of reading from a file using file method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how file: data/years.da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le_read.py (using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read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()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is what Python printed different than the file’s content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to fix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le_read2.py (using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readlin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()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1752480"/>
            <a:ext cx="3787560" cy="1557000"/>
            <a:chOff x="5105520" y="1752480"/>
            <a:chExt cx="3787560" cy="1557000"/>
          </a:xfrm>
        </p:grpSpPr>
        <p:sp>
          <p:nvSpPr>
            <p:cNvPr id="132" name=""/>
            <p:cNvSpPr/>
            <p:nvPr/>
          </p:nvSpPr>
          <p:spPr>
            <a:xfrm>
              <a:off x="5638680" y="1752480"/>
              <a:ext cx="32544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600"/>
                  </a:solidFill>
                  <a:latin typeface="Tahoma"/>
                </a:rPr>
                <a:t>Typically use </a:t>
              </a:r>
              <a:r>
                <a:rPr b="0" lang="en-US" sz="2400" spc="-1" strike="noStrike">
                  <a:solidFill>
                    <a:srgbClr val="020202"/>
                  </a:solidFill>
                  <a:latin typeface="Tahoma"/>
                </a:rPr>
                <a:t>.dat</a:t>
              </a:r>
              <a:r>
                <a:rPr b="0" lang="en-US" sz="2400" spc="-1" strike="noStrike">
                  <a:solidFill>
                    <a:srgbClr val="00c600"/>
                  </a:solidFill>
                  <a:latin typeface="Tahoma"/>
                </a:rPr>
                <a:t> or </a:t>
              </a:r>
              <a:r>
                <a:rPr b="0" lang="en-US" sz="2400" spc="-1" strike="noStrike">
                  <a:solidFill>
                    <a:srgbClr val="020202"/>
                  </a:solidFill>
                  <a:latin typeface="Tahoma"/>
                </a:rPr>
                <a:t>.txt</a:t>
              </a:r>
              <a:r>
                <a:rPr b="0" lang="en-US" sz="2400" spc="-1" strike="noStrike">
                  <a:solidFill>
                    <a:srgbClr val="00c600"/>
                  </a:solidFill>
                  <a:latin typeface="Tahoma"/>
                </a:rPr>
                <a:t> file extension for these types of data/text files 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5105520" y="2514240"/>
              <a:ext cx="914400" cy="22860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73C4-8572-4F3D-BE20-EA5CC2739D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ading from a Fi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call that a file is a </a:t>
            </a:r>
            <a:r>
              <a:rPr b="1" i="1" lang="en-US" sz="3200" spc="-1" strike="noStrike">
                <a:solidFill>
                  <a:srgbClr val="00c600"/>
                </a:solidFill>
                <a:latin typeface="Arial"/>
              </a:rPr>
              <a:t>sequenc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dat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n use a </a:t>
            </a: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 to iterate through a fi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ad as: for each line in the file, do someth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35040" y="632160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ile_read3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89320" y="4202280"/>
            <a:ext cx="333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for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line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ataFile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int line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280" y="2971800"/>
            <a:ext cx="29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 line (of type 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string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) from the fil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13800" y="3094200"/>
            <a:ext cx="15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ile objec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038120" y="3475080"/>
            <a:ext cx="762120" cy="7621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7400" y="3780000"/>
            <a:ext cx="457200" cy="53316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367D-AC12-48A5-90CF-F4D6F8AEC1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: Searching a Fi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want to search a file for some term.  We want to know which lines of the file contain that term and a count of the number of lines that contained that ter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B195-63FD-4725-ACF4-2856D8E9B3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: Searching a Fi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s time, we want to ignore all lines that begin with “#” (a.k.a., the line is a comment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y would we have comments in a data file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data/years2.da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can we revise the previous solution to do this?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59F3-0C97-4BAB-841F-2A2DD272A4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Handling Numeric Data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have been dealing with reading and writing strings so fa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do we need to do to read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number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from a fil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can we write numbers to a fil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0B48-3A47-4732-8467-87ECE46A4A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riting to a Fi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reate a file object in write mod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myFile = file(“years.txt”, “w”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 create a file from user inp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ile_write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at happens if execute the program again with different user input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04760" y="6345360"/>
            <a:ext cx="1843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59E9-393C-4BCF-9F72-EB55CAEC67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i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ceptually, a file is a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sequenc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data stored in memor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 use a file in a Python script, create an object of type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fi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varname&gt; = file(&lt;filename&gt;,&lt;mode&gt;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&lt;filename&gt; : string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&lt;mode&gt; : string, either “r” for read or “w” for writ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dataFile = file( “temps.dat”, “r”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89400" y="2971800"/>
            <a:ext cx="398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Known as the 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construct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 “constructs” a file objec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580920" y="3429000"/>
            <a:ext cx="838440" cy="5335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58B5-A0CB-4DCD-B312-3B0461F2E1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on File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04920" y="1523880"/>
          <a:ext cx="8610480" cy="4141800"/>
        </p:xfrm>
        <a:graphic>
          <a:graphicData uri="http://schemas.openxmlformats.org/drawingml/2006/table">
            <a:tbl>
              <a:tblPr/>
              <a:tblGrid>
                <a:gridCol w="1981080"/>
                <a:gridCol w="66294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ethod Nam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unctionality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(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 the entire content from the file, returned as a string object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line(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 one line from the file, returned as a string object (which includes the “\n”).  If it returns “”, then you’ve reached the end of the file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write(str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Write a string to the file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lose(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lose the file. 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ust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close the file after done reading from/writing to a file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B482-EBDF-40A1-A5F0-103D9E1B877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 Organiz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Larger programs require functions to maintain readability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Use main() and other functions to break up your program into smaller, more manageable chunk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Abstract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away” the detail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As before, you can still write smaller scripts without any function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an try out functions using smaller script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Need the main() function when using other functions to keep “driver” at top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Otherwise, functions need to be defined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before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us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63F3-5F4A-4EAB-A55D-5C71E9FFFE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ading from a Fi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call that a file is a </a:t>
            </a:r>
            <a:r>
              <a:rPr b="1" i="1" lang="en-US" sz="3200" spc="-1" strike="noStrike">
                <a:solidFill>
                  <a:srgbClr val="00c600"/>
                </a:solidFill>
                <a:latin typeface="Arial"/>
              </a:rPr>
              <a:t>sequenc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dat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n use a </a:t>
            </a: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 to iterate through a fi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ad as: for each line in the file, do someth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35040" y="632160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ile_read3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89320" y="3973680"/>
            <a:ext cx="333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for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line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ataFile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int line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2743200"/>
            <a:ext cx="29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 line (of type 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string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) from the fil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13800" y="2865600"/>
            <a:ext cx="15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ile objec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038120" y="3246480"/>
            <a:ext cx="762120" cy="7621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3551400"/>
            <a:ext cx="457200" cy="53316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90AF-42A6-4F27-B95B-8A52363AAF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dditional Useful String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04920" y="963720"/>
          <a:ext cx="8458200" cy="5387760"/>
        </p:xfrm>
        <a:graphic>
          <a:graphicData uri="http://schemas.openxmlformats.org/drawingml/2006/table">
            <a:tbl>
              <a:tblPr/>
              <a:tblGrid>
                <a:gridCol w="2971800"/>
                <a:gridCol w="5486400"/>
              </a:tblGrid>
              <a:tr h="56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ethod Nam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unctionality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ip([chars])</a:t>
                      </a:r>
                      <a:endParaRPr b="0" lang="en-US" sz="23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a copy of the string with the leading and trailing characters removed.  Defaults to whitespace if no characters specified.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plit()</a:t>
                      </a:r>
                      <a:endParaRPr b="0" lang="en-US" sz="23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a </a:t>
                      </a:r>
                      <a:r>
                        <a:rPr b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ist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of words in the string--stripping whitespace from beginning and end and using whitespace characters as the delimiter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plit(</a:t>
                      </a:r>
                      <a:r>
                        <a:rPr b="0" i="1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ep</a:t>
                      </a:r>
                      <a:r>
                        <a:rPr b="0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a </a:t>
                      </a:r>
                      <a:r>
                        <a:rPr b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ist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of words in the string, using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ep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as the </a:t>
                      </a:r>
                      <a:r>
                        <a:rPr b="0" lang="en-US" sz="2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delimiter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string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nd(</a:t>
                      </a:r>
                      <a:r>
                        <a:rPr b="0" i="1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ub</a:t>
                      </a:r>
                      <a:r>
                        <a:rPr b="0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[,start[,end]])</a:t>
                      </a:r>
                      <a:endParaRPr b="0" lang="en-US" sz="23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lowest index in the string where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ub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s found.  Return -1 if not found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place(old, new)</a:t>
                      </a:r>
                      <a:endParaRPr b="0" lang="en-US" sz="23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copy of string with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old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replaced with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new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6562-D2ED-4672-90FB-F4718EA3622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ming Paradigm: Imperativ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st modern programming languages are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imperativ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ave 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data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(numbers and strings in variables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erform 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operation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n data using operations, such as + (addition and concatenation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ata and operations are separat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dd to imperative: object-oriented programm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150E-B23D-4E47-B1C2-A73A8D82B4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-Oriented Programm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gram is a collection of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objec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bjects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combin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data and methods togeth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bjects interact by invoking methods on other objec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ethods perform some operation on objec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8601-C0DB-40E3-B8B7-87D19952D7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-Oriented Programm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’ve been using objects and method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Just didn’t call them objec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example: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string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s a data type (or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clas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e created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object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of type (</a:t>
            </a:r>
            <a:r>
              <a:rPr b="0" i="1" lang="en-US" sz="2800" spc="-1" strike="noStrike">
                <a:solidFill>
                  <a:srgbClr val="010199"/>
                </a:solidFill>
                <a:latin typeface="Arial"/>
              </a:rPr>
              <a:t>clas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r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animal = “cow”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sound = “moo”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029200"/>
            <a:ext cx="2895480" cy="1066680"/>
          </a:xfrm>
          <a:prstGeom prst="rect">
            <a:avLst/>
          </a:pr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nimal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“cow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ound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“moo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5410080"/>
            <a:ext cx="68580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5867280"/>
            <a:ext cx="68580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70800" y="4568760"/>
            <a:ext cx="13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77120" y="51148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Objects</a:t>
            </a: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 of type str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257800" y="5562720"/>
            <a:ext cx="1371600" cy="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2760" y="4975200"/>
            <a:ext cx="161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Variable names/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identifier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5562720"/>
            <a:ext cx="838440" cy="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6620-5CB3-4392-A152-A0FE2009A6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-Oriented Programm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string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99ff"/>
                </a:solidFill>
                <a:latin typeface="Arial"/>
              </a:rPr>
              <a:t>clas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defined methods that you can use on objects of </a:t>
            </a:r>
            <a:r>
              <a:rPr b="1" lang="en-US" sz="3200" spc="-1" strike="noStrike">
                <a:solidFill>
                  <a:srgbClr val="6699ff"/>
                </a:solidFill>
                <a:latin typeface="Arial"/>
              </a:rPr>
              <a:t>typ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 methods: lower, replace, find, 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ethods are similar to functions but </a:t>
            </a:r>
            <a:r>
              <a:rPr b="0" i="1" lang="en-US" sz="3200" spc="-1" strike="noStrike">
                <a:solidFill>
                  <a:srgbClr val="020202"/>
                </a:solidFill>
                <a:latin typeface="Arial"/>
              </a:rPr>
              <a:t>called/used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differently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bjectname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ethodname([parameters]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s: animal.upper(), sound.center(10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day: new </a:t>
            </a:r>
            <a:r>
              <a:rPr b="1" lang="en-US" sz="3200" spc="-1" strike="noStrike">
                <a:solidFill>
                  <a:srgbClr val="6699ff"/>
                </a:solidFill>
                <a:latin typeface="Arial"/>
              </a:rPr>
              <a:t>clas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with its own method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0642-5C1D-43FA-B1F6-75F007AB40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ources of Input to Progra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r inp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low if need to enter a lot of dat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rror-pron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User enters the wrong value!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at if want to run again after program gets modified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E461-C984-4FD0-B0AC-97445C4242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ources of Input to Progra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ext fil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nter data once into a file, save it, and reuse it in your program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ood for large amounts of dat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ograms can use files to communicat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eed to be able to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read from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write to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fil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4800600"/>
            <a:ext cx="1600200" cy="990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dit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4876920"/>
            <a:ext cx="1600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pyth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9880" y="4724280"/>
            <a:ext cx="1219320" cy="1143000"/>
          </a:xfrm>
          <a:prstGeom prst="foldedCorner">
            <a:avLst>
              <a:gd name="adj" fmla="val 12500"/>
            </a:avLst>
          </a:prstGeom>
          <a:noFill/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yth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scrip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6" idx="3"/>
            <a:endCxn id="108" idx="1"/>
          </p:cNvCxnSpPr>
          <p:nvPr/>
        </p:nvCxnSpPr>
        <p:spPr>
          <a:xfrm>
            <a:off x="2228400" y="5295600"/>
            <a:ext cx="1562760" cy="1080"/>
          </a:xfrm>
          <a:prstGeom prst="straightConnector1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3"/>
            <a:endCxn id="107" idx="1"/>
          </p:cNvCxnSpPr>
          <p:nvPr/>
        </p:nvCxnSpPr>
        <p:spPr>
          <a:xfrm>
            <a:off x="5047920" y="5295600"/>
            <a:ext cx="1639080" cy="1080"/>
          </a:xfrm>
          <a:prstGeom prst="straightConnector1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3733920" y="5864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1682-6646-43D1-BBBA-CE3CA25499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ore on Use of Fi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2050920"/>
            <a:ext cx="1600200" cy="990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dit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4257720"/>
            <a:ext cx="167616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Web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05320" y="1974960"/>
            <a:ext cx="1218960" cy="1143000"/>
          </a:xfrm>
          <a:prstGeom prst="foldedCorner">
            <a:avLst>
              <a:gd name="adj" fmla="val 12500"/>
            </a:avLst>
          </a:prstGeom>
          <a:noFill/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HTM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3" idx="3"/>
            <a:endCxn id="115" idx="1"/>
          </p:cNvCxnSpPr>
          <p:nvPr/>
        </p:nvCxnSpPr>
        <p:spPr>
          <a:xfrm>
            <a:off x="1923840" y="2545920"/>
            <a:ext cx="1562760" cy="1080"/>
          </a:xfrm>
          <a:prstGeom prst="straightConnector1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5" idx="2"/>
            <a:endCxn id="114" idx="0"/>
          </p:cNvCxnSpPr>
          <p:nvPr/>
        </p:nvCxnSpPr>
        <p:spPr>
          <a:xfrm>
            <a:off x="4114440" y="3137040"/>
            <a:ext cx="1080" cy="1102320"/>
          </a:xfrm>
          <a:prstGeom prst="straightConnector1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3200400" y="10666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Web Page (Text File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4257720"/>
            <a:ext cx="1600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Web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Brows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4" idx="3"/>
            <a:endCxn id="119" idx="1"/>
          </p:cNvCxnSpPr>
          <p:nvPr/>
        </p:nvCxnSpPr>
        <p:spPr>
          <a:xfrm>
            <a:off x="4971960" y="4676400"/>
            <a:ext cx="1410480" cy="1080"/>
          </a:xfrm>
          <a:prstGeom prst="straightConnector1">
            <a:avLst/>
          </a:prstGeom>
          <a:ln w="38160">
            <a:solidFill>
              <a:srgbClr val="02020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6564600" y="367812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Firefo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22840" y="5288040"/>
            <a:ext cx="306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nders” web page for us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21A9-B852-4027-8A86-E0F1187DDB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10-17T21:27:22Z</cp:lastPrinted>
  <dcterms:modified xsi:type="dcterms:W3CDTF">2007-10-17T21:59:52Z</dcterms:modified>
  <cp:revision>1804</cp:revision>
  <dc:subject/>
  <dc:title>PowerPoint Presentation</dc:title>
</cp:coreProperties>
</file>