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4B3-17D5-4C7D-86A4-BC46C4B3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51B-A42A-4E59-964A-CFE5F245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EE0-91D6-4D44-9BA5-BAD5430A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47C-500C-4D23-8A41-32396E82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72C-39B0-482A-907F-5BC1C91B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847-4103-4C32-A120-4CB16E4E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079-E0F5-48F3-9794-643A6281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C31-9F6B-4692-A7E2-6661DCBD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D74-A6C3-4FC0-9A70-CF448E90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A2A-2C2B-4247-80B2-BDD1530B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EE1-691B-40C6-A23A-3AB8BC0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46C-2DBA-4573-A936-AA4666AD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6CF0-D09A-423B-BE86-0546E1F41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077320" cy="4419720"/>
          </a:xfrm>
          <a:prstGeom prst="rightArrow">
            <a:avLst>
              <a:gd name="adj1" fmla="val 50000"/>
              <a:gd name="adj2" fmla="val 45689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56:27Z</dcterms:created>
  <dc:creator>Sara Sprenkle</dc:creator>
  <dc:description/>
  <dc:language>en-US</dc:language>
  <cp:lastModifiedBy>Sara Sprenkle</cp:lastModifiedBy>
  <cp:lastPrinted>2007-10-22T15:56:42Z</cp:lastPrinted>
  <dcterms:modified xsi:type="dcterms:W3CDTF">2007-10-22T15:57:07Z</dcterms:modified>
  <cp:revision>1</cp:revision>
  <dc:subject/>
  <dc:title>PowerPoint Presentation</dc:title>
</cp:coreProperties>
</file>