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720C-14E8-4780-B009-A7CCA7658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D806-2336-4738-BD2E-8766F06BD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D80E-CE63-479E-BF19-FE011C81B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7984-EE04-47D8-8FAA-D84A46ED4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C322BB-6D26-46A9-8621-E43AB0E60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B7D0A8-C781-4EDF-94D0-CC61030BB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CEC759-488E-4C43-A4AE-F7E984BEE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0F8696-BC1E-43C3-B57F-3E363333C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52F9D9-5056-4224-A87C-250BC9C4E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431AD7-1D0F-4D10-AD28-E39267B63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3CFBFF-AA4D-4C02-879B-5B715E5A5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C47E-915D-46A8-86B6-0C97D355D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9B34C0-1CB7-40EF-9B9B-96EAC80C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2C3DB4-6158-465F-BF40-9C2BA6656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FC5752-AB6F-4E33-80BE-90FB99503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2A9BA2-0EEA-4F66-9C7E-E28D5C72D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7E2AE3-94C0-4846-99E1-816F7C4D0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2CEE-4E4A-47C5-9B0E-AA7C5D0BC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CBC0-FA76-4BF0-9DC2-8E9143166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80FB-8075-44A1-BE2E-9912BDF08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C4BF-FA18-437A-9972-3E7ABBE81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A8C1-2AF8-46EE-A84D-F253416DC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33CB-24F4-4F77-B02F-9A05091A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E7B0-0039-4936-A5D6-F730B065C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ep 14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D8C8C-D67A-4C66-8845-EF31364DA608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A6CEC-2FDB-431E-9FD8-D3AC3E7A8C75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view: Linux, documentation, programm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ore on programming in Pyth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oftware development practic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est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ebugg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tera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82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Debugging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8240" cy="22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Edit the program, re-execute/test until everything work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The error is often called a “bug”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Diagnosing and fixing it is called </a:t>
            </a:r>
            <a:r>
              <a:rPr b="1" lang="en-GB" sz="3200" spc="-1" strike="noStrike">
                <a:solidFill>
                  <a:srgbClr val="020202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29000" y="5257800"/>
            <a:ext cx="2057400" cy="990720"/>
          </a:xfrm>
          <a:prstGeom prst="flowChartAlternateProcess">
            <a:avLst/>
          </a:prstGeom>
          <a:solidFill>
            <a:srgbClr val="ff99cc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Interpreter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(python)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5181480"/>
            <a:ext cx="1752480" cy="114300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Program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text fil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program.py  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0" y="5257800"/>
            <a:ext cx="1828800" cy="99072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Output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61" name=""/>
          <p:cNvCxnSpPr>
            <a:stCxn id="159" idx="3"/>
            <a:endCxn id="158" idx="1"/>
          </p:cNvCxnSpPr>
          <p:nvPr/>
        </p:nvCxnSpPr>
        <p:spPr>
          <a:xfrm>
            <a:off x="2514600" y="5752800"/>
            <a:ext cx="915120" cy="1080"/>
          </a:xfrm>
          <a:prstGeom prst="straightConnector1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62" name=""/>
          <p:cNvCxnSpPr>
            <a:stCxn id="158" idx="3"/>
            <a:endCxn id="160" idx="1"/>
          </p:cNvCxnSpPr>
          <p:nvPr/>
        </p:nvCxnSpPr>
        <p:spPr>
          <a:xfrm>
            <a:off x="5486400" y="5752800"/>
            <a:ext cx="1372320" cy="1080"/>
          </a:xfrm>
          <a:prstGeom prst="straightConnector1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63" name=""/>
          <p:cNvSpPr/>
          <p:nvPr/>
        </p:nvSpPr>
        <p:spPr>
          <a:xfrm>
            <a:off x="609480" y="3505320"/>
            <a:ext cx="2057400" cy="990360"/>
          </a:xfrm>
          <a:prstGeom prst="rect">
            <a:avLst/>
          </a:prstGeom>
          <a:solidFill>
            <a:srgbClr val="3366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bfa"/>
                </a:solidFill>
                <a:latin typeface="Tahoma"/>
                <a:ea typeface="Luxi Sans"/>
              </a:rPr>
              <a:t>Text Editor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bfa"/>
                </a:solidFill>
                <a:latin typeface="Tahoma"/>
                <a:ea typeface="Luxi Sans"/>
              </a:rPr>
              <a:t>(jEdit)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64" name=""/>
          <p:cNvCxnSpPr>
            <a:stCxn id="163" idx="2"/>
            <a:endCxn id="159" idx="0"/>
          </p:cNvCxnSpPr>
          <p:nvPr/>
        </p:nvCxnSpPr>
        <p:spPr>
          <a:xfrm>
            <a:off x="1638000" y="4495320"/>
            <a:ext cx="1080" cy="686520"/>
          </a:xfrm>
          <a:prstGeom prst="straightConnector1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65" name=""/>
          <p:cNvCxnSpPr>
            <a:stCxn id="158" idx="0"/>
            <a:endCxn id="163" idx="3"/>
          </p:cNvCxnSpPr>
          <p:nvPr/>
        </p:nvCxnSpPr>
        <p:spPr>
          <a:xfrm flipV="1" rot="16200000">
            <a:off x="2933280" y="3733200"/>
            <a:ext cx="1257840" cy="1791720"/>
          </a:xfrm>
          <a:prstGeom prst="bentConnector2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66" name=""/>
          <p:cNvSpPr/>
          <p:nvPr/>
        </p:nvSpPr>
        <p:spPr>
          <a:xfrm>
            <a:off x="5091120" y="3581280"/>
            <a:ext cx="243180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Luxi Sans"/>
              </a:rPr>
              <a:t>ERROR!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Luxi Sans"/>
              </a:rPr>
              <a:t>Identify bug, fix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67" name=""/>
          <p:cNvCxnSpPr>
            <a:stCxn id="160" idx="0"/>
            <a:endCxn id="163" idx="3"/>
          </p:cNvCxnSpPr>
          <p:nvPr/>
        </p:nvCxnSpPr>
        <p:spPr>
          <a:xfrm flipV="1" rot="16200000">
            <a:off x="4590720" y="2075760"/>
            <a:ext cx="1257840" cy="5106240"/>
          </a:xfrm>
          <a:prstGeom prst="bentConnector2">
            <a:avLst/>
          </a:prstGeom>
          <a:ln w="38160">
            <a:solidFill>
              <a:srgbClr val="ff0000"/>
            </a:solidFill>
            <a:miter/>
          </a:ln>
        </p:spPr>
      </p:cxnSp>
      <p:sp>
        <p:nvSpPr>
          <p:cNvPr id="168" name=""/>
          <p:cNvSpPr/>
          <p:nvPr/>
        </p:nvSpPr>
        <p:spPr>
          <a:xfrm>
            <a:off x="5567040" y="6324480"/>
            <a:ext cx="266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debug_practice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F586-E324-49AF-90F1-9F4910EC120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82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Finishing Up Wednesday’s Practi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8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Average three number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614640" y="6324480"/>
            <a:ext cx="168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average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7FB7-8868-4236-A783-7F450379897D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Good Development Practic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esign the algorith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Break into pieces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mplement and Test each piece separatel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dentify the best pieces to make progres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terate over each step to improve i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rite comments FIRST for each step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laborate on what you’re doing in comments when necessar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82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Review: Numeric Primitive Typ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52280" y="1143000"/>
          <a:ext cx="8686800" cy="4245120"/>
        </p:xfrm>
        <a:graphic>
          <a:graphicData uri="http://schemas.openxmlformats.org/drawingml/2006/table">
            <a:tbl>
              <a:tblPr/>
              <a:tblGrid>
                <a:gridCol w="1828800"/>
                <a:gridCol w="2362320"/>
                <a:gridCol w="4495680"/>
              </a:tblGrid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Data Type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Description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xamples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10199"/>
                          </a:solidFill>
                          <a:latin typeface="Courier New"/>
                        </a:rPr>
                        <a:t>int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Plain integers (32-bit precision)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-214, -2, 0, 2, 100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ange: -2</a:t>
                      </a:r>
                      <a:r>
                        <a:rPr b="0" lang="en-GB" sz="24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31</a:t>
                      </a:r>
                      <a:r>
                        <a:rPr b="0" lang="en-GB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to 2</a:t>
                      </a:r>
                      <a:r>
                        <a:rPr b="0" lang="en-GB" sz="24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31</a:t>
                      </a:r>
                      <a:r>
                        <a:rPr b="0" lang="en-GB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-1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10199"/>
                          </a:solidFill>
                          <a:latin typeface="Courier New"/>
                        </a:rPr>
                        <a:t>float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14480"/>
                          <a:tab algn="l" pos="228600"/>
                          <a:tab algn="l" pos="343080"/>
                          <a:tab algn="l" pos="457200"/>
                          <a:tab algn="l" pos="571680"/>
                          <a:tab algn="l" pos="685800"/>
                          <a:tab algn="l" pos="800280"/>
                          <a:tab algn="l" pos="914400"/>
                          <a:tab algn="l" pos="1028880"/>
                          <a:tab algn="l" pos="1143000"/>
                          <a:tab algn="l" pos="1257480"/>
                          <a:tab algn="l" pos="1371600"/>
                          <a:tab algn="l" pos="1486080"/>
                          <a:tab algn="l" pos="1600200"/>
                          <a:tab algn="l" pos="1714680"/>
                          <a:tab algn="l" pos="1828800"/>
                          <a:tab algn="l" pos="1943280"/>
                          <a:tab algn="l" pos="2057400"/>
                          <a:tab algn="l" pos="2171880"/>
                          <a:tab algn="l" pos="22860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al numbers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.001, -1.234, 1000.1, 0.00, 2.45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Courier New"/>
                        </a:rPr>
                        <a:t>long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Bigger integers (neg or pos, precision limited by computer memory)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147483648</a:t>
                      </a:r>
                      <a:r>
                        <a:rPr b="0" lang="en-US" sz="2400" spc="-1" strike="noStrike">
                          <a:solidFill>
                            <a:srgbClr val="00b000"/>
                          </a:solidFill>
                          <a:latin typeface="Arial"/>
                        </a:rPr>
                        <a:t>L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Courier New"/>
                        </a:rPr>
                        <a:t>complex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Imaginary numbers (have real and imaginary part)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0b000"/>
                          </a:solidFill>
                          <a:latin typeface="Arial"/>
                        </a:rPr>
                        <a:t>j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* 1</a:t>
                      </a:r>
                      <a:r>
                        <a:rPr b="0" lang="en-US" sz="2400" spc="-1" strike="noStrike">
                          <a:solidFill>
                            <a:srgbClr val="00b000"/>
                          </a:solidFill>
                          <a:latin typeface="Arial"/>
                        </a:rPr>
                        <a:t>J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--&gt; (-1+0</a:t>
                      </a:r>
                      <a:r>
                        <a:rPr b="0" lang="en-US" sz="2400" spc="-1" strike="noStrike">
                          <a:solidFill>
                            <a:srgbClr val="00b000"/>
                          </a:solidFill>
                          <a:latin typeface="Arial"/>
                        </a:rPr>
                        <a:t>j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57C1-6E5E-4D3E-90E1-6348786E7FF4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56680"/>
            <a:ext cx="868824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Strings: </a:t>
            </a:r>
            <a:r>
              <a:rPr b="1" lang="en-GB" sz="4000" spc="-1" strike="noStrike">
                <a:solidFill>
                  <a:srgbClr val="2017b8"/>
                </a:solidFill>
                <a:latin typeface="Courier New"/>
              </a:rPr>
              <a:t>st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8240" cy="41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55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Used for tex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1280" indent="-341280">
              <a:spcBef>
                <a:spcPts val="55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Indicated by double quotes “” or single quotes ‘’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spcBef>
                <a:spcPts val="55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In general, I’ll use double quot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spcBef>
                <a:spcPts val="55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Empty string: “” or ‘’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1280" indent="-341280">
              <a:spcBef>
                <a:spcPts val="55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Use triple quotes </a:t>
            </a:r>
            <a:r>
              <a:rPr b="0" lang="en-US" sz="2400" spc="-1" strike="noStrike">
                <a:solidFill>
                  <a:srgbClr val="00b000"/>
                </a:solidFill>
                <a:latin typeface="Geneva CY"/>
              </a:rPr>
              <a:t>”””</a:t>
            </a: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 for strings that go across multiple lin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0">
              <a:spcBef>
                <a:spcPts val="55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948320" y="4800600"/>
            <a:ext cx="271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Geneva CY"/>
              </a:rPr>
              <a:t>“““</a:t>
            </a: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This string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is long.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Like, really long </a:t>
            </a:r>
            <a:r>
              <a:rPr b="0" lang="en-US" sz="2400" spc="-1" strike="noStrike">
                <a:solidFill>
                  <a:srgbClr val="00b000"/>
                </a:solidFill>
                <a:latin typeface="Geneva CY"/>
              </a:rPr>
              <a:t>””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1B2C-9D5C-493D-B67B-9B8EA4C0C49C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8240" cy="10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Printing Outpu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686800" cy="42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20202"/>
                </a:solidFill>
                <a:latin typeface="Arial"/>
              </a:rPr>
              <a:t>prin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84080" indent="-3312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Simple statemen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81520" indent="-28296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20202"/>
                </a:solidFill>
                <a:latin typeface="Arial"/>
              </a:rPr>
              <a:t>_not_ a function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84080" indent="-3312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Displays the result of expression(s) to the terminal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print “Hello, class”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print “Your answer is”, answ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rot="16200000">
            <a:off x="2438280" y="3284280"/>
            <a:ext cx="380880" cy="2210040"/>
          </a:xfrm>
          <a:custGeom>
            <a:avLst/>
            <a:gdLst>
              <a:gd name="textAreaLeft" fmla="*/ 243360 w 380880"/>
              <a:gd name="textAreaRight" fmla="*/ 381240 w 380880"/>
              <a:gd name="textAreaTop" fmla="*/ 57600 h 2210040"/>
              <a:gd name="textAreaBottom" fmla="*/ 2152440 h 221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661040" y="4540320"/>
            <a:ext cx="19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10199"/>
                </a:solidFill>
                <a:latin typeface="Tahoma"/>
                <a:ea typeface="Luxi Sans"/>
              </a:rPr>
              <a:t>string literal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95680" y="3781440"/>
            <a:ext cx="457200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cc"/>
                </a:solidFill>
                <a:latin typeface="Arial"/>
              </a:rPr>
              <a:t>print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 automatically adds a ‘\n’ (carriage return) after it’s printed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3886200" y="4162320"/>
            <a:ext cx="838080" cy="0"/>
          </a:xfrm>
          <a:prstGeom prst="line">
            <a:avLst/>
          </a:prstGeom>
          <a:ln w="3168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3657600" y="5381280"/>
            <a:ext cx="838080" cy="685800"/>
          </a:xfrm>
          <a:prstGeom prst="line">
            <a:avLst/>
          </a:prstGeom>
          <a:ln w="3168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66680" y="5442120"/>
            <a:ext cx="289584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Use commas to print multiple “things” in one line 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261040" y="4543560"/>
            <a:ext cx="26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Unless ends with ,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7680" y="624852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demo_str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7622-C562-43C5-800F-8FAB16421B4A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82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Escape Sequenc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8240" cy="37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Escape Sequenc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newline character (carriage return) -&gt; </a:t>
            </a:r>
            <a:r>
              <a:rPr b="0" lang="en-GB" sz="2800" spc="-1" strike="noStrike">
                <a:solidFill>
                  <a:srgbClr val="00b000"/>
                </a:solidFill>
                <a:latin typeface="Arial"/>
              </a:rPr>
              <a:t>\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tab -&gt; </a:t>
            </a:r>
            <a:r>
              <a:rPr b="0" lang="en-GB" sz="2800" spc="-1" strike="noStrike">
                <a:solidFill>
                  <a:srgbClr val="00b000"/>
                </a:solidFill>
                <a:latin typeface="Arial"/>
              </a:rPr>
              <a:t>\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quote -&gt; </a:t>
            </a:r>
            <a:r>
              <a:rPr b="0" lang="en-GB" sz="2800" spc="-1" strike="noStrike">
                <a:solidFill>
                  <a:srgbClr val="00b000"/>
                </a:solidFill>
                <a:latin typeface="Arial"/>
              </a:rPr>
              <a:t>\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backslash -&gt; </a:t>
            </a:r>
            <a:r>
              <a:rPr b="0" lang="en-GB" sz="2800" spc="-1" strike="noStrike">
                <a:solidFill>
                  <a:srgbClr val="00b000"/>
                </a:solidFill>
                <a:latin typeface="Arial"/>
              </a:rPr>
              <a:t>\\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print “To print a \\, you must use \”\\\\\”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B812-F622-4705-A893-AB8A21188D0B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82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Practi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8240" cy="11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Print </a:t>
            </a:r>
            <a:r>
              <a:rPr b="0" lang="en-GB" sz="3200" spc="-1" strike="noStrike">
                <a:solidFill>
                  <a:srgbClr val="010199"/>
                </a:solidFill>
                <a:latin typeface="Arial"/>
              </a:rPr>
              <a:t>To print a tab, you must use ‘\t’.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Print </a:t>
            </a:r>
            <a:r>
              <a:rPr b="0" lang="en-GB" sz="3200" spc="-1" strike="noStrike">
                <a:solidFill>
                  <a:srgbClr val="010199"/>
                </a:solidFill>
                <a:latin typeface="Arial"/>
              </a:rPr>
              <a:t>I said, ”How are you?”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550840" y="5983200"/>
            <a:ext cx="28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escape_practice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0CF2-EE7D-4765-B215-27104607849B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Getting Input From Use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20202"/>
                </a:solidFill>
                <a:latin typeface="Courier New"/>
              </a:rPr>
              <a:t>input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020202"/>
                </a:solidFill>
                <a:latin typeface="Courier New"/>
              </a:rPr>
              <a:t>raw_input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are function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ompts user for input, gets the user’s inpu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99"/>
                </a:solidFill>
                <a:latin typeface="Courier New"/>
              </a:rPr>
              <a:t>input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: for number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99"/>
                </a:solidFill>
                <a:latin typeface="Courier New"/>
              </a:rPr>
              <a:t>raw_input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: for string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ypically used in assignmen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idth = input(“Enter the width: “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 execution, terminal display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nter the width: 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Assigns </a:t>
            </a:r>
            <a:r>
              <a:rPr b="0" lang="en-US" sz="2800" spc="-1" strike="noStrike">
                <a:solidFill>
                  <a:srgbClr val="010199"/>
                </a:solidFill>
                <a:latin typeface="Courier New"/>
              </a:rPr>
              <a:t>width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the value the user enter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rot="16200000">
            <a:off x="4305240" y="2247840"/>
            <a:ext cx="609840" cy="2819520"/>
          </a:xfrm>
          <a:custGeom>
            <a:avLst/>
            <a:gdLst>
              <a:gd name="textAreaLeft" fmla="*/ 0 w 609840"/>
              <a:gd name="textAreaRight" fmla="*/ 220320 w 60984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98640" y="3048120"/>
            <a:ext cx="355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Prompt displayed to use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Getting Input from Use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color = raw_input(“What is your favorite color? ”)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83760" y="2590920"/>
            <a:ext cx="541584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&gt; python input_demo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What is your favorite color? </a:t>
            </a:r>
            <a:r>
              <a:rPr b="0" lang="en-US" sz="2400" spc="-1" strike="noStrike">
                <a:solidFill>
                  <a:srgbClr val="6699ff"/>
                </a:solidFill>
                <a:latin typeface="Arial"/>
              </a:rPr>
              <a:t>blu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Cool!  My favorite color is _light_ blue !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4920" y="2514600"/>
            <a:ext cx="6476760" cy="1371600"/>
          </a:xfrm>
          <a:prstGeom prst="rect">
            <a:avLst/>
          </a:prstGeom>
          <a:noFill/>
          <a:ln w="3168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21680" y="1981080"/>
            <a:ext cx="15537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cc"/>
                </a:solidFill>
                <a:latin typeface="Arial"/>
              </a:rPr>
              <a:t>Terminal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rot="5400000">
            <a:off x="4228920" y="2400120"/>
            <a:ext cx="685800" cy="761760"/>
          </a:xfrm>
          <a:custGeom>
            <a:avLst/>
            <a:gdLst>
              <a:gd name="textAreaLeft" fmla="*/ 438120 w 685800"/>
              <a:gd name="textAreaRight" fmla="*/ 686160 w 68580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631"/>
                </a:lnTo>
                <a:cubicBezTo>
                  <a:pt x="10800" y="9531"/>
                  <a:pt x="5400" y="10431"/>
                  <a:pt x="0" y="10431"/>
                </a:cubicBezTo>
                <a:cubicBezTo>
                  <a:pt x="5400" y="10431"/>
                  <a:pt x="10800" y="11331"/>
                  <a:pt x="10800" y="12231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403880" y="1752480"/>
            <a:ext cx="405432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Grabs every character up to the user presses “enter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197800" y="4564080"/>
            <a:ext cx="55479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Assigns variable </a:t>
            </a:r>
            <a:r>
              <a:rPr b="1" lang="en-US" sz="2400" spc="-1" strike="noStrike">
                <a:solidFill>
                  <a:srgbClr val="010199"/>
                </a:solidFill>
                <a:latin typeface="Courier New"/>
              </a:rPr>
              <a:t>color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the user’s inpu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785280" y="609588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input_demo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Review: Linux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ow do you …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isplay the files in a directory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Go into a directory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reate a directory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ind out the current directory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is the syntax for the copy command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is the “abbreviation” for …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he current directory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he parent directory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Broader CS Issu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ood summaries!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Good English, complete sentenc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echanics detail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ost as </a:t>
            </a:r>
            <a:r>
              <a:rPr b="1" lang="en-US" sz="2800" spc="-1" strike="noStrike">
                <a:solidFill>
                  <a:srgbClr val="00b000"/>
                </a:solidFill>
                <a:latin typeface="Arial"/>
              </a:rPr>
              <a:t>comments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to keep the blog a bit more organize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ollow instructions on “CS Issues” about what summary should contai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an edit your own post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ay want to write in a word processor and then copy over to blo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our Problems of Cyberspa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ow many of you knew about MMOGs before reading this article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ow may of you participated in this or something similar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ow many of you read online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inted out my PDF version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inted out the Web page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our Problems of Cyberspa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28600" y="4572000"/>
            <a:ext cx="2743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ya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Oliver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Alysen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Will L.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172200" y="4723920"/>
            <a:ext cx="27432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Laura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Will R.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Matt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429000" y="4724280"/>
            <a:ext cx="190512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Jennifer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Keith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Cathy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" y="1219320"/>
            <a:ext cx="84582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is the main points (so far)?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very advancement in technology has positive and negative impacts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hat are the positive and negative impacts of email?  Of IM?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Review: Linux File Syste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1865160"/>
            <a:ext cx="990720" cy="0"/>
          </a:xfrm>
          <a:prstGeom prst="line">
            <a:avLst/>
          </a:prstGeom>
          <a:ln w="3816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09680" y="1865160"/>
            <a:ext cx="914400" cy="0"/>
          </a:xfrm>
          <a:prstGeom prst="line">
            <a:avLst/>
          </a:prstGeom>
          <a:ln w="3816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1865160"/>
            <a:ext cx="914400" cy="0"/>
          </a:xfrm>
          <a:prstGeom prst="line">
            <a:avLst/>
          </a:prstGeom>
          <a:ln w="3816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7520" y="14479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/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58280" y="152388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hom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84840" y="152388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student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09680" y="1865160"/>
            <a:ext cx="838440" cy="457200"/>
          </a:xfrm>
          <a:prstGeom prst="line">
            <a:avLst/>
          </a:prstGeom>
          <a:ln w="3816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09680" y="1865160"/>
            <a:ext cx="533520" cy="838440"/>
          </a:xfrm>
          <a:prstGeom prst="line">
            <a:avLst/>
          </a:prstGeom>
          <a:ln w="3816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1865160"/>
            <a:ext cx="838440" cy="457200"/>
          </a:xfrm>
          <a:prstGeom prst="line">
            <a:avLst/>
          </a:prstGeom>
          <a:ln w="3816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865160"/>
            <a:ext cx="533520" cy="838440"/>
          </a:xfrm>
          <a:prstGeom prst="line">
            <a:avLst/>
          </a:prstGeom>
          <a:ln w="3816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97120" y="152388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yournam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35360" y="243828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lab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312960" y="243828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public_html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68680" y="342900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lab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565960" y="342900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lab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6800" y="4587840"/>
            <a:ext cx="632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~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is a shortname for your home directory, i.e.,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short for </a:t>
            </a:r>
            <a:r>
              <a:rPr b="0" lang="en-US" sz="2400" spc="-1" strike="noStrike">
                <a:solidFill>
                  <a:srgbClr val="020202"/>
                </a:solidFill>
                <a:latin typeface="Courier New"/>
              </a:rPr>
              <a:t>/home/students/yournam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05520" y="1066680"/>
            <a:ext cx="28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HOME directory (</a:t>
            </a: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~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105160" y="1905120"/>
            <a:ext cx="990360" cy="609480"/>
          </a:xfrm>
          <a:prstGeom prst="line">
            <a:avLst/>
          </a:prstGeom>
          <a:ln w="3816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5880" y="1905120"/>
            <a:ext cx="990720" cy="609480"/>
          </a:xfrm>
          <a:prstGeom prst="line">
            <a:avLst/>
          </a:prstGeom>
          <a:ln w="3816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962160" y="2895480"/>
            <a:ext cx="990360" cy="609840"/>
          </a:xfrm>
          <a:prstGeom prst="line">
            <a:avLst/>
          </a:prstGeom>
          <a:ln w="3816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952880" y="2895480"/>
            <a:ext cx="990720" cy="609840"/>
          </a:xfrm>
          <a:prstGeom prst="line">
            <a:avLst/>
          </a:prstGeom>
          <a:ln w="3816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557064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How would you copy </a:t>
            </a:r>
            <a:r>
              <a:rPr b="0" lang="en-US" sz="2400" spc="-1" strike="noStrike">
                <a:solidFill>
                  <a:srgbClr val="010199"/>
                </a:solidFill>
                <a:latin typeface="Courier New"/>
              </a:rPr>
              <a:t>triangle.py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to your </a:t>
            </a:r>
            <a:r>
              <a:rPr b="0" lang="en-US" sz="2400" spc="-1" strike="noStrike">
                <a:solidFill>
                  <a:srgbClr val="010199"/>
                </a:solidFill>
                <a:latin typeface="Courier New"/>
              </a:rPr>
              <a:t>public_html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directory?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78320" y="392580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triangle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428640" y="3809880"/>
            <a:ext cx="304920" cy="152640"/>
          </a:xfrm>
          <a:prstGeom prst="line">
            <a:avLst/>
          </a:prstGeom>
          <a:ln w="3816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23680" y="2173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19520" y="2209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6280" y="332892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piled vs. Interpreted Languag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6095880" y="4038480"/>
            <a:ext cx="2057400" cy="60984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Compiler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52680" y="3886200"/>
            <a:ext cx="1600200" cy="91440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Program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text fil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5562720"/>
            <a:ext cx="1371600" cy="83808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Output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6" idx="3"/>
            <a:endCxn id="115" idx="1"/>
          </p:cNvCxnSpPr>
          <p:nvPr/>
        </p:nvCxnSpPr>
        <p:spPr>
          <a:xfrm>
            <a:off x="4952520" y="4343040"/>
            <a:ext cx="114372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20" idx="1"/>
            <a:endCxn id="117" idx="3"/>
          </p:cNvCxnSpPr>
          <p:nvPr/>
        </p:nvCxnSpPr>
        <p:spPr>
          <a:xfrm flipH="1">
            <a:off x="5638320" y="5981400"/>
            <a:ext cx="99144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304920" y="3962520"/>
            <a:ext cx="2057400" cy="76176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bfa"/>
                </a:solidFill>
                <a:latin typeface="Tahoma"/>
                <a:ea typeface="Luxi Sans"/>
              </a:rPr>
              <a:t>Text Editor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3"/>
            <a:endCxn id="116" idx="1"/>
          </p:cNvCxnSpPr>
          <p:nvPr/>
        </p:nvCxnSpPr>
        <p:spPr>
          <a:xfrm>
            <a:off x="2361960" y="4343040"/>
            <a:ext cx="99108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20" name=""/>
          <p:cNvSpPr/>
          <p:nvPr/>
        </p:nvSpPr>
        <p:spPr>
          <a:xfrm>
            <a:off x="6629400" y="5486400"/>
            <a:ext cx="1752480" cy="99072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Executabl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Bytecode or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Machine cod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15" idx="3"/>
            <a:endCxn id="120" idx="3"/>
          </p:cNvCxnSpPr>
          <p:nvPr/>
        </p:nvCxnSpPr>
        <p:spPr>
          <a:xfrm>
            <a:off x="8152920" y="4343040"/>
            <a:ext cx="229320" cy="1639080"/>
          </a:xfrm>
          <a:prstGeom prst="bentConnector3">
            <a:avLst>
              <a:gd name="adj1" fmla="val 200000"/>
            </a:avLst>
          </a:prstGeom>
          <a:ln w="442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095880" y="1523880"/>
            <a:ext cx="2057400" cy="68580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Interpreter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352680" y="1371600"/>
            <a:ext cx="1600200" cy="99072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Program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text fil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0" y="2892600"/>
            <a:ext cx="1371600" cy="76500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Output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5" idx="3"/>
            <a:endCxn id="124" idx="1"/>
          </p:cNvCxnSpPr>
          <p:nvPr/>
        </p:nvCxnSpPr>
        <p:spPr>
          <a:xfrm>
            <a:off x="4952520" y="1866600"/>
            <a:ext cx="114372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28" name=""/>
          <p:cNvCxnSpPr>
            <a:stCxn id="129" idx="0"/>
            <a:endCxn id="124" idx="2"/>
          </p:cNvCxnSpPr>
          <p:nvPr/>
        </p:nvCxnSpPr>
        <p:spPr>
          <a:xfrm flipH="1" flipV="1">
            <a:off x="7124040" y="2208960"/>
            <a:ext cx="572040" cy="68364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30" name=""/>
          <p:cNvSpPr/>
          <p:nvPr/>
        </p:nvSpPr>
        <p:spPr>
          <a:xfrm>
            <a:off x="304920" y="1447920"/>
            <a:ext cx="2057400" cy="8380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bfa"/>
                </a:solidFill>
                <a:latin typeface="Tahoma"/>
                <a:ea typeface="Luxi Sans"/>
              </a:rPr>
              <a:t>Text Editor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130" idx="3"/>
            <a:endCxn id="125" idx="1"/>
          </p:cNvCxnSpPr>
          <p:nvPr/>
        </p:nvCxnSpPr>
        <p:spPr>
          <a:xfrm>
            <a:off x="2361960" y="1866600"/>
            <a:ext cx="99108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6934320" y="2892600"/>
            <a:ext cx="1523880" cy="76500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Executabl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bytecod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32" name=""/>
          <p:cNvCxnSpPr>
            <a:stCxn id="124" idx="3"/>
            <a:endCxn id="129" idx="3"/>
          </p:cNvCxnSpPr>
          <p:nvPr/>
        </p:nvCxnSpPr>
        <p:spPr>
          <a:xfrm>
            <a:off x="8152920" y="1866600"/>
            <a:ext cx="305640" cy="1408680"/>
          </a:xfrm>
          <a:prstGeom prst="bentConnector3">
            <a:avLst>
              <a:gd name="adj1" fmla="val 175000"/>
            </a:avLst>
          </a:prstGeom>
          <a:ln w="4428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4" idx="2"/>
            <a:endCxn id="126" idx="0"/>
          </p:cNvCxnSpPr>
          <p:nvPr/>
        </p:nvCxnSpPr>
        <p:spPr>
          <a:xfrm flipH="1">
            <a:off x="5257440" y="2209320"/>
            <a:ext cx="1867680" cy="68364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>
            <a:off x="4952880" y="1981080"/>
            <a:ext cx="12193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00"/>
                </a:solidFill>
                <a:latin typeface="Arial"/>
              </a:rPr>
              <a:t>1 “line” at a time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280" y="3505320"/>
            <a:ext cx="16711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0202"/>
                </a:solidFill>
                <a:latin typeface="Arial"/>
              </a:rPr>
              <a:t>Compiled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080" y="990720"/>
            <a:ext cx="28918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0202"/>
                </a:solidFill>
                <a:latin typeface="Arial"/>
              </a:rPr>
              <a:t>Purely Interpreted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560560" y="4724280"/>
            <a:ext cx="303804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00"/>
                </a:solidFill>
                <a:latin typeface="Arial"/>
              </a:rPr>
              <a:t>Validates </a:t>
            </a:r>
            <a:r>
              <a:rPr b="1" lang="en-US" sz="2000" spc="-1" strike="noStrike">
                <a:solidFill>
                  <a:srgbClr val="00b000"/>
                </a:solidFill>
                <a:latin typeface="Arial"/>
              </a:rPr>
              <a:t>whole</a:t>
            </a:r>
            <a:r>
              <a:rPr b="0" lang="en-US" sz="2000" spc="-1" strike="noStrike">
                <a:solidFill>
                  <a:srgbClr val="00b000"/>
                </a:solidFill>
                <a:latin typeface="Arial"/>
              </a:rPr>
              <a:t> program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12360" y="2692440"/>
            <a:ext cx="31708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+ immediate feedback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9040" y="5257800"/>
            <a:ext cx="26618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+ execution speed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ython’s Implementa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mbination of compiled and interpreted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teractive mode: interpreted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Validate, execute each lin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ython “interpreter” in script mode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ompiles Python script into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bytecod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uns Python Virtual Machine that interprets the bytecode and execut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ocumenting Your Cod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e English to describe what your program is doing in </a:t>
            </a:r>
            <a:r>
              <a:rPr b="1" lang="en-US" sz="3200" spc="-1" strike="noStrike">
                <a:solidFill>
                  <a:srgbClr val="33cccc"/>
                </a:solidFill>
                <a:latin typeface="Arial"/>
              </a:rPr>
              <a:t>commen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lnSpc>
                <a:spcPct val="9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verything after a </a:t>
            </a:r>
            <a:r>
              <a:rPr b="1" lang="en-US" sz="2800" spc="-1" strike="noStrike">
                <a:solidFill>
                  <a:srgbClr val="33cccc"/>
                </a:solidFill>
                <a:latin typeface="Arial"/>
              </a:rPr>
              <a:t>#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is a commen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3760" indent="-285840">
              <a:lnSpc>
                <a:spcPct val="92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Color-coded in IDLE, jEdit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lnSpc>
                <a:spcPct val="9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ython does not execute comment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oes not affect the correctness of your progra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mproves program’s </a:t>
            </a:r>
            <a:r>
              <a:rPr b="0" lang="en-US" sz="3200" spc="-1" strike="noStrike">
                <a:solidFill>
                  <a:srgbClr val="00b000"/>
                </a:solidFill>
                <a:latin typeface="Arial"/>
              </a:rPr>
              <a:t>readabilit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lnSpc>
                <a:spcPct val="9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asier for someone else to read and update your cod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en to Use Comment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ocument the author, high-level description of the program at the top of the progra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ovide an outline of an algorith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lnSpc>
                <a:spcPct val="9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eparates the steps of the algorithm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escribe difficult-to-understand cod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82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Erro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8240" cy="522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Sometimes the program doesn’t work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Types of programming errors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84080" indent="-3312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Syntax erro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81520" indent="-28296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20202"/>
                </a:solidFill>
                <a:latin typeface="Arial"/>
              </a:rPr>
              <a:t>Interpreter shows where the problem is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84080" indent="-3312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Logic/semantic erro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81520" indent="-28296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20202"/>
                </a:solidFill>
                <a:latin typeface="Arial"/>
              </a:rPr>
              <a:t>answer = 2+3;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81520" indent="-28296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20202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20202"/>
                </a:solidFill>
                <a:latin typeface="Arial"/>
              </a:rPr>
              <a:t>The </a:t>
            </a:r>
            <a:r>
              <a:rPr b="0" lang="en-GB" sz="2600" spc="-1" strike="noStrike">
                <a:solidFill>
                  <a:srgbClr val="dc0202"/>
                </a:solidFill>
                <a:latin typeface="Arial"/>
              </a:rPr>
              <a:t>anser</a:t>
            </a:r>
            <a:r>
              <a:rPr b="0" lang="en-GB" sz="2600" spc="-1" strike="noStrike">
                <a:solidFill>
                  <a:srgbClr val="020202"/>
                </a:solidFill>
                <a:latin typeface="Arial"/>
              </a:rPr>
              <a:t> is “ 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84080" indent="-3312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Exceptions/Runtime error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81520" indent="-28296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20202"/>
                </a:solidFill>
                <a:latin typeface="Arial"/>
              </a:rPr>
              <a:t>answer = 2/0;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81520" indent="-28296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20202"/>
                </a:solidFill>
                <a:latin typeface="Arial"/>
              </a:rPr>
              <a:t>Undefined variable name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b000"/>
                </a:solidFill>
                <a:latin typeface="Arial"/>
              </a:rPr>
              <a:t>Expose when </a:t>
            </a:r>
            <a:r>
              <a:rPr b="1" lang="en-US" sz="3200" spc="-1" strike="noStrike">
                <a:solidFill>
                  <a:srgbClr val="00b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45BE-9834-4726-A10A-322EC9131B7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Testing Proces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1143000"/>
            <a:ext cx="1752840" cy="762120"/>
          </a:xfrm>
          <a:prstGeom prst="rect">
            <a:avLst/>
          </a:prstGeom>
          <a:solidFill>
            <a:srgbClr val="fedc0f"/>
          </a:solidFill>
          <a:ln w="158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Inpu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1143000"/>
            <a:ext cx="1676520" cy="762120"/>
          </a:xfrm>
          <a:prstGeom prst="rect">
            <a:avLst/>
          </a:prstGeom>
          <a:solidFill>
            <a:srgbClr val="33cccc"/>
          </a:solidFill>
          <a:ln w="158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Program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30800" y="1152360"/>
            <a:ext cx="1946520" cy="752760"/>
          </a:xfrm>
          <a:prstGeom prst="rect">
            <a:avLst/>
          </a:prstGeom>
          <a:solidFill>
            <a:srgbClr val="de6c70"/>
          </a:solidFill>
          <a:ln w="158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Outpu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0" y="1295280"/>
            <a:ext cx="1219320" cy="533520"/>
          </a:xfrm>
          <a:prstGeom prst="rightArrow">
            <a:avLst>
              <a:gd name="adj1" fmla="val 50000"/>
              <a:gd name="adj2" fmla="val 57136"/>
            </a:avLst>
          </a:prstGeom>
          <a:gradFill rotWithShape="0">
            <a:gsLst>
              <a:gs pos="0">
                <a:srgbClr val="000099"/>
              </a:gs>
              <a:gs pos="100000">
                <a:srgbClr val="33cccc"/>
              </a:gs>
            </a:gsLst>
            <a:lin ang="10800000"/>
          </a:gra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029200" y="1295280"/>
            <a:ext cx="1219320" cy="533520"/>
          </a:xfrm>
          <a:prstGeom prst="rightArrow">
            <a:avLst>
              <a:gd name="adj1" fmla="val 50000"/>
              <a:gd name="adj2" fmla="val 57136"/>
            </a:avLst>
          </a:prstGeom>
          <a:gradFill rotWithShape="0">
            <a:gsLst>
              <a:gs pos="0">
                <a:srgbClr val="000099"/>
              </a:gs>
              <a:gs pos="100000">
                <a:srgbClr val="33cccc"/>
              </a:gs>
            </a:gsLst>
            <a:lin ang="10800000"/>
          </a:gra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192096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17b8"/>
                </a:solidFill>
                <a:latin typeface="Arial"/>
              </a:rPr>
              <a:t>Test Cas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52280" y="2514600"/>
            <a:ext cx="861084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est case: input used to test the program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Verify if </a:t>
            </a:r>
            <a:r>
              <a:rPr b="0" lang="en-US" sz="3200" spc="-1" strike="noStrike">
                <a:solidFill>
                  <a:srgbClr val="d7556d"/>
                </a:solidFill>
                <a:latin typeface="Arial"/>
              </a:rPr>
              <a:t>output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is what you </a:t>
            </a:r>
            <a:r>
              <a:rPr b="1" lang="en-US" sz="3200" spc="-1" strike="noStrike">
                <a:solidFill>
                  <a:srgbClr val="020202"/>
                </a:solidFill>
                <a:latin typeface="Arial"/>
              </a:rPr>
              <a:t>expected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Need </a:t>
            </a:r>
            <a:r>
              <a:rPr b="1" i="1" lang="en-US" sz="3200" spc="-1" strike="noStrike">
                <a:solidFill>
                  <a:srgbClr val="00b000"/>
                </a:solidFill>
                <a:latin typeface="Arial"/>
              </a:rPr>
              <a:t>good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20202"/>
                </a:solidFill>
                <a:latin typeface="Arial"/>
              </a:rPr>
              <a:t>test case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to help determine if program is correct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 lvl="1" marL="640800" indent="-2152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ester plays devil’s advocate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 lvl="1" marL="640800" indent="-2152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ant to expose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all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bugs!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 lvl="1" marL="640800" indent="-2152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ind before customer/professor!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18:16:22Z</dcterms:created>
  <dc:creator>Sara Sprenkle</dc:creator>
  <dc:description/>
  <dc:language>en-US</dc:language>
  <cp:lastModifiedBy>Sara Sprenkle</cp:lastModifiedBy>
  <dcterms:modified xsi:type="dcterms:W3CDTF">2007-09-15T16:08:20Z</dcterms:modified>
  <cp:revision>313</cp:revision>
  <dc:subject/>
  <dc:title>PowerPoint Presentation</dc:title>
</cp:coreProperties>
</file>