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999120" cy="9285120"/>
          </a:xfrm>
          <a:custGeom>
            <a:avLst/>
            <a:gdLst>
              <a:gd name="textAreaLeft" fmla="*/ 360 w 6999120"/>
              <a:gd name="textAreaRight" fmla="*/ 6998760 w 699912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654">
                <a:moveTo>
                  <a:pt x="4" y="0"/>
                </a:moveTo>
                <a:arcTo wR="4" hR="4" stAng="16200000" swAng="-5400000"/>
                <a:lnTo>
                  <a:pt x="0" y="28650"/>
                </a:lnTo>
                <a:arcTo wR="4" hR="4" stAng="10800000" swAng="-5400000"/>
                <a:lnTo>
                  <a:pt x="21596" y="2865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68200" y="685440"/>
            <a:ext cx="46717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0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3908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D5058-4A8A-41D4-8046-117F9D5176C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6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040" y="4419720"/>
            <a:ext cx="51814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written and used algorithms even if you did not realiz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doing long division, for example, is an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es are anothe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5CF-CD83-41CC-B1A1-B689CF6B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5F0D-500E-4D68-9075-4E241A08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5C6-CFBD-4383-8CF5-9FCC9A34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016E-C442-4D22-84D4-19C3BF6F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A7C0B-CF13-482E-ACD1-CFF3D37F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AC198-354D-4960-B19F-F98C588A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826BB-3A23-40B0-879C-89343783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E67A6-09ED-4A1B-8F48-5B8F6D07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E8B16-D306-4051-96F1-ECC9DC9A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85F74-3572-405C-A2D1-EB126350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DA743-132E-4A09-AEE8-207FCBA5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EFA-EFD3-4C40-BB94-863771A6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D37AE-DD61-4926-94E3-884757C0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8972E-35CE-4E5A-998E-48E81B0F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98389-3A94-4AD0-8ADE-EE573FE0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77F23-F90D-4930-A6B3-2DA50431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2D17D-AE59-4FF8-9F6C-207798B9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2B5-0669-4C14-9633-2C018CE9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D948-161F-4CDB-ADB4-F736BC87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A563-862A-4568-A01F-FC74C77D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5B4-EC93-4D3C-B0F9-1D980754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E710-F87C-482F-BFCF-74A773DB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DE5C-F5B8-4F1E-8DDF-5A155B62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65CE-CA1F-4C4A-B07F-CC08C80C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 10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484766-EA03-4B26-B09F-A775219F0C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BAFEC-EDD1-4811-BCB8-84CC36ED88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1916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Introduction to Programming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eptember 10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Lessons To Rememb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cowboy’s wisdom: Good judgment comes from experienc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ow can you get experienc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ad judgment works every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 errors can have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bad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effec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event the bad effects--especially before you turn in your assignment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ECC-149C-45A8-AE6E-9FC247B683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125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5D0-C8A2-40E3-81A4-7CA8E2045CA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49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ming language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pecific rules for what is and isn’t allowed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ust be exac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uter carries out commands as they are give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Syntax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: the symbols give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Semantics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: what it mea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:  III * IV = 3 x 4 = 12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ming languages ar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nambiguou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A4F-CCA6-4B38-86EC-BDDE3663860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A common </a:t>
            </a:r>
            <a:r>
              <a:rPr b="0" i="1" lang="en-GB" sz="3200" spc="-1" strike="noStrike">
                <a:solidFill>
                  <a:srgbClr val="3333cc"/>
                </a:solidFill>
                <a:latin typeface="Tahoma"/>
              </a:rPr>
              <a:t>interpreted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 programming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First released by Guido van Rossum in 199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Named after </a:t>
            </a:r>
            <a:r>
              <a:rPr b="0" i="1" lang="en-GB" sz="3200" spc="-1" strike="noStrike">
                <a:solidFill>
                  <a:srgbClr val="020202"/>
                </a:solidFill>
                <a:latin typeface="Tahoma"/>
              </a:rPr>
              <a:t>Monty Python’s Flying Circu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Minimalist syntax, emphasizes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Flexible, fast, useful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Used by scientists, engineers, systems programm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57A-7240-4BAF-AF64-7D6621A1C3C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20760" indent="-32076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Gives user immediate feedback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01640" indent="-26676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.g., if program contains error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Behind the scenes: </a:t>
            </a:r>
            <a:r>
              <a:rPr b="0" lang="en-GB" sz="26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 (a program itself) turns each expression into </a:t>
            </a:r>
            <a:r>
              <a:rPr b="0" lang="en-GB" sz="26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 and then executes the expression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207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36576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35812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51814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8" idx="3"/>
            <a:endCxn id="127" idx="1"/>
          </p:cNvCxnSpPr>
          <p:nvPr/>
        </p:nvCxnSpPr>
        <p:spPr>
          <a:xfrm>
            <a:off x="4723920" y="4152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32" idx="0"/>
            <a:endCxn id="127" idx="2"/>
          </p:cNvCxnSpPr>
          <p:nvPr/>
        </p:nvCxnSpPr>
        <p:spPr>
          <a:xfrm flipH="1" flipV="1">
            <a:off x="6895440" y="4647600"/>
            <a:ext cx="57204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705720" y="51814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7" idx="3"/>
            <a:endCxn id="132" idx="3"/>
          </p:cNvCxnSpPr>
          <p:nvPr/>
        </p:nvCxnSpPr>
        <p:spPr>
          <a:xfrm>
            <a:off x="7924320" y="4152600"/>
            <a:ext cx="305640" cy="152460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2"/>
            <a:endCxn id="129" idx="0"/>
          </p:cNvCxnSpPr>
          <p:nvPr/>
        </p:nvCxnSpPr>
        <p:spPr>
          <a:xfrm flipH="1">
            <a:off x="5028840" y="4647960"/>
            <a:ext cx="186768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(a program itself)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3809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373392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334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8" idx="3"/>
            <a:endCxn id="137" idx="1"/>
          </p:cNvCxnSpPr>
          <p:nvPr/>
        </p:nvCxnSpPr>
        <p:spPr>
          <a:xfrm>
            <a:off x="4952520" y="430488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42" idx="0"/>
            <a:endCxn id="137" idx="2"/>
          </p:cNvCxnSpPr>
          <p:nvPr/>
        </p:nvCxnSpPr>
        <p:spPr>
          <a:xfrm flipH="1" flipV="1">
            <a:off x="7124040" y="480024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04920" y="3809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3"/>
            <a:endCxn id="138" idx="1"/>
          </p:cNvCxnSpPr>
          <p:nvPr/>
        </p:nvCxnSpPr>
        <p:spPr>
          <a:xfrm>
            <a:off x="2361960" y="430488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6934320" y="5334120"/>
            <a:ext cx="15238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37" idx="3"/>
            <a:endCxn id="142" idx="3"/>
          </p:cNvCxnSpPr>
          <p:nvPr/>
        </p:nvCxnSpPr>
        <p:spPr>
          <a:xfrm>
            <a:off x="8152920" y="430524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7" idx="2"/>
            <a:endCxn id="139" idx="0"/>
          </p:cNvCxnSpPr>
          <p:nvPr/>
        </p:nvCxnSpPr>
        <p:spPr>
          <a:xfrm flipH="1">
            <a:off x="5257440" y="480060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69DB-993B-49DD-AB4A-8F8B108D1F37}" type="slidenum">
              <a:t>1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NIX/Linux operating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Operating syst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Manages the computer’s resources, e.g., CPU, memory, disk spac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Examples: UNIX, Windows XP, Windows 2000, Mac OSX, Linux, etc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UNIX/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Command-line interface (not a GUI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Type commands into terminal window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Example commands: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cp file1.c file1copy.c       (copy a file)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mkdir cisc105                 (make a directory)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8B2-8042-4EE9-873B-9AB46F7F706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038480"/>
            <a:ext cx="495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In a Linux terminal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jedit &amp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  <a:ea typeface="Luxi Sans"/>
              </a:rPr>
              <a:t>or idle &amp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ython &lt;nameofscript&gt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  <a:ea typeface="Luxi Sans"/>
              </a:rPr>
              <a:t>E.g., python hello.p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1523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44792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048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2" idx="3"/>
            <a:endCxn id="151" idx="1"/>
          </p:cNvCxnSpPr>
          <p:nvPr/>
        </p:nvCxnSpPr>
        <p:spPr>
          <a:xfrm>
            <a:off x="4876560" y="201888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6" idx="0"/>
            <a:endCxn id="151" idx="2"/>
          </p:cNvCxnSpPr>
          <p:nvPr/>
        </p:nvCxnSpPr>
        <p:spPr>
          <a:xfrm flipH="1" flipV="1">
            <a:off x="7048080" y="2514240"/>
            <a:ext cx="57240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28600" y="1523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7" idx="3"/>
            <a:endCxn id="152" idx="1"/>
          </p:cNvCxnSpPr>
          <p:nvPr/>
        </p:nvCxnSpPr>
        <p:spPr>
          <a:xfrm>
            <a:off x="2286000" y="201888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6858000" y="3048120"/>
            <a:ext cx="15238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1" idx="3"/>
            <a:endCxn id="156" idx="3"/>
          </p:cNvCxnSpPr>
          <p:nvPr/>
        </p:nvCxnSpPr>
        <p:spPr>
          <a:xfrm>
            <a:off x="8077320" y="2019240"/>
            <a:ext cx="305280" cy="1524960"/>
          </a:xfrm>
          <a:prstGeom prst="bentConnector3">
            <a:avLst>
              <a:gd name="adj1" fmla="val 231759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1" idx="2"/>
            <a:endCxn id="153" idx="0"/>
          </p:cNvCxnSpPr>
          <p:nvPr/>
        </p:nvCxnSpPr>
        <p:spPr>
          <a:xfrm flipH="1">
            <a:off x="5181120" y="251460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B5D6-38F2-40EB-B3A1-32AB0D2ED1E2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problem solv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Pyth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58C-EF10-4EBE-A35E-A70ACF1C46A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0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66E-14A3-4F2B-B606-D0C86A878B7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: a well-defined recipe for solving a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as a finite number of steps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letes in a finite amount of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n algorithm written in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lso called cod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arge programs, solving many proble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397-4853-49AA-A825-597484BE1D2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on Algorith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s often have a defined type of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out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rrec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lgorithms give the intended output for a set of input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: Multiply by 1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/O for a correct algorithm: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5,50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.32, 3.2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x, 10x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re examples: Long division, recip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321000" y="4389480"/>
            <a:ext cx="1066680" cy="685800"/>
          </a:xfrm>
          <a:prstGeom prst="rect">
            <a:avLst/>
          </a:prstGeom>
          <a:solidFill>
            <a:srgbClr val="33cccc">
              <a:alpha val="72000"/>
            </a:srgbClr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nput 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30840" y="4191120"/>
            <a:ext cx="1981080" cy="1044360"/>
          </a:xfrm>
          <a:prstGeom prst="parallelogram">
            <a:avLst>
              <a:gd name="adj" fmla="val 47423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91520" y="4352760"/>
            <a:ext cx="1066680" cy="685800"/>
          </a:xfrm>
          <a:prstGeom prst="rect">
            <a:avLst/>
          </a:prstGeom>
          <a:solidFill>
            <a:srgbClr val="33cc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1" idx="3"/>
            <a:endCxn id="102" idx="1"/>
          </p:cNvCxnSpPr>
          <p:nvPr/>
        </p:nvCxnSpPr>
        <p:spPr>
          <a:xfrm flipV="1">
            <a:off x="4387320" y="4712400"/>
            <a:ext cx="691560" cy="19800"/>
          </a:xfrm>
          <a:prstGeom prst="straightConnector1">
            <a:avLst/>
          </a:prstGeom>
          <a:ln w="640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2" idx="3"/>
            <a:endCxn id="103" idx="1"/>
          </p:cNvCxnSpPr>
          <p:nvPr/>
        </p:nvCxnSpPr>
        <p:spPr>
          <a:xfrm flipV="1">
            <a:off x="6564240" y="4695480"/>
            <a:ext cx="828000" cy="18000"/>
          </a:xfrm>
          <a:prstGeom prst="straightConnector1">
            <a:avLst/>
          </a:prstGeom>
          <a:ln w="640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3711600" y="5079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68800" y="50799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9DF-FF33-45DA-B770-FC2D33D3C3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-4644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king a Peanut Butter &amp; Jelly Sandwic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do you make a peanut butter and jelly sandwich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rite down the steps so that someone else can follow your instruc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ke no assumptions about the person’s knowledge of PB&amp;J sandwich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person has the following materials: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Loaf of bread, Jar of PB, Jelly, 2 Knives, paper plates, napkin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E5FD-9C99-49AD-A8BF-C4FB970E354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 of PB&amp;J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 computer: a blessing and a curs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cognize and meet the challenge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e unambiguous, descriptiv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ust be clear for the computer to understand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 what I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eant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!  Not what I said!”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reating/Implementing an algorith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reak down piec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ry it ou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vis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227-FA52-4654-B574-7D49EDAA963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 of PB&amp;J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e prepared for special cas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ren’t necessarily spares in real lif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eed to write correct algorithms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using similar techniq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 the same thing with a little twis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oop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or repeating the same act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DFC-F10A-4126-8C91-1556A201871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ts of an Algorith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mitive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data you have, what you can do to the data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m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dentify things we’re using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quenc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nditional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andle special case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petition/Loop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broutin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Call, reuse similar technique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rot="2493000">
            <a:off x="5218920" y="3566880"/>
            <a:ext cx="34606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n overview for the semester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0FE-4E6C-4BB8-9299-46BB7EA7703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dcterms:modified xsi:type="dcterms:W3CDTF">2007-09-19T01:21:11Z</dcterms:modified>
  <cp:revision>121</cp:revision>
  <dc:subject/>
  <dc:title>Intro to Java</dc:title>
</cp:coreProperties>
</file>