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CDC2-0E4F-4D80-B532-5FB2BB288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1122-F177-4D45-96E7-00B34C5C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52C7-0D8B-45E4-A223-6CACF01A6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BF91-4C8E-448E-AAF7-A7B89F3E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6B611-5774-4629-BE9B-A373E326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78E7F-D626-43B5-A52F-72F618EE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1B122-C854-4001-B0E7-C6169A04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71F45-5105-4435-89B1-22B92CE1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D638C-6ABF-45EC-8A58-E6F61B5F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13FC7-5B6C-4AFF-84E8-6722D13F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53A6D4-0307-4534-B887-C4AFDFD5F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2B94-FFB9-488B-B006-6BBC2EA8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122F7-12DD-4AA9-AE0E-BD93744E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1D423-4001-46D2-83C3-8A888A6F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78D11-C7F3-4E1E-9D05-73EB64E19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6D1567-0757-4212-B065-BD1124B2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81A50-E252-4E44-8BE3-9CADB8E9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2F81-811C-49C5-93D2-24A18963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6133-0FF7-4F17-89E4-C3ADAEFB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39D8-FEA2-4B10-8F68-A137AA60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8DF7-453D-4E0A-9F59-99532BE1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9909-31D7-49FC-9BAC-4F86A60B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5DFE-675F-4242-B338-8E179E68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DA30-4357-40EE-B821-ED1553BE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9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5DCC-2577-411F-A2C7-A9DDE2AB30E0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000F-E03F-43AA-B35F-BCE2053B2782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s 1, 2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37160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g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2096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3" idx="2"/>
            <a:endCxn id="84" idx="0"/>
          </p:cNvCxnSpPr>
          <p:nvPr/>
        </p:nvCxnSpPr>
        <p:spPr>
          <a:xfrm flipH="1">
            <a:off x="1028520" y="1828800"/>
            <a:ext cx="876600" cy="38124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4" idx="2"/>
            <a:endCxn id="87" idx="0"/>
          </p:cNvCxnSpPr>
          <p:nvPr/>
        </p:nvCxnSpPr>
        <p:spPr>
          <a:xfrm>
            <a:off x="1028520" y="2666880"/>
            <a:ext cx="952920" cy="381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20920" y="18414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6080" y="114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3" idx="2"/>
            <a:endCxn id="87" idx="0"/>
          </p:cNvCxnSpPr>
          <p:nvPr/>
        </p:nvCxnSpPr>
        <p:spPr>
          <a:xfrm flipH="1" rot="16200000">
            <a:off x="1333440" y="2400120"/>
            <a:ext cx="1219680" cy="76680"/>
          </a:xfrm>
          <a:prstGeom prst="curvedConnector3">
            <a:avLst>
              <a:gd name="adj1" fmla="val 25036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90720" y="304812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g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79132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2"/>
            <a:endCxn id="91" idx="0"/>
          </p:cNvCxnSpPr>
          <p:nvPr/>
        </p:nvCxnSpPr>
        <p:spPr>
          <a:xfrm flipH="1">
            <a:off x="1104840" y="5257800"/>
            <a:ext cx="876600" cy="5338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91" idx="2"/>
          </p:cNvCxnSpPr>
          <p:nvPr/>
        </p:nvCxnSpPr>
        <p:spPr>
          <a:xfrm>
            <a:off x="1104840" y="6248520"/>
            <a:ext cx="991440" cy="3690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711360" y="52578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3" idx="2"/>
          </p:cNvCxnSpPr>
          <p:nvPr/>
        </p:nvCxnSpPr>
        <p:spPr>
          <a:xfrm flipH="1" rot="16200000">
            <a:off x="1352520" y="5886000"/>
            <a:ext cx="1371960" cy="115200"/>
          </a:xfrm>
          <a:prstGeom prst="curvedConnector3">
            <a:avLst>
              <a:gd name="adj1" fmla="val 25721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990720" y="480060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==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94956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7" idx="2"/>
            <a:endCxn id="97" idx="0"/>
          </p:cNvCxnSpPr>
          <p:nvPr/>
        </p:nvCxnSpPr>
        <p:spPr>
          <a:xfrm flipH="1">
            <a:off x="1104840" y="3505320"/>
            <a:ext cx="876600" cy="444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7" idx="2"/>
            <a:endCxn id="93" idx="0"/>
          </p:cNvCxnSpPr>
          <p:nvPr/>
        </p:nvCxnSpPr>
        <p:spPr>
          <a:xfrm>
            <a:off x="1104840" y="4406760"/>
            <a:ext cx="876600" cy="3942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97240" y="358128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7" idx="2"/>
            <a:endCxn id="93" idx="0"/>
          </p:cNvCxnSpPr>
          <p:nvPr/>
        </p:nvCxnSpPr>
        <p:spPr>
          <a:xfrm rot="16200000">
            <a:off x="1333440" y="4152960"/>
            <a:ext cx="1295640" cy="360"/>
          </a:xfrm>
          <a:prstGeom prst="curvedConnector2">
            <a:avLst/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6095880" y="129528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g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2860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2" idx="2"/>
            <a:endCxn id="103" idx="0"/>
          </p:cNvCxnSpPr>
          <p:nvPr/>
        </p:nvCxnSpPr>
        <p:spPr>
          <a:xfrm flipH="1">
            <a:off x="5371920" y="1752480"/>
            <a:ext cx="1715040" cy="5338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3" idx="2"/>
            <a:endCxn id="106" idx="0"/>
          </p:cNvCxnSpPr>
          <p:nvPr/>
        </p:nvCxnSpPr>
        <p:spPr>
          <a:xfrm>
            <a:off x="5371920" y="2743200"/>
            <a:ext cx="1752840" cy="198144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5702400" y="17654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07560" y="1066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2" idx="2"/>
            <a:endCxn id="110" idx="0"/>
          </p:cNvCxnSpPr>
          <p:nvPr/>
        </p:nvCxnSpPr>
        <p:spPr>
          <a:xfrm flipH="1" rot="16200000">
            <a:off x="7353360" y="1485720"/>
            <a:ext cx="381600" cy="914760"/>
          </a:xfrm>
          <a:prstGeom prst="curvedConnector3">
            <a:avLst>
              <a:gd name="adj1" fmla="val 25118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7010280" y="21337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g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0" y="31240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11" idx="2"/>
            <a:endCxn id="106" idx="0"/>
          </p:cNvCxnSpPr>
          <p:nvPr/>
        </p:nvCxnSpPr>
        <p:spPr>
          <a:xfrm flipH="1">
            <a:off x="7124400" y="3581280"/>
            <a:ext cx="1219680" cy="114336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6248520" y="31240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0" idx="2"/>
            <a:endCxn id="113" idx="0"/>
          </p:cNvCxnSpPr>
          <p:nvPr/>
        </p:nvCxnSpPr>
        <p:spPr>
          <a:xfrm flipH="1">
            <a:off x="6896160" y="2590920"/>
            <a:ext cx="1105200" cy="53352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2"/>
            <a:endCxn id="106" idx="0"/>
          </p:cNvCxnSpPr>
          <p:nvPr/>
        </p:nvCxnSpPr>
        <p:spPr>
          <a:xfrm>
            <a:off x="6896160" y="3581280"/>
            <a:ext cx="228600" cy="114336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502680" y="26035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0" idx="2"/>
          </p:cNvCxnSpPr>
          <p:nvPr/>
        </p:nvCxnSpPr>
        <p:spPr>
          <a:xfrm flipH="1" rot="16200000">
            <a:off x="7911720" y="2679840"/>
            <a:ext cx="520920" cy="342720"/>
          </a:xfrm>
          <a:prstGeom prst="curvedConnector3">
            <a:avLst>
              <a:gd name="adj1" fmla="val 26901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6324480" y="47242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6320" y="5635800"/>
            <a:ext cx="47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nsider case num1=5, num2=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A852-EA3D-4FA6-BBD4-EBCA18AD33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 2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129528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l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2860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2"/>
            <a:endCxn id="121" idx="0"/>
          </p:cNvCxnSpPr>
          <p:nvPr/>
        </p:nvCxnSpPr>
        <p:spPr>
          <a:xfrm flipH="1">
            <a:off x="5371920" y="1765080"/>
            <a:ext cx="171504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2"/>
            <a:endCxn id="124" idx="0"/>
          </p:cNvCxnSpPr>
          <p:nvPr/>
        </p:nvCxnSpPr>
        <p:spPr>
          <a:xfrm>
            <a:off x="5372280" y="2755440"/>
            <a:ext cx="1753200" cy="1956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702400" y="17654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0" idx="2"/>
            <a:endCxn id="127" idx="0"/>
          </p:cNvCxnSpPr>
          <p:nvPr/>
        </p:nvCxnSpPr>
        <p:spPr>
          <a:xfrm flipH="1" rot="16200000">
            <a:off x="7365960" y="1485360"/>
            <a:ext cx="35604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010280" y="21337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l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31240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8" idx="2"/>
            <a:endCxn id="124" idx="0"/>
          </p:cNvCxnSpPr>
          <p:nvPr/>
        </p:nvCxnSpPr>
        <p:spPr>
          <a:xfrm flipH="1">
            <a:off x="7124040" y="3594240"/>
            <a:ext cx="122004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248520" y="31240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7" idx="2"/>
            <a:endCxn id="130" idx="0"/>
          </p:cNvCxnSpPr>
          <p:nvPr/>
        </p:nvCxnSpPr>
        <p:spPr>
          <a:xfrm flipH="1">
            <a:off x="6895440" y="2603160"/>
            <a:ext cx="110556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30" idx="2"/>
            <a:endCxn id="124" idx="0"/>
          </p:cNvCxnSpPr>
          <p:nvPr/>
        </p:nvCxnSpPr>
        <p:spPr>
          <a:xfrm>
            <a:off x="6895800" y="3594240"/>
            <a:ext cx="22932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6502680" y="26035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27" idx="2"/>
          </p:cNvCxnSpPr>
          <p:nvPr/>
        </p:nvCxnSpPr>
        <p:spPr>
          <a:xfrm flipH="1" rot="16200000">
            <a:off x="7917480" y="2685600"/>
            <a:ext cx="508680" cy="343800"/>
          </a:xfrm>
          <a:prstGeom prst="curvedConnector5">
            <a:avLst>
              <a:gd name="adj1" fmla="val 48725"/>
              <a:gd name="adj2" fmla="val 50000"/>
              <a:gd name="adj3" fmla="val 48725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324480" y="47242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20968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==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2004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2"/>
            <a:endCxn id="136" idx="0"/>
          </p:cNvCxnSpPr>
          <p:nvPr/>
        </p:nvCxnSpPr>
        <p:spPr>
          <a:xfrm flipH="1">
            <a:off x="952200" y="2679480"/>
            <a:ext cx="171504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6" idx="2"/>
            <a:endCxn id="139" idx="0"/>
          </p:cNvCxnSpPr>
          <p:nvPr/>
        </p:nvCxnSpPr>
        <p:spPr>
          <a:xfrm>
            <a:off x="952560" y="3669840"/>
            <a:ext cx="1753200" cy="1956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1283040" y="26798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5" idx="2"/>
            <a:endCxn id="142" idx="0"/>
          </p:cNvCxnSpPr>
          <p:nvPr/>
        </p:nvCxnSpPr>
        <p:spPr>
          <a:xfrm flipH="1" rot="16200000">
            <a:off x="2946240" y="2399760"/>
            <a:ext cx="35604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590920" y="304812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l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0384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3" idx="2"/>
            <a:endCxn id="139" idx="0"/>
          </p:cNvCxnSpPr>
          <p:nvPr/>
        </p:nvCxnSpPr>
        <p:spPr>
          <a:xfrm flipH="1">
            <a:off x="2704320" y="4508640"/>
            <a:ext cx="122004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1828800" y="40384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2" idx="2"/>
            <a:endCxn id="145" idx="0"/>
          </p:cNvCxnSpPr>
          <p:nvPr/>
        </p:nvCxnSpPr>
        <p:spPr>
          <a:xfrm flipH="1">
            <a:off x="2475720" y="3517560"/>
            <a:ext cx="110556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5" idx="2"/>
            <a:endCxn id="139" idx="0"/>
          </p:cNvCxnSpPr>
          <p:nvPr/>
        </p:nvCxnSpPr>
        <p:spPr>
          <a:xfrm>
            <a:off x="2476080" y="4508640"/>
            <a:ext cx="22932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082960" y="3517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2" idx="2"/>
          </p:cNvCxnSpPr>
          <p:nvPr/>
        </p:nvCxnSpPr>
        <p:spPr>
          <a:xfrm flipH="1" rot="16200000">
            <a:off x="3497760" y="3600000"/>
            <a:ext cx="508680" cy="343800"/>
          </a:xfrm>
          <a:prstGeom prst="curvedConnector5">
            <a:avLst>
              <a:gd name="adj1" fmla="val 48725"/>
              <a:gd name="adj2" fmla="val 50000"/>
              <a:gd name="adj3" fmla="val 48725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905120" y="56386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5080" y="113976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ch tends to be more efficien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430-DCF7-431A-B2C9-F5EB06F9DD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MI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bably better to compute as a float and then round to nearest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you do tha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elegant if/else condi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1840" y="3581280"/>
            <a:ext cx="327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bmi &lt; 19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bel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if bmi &gt; 25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abov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in rang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10320" y="4175280"/>
            <a:ext cx="404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bmi &gt;= 19 and bmi &lt;=25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in rang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if bmi &gt; 25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abov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bel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36543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As  opposed to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7880" y="6093000"/>
            <a:ext cx="26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Both are corr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9931-D291-4CF6-ADF9-EC95A430CD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fficiency and Elega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art thinking more about efficiency and elegance when writing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variable names, good comments, good spac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899B-DF62-4E55-BB57-0C98F9DFAF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urn in before end of cla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ADF7-6AC1-4F3E-B237-D3086FCD09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09-27T16:51:22Z</cp:lastPrinted>
  <dcterms:modified xsi:type="dcterms:W3CDTF">2007-10-10T00:27:57Z</dcterms:modified>
  <cp:revision>514</cp:revision>
  <dc:subject/>
  <dc:title>PowerPoint Presentation</dc:title>
</cp:coreProperties>
</file>