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3C0D-2E97-4E02-B682-D3CD58E24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0EEC-ED3E-4EB0-ABB2-97AA157F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DCC4-BB7A-4CC0-92FA-CB4F567E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8B99-C29E-44E4-BBB5-BE135B2B4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FEA8-C603-434D-B3E1-3EBE8E76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8F0-83AF-43E9-91C2-F78BB7E5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B05-5BFD-4907-A434-C51EA961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A02B-C120-4706-9F48-5D548D37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DFCD-95E3-48A1-BAD1-686AF7ED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29AD-E9FD-4E08-94A3-DFFDC4C3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52E1-C0CA-4287-86AA-86C23D89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77CB-B813-4A6A-A4F4-7C8BE71F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CE61-326A-43AC-82C0-6EE582794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523880"/>
            <a:ext cx="8077320" cy="4419720"/>
          </a:xfrm>
          <a:prstGeom prst="rightArrow">
            <a:avLst>
              <a:gd name="adj1" fmla="val 50000"/>
              <a:gd name="adj2" fmla="val 45689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56:27Z</dcterms:created>
  <dc:creator>Sara Sprenkle</dc:creator>
  <dc:description/>
  <dc:language>en-US</dc:language>
  <cp:lastModifiedBy>Sara Sprenkle</cp:lastModifiedBy>
  <cp:lastPrinted>2007-10-22T15:56:42Z</cp:lastPrinted>
  <dcterms:modified xsi:type="dcterms:W3CDTF">2007-10-22T15:57:07Z</dcterms:modified>
  <cp:revision>1</cp:revision>
  <dc:subject/>
  <dc:title>PowerPoint Presentation</dc:title>
</cp:coreProperties>
</file>