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BE8-2CEC-4A6C-BB9C-1DB13625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130-3AFD-4FF1-BC08-CA25191A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732-50F2-4D8E-B33C-E1DCA390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7A2-DAE3-466B-8556-E225B64A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86B3B-73D9-4132-AD07-723CD847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07D97-B025-4F7A-9308-4CA9F141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ABE97-0B0D-40F8-B33A-2B33AE65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D1D7E-EF81-475E-B50D-35EC9B74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FF0D6-74B5-48FC-87EC-1ADDA965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07CC4-BFEA-4ED2-BC0E-BC81656D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B72BD-B459-43E3-B264-418DD014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779-FF9F-4F5D-A8EE-26F1D3F6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FCD65-BDDE-432E-BF22-97B38C6D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F53E1-98B0-4CAD-B4A1-247ED677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CC8BD-3983-43D4-9539-610E8E06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99295-E160-4AA6-8714-04D95231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2C496-A9A6-49FB-8255-3713610B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1A1-1E88-4B07-9D4F-9474E38B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A09-9998-4C91-BAB7-9AD73AC8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848-563F-4032-B2CB-D9B8BA54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8A9-48FF-4EDB-96F3-4BCC0F9F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57C-A2BC-4845-96B1-9CC82AC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35F-24F5-4FC8-85B7-81B7A2E3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ADA-3BE4-4187-BC50-3F6CE2C4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9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5725-A86F-41F3-BFEC-3243A03ADFB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68AF-CF37-432E-B78A-2FDC812B51B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Precedence/Arithmetic, 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ite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116-1190-418D-A959-5328327AAD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ing/Repet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133720"/>
            <a:ext cx="502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peat 10 ti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2"/>
            <a:endCxn id="118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8" idx="2"/>
            <a:endCxn id="119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3B3-3516-4A82-A836-62613CCE8C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26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2"/>
            <a:endCxn id="127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30040" y="533412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Loop </a:t>
            </a: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16120" y="335268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Loop</a:t>
            </a:r>
            <a:r>
              <a:rPr b="1" lang="en-US" sz="2400" spc="-1" strike="noStrike">
                <a:solidFill>
                  <a:srgbClr val="ff8ef4"/>
                </a:solidFill>
                <a:latin typeface="Tahoma"/>
              </a:rPr>
              <a:t> head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9040" y="266688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op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52880" y="3048120"/>
            <a:ext cx="76320" cy="99036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5760" y="29685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ywor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9144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352680"/>
            <a:ext cx="16002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601-8E26-493C-8656-E1BAC59172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343-35DD-42DA-8CE4-47EEF1B484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only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to repe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for x in xrange(5): print “Hello!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73600" y="6095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ple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6DB-5956-4F71-AFBE-568A3D8982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6095880"/>
            <a:ext cx="2725920" cy="36684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181480"/>
            <a:ext cx="24382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2"/>
            <a:endCxn id="150" idx="0"/>
          </p:cNvCxnSpPr>
          <p:nvPr/>
        </p:nvCxnSpPr>
        <p:spPr>
          <a:xfrm flipH="1">
            <a:off x="7459200" y="5652720"/>
            <a:ext cx="8640" cy="42948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2"/>
            <a:endCxn id="151" idx="1"/>
          </p:cNvCxnSpPr>
          <p:nvPr/>
        </p:nvCxnSpPr>
        <p:spPr>
          <a:xfrm flipV="1" rot="16200000">
            <a:off x="6312960" y="5330160"/>
            <a:ext cx="1067760" cy="1226160"/>
          </a:xfrm>
          <a:prstGeom prst="bentConnector4">
            <a:avLst>
              <a:gd name="adj1" fmla="val -20067"/>
              <a:gd name="adj2" fmla="val 129897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E9C-BB76-4903-ACF0-6313DCB02C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752480"/>
            <a:ext cx="7924680" cy="99072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819520"/>
            <a:ext cx="7924680" cy="190476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800600"/>
            <a:ext cx="7924680" cy="15238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499680" y="35528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Loop 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7640" y="51354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in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D4E-9B61-4111-A66B-27B1BE9171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A90-B600-4648-8212-22444E3732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alyzing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o, exactl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4720" y="60958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_analysi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972-9A48-44CC-A909-B81275422E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above signature mea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60E4-93A8-4B86-A341-80D6E75C55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9B8-2610-45FD-9F06-13DCE30D7A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ponenti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al: compute -3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ggested: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ow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(-3, 2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Courier New"/>
              </a:rPr>
              <a:t>pow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else could we get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fun, what is 2 ** -3 ** 2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D5C-99DE-41B6-A9A7-CF6EE89807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0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 size=ste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at with negative numbers,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B16-E621-4474-9819-2E8145EA64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verage 5 numbers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160-3B88-42D3-B5A7-B06319FBBD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487-FD88-4900-97FC-F787CC79AD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Libr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functions/definitions i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rewrite someone else’s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in a module, it is a very efficient (in terms of computation speed and memory usag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6F5-88F8-404A-990D-065308BE74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4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, prepend constant or function with “modulename.”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5880" y="22096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28120" y="61722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A1F-DDD5-43D1-89AE-C92915A9CC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 can import only a subset of the modu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library&gt;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name1&gt;, &lt;name2&gt;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at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i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can use just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stead of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math.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7B8-6378-409E-82B4-36747AC763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nding Modules To U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I know if some code that I want already exis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Library Referenc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docs.python.org/lib/lib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has functions/constants for manipulating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the most part, to practice, in the beginning you will write most of your code from scrat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335-3DE2-453E-8614-99DED9950F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086600" y="51814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combine them to create more complex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utions to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48006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3434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38098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128-7B85-4E3D-BA13-F96DBBAFAC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3DB-14EB-4CB9-8601-E33157A5D0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388620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oday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arn new building block, new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5053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0481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11616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D73-B8CB-456A-A35F-91E1D98DE3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19T20:24:05Z</dcterms:modified>
  <cp:revision>229</cp:revision>
  <dc:subject/>
  <dc:title>PowerPoint Presentation</dc:title>
</cp:coreProperties>
</file>