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6727-BD11-4F28-9B5E-66A1E093C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4B15-3810-429A-9DD0-056F1B28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89F4-1FAD-4992-87AB-FB5FDD558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E02D-8CDD-47B3-ABB4-E3A7C1D6E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42CC0-71A0-4271-8C48-63E08BB2F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85E29-51B3-47DC-817F-30CEE2EA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4711B-0C24-4F99-93CF-FE807505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FE640-37F0-45B7-8C82-2FCFDEA7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359D7-332D-4F9D-A49C-2BB2C595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13BA8-6DAF-4A53-8BDA-8E56DBE4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68BCB-4DAB-492C-8B2E-E66BCC5F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9FB2-F330-4C52-8184-DC371760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94DBF-22A0-4F58-861C-BFD78723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47E22-C9F5-4753-8845-0857712D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DA442-80D6-47F4-BF21-35250692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FBC2B-4308-4624-B19B-A0484633C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C521F-87FE-41F0-84DB-D42A5580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9E9D-9B8B-471A-BED5-0D4FBFA7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52FC-A634-4DE0-A5B9-3BE1A957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3DDA-A084-4AC0-A08F-6D513EFA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D20A-B856-4DA9-A335-0317985C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BBF6-B64F-463A-99E5-E1AD515A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4155-00C2-41E6-96B5-A8EEB1F2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1546-B063-4B6C-8A70-F30549D4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15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5ED0-3086-4FDC-9B2D-47576CB2D49B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D561-76CC-47E9-9304-70036A57A7B3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assing arrays to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611D-6F08-4870-83CF-BFA55029E3B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ssues: Open  source 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urce is available to be read/editt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inux kernel is open sourc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inux kernel is fre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ome distributions add additional software, charge for O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prietary vs. open-source softwar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o has control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 you trust them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5252-59B3-4879-82DC-8810E9A3AF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15T22:45:01Z</dcterms:modified>
  <cp:revision>1459</cp:revision>
  <dc:subject/>
  <dc:title>PowerPoint Presentation</dc:title>
</cp:coreProperties>
</file>