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F3B9-FB45-4F6D-B164-4640BBFE3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5E13-ECD5-4CF0-8E8E-36F357C3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F808-C691-413B-9595-E63FD707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C5D5-24F8-41D3-AE3B-E9FAA019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1D150-AF5B-4368-9F85-49C6A291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665F8-A713-42CC-B643-321F8BBD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F104F-8D48-4783-AD22-4F8707D7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B8D79-5E23-4F6B-B13F-EE203022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FF3EF-737E-4767-BE3C-C81824C5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D5C6C-16F3-45A9-9E50-28365163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8A027-FA19-4EAA-B974-9FAF3A43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6A9A-26EE-4F1F-A259-DC7E1650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3F756-CC28-40E9-A1F5-2F5F06E0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5BD2D-9C16-472F-97B0-63D555FC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B51A3-940D-45FC-86CF-216DD49D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A1EB3-C7F3-4BD1-BB54-48A1C614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EE732-AB71-4AFD-8B2A-6DE1B5C91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1BEF-EDBF-4BC3-BF05-93392791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C561-6E07-4014-8CB0-1ABCC54E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9B4B-646A-45D8-A527-09D129C2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01FD-988A-4446-9B9C-BEFD8F32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52F3-155C-4DEF-884B-E88077BB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2A0F-F99B-4D4C-A0D6-D5CFABB7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2C81-F3F0-47A9-8F2A-BA1B760E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8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82DD-1551-4176-97F9-1B373A174633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EF99-2225-4E88-B9D3-E74879EDF9FB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nnouncement: Midterm prep docume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stants revie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 method revie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ing your own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5A5B-A66A-4DA0-A90B-C4425AD84E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arison of Code Using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ithout function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nu_withoutfunc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ith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nu_withfunctions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BEB8-7D79-4AE5-AE38-7A15C82951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2, Problem 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place to make a function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place that has some useful code that we may want to reus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0812-9809-488E-8664-2638AE4946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 ft/s to mph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3352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put: ft/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utput: mp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1523880"/>
            <a:ext cx="2971800" cy="1371600"/>
          </a:xfrm>
          <a:prstGeom prst="rect">
            <a:avLst/>
          </a:prstGeom>
          <a:solidFill>
            <a:srgbClr val="020202"/>
          </a:solidFill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ftpersToMP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8080" y="2209680"/>
            <a:ext cx="12952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45160" y="2209680"/>
            <a:ext cx="17524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5040" y="197820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64960" y="197820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out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66080" y="174960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Ft/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66000" y="17496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P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73CB-EEC7-4651-BF22-D9DCDBAC17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yntax of Function Defini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527040" y="1600200"/>
            <a:ext cx="83883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2680" indent="-11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ftpsToMPH(ftps) </a:t>
            </a:r>
            <a:r>
              <a:rPr b="1" lang="en-US" sz="26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SECOND_TO_HOUR = 3600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FEET_TO_MILE = (1.0/5280)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result = ftps * SECOND_TO_HOUR * FEET_TO_MILE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" y="128412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Keywor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12400" y="1270080"/>
            <a:ext cx="125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Function</a:t>
            </a:r>
            <a:br>
              <a:rPr sz="2000"/>
            </a:b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Nam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75160" y="1143000"/>
            <a:ext cx="163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Input Name/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Parameter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-368640" y="2728800"/>
            <a:ext cx="220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Body (or function definition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8040" y="5105520"/>
            <a:ext cx="247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Keyword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How to give outpu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96920" y="1676520"/>
            <a:ext cx="0" cy="8380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68520" y="1905120"/>
            <a:ext cx="0" cy="5331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882600" y="1752480"/>
            <a:ext cx="338040" cy="6652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554120" y="4419720"/>
            <a:ext cx="351000" cy="7617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24382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10199"/>
                </a:solidFill>
                <a:latin typeface="Arial"/>
              </a:rPr>
              <a:t>Function head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698A-8171-4005-BB1E-B11B14C197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ere are functions in the cod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be defined in script before use (calling it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ld be in separate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 to use in scrip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menu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ine in modules when functions are reusable for many different program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Benefits: shorter code (no function defns), isolate testing of function, write “test driver” scripts to test functions separately from use in scrip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D2FE-4631-4E21-ADAC-CEBFFDA918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inputs to a function are called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r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argu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call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/using functions, parameters must appear in same order as in the function head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round(x, n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float to round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integer of decimal places to round to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ABAB-FE85-473C-BFF6-D46174D3D5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Formal 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the variables named in the the function definition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Actual 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the variables or literals that really get used when the function is called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def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round(x, n) :</a:t>
            </a:r>
            <a:br>
              <a:rPr sz="3200"/>
            </a:b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oundCelc = round(celc,2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l &amp; actual parameters must match in order, number, and type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Form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3200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648320" y="3429000"/>
            <a:ext cx="121896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105520" y="3429000"/>
            <a:ext cx="76176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590920" y="3276720"/>
            <a:ext cx="1218960" cy="3808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048120" y="3276720"/>
            <a:ext cx="761760" cy="3808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BEB8-03CC-4011-B318-3219B407EE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 the code reaches a statement lik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retur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x is the output returned to the place where function called and the function st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functions that don’t have explicit output, return does not have a value with i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retur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Optional: don’t need to have return (see </a:t>
            </a:r>
            <a:r>
              <a:rPr b="0" lang="en-US" sz="2600" spc="-1" strike="noStrike">
                <a:solidFill>
                  <a:srgbClr val="00c600"/>
                </a:solidFill>
                <a:latin typeface="Arial"/>
              </a:rPr>
              <a:t>menu.py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7F0F-E14A-47FE-9696-99AB4A4FA5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alling your own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jennifer_mph = ftpsToMPH(jen_ft_sec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ura_mph = ftpsToMPH(laura_ft_sec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venus_mph = ftpsToMPH(venus_ft_sec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88620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Output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is assigned to venus_mp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720" y="4054320"/>
            <a:ext cx="14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Function</a:t>
            </a:r>
            <a:br>
              <a:rPr sz="2400"/>
            </a:b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50480" y="411480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447920" y="3352680"/>
            <a:ext cx="1143000" cy="53352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962520" y="3504960"/>
            <a:ext cx="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019920" y="3504960"/>
            <a:ext cx="0" cy="68580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2971800"/>
            <a:ext cx="2133360" cy="533520"/>
          </a:xfrm>
          <a:prstGeom prst="rect">
            <a:avLst/>
          </a:prstGeom>
          <a:solidFill>
            <a:srgbClr val="6699ff">
              <a:alpha val="31000"/>
            </a:srgbClr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BDD7-1F11-4C14-896E-A4C595995A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en you call the function, the computer jumps to the function and executes i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en it is done, it returns to the same place in the first code where it left off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98720" y="3427560"/>
            <a:ext cx="391536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ftpsToMPH(ftps) </a:t>
            </a:r>
            <a:r>
              <a:rPr b="1" lang="en-US" sz="20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S2HR = 3600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FT2MI = (1.0/5280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result = ftps * S2HR * FT2MI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666880" y="3580920"/>
            <a:ext cx="1981440" cy="129564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809880" y="4952880"/>
            <a:ext cx="1447920" cy="7632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6800" y="3733920"/>
            <a:ext cx="36248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COURT_LEN = 78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#Make calculations to ft/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j_ft_s = COURT_LEN / jSpee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j_mi_hr = ftpersToMPH(j_ft_s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14160" y="5973840"/>
            <a:ext cx="46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e: not great variable nam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9D79-C7BE-4EE7-BE56-DBC4F3195C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stants Review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stants: don’t change for “life” of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uring one program exec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it’s a constant always (like PI), that’s tr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ld play Rainbow Dice to 10, 100, or 100000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kes easy to change program once at to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4068-724E-411A-89C7-57441AFE9C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4876920"/>
            <a:ext cx="4343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The max is”, z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886200"/>
            <a:ext cx="220968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z=max(x, y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8" idx="2"/>
            <a:endCxn id="167" idx="0"/>
          </p:cNvCxnSpPr>
          <p:nvPr/>
        </p:nvCxnSpPr>
        <p:spPr>
          <a:xfrm>
            <a:off x="2323800" y="43578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endCxn id="168" idx="0"/>
          </p:cNvCxnSpPr>
          <p:nvPr/>
        </p:nvCxnSpPr>
        <p:spPr>
          <a:xfrm>
            <a:off x="2323800" y="3443400"/>
            <a:ext cx="1080" cy="4291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8" idx="3"/>
            <a:endCxn id="172" idx="1"/>
          </p:cNvCxnSpPr>
          <p:nvPr/>
        </p:nvCxnSpPr>
        <p:spPr>
          <a:xfrm flipV="1">
            <a:off x="3443040" y="1371240"/>
            <a:ext cx="1267560" cy="2743920"/>
          </a:xfrm>
          <a:prstGeom prst="bentConnector3">
            <a:avLst>
              <a:gd name="adj1" fmla="val 50000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74" idx="1"/>
            <a:endCxn id="168" idx="3"/>
          </p:cNvCxnSpPr>
          <p:nvPr/>
        </p:nvCxnSpPr>
        <p:spPr>
          <a:xfrm rot="10800000">
            <a:off x="3443400" y="4114080"/>
            <a:ext cx="1953000" cy="1448640"/>
          </a:xfrm>
          <a:prstGeom prst="bentConnector3">
            <a:avLst>
              <a:gd name="adj1" fmla="val 50000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 flipV="1">
            <a:off x="1828800" y="3962520"/>
            <a:ext cx="1219320" cy="304560"/>
          </a:xfrm>
          <a:prstGeom prst="line">
            <a:avLst/>
          </a:prstGeom>
          <a:ln w="63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62320" y="335268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Gets replaced with function’s output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213372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2971800"/>
            <a:ext cx="28195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y = input(“Enter …”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7" idx="2"/>
            <a:endCxn id="178" idx="0"/>
          </p:cNvCxnSpPr>
          <p:nvPr/>
        </p:nvCxnSpPr>
        <p:spPr>
          <a:xfrm>
            <a:off x="2323800" y="2604600"/>
            <a:ext cx="1080" cy="35316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 flipH="1" flipV="1">
            <a:off x="761760" y="2437920"/>
            <a:ext cx="152280" cy="68580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371600"/>
            <a:ext cx="121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To </a:t>
            </a:r>
            <a:r>
              <a:rPr b="1" lang="en-US" sz="2200" spc="-1" strike="noStrike">
                <a:solidFill>
                  <a:srgbClr val="010199"/>
                </a:solidFill>
                <a:latin typeface="Tahoma"/>
              </a:rPr>
              <a:t>input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 function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81" idx="2"/>
            <a:endCxn id="178" idx="1"/>
          </p:cNvCxnSpPr>
          <p:nvPr/>
        </p:nvCxnSpPr>
        <p:spPr>
          <a:xfrm flipH="1" rot="16200000">
            <a:off x="390240" y="2691360"/>
            <a:ext cx="727560" cy="29124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4648320" y="4114800"/>
            <a:ext cx="22096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86400" y="304812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86" idx="2"/>
            <a:endCxn id="184" idx="0"/>
          </p:cNvCxnSpPr>
          <p:nvPr/>
        </p:nvCxnSpPr>
        <p:spPr>
          <a:xfrm>
            <a:off x="6667200" y="25290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5715000" y="2057400"/>
            <a:ext cx="19051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02400" y="35053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34680" y="35812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10280" y="411480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83" idx="2"/>
            <a:endCxn id="174" idx="0"/>
          </p:cNvCxnSpPr>
          <p:nvPr/>
        </p:nvCxnSpPr>
        <p:spPr>
          <a:xfrm>
            <a:off x="5752800" y="4586040"/>
            <a:ext cx="1105560" cy="7340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74" name=""/>
          <p:cNvSpPr/>
          <p:nvPr/>
        </p:nvSpPr>
        <p:spPr>
          <a:xfrm>
            <a:off x="5410080" y="5334120"/>
            <a:ext cx="289584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4" idx="2"/>
            <a:endCxn id="183" idx="0"/>
          </p:cNvCxnSpPr>
          <p:nvPr/>
        </p:nvCxnSpPr>
        <p:spPr>
          <a:xfrm flipH="1">
            <a:off x="5752800" y="3519360"/>
            <a:ext cx="9151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72" idx="2"/>
            <a:endCxn id="186" idx="0"/>
          </p:cNvCxnSpPr>
          <p:nvPr/>
        </p:nvCxnSpPr>
        <p:spPr>
          <a:xfrm>
            <a:off x="6667200" y="1614600"/>
            <a:ext cx="1080" cy="4291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4724280" y="1143000"/>
            <a:ext cx="38862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max(num1, num2) </a:t>
            </a: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4" idx="2"/>
            <a:endCxn id="189" idx="0"/>
          </p:cNvCxnSpPr>
          <p:nvPr/>
        </p:nvCxnSpPr>
        <p:spPr>
          <a:xfrm>
            <a:off x="6667560" y="3519360"/>
            <a:ext cx="13723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89" idx="2"/>
            <a:endCxn id="174" idx="0"/>
          </p:cNvCxnSpPr>
          <p:nvPr/>
        </p:nvCxnSpPr>
        <p:spPr>
          <a:xfrm flipH="1">
            <a:off x="6857280" y="4586040"/>
            <a:ext cx="1181880" cy="7340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4867920" y="258840"/>
            <a:ext cx="371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 gets the value of 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 gets the value of 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57E1-A344-4D41-A384-2B69F43567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: Using retu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if num1 &gt;= num2 :</a:t>
            </a:r>
            <a:br>
              <a:rPr sz="2200"/>
            </a:b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else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z = max( x, y 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4267080"/>
            <a:ext cx="220968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6400" y="320040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201" idx="2"/>
            <a:endCxn id="199" idx="0"/>
          </p:cNvCxnSpPr>
          <p:nvPr/>
        </p:nvCxnSpPr>
        <p:spPr>
          <a:xfrm flipH="1">
            <a:off x="6667200" y="2528640"/>
            <a:ext cx="38880" cy="6577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5321520" y="3733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34680" y="37339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10280" y="4267080"/>
            <a:ext cx="20574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199" idx="2"/>
            <a:endCxn id="198" idx="0"/>
          </p:cNvCxnSpPr>
          <p:nvPr/>
        </p:nvCxnSpPr>
        <p:spPr>
          <a:xfrm flipH="1">
            <a:off x="5752800" y="3672000"/>
            <a:ext cx="9151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4572000" y="2057400"/>
            <a:ext cx="426708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x(num1, num2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199" idx="2"/>
            <a:endCxn id="204" idx="0"/>
          </p:cNvCxnSpPr>
          <p:nvPr/>
        </p:nvCxnSpPr>
        <p:spPr>
          <a:xfrm>
            <a:off x="6667560" y="3672000"/>
            <a:ext cx="13723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204" idx="2"/>
          </p:cNvCxnSpPr>
          <p:nvPr/>
        </p:nvCxnSpPr>
        <p:spPr>
          <a:xfrm rot="5400000">
            <a:off x="7035840" y="4178880"/>
            <a:ext cx="443520" cy="156276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822040" y="533412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return to call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09" name=""/>
          <p:cNvCxnSpPr/>
          <p:nvPr/>
        </p:nvCxnSpPr>
        <p:spPr>
          <a:xfrm rot="5400000">
            <a:off x="4826160" y="4164480"/>
            <a:ext cx="44388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D3B1-366F-41EE-B34A-70E1882886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: Using retu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if num1 &gt;= num2 :</a:t>
            </a:r>
            <a:br>
              <a:rPr sz="2200"/>
            </a:b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z = max( x, y 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38480" y="4267080"/>
            <a:ext cx="221004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29200" y="320040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5" idx="2"/>
            <a:endCxn id="213" idx="0"/>
          </p:cNvCxnSpPr>
          <p:nvPr/>
        </p:nvCxnSpPr>
        <p:spPr>
          <a:xfrm flipH="1">
            <a:off x="6210000" y="2528640"/>
            <a:ext cx="38880" cy="6577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4864320" y="3733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5715000"/>
            <a:ext cx="20574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13" idx="2"/>
            <a:endCxn id="212" idx="0"/>
          </p:cNvCxnSpPr>
          <p:nvPr/>
        </p:nvCxnSpPr>
        <p:spPr>
          <a:xfrm flipH="1">
            <a:off x="5142960" y="3672000"/>
            <a:ext cx="106740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4114800" y="2057400"/>
            <a:ext cx="426708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7" idx="2"/>
          </p:cNvCxnSpPr>
          <p:nvPr/>
        </p:nvCxnSpPr>
        <p:spPr>
          <a:xfrm rot="5400000">
            <a:off x="5054760" y="5626800"/>
            <a:ext cx="44352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2441160" y="571500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return to call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21" name=""/>
          <p:cNvCxnSpPr/>
          <p:nvPr/>
        </p:nvCxnSpPr>
        <p:spPr>
          <a:xfrm rot="5400000">
            <a:off x="4140360" y="4164480"/>
            <a:ext cx="44388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3" idx="2"/>
            <a:endCxn id="217" idx="0"/>
          </p:cNvCxnSpPr>
          <p:nvPr/>
        </p:nvCxnSpPr>
        <p:spPr>
          <a:xfrm rot="5400000">
            <a:off x="5119200" y="4609800"/>
            <a:ext cx="2029320" cy="153000"/>
          </a:xfrm>
          <a:prstGeom prst="curvedConnector5">
            <a:avLst>
              <a:gd name="adj1" fmla="val 71504"/>
              <a:gd name="adj2" fmla="val 50000"/>
              <a:gd name="adj3" fmla="val 71504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311880" y="4657680"/>
            <a:ext cx="28321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Implicit false branch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Only way got here is if the condition was not tru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AFFA-F0E7-443C-81C7-C4333A7B3A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ssing 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nly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copie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the actual parameters are given to th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actual parameters in the calling code do not change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wap 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wap two values in scrip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n, put into a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21D4-A4BF-4C54-B03F-59CFA0A7D0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ethod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available operations to perform on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lightly different than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method: find(substring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nds the index where substring is in 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-1 if substring isn’t fou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call a method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tring&gt;.methodname([arguments]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filename.find(“.py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08320" y="6126120"/>
            <a:ext cx="34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xecuted on this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048120" y="5866920"/>
            <a:ext cx="304560" cy="3049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10AE-8956-418C-9233-175857553F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on String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04920" y="1143000"/>
          <a:ext cx="8610480" cy="4959360"/>
        </p:xfrm>
        <a:graphic>
          <a:graphicData uri="http://schemas.openxmlformats.org/drawingml/2006/table">
            <a:tbl>
              <a:tblPr/>
              <a:tblGrid>
                <a:gridCol w="3581280"/>
                <a:gridCol w="5029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thod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per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enter(width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a copy of string centered within the given number of column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unt(sub[, start [, end]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# of non-overlapping occurrences of substring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sub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 the string.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ndswith(sub), startswith(sub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ff string ends with/starts with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sub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nd(sub[, start [, end]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first index where substring 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sub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found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salpha(), isdigit(), isspace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ff string contains letters/digits/whitespace only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ower(), upper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copy of string converted to lowercase/lowercase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5312160" y="632448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_method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4D46-2DC2-4CAE-B7D4-92A21DBD84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Methods vs.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: all “input” as arguments/parame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le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s a built-in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lled as len(st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ethods: “input” are argument/parameters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e string the method was called 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 call: str.upper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1B75-9B51-49AD-8A68-EBC451A424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 Using String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dify binaryToDecimal.py to verify that the entered string contains only numb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one of the string method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could we make sure that it contains only 0s and 1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6B86-5E4A-4CD1-A61C-E1553B2BDF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’ve used several built-in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en, input, raw_in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unctions from modules, e.g., math and rando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Functions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re small pieces of code that can be used in other pieces of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ubprograms that have been given a nam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ave 0 or more inpu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duce 0 or 1 outpu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fine our own function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1015-E0A1-4987-B0DA-B7CF06C869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 is a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black bo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lementation doesn’t mat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care that function generates appropriate output, given appropriate input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dn’t care how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function was implemen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73360" y="4648320"/>
            <a:ext cx="2971800" cy="1371600"/>
          </a:xfrm>
          <a:prstGeom prst="rect">
            <a:avLst/>
          </a:prstGeom>
          <a:solidFill>
            <a:srgbClr val="020202"/>
          </a:solidFill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raw_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8080" y="5334120"/>
            <a:ext cx="12952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45160" y="5334120"/>
            <a:ext cx="17524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5040" y="510228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64960" y="502920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out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17240" y="480060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promp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89720" y="48006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ser_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57150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e saved output in a variab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D987-9D0A-4E11-B8B6-3E8CCE43E2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write function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Allows you to break up a hard problem into smaller, more manageable part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kes your code easier to understand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Hides implementation details (</a:t>
            </a:r>
            <a:r>
              <a:rPr b="0" i="1" lang="en-US" sz="2800" spc="-1" strike="noStrike">
                <a:solidFill>
                  <a:srgbClr val="020202"/>
                </a:solidFill>
                <a:latin typeface="Arial"/>
              </a:rPr>
              <a:t>abstraction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Provides interface (input, output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kes part of the code reusable so that you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nly have to type code o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debug it all at o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Isolates errors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make changes in one function (maintainability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29CE-E659-4A52-8A7E-9AF817C083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08T20:55:54Z</dcterms:modified>
  <cp:revision>1293</cp:revision>
  <dc:subject/>
  <dc:title>PowerPoint Presentation</dc:title>
</cp:coreProperties>
</file>