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414-0919-41D5-8318-C57E7420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1B7-7049-4B1C-8047-0EA5B5C5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EE6-BB01-4417-9BDA-052978E6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3C7-468A-4986-B902-F2144152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5098B-413D-4939-ABB3-17250952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1ED01-4AD5-4A75-B84E-FA53D4FE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8067C-0CD4-4F6D-8178-0A5808A4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B4585-2385-41F0-A023-49BE734F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29469-C2FB-453F-9EBA-7D6E9CDE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BB286-B6E8-4FF7-A500-CC6C8004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411F4-C924-4C79-A195-3E3E8D17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250-AC16-450A-A0E3-C679A725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3D9B5-9FFE-49E9-901A-973D1F4E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E64B5-7F2A-4259-BB3B-CDF338AB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4AF85-1080-4ACF-B4E9-130D61E2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6356B-512E-4AC2-B582-DB9024CC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9C354-1C2B-4656-A01F-FE9C0B5E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084-6555-47C8-BD9F-04756B97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651-D1E5-45E6-9116-85BFA04D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851-0CF1-4BBB-A7E0-73DD12CA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09A-EA9C-4FE4-BDE3-4F2EAAC7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7AAA-2256-4E61-8CC6-18D9359C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5B1-2AC4-4AA1-9B69-4670C478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16BE-7CFC-4455-9313-06CCE643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7175-5EC1-4B52-B843-6DB8C90780D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D6AA-9041-4127-B190-EBDDEE7EA7C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Linux, documentation,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programming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ftware development pract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ebugg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22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dit the program, re-execute/test until everything 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 error is often called a “bug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iagnosing and fixing it is called </a:t>
            </a: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257800"/>
            <a:ext cx="2057400" cy="99072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181480"/>
            <a:ext cx="175248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5257800"/>
            <a:ext cx="18288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9" idx="3"/>
            <a:endCxn id="158" idx="1"/>
          </p:cNvCxnSpPr>
          <p:nvPr/>
        </p:nvCxnSpPr>
        <p:spPr>
          <a:xfrm>
            <a:off x="2514600" y="5752800"/>
            <a:ext cx="9151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8" idx="3"/>
            <a:endCxn id="160" idx="1"/>
          </p:cNvCxnSpPr>
          <p:nvPr/>
        </p:nvCxnSpPr>
        <p:spPr>
          <a:xfrm>
            <a:off x="5486400" y="5752800"/>
            <a:ext cx="13723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609480" y="3505320"/>
            <a:ext cx="20574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(jEdit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2"/>
            <a:endCxn id="159" idx="0"/>
          </p:cNvCxnSpPr>
          <p:nvPr/>
        </p:nvCxnSpPr>
        <p:spPr>
          <a:xfrm>
            <a:off x="1638000" y="4495320"/>
            <a:ext cx="1080" cy="6865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8" idx="0"/>
            <a:endCxn id="163" idx="3"/>
          </p:cNvCxnSpPr>
          <p:nvPr/>
        </p:nvCxnSpPr>
        <p:spPr>
          <a:xfrm flipV="1" rot="16200000">
            <a:off x="2933280" y="3733200"/>
            <a:ext cx="1257840" cy="179172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5091120" y="3581280"/>
            <a:ext cx="2431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ERROR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Identify bug, fi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0" idx="0"/>
            <a:endCxn id="163" idx="3"/>
          </p:cNvCxnSpPr>
          <p:nvPr/>
        </p:nvCxnSpPr>
        <p:spPr>
          <a:xfrm flipV="1" rot="16200000">
            <a:off x="4590720" y="2075760"/>
            <a:ext cx="1257840" cy="510624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5567040" y="632448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bug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0AD-D295-4387-92BA-2D7B6FD32D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Finishing Up Wednesday’s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63244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avera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55C-70EF-4064-A030-07D256FB28F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36D-3FA4-45D3-8A1C-033A50EBCCF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1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d for tex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In general, I’ll use double quo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mpty string: “” or ‘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 triple quotes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for strings that go across multiple lin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55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48320" y="4800600"/>
            <a:ext cx="27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“““</a:t>
            </a: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s long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Like, really long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37B-AE26-41C0-A8EE-C988B285407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imple state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_not_ a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Displays the result of expression(s) to the termina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2438280" y="3284280"/>
            <a:ext cx="380880" cy="2210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61040" y="45403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Tahoma"/>
                <a:ea typeface="Luxi Sans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78144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86200" y="4162320"/>
            <a:ext cx="838080" cy="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657600" y="5381280"/>
            <a:ext cx="838080" cy="68580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544212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61040" y="454356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Unless ends with 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7680" y="62485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mo_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89E-D22F-44B0-9AC0-0E7790B1FB4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scape Sequen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scape Sequen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newline character (carriage return)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ab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quote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ackslash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\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print “To print a \\, you must use \”\\\\\”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CE3-BD77-4FD2-A8DA-8EED958C9AE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1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To print a tab, you must use ‘\t’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I said, ”How are you?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50840" y="5983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escape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7E3-183F-4929-8F61-D6E9FA12F68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the files in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 into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reate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out 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syntax for the copy command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“abbreviation” for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pa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ummarie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English, complete senten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chanics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st as </a:t>
            </a: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com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keep the blog a bit more organ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llow instructions on “CS Issues” about what summary should contai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edit your own pos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want to write in a word processor and then copy over to blo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knew about MMOGs before reading this artic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may of you participated in this or something similar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read onlin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my PDF vers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the Web pag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ill L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72200" y="472392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ur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ill R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t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4724280"/>
            <a:ext cx="19051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Jennifer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Keith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ath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1219320"/>
            <a:ext cx="8458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main points (so far)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ery advancement in technology has positive and negative impacts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the positive and negative impacts of email?  Of IM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865160"/>
            <a:ext cx="99072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52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58280" y="1523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4840" y="15238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7120" y="15238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5360" y="2438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12960" y="243828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ublic_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6868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596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00" y="4587840"/>
            <a:ext cx="63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is a shortname for your home directory, i.e.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hort for 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/home/students/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0666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 directory (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105160" y="1905120"/>
            <a:ext cx="99036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905120"/>
            <a:ext cx="99072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62160" y="2895480"/>
            <a:ext cx="99036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895480"/>
            <a:ext cx="99072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5706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w would you copy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triangle.py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your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public_htm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director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78320" y="39258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riang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428640" y="3809880"/>
            <a:ext cx="304920" cy="1526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3680" y="2173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6280" y="33289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6" idx="3"/>
            <a:endCxn id="115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20" idx="1"/>
            <a:endCxn id="117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3"/>
            <a:endCxn id="116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3"/>
            <a:endCxn id="120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3"/>
            <a:endCxn id="124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9" idx="0"/>
            <a:endCxn id="124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0" idx="3"/>
            <a:endCxn id="125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4" idx="3"/>
            <a:endCxn id="129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4" idx="2"/>
            <a:endCxn id="126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080" y="990720"/>
            <a:ext cx="2891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Purely Interpret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00b000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’s Imple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ation of compiled and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active mode: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lidate, execute each li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“interpreter” in script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iles Python script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byte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uns Python Virtual Machine that interprets the bytecode and execu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n to Use 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ument the author, high-level description of the program at the top of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vide an outline of an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parates the steps of the algorith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 difficult-to-understand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rr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Sometimes the program doesn’t work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ypes of programming erro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yntax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Interpreter shows where the problem i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Logic/semantic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+3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GB" sz="2600" spc="-1" strike="noStrike">
                <a:solidFill>
                  <a:srgbClr val="dc0202"/>
                </a:solidFill>
                <a:latin typeface="Arial"/>
              </a:rPr>
              <a:t>anser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 is “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xceptions/Runtime erro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/0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Undefined variable nam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Expose when </a:t>
            </a:r>
            <a:r>
              <a:rPr b="1" lang="en-US" sz="3200" spc="-1" strike="noStrike">
                <a:solidFill>
                  <a:srgbClr val="00b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0AE-1F97-4147-A5D7-D0AA8067B41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143000"/>
            <a:ext cx="1752840" cy="762120"/>
          </a:xfrm>
          <a:prstGeom prst="rect">
            <a:avLst/>
          </a:prstGeom>
          <a:solidFill>
            <a:srgbClr val="fedc0f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1143000"/>
            <a:ext cx="1676520" cy="762120"/>
          </a:xfrm>
          <a:prstGeom prst="rect">
            <a:avLst/>
          </a:prstGeom>
          <a:solidFill>
            <a:srgbClr val="33cccc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30800" y="1152360"/>
            <a:ext cx="1946520" cy="752760"/>
          </a:xfrm>
          <a:prstGeom prst="rect">
            <a:avLst/>
          </a:prstGeom>
          <a:solidFill>
            <a:srgbClr val="de6c70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9209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Arial"/>
              </a:rPr>
              <a:t>Test Ca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1460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case: input used to test the program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rify if </a:t>
            </a:r>
            <a:r>
              <a:rPr b="0" lang="en-US" sz="3200" spc="-1" strike="noStrike">
                <a:solidFill>
                  <a:srgbClr val="d7556d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what you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expected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</a:t>
            </a:r>
            <a:r>
              <a:rPr b="1" i="1" lang="en-US" sz="3200" spc="-1" strike="noStrike">
                <a:solidFill>
                  <a:srgbClr val="00b000"/>
                </a:solidFill>
                <a:latin typeface="Arial"/>
              </a:rPr>
              <a:t>goo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test cas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help determine if program is correc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er plays devil’s advocat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ant to expos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gs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before customer/professor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5T16:08:20Z</dcterms:modified>
  <cp:revision>313</cp:revision>
  <dc:subject/>
  <dc:title>PowerPoint Presentation</dc:title>
</cp:coreProperties>
</file>