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330-0D81-46DB-98DE-FC21F902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5D9-7219-442A-BF29-D2260B2D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0EC-82A8-4C37-8D15-1CA2699A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B73-6262-40EF-9FE9-BEBBE393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324B7-9CA4-462C-944C-448EAA46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6F5CB-1B19-416C-9707-6A54042B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9BF19-21D3-4C92-B99E-3B0DA4D2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8A827-20BE-457B-9127-920471CB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CC63B-D652-485F-A459-6EEC231F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5E98D-7E00-4E81-A928-9A03D10F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F6840-6BE2-4B79-B1F0-FB3D43C1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6FF-BFBE-47FC-99D9-0B841B7F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0FCE1-164D-4A13-B628-27776195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585D9-7C1E-486B-AFFE-CDB5D23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3C826-623F-43AB-839E-19BEE67C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C736C-17B4-4EFD-8DED-EEE937B5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ED4EB-FFB0-4368-A7C1-CB123A34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4B5-DCBD-4AB1-9814-6ADF2B7D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21B-69CB-4CFD-8DF5-629FD2C6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A36-6A23-452E-9A79-6AF3E82C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C00-C04F-4606-96AE-69C08C6A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B9C-620A-4CC6-83A6-731C49F5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F25-2E3D-43A8-9504-FC18913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C3E-40F0-432D-879E-867DEFF5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C49E-64FE-4D61-99BA-0D30524DB68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94A1-4655-489A-B5B2-18CAD8273A5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 Conditional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D51-5636-4F17-BCD6-131D10917D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s, comparing use of brea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condition shows when loop will stop executing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x % 2 !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Try again.  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 is an even number.”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have to look inside loop to know when it stops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True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x %2 =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is an even number.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143000"/>
            <a:ext cx="0" cy="525780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495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Using break statement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est when loop has to execute at least once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C5C-88D9-4BD6-A664-A98E21C622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vs.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y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can be translated into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vice vers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mor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powerfu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an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BC2-5A7A-4784-AE17-FEF632017B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 of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al stat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, if-else, if-else-i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ile, f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845-501A-4BF1-A49E-87EF867919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ndeterministic Deci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times, we don’t want to necessarily know that a specific decision is always ma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games often use randomness to make decis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ll d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in fli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cation and behavior of badd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7CD-F70D-487D-A5BC-584CC9DA0A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random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modu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provides the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rando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to generate pseudo-random numb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“pseudo-random”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tually generates a list of numbers and grabs the next one off the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 “seed” is used to initialize the random number gen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y default, the current time is us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B42-646C-431A-9706-8EAEF61DC0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Arial"/>
              </a:rPr>
              <a:t>Some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 random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(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next random floating point number in the range [0.0, 1.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int(a, b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a random integer N such that a&lt;= N&lt;= 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0160" y="1419120"/>
            <a:ext cx="19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73880" y="62452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dom_te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CAB-9DF4-4C65-8D65-44E5B4BCE7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imulate Flipping Coi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ulate by randomly selecting between 0 (heads) and 1 (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coinFlip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lem: How many flips does it take to get 3 consecutive head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09640" y="624528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ecutiveHea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366-AD64-42B5-90AB-F5DE9BD030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ctober Problem of the Mont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welve W&amp;L alumni get together during homecoming to have lunch.  Before they sit down to eat, everyone shakes hands with everyone else exactly once.  How many handshakes take plac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42120" y="62452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ke_han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C79-F7AB-46E1-8789-70B3F1DD49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vironmental Monitoring with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e blog entry for links, more inf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355-1320-4859-A744-597AAB0801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ditional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gical operators: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no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numeric grade convers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um_grade &lt; 0 or num_grade &gt; 100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t( num_grade &lt; 0 or num_grade &gt; 100)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9DE-DD98-4217-8814-49139A9630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973-23F9-48DF-BF94-B4E77A1494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90" idx="2"/>
            <a:endCxn id="89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3" idx="2"/>
            <a:endCxn id="90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2"/>
            <a:endCxn id="90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0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A46-C111-4969-AD46-121A193807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known Number of It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ums numbers input by use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op when the user inputs some designated stop value (Enter --&gt; “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2720" y="624528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tillzer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746-37B1-4481-9FFC-97861E3CBC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: Sentinel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ntinel: when to st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uard” to th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value != sentinel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valu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5F9-6CBA-4294-B5F7-51876B42FE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99F-345F-4C54-A777-F293CD0789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condition’s variable insid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788-205A-4148-B7CD-B2DA789A5B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e of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state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can “break you” out of a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733920"/>
            <a:ext cx="35816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count &lt; 100 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9040" y="27432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2"/>
            <a:endCxn id="115" idx="0"/>
          </p:cNvCxnSpPr>
          <p:nvPr/>
        </p:nvCxnSpPr>
        <p:spPr>
          <a:xfrm flipH="1">
            <a:off x="5371920" y="321480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2"/>
            <a:endCxn id="116" idx="1"/>
          </p:cNvCxnSpPr>
          <p:nvPr/>
        </p:nvCxnSpPr>
        <p:spPr>
          <a:xfrm flipV="1" rot="16200000">
            <a:off x="2919600" y="3696480"/>
            <a:ext cx="2300760" cy="851400"/>
          </a:xfrm>
          <a:prstGeom prst="bentConnector4">
            <a:avLst>
              <a:gd name="adj1" fmla="val -9311"/>
              <a:gd name="adj2" fmla="val 125169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733920" y="1752480"/>
            <a:ext cx="327636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, 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160" y="319716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69320" y="24638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800600"/>
            <a:ext cx="13716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2"/>
            <a:endCxn id="119" idx="0"/>
          </p:cNvCxnSpPr>
          <p:nvPr/>
        </p:nvCxnSpPr>
        <p:spPr>
          <a:xfrm flipH="1">
            <a:off x="4494960" y="4205160"/>
            <a:ext cx="87732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0" idx="2"/>
            <a:endCxn id="116" idx="0"/>
          </p:cNvCxnSpPr>
          <p:nvPr/>
        </p:nvCxnSpPr>
        <p:spPr>
          <a:xfrm>
            <a:off x="5372280" y="222408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5257440" y="297180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715000" y="4800600"/>
            <a:ext cx="15238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5" idx="2"/>
            <a:endCxn id="127" idx="0"/>
          </p:cNvCxnSpPr>
          <p:nvPr/>
        </p:nvCxnSpPr>
        <p:spPr>
          <a:xfrm>
            <a:off x="5371920" y="4205160"/>
            <a:ext cx="110556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077160" y="4267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0480" y="41911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25" idx="0"/>
          </p:cNvCxnSpPr>
          <p:nvPr/>
        </p:nvCxnSpPr>
        <p:spPr>
          <a:xfrm flipH="1">
            <a:off x="5257080" y="5272200"/>
            <a:ext cx="1220040" cy="962640"/>
          </a:xfrm>
          <a:prstGeom prst="straightConnector1">
            <a:avLst/>
          </a:prstGeom>
          <a:ln w="3168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89240" y="2697120"/>
            <a:ext cx="259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 &lt; 10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count &lt; 100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 +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741-AA6A-41B2-8FD4-AFCBCE2DC4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2T19:57:10Z</dcterms:modified>
  <cp:revision>941</cp:revision>
  <dc:subject/>
  <dc:title>PowerPoint Presentation</dc:title>
</cp:coreProperties>
</file>