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651F-D1CF-4006-B03F-6B920A8D1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B865-151A-4CB3-A100-73384F040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1607-35F1-4B84-8576-750A3C20B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484C-0936-4ADB-BB3B-882869779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C91A70-A5F4-4071-85F1-E846BF2AD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D7A3F9-AD25-405C-AD29-C4CF45C05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FF4519-84B5-461E-A5FD-C7F9782E5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545C0F-C389-4E99-BA15-3D71F4540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DE1E61-22A9-4E31-9859-2B318EEC4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34C173-ABD6-48D1-B114-4AF4EE3D3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405AEF-7194-41D1-9CBE-3E58D7867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0664-9AB2-4621-BA49-512D314B8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81FB16-EC63-418A-96B1-24CBB8C73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4B9669-AD81-47B8-A311-FD011037E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AD6888-BCBB-48DB-A580-9712322ED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82C50F-F0CA-405A-91F1-1B91D0313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6C3032-EE71-4D66-A1E7-B4E918254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B3A3-613B-478D-9DAC-EA6C6FA15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98BF-DAFE-4520-9A84-C30D4D199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A574-471C-4E44-9CC7-E7F975E6F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3630-A67D-43A2-91C0-B91047244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69EB-6928-42D6-A4BD-21B28822E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83CB-CCAC-43CD-8D96-6A382712C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A178-EDC3-4E27-9D41-93693D9DC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3" marL="1598760" indent="-289080">
              <a:spcBef>
                <a:spcPts val="79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4" marL="2006640" indent="-29196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5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6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Sept 19,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Sprenkle - CS1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62564-1097-41E4-A4CE-C24A52509F6C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13E0C-0005-4F9E-88A3-C0AAB8537798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bjectiv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Review: Precedence/Arithmetic, importing module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efinite for loop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8CBD-01F3-4048-959E-248A6706F5A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ooping/Repetitio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133720" y="2133720"/>
            <a:ext cx="502740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Make PB&amp;J sandwich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276720" y="4862520"/>
            <a:ext cx="495144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Make PB&amp;J sandwich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38480" y="3871800"/>
            <a:ext cx="3429000" cy="457200"/>
          </a:xfrm>
          <a:prstGeom prst="rect">
            <a:avLst/>
          </a:prstGeom>
          <a:solidFill>
            <a:srgbClr val="ff99cc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Repeat 10 time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20" name=""/>
          <p:cNvCxnSpPr>
            <a:stCxn id="119" idx="2"/>
            <a:endCxn id="118" idx="0"/>
          </p:cNvCxnSpPr>
          <p:nvPr/>
        </p:nvCxnSpPr>
        <p:spPr>
          <a:xfrm>
            <a:off x="5752800" y="4343400"/>
            <a:ext cx="1080" cy="505440"/>
          </a:xfrm>
          <a:prstGeom prst="straightConnector1">
            <a:avLst/>
          </a:prstGeom>
          <a:ln w="2844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21" name=""/>
          <p:cNvCxnSpPr>
            <a:stCxn id="118" idx="2"/>
            <a:endCxn id="119" idx="1"/>
          </p:cNvCxnSpPr>
          <p:nvPr/>
        </p:nvCxnSpPr>
        <p:spPr>
          <a:xfrm flipV="1" rot="16200000">
            <a:off x="4271400" y="3852000"/>
            <a:ext cx="1234440" cy="1729440"/>
          </a:xfrm>
          <a:prstGeom prst="bentConnector4">
            <a:avLst>
              <a:gd name="adj1" fmla="val -33459"/>
              <a:gd name="adj2" fmla="val 156464"/>
            </a:avLst>
          </a:prstGeom>
          <a:ln w="2844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22" name=""/>
          <p:cNvSpPr/>
          <p:nvPr/>
        </p:nvSpPr>
        <p:spPr>
          <a:xfrm flipH="1">
            <a:off x="2208960" y="3733920"/>
            <a:ext cx="381240" cy="2361960"/>
          </a:xfrm>
          <a:custGeom>
            <a:avLst/>
            <a:gdLst>
              <a:gd name="textAreaLeft" fmla="*/ -360 w 381240"/>
              <a:gd name="textAreaRight" fmla="*/ 137160 w 381240"/>
              <a:gd name="textAreaTop" fmla="*/ 61560 h 2361960"/>
              <a:gd name="textAreaBottom" fmla="*/ 2300400 h 2361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04920" y="4215960"/>
            <a:ext cx="190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17b8"/>
                </a:solidFill>
                <a:latin typeface="Tahoma"/>
              </a:rPr>
              <a:t>Make 10 PB&amp;J sandwiche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52B3-21B8-4AB8-9D7F-B2B8568B1C5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The </a:t>
            </a:r>
            <a:r>
              <a:rPr b="1" lang="en-US" sz="4000" spc="-1" strike="noStrike">
                <a:solidFill>
                  <a:srgbClr val="2017b8"/>
                </a:solidFill>
                <a:latin typeface="Courier New"/>
              </a:rPr>
              <a:t>for</a:t>
            </a: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 Loop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Good for when know how many times loop will execut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Repeat N tim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276720" y="4862520"/>
            <a:ext cx="495144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Make PB&amp;J sandwich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3871800"/>
            <a:ext cx="3429000" cy="457200"/>
          </a:xfrm>
          <a:prstGeom prst="rect">
            <a:avLst/>
          </a:prstGeom>
          <a:solidFill>
            <a:srgbClr val="ff99cc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20202"/>
                </a:solidFill>
                <a:latin typeface="Tahoma"/>
              </a:rPr>
              <a:t>for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 x </a:t>
            </a:r>
            <a:r>
              <a:rPr b="1" lang="en-US" sz="2400" spc="-1" strike="noStrike">
                <a:solidFill>
                  <a:srgbClr val="020202"/>
                </a:solidFill>
                <a:latin typeface="Tahoma"/>
              </a:rPr>
              <a:t>in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 xrange(10)</a:t>
            </a:r>
            <a:r>
              <a:rPr b="1" lang="en-US" sz="2400" spc="-1" strike="noStrike">
                <a:solidFill>
                  <a:srgbClr val="020202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28" name=""/>
          <p:cNvCxnSpPr>
            <a:stCxn id="127" idx="2"/>
            <a:endCxn id="126" idx="0"/>
          </p:cNvCxnSpPr>
          <p:nvPr/>
        </p:nvCxnSpPr>
        <p:spPr>
          <a:xfrm>
            <a:off x="5752800" y="4343400"/>
            <a:ext cx="1080" cy="505440"/>
          </a:xfrm>
          <a:prstGeom prst="straightConnector1">
            <a:avLst/>
          </a:prstGeom>
          <a:ln w="2844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29" name=""/>
          <p:cNvCxnSpPr>
            <a:stCxn id="126" idx="2"/>
            <a:endCxn id="127" idx="1"/>
          </p:cNvCxnSpPr>
          <p:nvPr/>
        </p:nvCxnSpPr>
        <p:spPr>
          <a:xfrm flipV="1" rot="16200000">
            <a:off x="4271400" y="3852000"/>
            <a:ext cx="1234440" cy="1729440"/>
          </a:xfrm>
          <a:prstGeom prst="bentConnector4">
            <a:avLst>
              <a:gd name="adj1" fmla="val -33459"/>
              <a:gd name="adj2" fmla="val 156464"/>
            </a:avLst>
          </a:prstGeom>
          <a:ln w="2844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30" name=""/>
          <p:cNvSpPr/>
          <p:nvPr/>
        </p:nvSpPr>
        <p:spPr>
          <a:xfrm flipH="1">
            <a:off x="2208960" y="3733920"/>
            <a:ext cx="381240" cy="2361960"/>
          </a:xfrm>
          <a:custGeom>
            <a:avLst/>
            <a:gdLst>
              <a:gd name="textAreaLeft" fmla="*/ -360 w 381240"/>
              <a:gd name="textAreaRight" fmla="*/ 137160 w 381240"/>
              <a:gd name="textAreaTop" fmla="*/ 61560 h 2361960"/>
              <a:gd name="textAreaBottom" fmla="*/ 2300400 h 2361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04920" y="4215960"/>
            <a:ext cx="190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17b8"/>
                </a:solidFill>
                <a:latin typeface="Tahoma"/>
              </a:rPr>
              <a:t>Make 10 PB&amp;J sandwiche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530040" y="5334120"/>
            <a:ext cx="172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cc"/>
                </a:solidFill>
                <a:latin typeface="Tahoma"/>
              </a:rPr>
              <a:t>Loop </a:t>
            </a:r>
            <a:r>
              <a:rPr b="1" lang="en-US" sz="2400" spc="-1" strike="noStrike">
                <a:solidFill>
                  <a:srgbClr val="33cccc"/>
                </a:solidFill>
                <a:latin typeface="Tahoma"/>
              </a:rPr>
              <a:t>bod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216120" y="3352680"/>
            <a:ext cx="20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8ef4"/>
                </a:solidFill>
                <a:latin typeface="Tahoma"/>
              </a:rPr>
              <a:t>Loop</a:t>
            </a:r>
            <a:r>
              <a:rPr b="1" lang="en-US" sz="2400" spc="-1" strike="noStrike">
                <a:solidFill>
                  <a:srgbClr val="ff8ef4"/>
                </a:solidFill>
                <a:latin typeface="Tahoma"/>
              </a:rPr>
              <a:t> header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199040" y="2666880"/>
            <a:ext cx="211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Loop variabl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952880" y="3048120"/>
            <a:ext cx="76320" cy="990360"/>
          </a:xfrm>
          <a:prstGeom prst="line">
            <a:avLst/>
          </a:prstGeom>
          <a:ln w="38160">
            <a:solidFill>
              <a:srgbClr val="02020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525760" y="2968560"/>
            <a:ext cx="15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Keyword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581280" y="3352680"/>
            <a:ext cx="914400" cy="60984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657600" y="3352680"/>
            <a:ext cx="1600200" cy="60984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CE5A-F5DA-475E-9852-0DC7B9545EC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Using the</a:t>
            </a:r>
            <a:r>
              <a:rPr b="0" lang="en-US" sz="4000" spc="-1" strike="noStrike">
                <a:solidFill>
                  <a:srgbClr val="2017b8"/>
                </a:solidFill>
                <a:latin typeface="Courier New"/>
              </a:rPr>
              <a:t> </a:t>
            </a:r>
            <a:r>
              <a:rPr b="1" lang="en-US" sz="4000" spc="-1" strike="noStrike">
                <a:solidFill>
                  <a:srgbClr val="2017b8"/>
                </a:solidFill>
                <a:latin typeface="Courier New"/>
              </a:rPr>
              <a:t>For </a:t>
            </a: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oop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Good for when know how many times loop will execut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Repeat N tim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for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 x 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n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 xrange(10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statement_1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statement_2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statement_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114800" y="3809880"/>
            <a:ext cx="838080" cy="1981440"/>
          </a:xfrm>
          <a:custGeom>
            <a:avLst/>
            <a:gdLst>
              <a:gd name="textAreaLeft" fmla="*/ 0 w 838080"/>
              <a:gd name="textAreaRight" fmla="*/ 302760 w 838080"/>
              <a:gd name="textAreaTop" fmla="*/ 51480 h 1981440"/>
              <a:gd name="textAreaBottom" fmla="*/ 1929960 h 198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014440" y="4343400"/>
            <a:ext cx="28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- “Body” of for loop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c6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Gets repeated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c6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Note indentation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572000" y="2133720"/>
            <a:ext cx="2416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cc"/>
                </a:solidFill>
                <a:latin typeface="Tahoma"/>
              </a:rPr>
              <a:t>Times to repea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3733560" y="2590920"/>
            <a:ext cx="1904760" cy="68580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BAA3-0705-4EF6-983B-40B86D517E2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Using the</a:t>
            </a:r>
            <a:r>
              <a:rPr b="0" lang="en-US" sz="4000" spc="-1" strike="noStrike">
                <a:solidFill>
                  <a:srgbClr val="2017b8"/>
                </a:solidFill>
                <a:latin typeface="Courier New"/>
              </a:rPr>
              <a:t> </a:t>
            </a:r>
            <a:r>
              <a:rPr b="1" lang="en-US" sz="4000" spc="-1" strike="noStrike">
                <a:solidFill>
                  <a:srgbClr val="2017b8"/>
                </a:solidFill>
                <a:latin typeface="Courier New"/>
              </a:rPr>
              <a:t>For </a:t>
            </a: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oop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If only </a:t>
            </a:r>
            <a:r>
              <a:rPr b="1" i="1" lang="en-US" sz="3200" spc="-1" strike="noStrike">
                <a:solidFill>
                  <a:srgbClr val="020202"/>
                </a:solidFill>
                <a:latin typeface="Arial"/>
              </a:rPr>
              <a:t>one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statement to repea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for x in xrange(5): print “Hello!”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73600" y="6095880"/>
            <a:ext cx="210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simple_for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8E8E-EECC-4332-898B-D90C1ED499C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at Goes in the Loop Body?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Make PB&amp;J Sandwich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Gather materials (bread, PB, J, knives, plate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Open bread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ut 2 pieces of bread on plat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pread PB on one side of one slic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pread Jelly on one side of one slic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lace PB-side facedown on Jelly-side of bread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lose bread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lean knif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ut away material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095880" y="6095880"/>
            <a:ext cx="2725920" cy="36684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Make PB&amp;J sandwich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5181480"/>
            <a:ext cx="2438280" cy="457200"/>
          </a:xfrm>
          <a:prstGeom prst="rect">
            <a:avLst/>
          </a:prstGeom>
          <a:solidFill>
            <a:srgbClr val="ff99cc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20202"/>
                </a:solidFill>
                <a:latin typeface="Tahoma"/>
              </a:rPr>
              <a:t>for</a:t>
            </a: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 x </a:t>
            </a:r>
            <a:r>
              <a:rPr b="1" lang="en-US" sz="2000" spc="-1" strike="noStrike">
                <a:solidFill>
                  <a:srgbClr val="020202"/>
                </a:solidFill>
                <a:latin typeface="Tahoma"/>
              </a:rPr>
              <a:t>in</a:t>
            </a: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 xrange(10)</a:t>
            </a:r>
            <a:r>
              <a:rPr b="1" lang="en-US" sz="2000" spc="-1" strike="noStrike">
                <a:solidFill>
                  <a:srgbClr val="020202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52" name=""/>
          <p:cNvCxnSpPr>
            <a:stCxn id="151" idx="2"/>
            <a:endCxn id="150" idx="0"/>
          </p:cNvCxnSpPr>
          <p:nvPr/>
        </p:nvCxnSpPr>
        <p:spPr>
          <a:xfrm flipH="1">
            <a:off x="7459200" y="5652720"/>
            <a:ext cx="8640" cy="429480"/>
          </a:xfrm>
          <a:prstGeom prst="straightConnector1">
            <a:avLst/>
          </a:prstGeom>
          <a:ln w="2844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2"/>
            <a:endCxn id="151" idx="1"/>
          </p:cNvCxnSpPr>
          <p:nvPr/>
        </p:nvCxnSpPr>
        <p:spPr>
          <a:xfrm flipV="1" rot="16200000">
            <a:off x="6312960" y="5330160"/>
            <a:ext cx="1067760" cy="1226160"/>
          </a:xfrm>
          <a:prstGeom prst="bentConnector4">
            <a:avLst>
              <a:gd name="adj1" fmla="val -20067"/>
              <a:gd name="adj2" fmla="val 129897"/>
            </a:avLst>
          </a:prstGeom>
          <a:ln w="2844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5A57-1A82-4D4E-B586-644078EEA0D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at Goes in the Loop Body?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Make PB&amp;J Sandwich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Gather materials (bread, PB, J, knives, plate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Open bread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Put 2 pieces of bread on plat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Spread PB on one side of one slic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Spread Jelly on one side of one slic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Place PB-side facedown on Jelly-side of bread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lose bread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lean knif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ut away material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85800" y="1752480"/>
            <a:ext cx="7924680" cy="990720"/>
          </a:xfrm>
          <a:prstGeom prst="rect">
            <a:avLst/>
          </a:prstGeom>
          <a:noFill/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85800" y="2819520"/>
            <a:ext cx="7924680" cy="1904760"/>
          </a:xfrm>
          <a:prstGeom prst="rect">
            <a:avLst/>
          </a:prstGeom>
          <a:noFill/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85800" y="4800600"/>
            <a:ext cx="7924680" cy="1523880"/>
          </a:xfrm>
          <a:prstGeom prst="rect">
            <a:avLst/>
          </a:prstGeom>
          <a:noFill/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477120" y="213372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20202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rot="16200000">
            <a:off x="-499680" y="3552840"/>
            <a:ext cx="17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cc"/>
                </a:solidFill>
                <a:latin typeface="Tahoma"/>
              </a:rPr>
              <a:t>Loop Bod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497640" y="5135400"/>
            <a:ext cx="195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20202"/>
                </a:solidFill>
                <a:latin typeface="Tahoma"/>
              </a:rPr>
              <a:t>Finalization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DC6F-73B1-4FBC-8C3C-57A74867544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Using the</a:t>
            </a:r>
            <a:r>
              <a:rPr b="0" lang="en-US" sz="4000" spc="-1" strike="noStrike">
                <a:solidFill>
                  <a:srgbClr val="2017b8"/>
                </a:solidFill>
                <a:latin typeface="Courier New"/>
              </a:rPr>
              <a:t> </a:t>
            </a:r>
            <a:r>
              <a:rPr b="1" lang="en-US" sz="4000" spc="-1" strike="noStrike">
                <a:solidFill>
                  <a:srgbClr val="2017b8"/>
                </a:solidFill>
                <a:latin typeface="Courier New"/>
              </a:rPr>
              <a:t>For </a:t>
            </a: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oop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Good for when know how many times loop will execut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Repeat N tim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for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 x 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n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 xrange(10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statement_1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statement_2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statement_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114800" y="3809880"/>
            <a:ext cx="838080" cy="1981440"/>
          </a:xfrm>
          <a:custGeom>
            <a:avLst/>
            <a:gdLst>
              <a:gd name="textAreaLeft" fmla="*/ 0 w 838080"/>
              <a:gd name="textAreaRight" fmla="*/ 302760 w 838080"/>
              <a:gd name="textAreaTop" fmla="*/ 51480 h 1981440"/>
              <a:gd name="textAreaBottom" fmla="*/ 1929960 h 198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014440" y="4343400"/>
            <a:ext cx="28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- “Body” of for loop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c6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Gets repeated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c6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Note indentation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572000" y="2133720"/>
            <a:ext cx="2416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cc"/>
                </a:solidFill>
                <a:latin typeface="Tahoma"/>
              </a:rPr>
              <a:t>Times to repea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3733560" y="2590920"/>
            <a:ext cx="1904760" cy="68580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A459-8376-4CA1-8B41-9B2A8E2B2EA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Analyzing </a:t>
            </a:r>
            <a:r>
              <a:rPr b="0" lang="en-US" sz="4000" spc="-1" strike="noStrike">
                <a:solidFill>
                  <a:srgbClr val="2017b8"/>
                </a:solidFill>
                <a:latin typeface="Courier New"/>
              </a:rPr>
              <a:t>xrange()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Courier New"/>
              </a:rPr>
              <a:t>xrange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is a built-in functio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at does </a:t>
            </a:r>
            <a:r>
              <a:rPr b="0" lang="en-US" sz="3200" spc="-1" strike="noStrike">
                <a:solidFill>
                  <a:srgbClr val="010199"/>
                </a:solidFill>
                <a:latin typeface="Courier New"/>
              </a:rPr>
              <a:t>xrange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do, exactly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174720" y="6095880"/>
            <a:ext cx="288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xrange_analysis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4E75-9E52-4641-AE1F-787F22E0FDF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xrange</a:t>
            </a:r>
            <a:r>
              <a:rPr b="0" lang="en-US" sz="4000" spc="-1" strike="noStrike">
                <a:solidFill>
                  <a:srgbClr val="010199"/>
                </a:solidFill>
                <a:latin typeface="Tahoma"/>
              </a:rPr>
              <a:t>([start,] stop[, step])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at does the above signature mean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F806-635B-4A9D-B82A-41523841851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xrange</a:t>
            </a:r>
            <a:r>
              <a:rPr b="0" lang="en-US" sz="4000" spc="-1" strike="noStrike">
                <a:solidFill>
                  <a:srgbClr val="010199"/>
                </a:solidFill>
                <a:latin typeface="Tahoma"/>
              </a:rPr>
              <a:t>([start,] stop[, step])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1 argument: xrange(stop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2 arguments: xrange(start, stop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3 arguments: xrange(start, stop, step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446880" y="6168960"/>
            <a:ext cx="253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using_xrange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EF38-2C74-4E3C-AA88-875BE2DA16D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Exponentiatio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Goal: compute -3</a:t>
            </a:r>
            <a:r>
              <a:rPr b="0" lang="en-US" sz="3200" spc="-1" strike="noStrike" baseline="30000">
                <a:solidFill>
                  <a:srgbClr val="020202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uggested: </a:t>
            </a:r>
            <a:r>
              <a:rPr b="1" lang="en-US" sz="2800" spc="-1" strike="noStrike">
                <a:solidFill>
                  <a:srgbClr val="010199"/>
                </a:solidFill>
                <a:latin typeface="Courier New"/>
              </a:rPr>
              <a:t>pow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(-3, 2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lnSpc>
                <a:spcPct val="10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Courier New"/>
              </a:rPr>
              <a:t>pow</a:t>
            </a: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 is a built-in function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How else could we get that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r fun, what is 2 ** -3 ** 2 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FADC-6239-44F6-B191-2375E0A1B36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xrange</a:t>
            </a:r>
            <a:r>
              <a:rPr b="0" lang="en-US" sz="4000" spc="-1" strike="noStrike">
                <a:solidFill>
                  <a:srgbClr val="010199"/>
                </a:solidFill>
                <a:latin typeface="Tahoma"/>
              </a:rPr>
              <a:t>([start,] stop[, step])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1 argument: xrange(stop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terates from 0 to stop-1 with step=1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2 arguments: xrange(start, stop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terates from start to stop-1 with step=1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3 arguments: xrange(start, stop, step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terates from start to stop-1 with step size=step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Note that with negative numbers, 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46880" y="6168960"/>
            <a:ext cx="253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using_xrange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1F4E-BE16-4DFE-B8FA-2E856AD3236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actic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Add 5 numbers, inputted by the use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Average 5 numbers inputted by the use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46D3-EDBC-4036-AAED-1A3CF1CE0B0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Accumulator Design Patter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Initialize accumulator variabl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Loop until don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Update the value of the accumulato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isplay resul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C90D-C04E-45F6-95EB-5AB9C41D86E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ython Librari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ython has a rich library of functions and definitions available for your us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The library is broken into 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modul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Tahoma"/>
              </a:rPr>
              <a:t>A </a:t>
            </a:r>
            <a:r>
              <a:rPr b="1" lang="en-US" sz="2800" spc="-1" strike="noStrike">
                <a:solidFill>
                  <a:srgbClr val="00c600"/>
                </a:solidFill>
                <a:latin typeface="Tahoma"/>
              </a:rPr>
              <a:t>module</a:t>
            </a:r>
            <a:r>
              <a:rPr b="0" lang="en-US" sz="2800" spc="-1" strike="noStrike">
                <a:solidFill>
                  <a:srgbClr val="010199"/>
                </a:solidFill>
                <a:latin typeface="Tahoma"/>
              </a:rPr>
              <a:t> is a file containing Python definitions and statement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Benefits of functions/definitions in module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on’t need to rewrite someone else’s cod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f it’s in a module, it is a very efficient (in terms of computation speed and memory usage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1FD5-99FB-4D48-86AC-1DF71A327B0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Importing Modul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To use the definitions in a module, you must first </a:t>
            </a:r>
            <a:r>
              <a:rPr b="1" lang="en-US" sz="2800" spc="-1" strike="noStrike">
                <a:solidFill>
                  <a:srgbClr val="00c600"/>
                </a:solidFill>
                <a:latin typeface="Arial"/>
              </a:rPr>
              <a:t>import</a:t>
            </a: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 the module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Example: to use the </a:t>
            </a:r>
            <a:r>
              <a:rPr b="1" lang="en-US" sz="2400" spc="-1" strike="noStrike">
                <a:solidFill>
                  <a:srgbClr val="00c600"/>
                </a:solidFill>
                <a:latin typeface="Arial"/>
              </a:rPr>
              <a:t>math</a:t>
            </a: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 module’s definitions, use the the import statement: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Typically import statements are at </a:t>
            </a:r>
            <a:r>
              <a:rPr b="0" i="1" lang="en-US" sz="2400" spc="-1" strike="noStrike">
                <a:solidFill>
                  <a:srgbClr val="010199"/>
                </a:solidFill>
                <a:latin typeface="Arial"/>
              </a:rPr>
              <a:t>top</a:t>
            </a: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 of program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To use, prepend constant or function with “modulename.”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Examples for constants: 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math.e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Examples for functions: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math.sqrt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115880" y="2209680"/>
            <a:ext cx="232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600"/>
                </a:solidFill>
                <a:latin typeface="Arial"/>
              </a:rPr>
              <a:t>import math</a:t>
            </a:r>
            <a:endParaRPr b="0" lang="en-US" sz="32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28120" y="6172200"/>
            <a:ext cx="29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Arial"/>
              </a:rPr>
              <a:t>module_example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8D46-03D6-4F6D-BF56-149BA3A5945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Using Modul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Alternatively can import only a subset of the module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yntax: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from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&lt;library&gt; 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import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&lt;name1&gt;, &lt;name2&gt;, …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: 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from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math 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import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pi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Then, can use just 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pi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instead of 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math.pi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in program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4C55-BC95-44CE-9E0E-E446DFBE2ED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inding Modules To Us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How do I know if some code that I want already exists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ython Library Reference: 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http://docs.python.org/lib/lib.html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r example, </a:t>
            </a:r>
            <a:r>
              <a:rPr b="0" lang="en-US" sz="3200" spc="-1" strike="noStrike">
                <a:solidFill>
                  <a:srgbClr val="00c600"/>
                </a:solidFill>
                <a:latin typeface="Courier New"/>
              </a:rPr>
              <a:t>string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module has functions/constants for manipulating string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r the most part, to practice, in the beginning you will write most of your code from scratch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82B4-4D2D-4722-A66F-D1D52BE6EA4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7086600" y="5181480"/>
            <a:ext cx="1752480" cy="685800"/>
          </a:xfrm>
          <a:prstGeom prst="cube">
            <a:avLst>
              <a:gd name="adj" fmla="val 25000"/>
            </a:avLst>
          </a:prstGeom>
          <a:solidFill>
            <a:srgbClr val="ffff99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prin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ogramming Building Block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6553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ach type of statement is a building block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nitialization/Assignmen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Arithmetic, string concatenation, input/raw_input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rin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mpor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e can combine them to create more complex program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olutions to problem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257800" y="1981080"/>
            <a:ext cx="1523880" cy="609840"/>
          </a:xfrm>
          <a:prstGeom prst="cube">
            <a:avLst>
              <a:gd name="adj" fmla="val 25000"/>
            </a:avLst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Assign.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86600" y="4800600"/>
            <a:ext cx="1752480" cy="609480"/>
          </a:xfrm>
          <a:prstGeom prst="cube">
            <a:avLst>
              <a:gd name="adj" fmla="val 25000"/>
            </a:avLst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Assign.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086600" y="4343400"/>
            <a:ext cx="1752480" cy="609480"/>
          </a:xfrm>
          <a:prstGeom prst="cube">
            <a:avLst>
              <a:gd name="adj" fmla="val 25000"/>
            </a:avLst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Assign.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086600" y="3809880"/>
            <a:ext cx="1752480" cy="685800"/>
          </a:xfrm>
          <a:prstGeom prst="cube">
            <a:avLst>
              <a:gd name="adj" fmla="val 25000"/>
            </a:avLst>
          </a:prstGeom>
          <a:solidFill>
            <a:srgbClr val="ffff99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prin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086600" y="3429000"/>
            <a:ext cx="1752480" cy="609480"/>
          </a:xfrm>
          <a:prstGeom prst="cube">
            <a:avLst>
              <a:gd name="adj" fmla="val 25000"/>
            </a:avLst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Assign.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238880" y="1981080"/>
            <a:ext cx="1524240" cy="609840"/>
          </a:xfrm>
          <a:prstGeom prst="cube">
            <a:avLst>
              <a:gd name="adj" fmla="val 25000"/>
            </a:avLst>
          </a:prstGeom>
          <a:solidFill>
            <a:srgbClr val="ffff99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prin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86600" y="2971800"/>
            <a:ext cx="1752480" cy="609480"/>
          </a:xfrm>
          <a:prstGeom prst="cube">
            <a:avLst>
              <a:gd name="adj" fmla="val 25000"/>
            </a:avLst>
          </a:prstGeom>
          <a:solidFill>
            <a:srgbClr val="ff8ef4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impor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324480" y="1143000"/>
            <a:ext cx="1752840" cy="609480"/>
          </a:xfrm>
          <a:prstGeom prst="cube">
            <a:avLst>
              <a:gd name="adj" fmla="val 25000"/>
            </a:avLst>
          </a:prstGeom>
          <a:solidFill>
            <a:srgbClr val="ff8ef4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impor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A545-291D-4ED1-9188-E380BEB83E6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Design Patter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, repeatable solution to a commonly occurring problem in software desig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late for solutio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AC08-5878-433B-91B5-D87B7B9921D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876920" y="3886200"/>
            <a:ext cx="1752480" cy="685800"/>
          </a:xfrm>
          <a:prstGeom prst="cube">
            <a:avLst>
              <a:gd name="adj" fmla="val 25000"/>
            </a:avLst>
          </a:prstGeom>
          <a:solidFill>
            <a:srgbClr val="ffff99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prin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Design Patter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, repeatable solution to a commonly occurring problem in software desig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late for solutio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xample (</a:t>
            </a:r>
            <a:r>
              <a:rPr b="1" lang="en-US" sz="3200" spc="-1" strike="noStrike">
                <a:solidFill>
                  <a:srgbClr val="020202"/>
                </a:solidFill>
                <a:latin typeface="Arial"/>
              </a:rPr>
              <a:t>Standard Algorithm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Get input from use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o some computatio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isplay outpu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10199"/>
                </a:solidFill>
                <a:latin typeface="Arial"/>
              </a:rPr>
              <a:t>Today</a:t>
            </a:r>
            <a:r>
              <a:rPr b="0" lang="en-US" sz="3200" spc="-1" strike="noStrike">
                <a:solidFill>
                  <a:srgbClr val="010199"/>
                </a:solidFill>
                <a:latin typeface="Arial"/>
              </a:rPr>
              <a:t>: 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learn new building block, new design patter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876920" y="3505320"/>
            <a:ext cx="1752480" cy="609480"/>
          </a:xfrm>
          <a:prstGeom prst="cube">
            <a:avLst>
              <a:gd name="adj" fmla="val 25000"/>
            </a:avLst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Assign.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876920" y="3048120"/>
            <a:ext cx="1752480" cy="609480"/>
          </a:xfrm>
          <a:prstGeom prst="cube">
            <a:avLst>
              <a:gd name="adj" fmla="val 25000"/>
            </a:avLst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Assign.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705720" y="3116160"/>
            <a:ext cx="220968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x = input(“…”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ans = …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print an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5B20-C462-44A3-82E6-2C828BDD3BC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7T01:49:46Z</dcterms:created>
  <dc:creator>Sara Sprenkle</dc:creator>
  <dc:description/>
  <dc:language>en-US</dc:language>
  <cp:lastModifiedBy>Sara Sprenkle</cp:lastModifiedBy>
  <dcterms:modified xsi:type="dcterms:W3CDTF">2007-09-19T20:24:05Z</dcterms:modified>
  <cp:revision>229</cp:revision>
  <dc:subject/>
  <dc:title>PowerPoint Presentation</dc:title>
</cp:coreProperties>
</file>