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325-16BD-459F-BFE4-F71B6725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BBA-76CA-4FF0-BC31-E41C66B5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B2E-3116-4718-A984-E9084B87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4FE-08FE-452B-B46E-B04DFF69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528BF-C665-4402-9751-BC45A1B2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82149-C6CF-43B6-A517-C504270D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58530-8615-44B6-AB54-46391C1B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E887A-A41C-4AFC-8408-0EC32267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BE39E-31A4-421A-A57D-DB39D1C8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810A2-14F3-4382-82FD-9A72C5F0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06C9A-0262-489F-B679-A54EE46D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22A-B258-4FC3-B700-82DD6BE4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FD1D2-C408-46CF-A335-C0DA96E8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820E3-1EFD-4F2C-9A30-B7D03867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AC83D-3047-411A-B442-23130977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97B23-0A28-4B5E-A20A-0E407D34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3F1E6-E52E-4CFE-BE95-2327D142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024-D22E-49E0-9ABF-60E3FF93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C76-0545-461B-B4D6-67311065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2C8-5ABC-472A-AD79-BE437CB0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2A5-A6BB-4A4D-8024-48CD392F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C11E-FB96-4C2C-A3BE-EB25E590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DB8-249D-4D05-B1C6-7099C12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37D-DA62-4764-BDF9-62DF09E3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9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6FEA-7466-4059-9A5C-52156CB86B4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0160-1775-4C9A-925F-B6ECB8DD805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s 1,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371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09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3" idx="2"/>
            <a:endCxn id="84" idx="0"/>
          </p:cNvCxnSpPr>
          <p:nvPr/>
        </p:nvCxnSpPr>
        <p:spPr>
          <a:xfrm flipH="1">
            <a:off x="1028520" y="1828800"/>
            <a:ext cx="876600" cy="3812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4" idx="2"/>
            <a:endCxn id="87" idx="0"/>
          </p:cNvCxnSpPr>
          <p:nvPr/>
        </p:nvCxnSpPr>
        <p:spPr>
          <a:xfrm>
            <a:off x="1028520" y="2666880"/>
            <a:ext cx="952920" cy="381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20920" y="18414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6080" y="114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3" idx="2"/>
            <a:endCxn id="87" idx="0"/>
          </p:cNvCxnSpPr>
          <p:nvPr/>
        </p:nvCxnSpPr>
        <p:spPr>
          <a:xfrm flipH="1" rot="16200000">
            <a:off x="1333440" y="2400120"/>
            <a:ext cx="1219680" cy="76680"/>
          </a:xfrm>
          <a:prstGeom prst="curvedConnector3">
            <a:avLst>
              <a:gd name="adj1" fmla="val 25036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907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7913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2"/>
            <a:endCxn id="91" idx="0"/>
          </p:cNvCxnSpPr>
          <p:nvPr/>
        </p:nvCxnSpPr>
        <p:spPr>
          <a:xfrm flipH="1">
            <a:off x="1104840" y="5257800"/>
            <a:ext cx="87660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91" idx="2"/>
          </p:cNvCxnSpPr>
          <p:nvPr/>
        </p:nvCxnSpPr>
        <p:spPr>
          <a:xfrm>
            <a:off x="1104840" y="6248520"/>
            <a:ext cx="991440" cy="3690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11360" y="52578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3" idx="2"/>
          </p:cNvCxnSpPr>
          <p:nvPr/>
        </p:nvCxnSpPr>
        <p:spPr>
          <a:xfrm flipH="1" rot="16200000">
            <a:off x="1352520" y="5886000"/>
            <a:ext cx="1371960" cy="115200"/>
          </a:xfrm>
          <a:prstGeom prst="curvedConnector3">
            <a:avLst>
              <a:gd name="adj1" fmla="val 2572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990720" y="4800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==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94956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7" idx="2"/>
            <a:endCxn id="97" idx="0"/>
          </p:cNvCxnSpPr>
          <p:nvPr/>
        </p:nvCxnSpPr>
        <p:spPr>
          <a:xfrm flipH="1">
            <a:off x="1104840" y="3505320"/>
            <a:ext cx="876600" cy="444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2"/>
            <a:endCxn id="93" idx="0"/>
          </p:cNvCxnSpPr>
          <p:nvPr/>
        </p:nvCxnSpPr>
        <p:spPr>
          <a:xfrm>
            <a:off x="1104840" y="4406760"/>
            <a:ext cx="876600" cy="3942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97240" y="358128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7" idx="2"/>
            <a:endCxn id="93" idx="0"/>
          </p:cNvCxnSpPr>
          <p:nvPr/>
        </p:nvCxnSpPr>
        <p:spPr>
          <a:xfrm rot="16200000">
            <a:off x="1333440" y="4152960"/>
            <a:ext cx="1295640" cy="360"/>
          </a:xfrm>
          <a:prstGeom prst="curvedConnector2">
            <a:avLst/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 flipH="1">
            <a:off x="5371920" y="1752480"/>
            <a:ext cx="171504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3" idx="2"/>
            <a:endCxn id="106" idx="0"/>
          </p:cNvCxnSpPr>
          <p:nvPr/>
        </p:nvCxnSpPr>
        <p:spPr>
          <a:xfrm>
            <a:off x="5371920" y="2743200"/>
            <a:ext cx="1752840" cy="19814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7560" y="1066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2" idx="2"/>
            <a:endCxn id="110" idx="0"/>
          </p:cNvCxnSpPr>
          <p:nvPr/>
        </p:nvCxnSpPr>
        <p:spPr>
          <a:xfrm flipH="1" rot="16200000">
            <a:off x="7353360" y="1485720"/>
            <a:ext cx="381600" cy="914760"/>
          </a:xfrm>
          <a:prstGeom prst="curvedConnector3">
            <a:avLst>
              <a:gd name="adj1" fmla="val 25118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  <a:endCxn id="106" idx="0"/>
          </p:cNvCxnSpPr>
          <p:nvPr/>
        </p:nvCxnSpPr>
        <p:spPr>
          <a:xfrm flipH="1">
            <a:off x="7124400" y="3581280"/>
            <a:ext cx="121968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2"/>
            <a:endCxn id="113" idx="0"/>
          </p:cNvCxnSpPr>
          <p:nvPr/>
        </p:nvCxnSpPr>
        <p:spPr>
          <a:xfrm flipH="1">
            <a:off x="6896160" y="2590920"/>
            <a:ext cx="1105200" cy="53352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2"/>
            <a:endCxn id="106" idx="0"/>
          </p:cNvCxnSpPr>
          <p:nvPr/>
        </p:nvCxnSpPr>
        <p:spPr>
          <a:xfrm>
            <a:off x="6896160" y="3581280"/>
            <a:ext cx="22860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0" idx="2"/>
          </p:cNvCxnSpPr>
          <p:nvPr/>
        </p:nvCxnSpPr>
        <p:spPr>
          <a:xfrm flipH="1" rot="16200000">
            <a:off x="7911720" y="2679840"/>
            <a:ext cx="520920" cy="342720"/>
          </a:xfrm>
          <a:prstGeom prst="curvedConnector3">
            <a:avLst>
              <a:gd name="adj1" fmla="val 2690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6320" y="563580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ider case num1=5, num2=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00C-B53E-4363-B14F-0205C177F8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l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21" idx="0"/>
          </p:cNvCxnSpPr>
          <p:nvPr/>
        </p:nvCxnSpPr>
        <p:spPr>
          <a:xfrm flipH="1">
            <a:off x="5371920" y="17650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2"/>
            <a:endCxn id="124" idx="0"/>
          </p:cNvCxnSpPr>
          <p:nvPr/>
        </p:nvCxnSpPr>
        <p:spPr>
          <a:xfrm>
            <a:off x="5372280" y="27554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0" idx="2"/>
            <a:endCxn id="127" idx="0"/>
          </p:cNvCxnSpPr>
          <p:nvPr/>
        </p:nvCxnSpPr>
        <p:spPr>
          <a:xfrm flipH="1" rot="16200000">
            <a:off x="7365960" y="14853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2"/>
            <a:endCxn id="124" idx="0"/>
          </p:cNvCxnSpPr>
          <p:nvPr/>
        </p:nvCxnSpPr>
        <p:spPr>
          <a:xfrm flipH="1">
            <a:off x="7124040" y="35942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30" idx="0"/>
          </p:cNvCxnSpPr>
          <p:nvPr/>
        </p:nvCxnSpPr>
        <p:spPr>
          <a:xfrm flipH="1">
            <a:off x="6895440" y="26031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2"/>
            <a:endCxn id="124" idx="0"/>
          </p:cNvCxnSpPr>
          <p:nvPr/>
        </p:nvCxnSpPr>
        <p:spPr>
          <a:xfrm>
            <a:off x="6895800" y="35942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2"/>
          </p:cNvCxnSpPr>
          <p:nvPr/>
        </p:nvCxnSpPr>
        <p:spPr>
          <a:xfrm flipH="1" rot="16200000">
            <a:off x="7917480" y="26856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2096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==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004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 flipH="1">
            <a:off x="952200" y="26794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6" idx="2"/>
            <a:endCxn id="139" idx="0"/>
          </p:cNvCxnSpPr>
          <p:nvPr/>
        </p:nvCxnSpPr>
        <p:spPr>
          <a:xfrm>
            <a:off x="952560" y="36698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283040" y="26798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5" idx="2"/>
            <a:endCxn id="142" idx="0"/>
          </p:cNvCxnSpPr>
          <p:nvPr/>
        </p:nvCxnSpPr>
        <p:spPr>
          <a:xfrm flipH="1" rot="16200000">
            <a:off x="2946240" y="23997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09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0384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39" idx="0"/>
          </p:cNvCxnSpPr>
          <p:nvPr/>
        </p:nvCxnSpPr>
        <p:spPr>
          <a:xfrm flipH="1">
            <a:off x="2704320" y="45086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828800" y="40384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2" idx="2"/>
            <a:endCxn id="145" idx="0"/>
          </p:cNvCxnSpPr>
          <p:nvPr/>
        </p:nvCxnSpPr>
        <p:spPr>
          <a:xfrm flipH="1">
            <a:off x="2475720" y="35175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2"/>
            <a:endCxn id="139" idx="0"/>
          </p:cNvCxnSpPr>
          <p:nvPr/>
        </p:nvCxnSpPr>
        <p:spPr>
          <a:xfrm>
            <a:off x="2476080" y="45086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08296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</p:cNvCxnSpPr>
          <p:nvPr/>
        </p:nvCxnSpPr>
        <p:spPr>
          <a:xfrm flipH="1" rot="16200000">
            <a:off x="3497760" y="36000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905120" y="5638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5080" y="11397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ch tends to be more efficien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E3B-842A-47A0-BE17-230A2A4FAC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MI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ably better to compute as a float and then round to nearest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do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legant if/else condi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840" y="3581280"/>
            <a:ext cx="327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lt; 19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10320" y="4175280"/>
            <a:ext cx="40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gt;= 19 and bmi &lt;=25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6543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As  opposed to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880" y="6093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Both are corr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EE1-1D7E-4DBF-AA5A-E8CE14998F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fficiency and Elega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art thinking more about efficiency and elegance when writing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variable names, good comments, good spac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578-D00A-4AFB-98A5-955D5A27C7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urn in before end of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0C8-8615-4E19-B469-5A268D0A2E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27T16:51:22Z</cp:lastPrinted>
  <dcterms:modified xsi:type="dcterms:W3CDTF">2007-10-10T00:27:57Z</dcterms:modified>
  <cp:revision>514</cp:revision>
  <dc:subject/>
  <dc:title>PowerPoint Presentation</dc:title>
</cp:coreProperties>
</file>