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946E-5305-4950-844E-B9277CD48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C430-6811-4FB0-B5B4-5256BC2F9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C34B-5678-4CF8-A183-F1DC9AD1E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82AD-1297-49A1-AEF0-415C885A5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AE68A8-CBB6-42A0-A74B-D188610C4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97A43-FDD1-4B75-BB7E-9F9EAA52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8C285A1-50D8-4E42-8C72-300F76A2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767603-46E6-4FB2-B3B7-88B858B94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498D82-1256-4E2E-9F6A-D554F3B8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C9D713-45CF-4795-BEE6-25503CB93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8009FD-E25D-40C2-B001-91D6EF8B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D95E-E962-429E-B878-2DE42EAD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87A0A-6F88-434A-B919-9A905DE0F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05B8D7-8058-4A57-94B1-B19BDA8F1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DAA6F0-69ED-4E1A-ACB7-189644991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0A619F-FCF9-4827-A02F-BED4E2D24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28E8C-4775-420C-A9F9-EE3F7BC5B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69B8-060C-49C6-AD88-D56E39EC8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3F76-952F-4E89-92EA-5E92D1DB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D55C-703F-49C2-955B-F737CFAC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E2C6-925B-41C0-B8DE-0D80926A2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230C-0CC1-45F7-9B50-3E4E3DC2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4B2E-2AC4-416F-B7CE-ACB6CE903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AAF2-987A-4FA0-B5D4-F9F2104E1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2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6FC34-4E03-4375-893A-94DE3015FDDE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5ACF-17E8-4028-892D-85E4DF02CCB3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andshak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terminism vs. Non-Determinis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no input and no randomnes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gram always executes the same way with the same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Known as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deterministic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ur programs have been deterministic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ing the random functions will make our program non-deterministic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ecuting program multiple times will result in different execution,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2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etter code readability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etter variable na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scriptive, useful com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blank lines with comments to separate code “block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etty Co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23080" y="1066680"/>
            <a:ext cx="8169480" cy="5582520"/>
          </a:xfrm>
          <a:prstGeom prst="rect">
            <a:avLst/>
          </a:prstGeom>
          <a:solidFill>
            <a:srgbClr val="fffbf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#Make first calculations to ft/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jenny_ft_s = COURT_LENGTH / jennyspee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laura_ft_s = COURT_LENGTH / lauraspee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venus_ft_s = COURT_LENGTH / venusspee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#Make second calculations to mi/hr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jenny_mi_hr = (jenny_ft_s * SECOND_TO_HOUR) * FEET_TO_MIL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laura_mi_hr = (laura_ft_s * SECOND_TO_HOUR) * FEET_TO_MIL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venus_mi_hr = (venus_ft_s * SECOND_TO_HOUR) * FEET_TO_MIL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#Display output nicely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      CISC111 Tennis Pros"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--------------------------------"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\t\t ft/s\t  mi/hr"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Laura\t\t%5.2f\t %6.2f" % (laura_ft_s, laura_mi_hr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Jennifer \t%5.2f\t %6.2f" % (jenny_ft_s, jenny_mi_hr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 "Venus\t\t%5.2f\t %6.2f" % (venus_ft_s, venus_mi_hr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15000" y="2438280"/>
            <a:ext cx="304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600"/>
                </a:solidFill>
                <a:latin typeface="Arial"/>
              </a:rPr>
              <a:t>Comments, Space between blocks of cod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4495680" y="2819520"/>
            <a:ext cx="1371600" cy="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644720" y="380880"/>
            <a:ext cx="324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600"/>
                </a:solidFill>
                <a:latin typeface="Arial"/>
              </a:rPr>
              <a:t>Descriptive variable name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600"/>
                </a:solidFill>
                <a:latin typeface="Arial"/>
              </a:rPr>
              <a:t>Use of constant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523520" y="762120"/>
            <a:ext cx="2971800" cy="91440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3733560" y="914400"/>
            <a:ext cx="990360" cy="83808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8320" y="838080"/>
            <a:ext cx="380880" cy="91440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2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mplate string with format specifi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include other characters besides format specifi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have more than one replacement 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print “Venus %20.2f %10.2f” % (fpers, mph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print “%3d|” % (x*y)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83400" y="5450040"/>
            <a:ext cx="39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Needs to be in parenthes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3352680" y="4572000"/>
            <a:ext cx="609840" cy="914400"/>
          </a:xfrm>
          <a:prstGeom prst="line">
            <a:avLst/>
          </a:prstGeom>
          <a:ln w="3168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2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member to remove ~ files before print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aves paper because extra file isn’t getting printed o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1T23:02:33Z</dcterms:created>
  <dc:creator>Sara Sprenkle</dc:creator>
  <dc:description/>
  <dc:language>en-US</dc:language>
  <cp:lastModifiedBy>Sara Sprenkle</cp:lastModifiedBy>
  <cp:lastPrinted>2007-10-02T17:42:22Z</cp:lastPrinted>
  <dcterms:modified xsi:type="dcterms:W3CDTF">2007-10-02T18:19:23Z</dcterms:modified>
  <cp:revision>29</cp:revision>
  <dc:subject/>
  <dc:title>PowerPoint Presentation</dc:title>
</cp:coreProperties>
</file>