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91C-4FB5-4043-B0CF-92C64A43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BAD-C993-46CB-96E1-B01A5B51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028-D546-434A-A449-57D39FD7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832-6BAD-400F-AB7D-1B91BE5D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C83B5-74FF-4358-A390-CCC4A0C1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E32FC-69C8-47DA-9C70-57909C9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AF677-8416-4AB8-9114-6733FF0A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2722B-7F77-4325-8D70-79079BE0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C0739-4FC1-4A44-96B0-22AE0066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A17CC-2826-4A27-AAD9-3D2D8D16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C4EAE-9706-4713-AD00-8EC71FB0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5EF-7FDE-40B4-B5BA-BEF3F8FD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823EB-73DD-4EB8-895F-AF4EF7DF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AD246-A1EF-4FEA-BCEE-EE3F5E72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38ED6-DF29-48CD-81C6-87C09E13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C3039-2BA0-4893-B5FC-5F0BDDFC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09906-649C-446C-A7FA-F3522E4F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D0E-72A3-4C1A-9CB6-371C8564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FAA-4B22-492D-853A-412B8E9D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E62-A319-4E79-B0FF-0C8FC3A7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E2F-4CFA-400F-BD6A-20A0C9E8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2DE-6E5C-4D44-A139-41B82B8B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F4E-5061-468B-A42E-91A360F9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68C-3FE6-4F2C-8D69-5B9D1D67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1ACA-11F3-4BC2-A279-97CC2F72E19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0DF0-C264-4773-90E9-29DA4AD4F7A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terminism vs. Non-Determinis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no input and no randomn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 always executes the same way with the sam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nown as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r programs have been 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ing the random functions will make our program non-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ing program multiple times will result in different execution,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code readability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ter variable na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ptive, useful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blank lines with comments to separate code “block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tty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3080" y="1066680"/>
            <a:ext cx="8169480" cy="5582520"/>
          </a:xfrm>
          <a:prstGeom prst="rect">
            <a:avLst/>
          </a:prstGeom>
          <a:solidFill>
            <a:srgbClr val="ff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first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ft_s = COURT_LENGTH / jenny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ft_s = COURT_LENGTH / laura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ft_s = COURT_LENGTH / venus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second calculations to mi/h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mi_hr = (jenny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mi_hr = (laura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mi_hr = (venus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Display output nicely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      CISC111 Tennis Pros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--------------------------------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\t\t ft/s\t  mi/hr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Laura\t\t%5.2f\t %6.2f" % (laura_ft_s, laura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Jennifer \t%5.2f\t %6.2f" % (jenny_ft_s, jenny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Venus\t\t%5.2f\t %6.2f" % (venus_ft_s, venus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438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Comments, Space between blocks of cod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95680" y="2819520"/>
            <a:ext cx="1371600" cy="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4720" y="380880"/>
            <a:ext cx="32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Descriptive variable name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Use of constant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23520" y="762120"/>
            <a:ext cx="297180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33560" y="914400"/>
            <a:ext cx="990360" cy="83808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838080"/>
            <a:ext cx="38088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mplate string with 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nclude other characters besides format specifi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have more than one 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Venus %20.2f %10.2f” % (fpers, mph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%3d|” % (x*y)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3400" y="54500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Needs to be in parenthes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52680" y="4572000"/>
            <a:ext cx="60984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member to remove ~ files before prin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aves paper because extra file isn’t getting printed o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02:33Z</dcterms:created>
  <dc:creator>Sara Sprenkle</dc:creator>
  <dc:description/>
  <dc:language>en-US</dc:language>
  <cp:lastModifiedBy>Sara Sprenkle</cp:lastModifiedBy>
  <cp:lastPrinted>2007-10-02T17:42:22Z</cp:lastPrinted>
  <dcterms:modified xsi:type="dcterms:W3CDTF">2007-10-02T18:19:23Z</dcterms:modified>
  <cp:revision>29</cp:revision>
  <dc:subject/>
  <dc:title>PowerPoint Presentation</dc:title>
</cp:coreProperties>
</file>