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39CC-6312-4E62-90A0-ED531291C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BB8F-0C81-48BD-A793-73B54F522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B1E1-F657-48B3-BD6C-59AE5F1A8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9DBD8-34AB-4994-AE3E-B87CC0C70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D0C94-D454-45EC-807E-ACFB1EDBA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91486-7F3D-49DC-99CF-C40AE928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4D595-6156-4BEE-A4C6-5E8330FA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F2E9FA-128D-4449-999D-ACFE5A45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5879DA-10D9-4C5D-AAF7-D8A90D32A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09A2D7-9494-4985-A404-38A12AF23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27F27-C540-4A01-801B-E55DF5BB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1FC1-FEB1-4CC7-836A-A0C60EC93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060AD-423D-4DBC-8E4A-48DA87EA9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26742E-812B-4C95-B208-61ACA55B3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D08E64-9995-4F6C-B028-3B357517A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E45C6A-BCAC-4EB6-AE3D-D95C879E8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46AEA8-044D-4144-AEF0-769B68669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ECC7-0FE2-4672-B9C4-C985AB51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A3BA-253F-434D-8CD5-E1194B5C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284F8-BEF8-43A2-9309-D0088DF68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376E-94B2-4CF9-B3AC-5BA68763D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CDA6-D496-47DF-AD91-11277D35A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B15-F0A6-493E-A123-B5CFA956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D189-DF3C-4BA0-B421-9B3F4D5B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56A6-67BB-4365-AD3A-E97E475D056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45E56-3942-44A9-8B6E-CE0BAB83825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eat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ails got some of you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out co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py directory to turnin direct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practice (expressions into shel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page changes in index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716080" y="47242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initions from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epend constant or function with “modulename.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pi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we write the expression e</a:t>
            </a:r>
            <a:r>
              <a:rPr b="0" lang="en-US" sz="2800" spc="-1" strike="noStrike" baseline="30000">
                <a:solidFill>
                  <a:srgbClr val="010199"/>
                </a:solidFill>
                <a:latin typeface="Arial"/>
              </a:rPr>
              <a:t>i</a:t>
            </a:r>
            <a:r>
              <a:rPr b="0" lang="en-US" sz="2800" spc="-1" strike="noStrike" baseline="30000">
                <a:solidFill>
                  <a:srgbClr val="010199"/>
                </a:solidFill>
                <a:latin typeface="Symbol"/>
                <a:ea typeface="Symbol"/>
              </a:rPr>
              <a:t>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+ 1 in Pyth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101280" y="624852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comments i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igh-level comments, authorshi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s for your algorithms, imple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pect more testing on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good test cases for your program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the output from those test cases.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ut don’t go overboard, testing every possible number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nor Syst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edge the Honor Code on printed shee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Key -- onli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-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ng” listing form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s detailed info about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Last modified da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siz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wners, permiss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s /home/courses/cs111/handouts/lab0/*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.py” extension in comm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s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rst one: more lenient in grad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ter: tougher on grammar, spelling errors, post as a comment, explicitly summarize the top three points, etc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elled out on “CS Issues” pa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ture rubr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log entry - 6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cussion - 4 p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nux Command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l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fill in the appropriate th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g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]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ans optional arg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Move or Rename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v &lt;sourcefile&gt; &lt;destinatio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&lt;destination&gt; is a directory, keeps the original source file’s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: mv ~/labs/file.py labs/lab1/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ile “file.py” will be in labs/lab1 direc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perform some tas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take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argu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/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 value that can be used in 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func_name(arg0, arg1, …, arg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the function, the arguments may or may not be required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[ ]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dicate an optional argu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5067360" y="1638360"/>
            <a:ext cx="457200" cy="4038480"/>
          </a:xfrm>
          <a:custGeom>
            <a:avLst/>
            <a:gdLst>
              <a:gd name="textAreaLeft" fmla="*/ 0 w 457200"/>
              <a:gd name="textAreaRight" fmla="*/ 164880 w 457200"/>
              <a:gd name="textAreaTop" fmla="*/ 105120 h 4038480"/>
              <a:gd name="textAreaBottom" fmla="*/ 3933360 h 4038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659400" y="2971800"/>
            <a:ext cx="343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Argument/parameter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raw_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prompt is given as an argument, prints the prompt without a newline/carriage retur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prompt, just waits for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user’s input (up to “enter”) a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put([prompt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t returns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numb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1520" y="99072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Known as function’s “signatur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1371600"/>
            <a:ext cx="990360" cy="10666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11920" y="148752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Template for how to “call” func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626080" y="1944720"/>
            <a:ext cx="268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Optional argu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4267080" y="2133720"/>
            <a:ext cx="1371600" cy="1522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Built-i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(x[,n]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und the float t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digits after the decimal po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round to nearest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bs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absolute valu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e(x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the type of </a:t>
            </a:r>
            <a:r>
              <a:rPr b="0" lang="en-US" sz="2800" spc="-1" strike="noStrike">
                <a:solidFill>
                  <a:srgbClr val="00c600"/>
                </a:solidFill>
                <a:latin typeface="Courier New"/>
              </a:rPr>
              <a:t>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695560" y="632160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unction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18T17:55:52Z</cp:lastPrinted>
  <dcterms:modified xsi:type="dcterms:W3CDTF">2007-09-18T18:53:02Z</dcterms:modified>
  <cp:revision>69</cp:revision>
  <dc:subject/>
  <dc:title>PowerPoint Presentation</dc:title>
</cp:coreProperties>
</file>