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D6DA-E8FB-491D-9A48-3CF8881E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09DF-7477-4BC7-9D74-A5B857B3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5AF0-8174-49C1-B34E-CE21CC3F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EBFD-CDB9-4DA6-A95C-9026B25E9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802D5-4D60-4684-9581-1D8044AD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B59AC-5E89-45B1-86CD-FDA17064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604C5-03AD-4844-B65A-7A378890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DCC00-7005-4320-8B26-C63A578D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321D6-3B7A-4F1D-9AE4-FDCBE6FD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FEC79-03F7-4647-8B10-B9F2B935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B7026-7813-40D7-9575-C2C92215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4836-C091-4CC9-9A37-9A700C73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2CCBF-0D36-4AC4-8A80-50A47045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E58CE-EEB8-444E-842D-3369DB0D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E831D-53C5-4F35-807D-4B6706AC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887F1-65FD-4D5C-9423-9F2DFD20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FA5CE-A9C4-4463-9F99-40276D3B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F858-6D90-4966-B5E7-7067219A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F9B4-E1E3-4B98-B7F3-D9F65351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7086-7CAC-440E-B897-80E83F43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49FC-E3EE-432B-94F0-5A2743A6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BC9C-7293-4BB8-A45C-818F57F0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440F-9CE5-4A52-BEFA-840741AA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75CC-58E8-4E14-A970-9034E94C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8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54F9-2C9F-4A2F-B561-F466E66BF2BE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C297-DE5F-4822-9C16-F20B7D82C4EA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nnouncement: Midterm prep docume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stants revie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 method revie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ing your own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4ADA-6E9A-4233-A747-2176CA72F30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arison of Code Using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ithout function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nu_withoutfunc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ith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nu_withfunctions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7521-E4B0-4FB9-B59C-D86804828D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2, Problem 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place to make a function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place that has some useful code that we may want to reus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AD52-796B-46DB-B3B4-61BEFA4D05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 ft/s to mph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3352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put: ft/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utput: mp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1523880"/>
            <a:ext cx="2971800" cy="1371600"/>
          </a:xfrm>
          <a:prstGeom prst="rect">
            <a:avLst/>
          </a:prstGeom>
          <a:solidFill>
            <a:srgbClr val="020202"/>
          </a:solidFill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ftpersToMP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8080" y="2209680"/>
            <a:ext cx="12952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45160" y="2209680"/>
            <a:ext cx="17524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5040" y="197820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64960" y="197820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out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66080" y="174960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Ft/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66000" y="17496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P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BCD0-3906-4C27-AED3-14DA647539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yntax of Function Defini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527040" y="1600200"/>
            <a:ext cx="83883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2680" indent="-11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ftpsToMPH(ftps) </a:t>
            </a:r>
            <a:r>
              <a:rPr b="1" lang="en-US" sz="26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SECOND_TO_HOUR = 3600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FEET_TO_MILE = (1.0/5280)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result = ftps * SECOND_TO_HOUR * FEET_TO_MILE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" y="128412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Keywor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12400" y="1270080"/>
            <a:ext cx="125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Function</a:t>
            </a:r>
            <a:br>
              <a:rPr sz="2000"/>
            </a:b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Nam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75160" y="1143000"/>
            <a:ext cx="163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Input Name/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Parameter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-368640" y="2728800"/>
            <a:ext cx="220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Body (or function definition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8040" y="5105520"/>
            <a:ext cx="247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Keyword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How to give outpu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96920" y="1676520"/>
            <a:ext cx="0" cy="8380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68520" y="1905120"/>
            <a:ext cx="0" cy="5331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882600" y="1752480"/>
            <a:ext cx="338040" cy="6652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554120" y="4419720"/>
            <a:ext cx="351000" cy="7617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24382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10199"/>
                </a:solidFill>
                <a:latin typeface="Arial"/>
              </a:rPr>
              <a:t>Function head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2864-C8DE-4678-912F-7934D5F982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ere are functions in the cod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be defined in script before use (calling it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ld be in separate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 to use in scrip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menu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ine in modules when functions are reusable for many different program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Benefits: shorter code (no function defns), isolate testing of function, write “test driver” scripts to test functions separately from use in scrip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E917-1CB1-4287-AB8A-8A5B4DF659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inputs to a function are called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r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argu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call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/using functions, parameters must appear in same order as in the function head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round(x, n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float to round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integer of decimal places to round to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D4DC-11C3-47A6-A5B8-1A86028395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Formal 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the variables named in the the function definition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Actual 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the variables or literals that really get used when the function is called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def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round(x, n) :</a:t>
            </a:r>
            <a:br>
              <a:rPr sz="3200"/>
            </a:b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oundCelc = round(celc,2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l &amp; actual parameters must match in order, number, and type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Form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648320" y="3429000"/>
            <a:ext cx="121896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105520" y="3429000"/>
            <a:ext cx="76176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590920" y="3276720"/>
            <a:ext cx="1218960" cy="3808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048120" y="3276720"/>
            <a:ext cx="761760" cy="3808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DF8C-467B-492A-96CD-F5D621BE94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 the code reaches a statement lik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retur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x is the output returned to the place where function called and the function st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functions that don’t have explicit output, return does not have a value with i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retur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Optional: don’t need to have return (see </a:t>
            </a:r>
            <a:r>
              <a:rPr b="0" lang="en-US" sz="2600" spc="-1" strike="noStrike">
                <a:solidFill>
                  <a:srgbClr val="00c600"/>
                </a:solidFill>
                <a:latin typeface="Arial"/>
              </a:rPr>
              <a:t>menu.py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3ABE-19B4-4924-9430-CCFD9A8874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alling your own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jennifer_mph = ftpsToMPH(jen_ft_sec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ura_mph = ftpsToMPH(laura_ft_sec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venus_mph = ftpsToMPH(venus_ft_sec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88620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Output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is assigned to venus_mp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720" y="4054320"/>
            <a:ext cx="14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Function</a:t>
            </a:r>
            <a:br>
              <a:rPr sz="2400"/>
            </a:b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50480" y="41148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447920" y="3352680"/>
            <a:ext cx="1143000" cy="53352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962520" y="3504960"/>
            <a:ext cx="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019920" y="3504960"/>
            <a:ext cx="0" cy="68580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2971800"/>
            <a:ext cx="2133360" cy="533520"/>
          </a:xfrm>
          <a:prstGeom prst="rect">
            <a:avLst/>
          </a:prstGeom>
          <a:solidFill>
            <a:srgbClr val="6699ff">
              <a:alpha val="31000"/>
            </a:srgbClr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C01D-97B5-4774-936C-0E3DB44FD3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en you call the function, the computer jumps to the function and executes i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en it is done, it returns to the same place in the first code where it left off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98720" y="3427560"/>
            <a:ext cx="391536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ftpsToMPH(ftps) </a:t>
            </a:r>
            <a:r>
              <a:rPr b="1" lang="en-US" sz="20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S2HR = 3600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FT2MI = (1.0/5280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result = ftps * S2HR * FT2MI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666880" y="3580920"/>
            <a:ext cx="1981440" cy="129564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809880" y="4952880"/>
            <a:ext cx="1447920" cy="7632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6800" y="3733920"/>
            <a:ext cx="36248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COURT_LEN = 78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#Make calculations to ft/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j_ft_s = COURT_LEN / jSpee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j_mi_hr = ftpersToMPH(j_ft_s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14160" y="5973840"/>
            <a:ext cx="46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e: not great variable nam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6821-D907-4E4D-80AD-8EBD0EEC60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stants Review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stants: don’t change for “life” of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uring one program exec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it’s a constant always (like PI), that’s tr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ld play Rainbow Dice to 10, 100, or 100000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kes easy to change program once at to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93D2-A1BF-46C0-9777-676A5BF562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4876920"/>
            <a:ext cx="4343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The max is”, z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886200"/>
            <a:ext cx="220968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z=max(x, y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8" idx="2"/>
            <a:endCxn id="167" idx="0"/>
          </p:cNvCxnSpPr>
          <p:nvPr/>
        </p:nvCxnSpPr>
        <p:spPr>
          <a:xfrm>
            <a:off x="2323800" y="43578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endCxn id="168" idx="0"/>
          </p:cNvCxnSpPr>
          <p:nvPr/>
        </p:nvCxnSpPr>
        <p:spPr>
          <a:xfrm>
            <a:off x="2323800" y="3443400"/>
            <a:ext cx="1080" cy="4291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8" idx="3"/>
            <a:endCxn id="172" idx="1"/>
          </p:cNvCxnSpPr>
          <p:nvPr/>
        </p:nvCxnSpPr>
        <p:spPr>
          <a:xfrm flipV="1">
            <a:off x="3443040" y="1371240"/>
            <a:ext cx="1267560" cy="2743920"/>
          </a:xfrm>
          <a:prstGeom prst="bentConnector3">
            <a:avLst>
              <a:gd name="adj1" fmla="val 50000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74" idx="1"/>
            <a:endCxn id="168" idx="3"/>
          </p:cNvCxnSpPr>
          <p:nvPr/>
        </p:nvCxnSpPr>
        <p:spPr>
          <a:xfrm rot="10800000">
            <a:off x="3443400" y="4114080"/>
            <a:ext cx="1953000" cy="1448640"/>
          </a:xfrm>
          <a:prstGeom prst="bentConnector3">
            <a:avLst>
              <a:gd name="adj1" fmla="val 50000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 flipV="1">
            <a:off x="1828800" y="3962520"/>
            <a:ext cx="1219320" cy="304560"/>
          </a:xfrm>
          <a:prstGeom prst="line">
            <a:avLst/>
          </a:prstGeom>
          <a:ln w="63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62320" y="335268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Gets replaced with function’s output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213372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2971800"/>
            <a:ext cx="28195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y = input(“Enter …”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7" idx="2"/>
            <a:endCxn id="178" idx="0"/>
          </p:cNvCxnSpPr>
          <p:nvPr/>
        </p:nvCxnSpPr>
        <p:spPr>
          <a:xfrm>
            <a:off x="2323800" y="2604600"/>
            <a:ext cx="1080" cy="35316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 flipH="1" flipV="1">
            <a:off x="761760" y="2437920"/>
            <a:ext cx="152280" cy="68580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371600"/>
            <a:ext cx="121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To </a:t>
            </a:r>
            <a:r>
              <a:rPr b="1" lang="en-US" sz="2200" spc="-1" strike="noStrike">
                <a:solidFill>
                  <a:srgbClr val="010199"/>
                </a:solidFill>
                <a:latin typeface="Tahoma"/>
              </a:rPr>
              <a:t>input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 function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81" idx="2"/>
            <a:endCxn id="178" idx="1"/>
          </p:cNvCxnSpPr>
          <p:nvPr/>
        </p:nvCxnSpPr>
        <p:spPr>
          <a:xfrm flipH="1" rot="16200000">
            <a:off x="390240" y="2691360"/>
            <a:ext cx="727560" cy="29124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4648320" y="4114800"/>
            <a:ext cx="22096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86400" y="304812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86" idx="2"/>
            <a:endCxn id="184" idx="0"/>
          </p:cNvCxnSpPr>
          <p:nvPr/>
        </p:nvCxnSpPr>
        <p:spPr>
          <a:xfrm>
            <a:off x="6667200" y="25290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5715000" y="2057400"/>
            <a:ext cx="19051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02400" y="35053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34680" y="3581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10280" y="411480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83" idx="2"/>
            <a:endCxn id="174" idx="0"/>
          </p:cNvCxnSpPr>
          <p:nvPr/>
        </p:nvCxnSpPr>
        <p:spPr>
          <a:xfrm>
            <a:off x="5752800" y="4586040"/>
            <a:ext cx="1105560" cy="7340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74" name=""/>
          <p:cNvSpPr/>
          <p:nvPr/>
        </p:nvSpPr>
        <p:spPr>
          <a:xfrm>
            <a:off x="5410080" y="5334120"/>
            <a:ext cx="289584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4" idx="2"/>
            <a:endCxn id="183" idx="0"/>
          </p:cNvCxnSpPr>
          <p:nvPr/>
        </p:nvCxnSpPr>
        <p:spPr>
          <a:xfrm flipH="1">
            <a:off x="5752800" y="3519360"/>
            <a:ext cx="9151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72" idx="2"/>
            <a:endCxn id="186" idx="0"/>
          </p:cNvCxnSpPr>
          <p:nvPr/>
        </p:nvCxnSpPr>
        <p:spPr>
          <a:xfrm>
            <a:off x="6667200" y="1614600"/>
            <a:ext cx="1080" cy="4291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4724280" y="1143000"/>
            <a:ext cx="38862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max(num1, num2) </a:t>
            </a: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4" idx="2"/>
            <a:endCxn id="189" idx="0"/>
          </p:cNvCxnSpPr>
          <p:nvPr/>
        </p:nvCxnSpPr>
        <p:spPr>
          <a:xfrm>
            <a:off x="6667560" y="3519360"/>
            <a:ext cx="13723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89" idx="2"/>
            <a:endCxn id="174" idx="0"/>
          </p:cNvCxnSpPr>
          <p:nvPr/>
        </p:nvCxnSpPr>
        <p:spPr>
          <a:xfrm flipH="1">
            <a:off x="6857280" y="4586040"/>
            <a:ext cx="1181880" cy="7340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4867920" y="258840"/>
            <a:ext cx="371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 gets the value of 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 gets the value of 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BE2E-A7C6-4E96-B86F-567DC8674B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: Using retu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if num1 &gt;= num2 :</a:t>
            </a:r>
            <a:br>
              <a:rPr sz="2200"/>
            </a:b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else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z = max( x, y 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4267080"/>
            <a:ext cx="220968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6400" y="320040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201" idx="2"/>
            <a:endCxn id="199" idx="0"/>
          </p:cNvCxnSpPr>
          <p:nvPr/>
        </p:nvCxnSpPr>
        <p:spPr>
          <a:xfrm flipH="1">
            <a:off x="6667200" y="2528640"/>
            <a:ext cx="38880" cy="6577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5321520" y="3733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34680" y="37339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10280" y="4267080"/>
            <a:ext cx="20574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199" idx="2"/>
            <a:endCxn id="198" idx="0"/>
          </p:cNvCxnSpPr>
          <p:nvPr/>
        </p:nvCxnSpPr>
        <p:spPr>
          <a:xfrm flipH="1">
            <a:off x="5752800" y="3672000"/>
            <a:ext cx="9151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4572000" y="2057400"/>
            <a:ext cx="426708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x(num1, num2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199" idx="2"/>
            <a:endCxn id="204" idx="0"/>
          </p:cNvCxnSpPr>
          <p:nvPr/>
        </p:nvCxnSpPr>
        <p:spPr>
          <a:xfrm>
            <a:off x="6667560" y="3672000"/>
            <a:ext cx="13723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204" idx="2"/>
          </p:cNvCxnSpPr>
          <p:nvPr/>
        </p:nvCxnSpPr>
        <p:spPr>
          <a:xfrm rot="5400000">
            <a:off x="7035840" y="4178880"/>
            <a:ext cx="443520" cy="156276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822040" y="533412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return to call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09" name=""/>
          <p:cNvCxnSpPr/>
          <p:nvPr/>
        </p:nvCxnSpPr>
        <p:spPr>
          <a:xfrm rot="5400000">
            <a:off x="4826160" y="4164480"/>
            <a:ext cx="44388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429B-EB42-474E-955A-6D449A3C23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: Using retu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if num1 &gt;= num2 :</a:t>
            </a:r>
            <a:br>
              <a:rPr sz="2200"/>
            </a:b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z = max( x, y 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38480" y="4267080"/>
            <a:ext cx="221004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29200" y="320040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5" idx="2"/>
            <a:endCxn id="213" idx="0"/>
          </p:cNvCxnSpPr>
          <p:nvPr/>
        </p:nvCxnSpPr>
        <p:spPr>
          <a:xfrm flipH="1">
            <a:off x="6210000" y="2528640"/>
            <a:ext cx="38880" cy="6577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4864320" y="3733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5715000"/>
            <a:ext cx="20574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13" idx="2"/>
            <a:endCxn id="212" idx="0"/>
          </p:cNvCxnSpPr>
          <p:nvPr/>
        </p:nvCxnSpPr>
        <p:spPr>
          <a:xfrm flipH="1">
            <a:off x="5142960" y="3672000"/>
            <a:ext cx="106740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4114800" y="2057400"/>
            <a:ext cx="426708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7" idx="2"/>
          </p:cNvCxnSpPr>
          <p:nvPr/>
        </p:nvCxnSpPr>
        <p:spPr>
          <a:xfrm rot="5400000">
            <a:off x="5054760" y="5626800"/>
            <a:ext cx="44352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2441160" y="571500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return to call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21" name=""/>
          <p:cNvCxnSpPr/>
          <p:nvPr/>
        </p:nvCxnSpPr>
        <p:spPr>
          <a:xfrm rot="5400000">
            <a:off x="4140360" y="4164480"/>
            <a:ext cx="44388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3" idx="2"/>
            <a:endCxn id="217" idx="0"/>
          </p:cNvCxnSpPr>
          <p:nvPr/>
        </p:nvCxnSpPr>
        <p:spPr>
          <a:xfrm rot="5400000">
            <a:off x="5119200" y="4609800"/>
            <a:ext cx="2029320" cy="153000"/>
          </a:xfrm>
          <a:prstGeom prst="curvedConnector5">
            <a:avLst>
              <a:gd name="adj1" fmla="val 71504"/>
              <a:gd name="adj2" fmla="val 50000"/>
              <a:gd name="adj3" fmla="val 71504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311880" y="4657680"/>
            <a:ext cx="28321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Implicit false branch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Only way got here is if the condition was not tru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2CE0-785B-4C25-B2FF-09B564F281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ssing 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nly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copie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the actual parameters are given to th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actual parameters in the calling code do not change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wap 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wap two values in scrip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n, put into a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42E6-0F74-440F-A15D-BA730FA2D9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ethod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available operations to perform on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lightly different than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method: find(substring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nds the index where substring is in 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-1 if substring isn’t fou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call a method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tring&gt;.methodname([arguments]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filename.find(“.py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08320" y="612612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xecuted on this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048120" y="5866920"/>
            <a:ext cx="304560" cy="3049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7F55-3EAC-46D8-A24C-52A7CE56EE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on String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04920" y="1143000"/>
          <a:ext cx="8610480" cy="4959360"/>
        </p:xfrm>
        <a:graphic>
          <a:graphicData uri="http://schemas.openxmlformats.org/drawingml/2006/table">
            <a:tbl>
              <a:tblPr/>
              <a:tblGrid>
                <a:gridCol w="3581280"/>
                <a:gridCol w="5029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thod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per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enter(width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a copy of string centered within the given number of column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unt(sub[, start [, end]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# of non-overlapping occurrences of substring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 the string.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ndswith(sub), startswith(sub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ff string ends with/starts with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sub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nd(sub[, start [, end]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first index where substring 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found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salpha(), isdigit(), isspace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ff string contains letters/digits/whitespace only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ower(), upper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copy of string converted to lowercase/lowercase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5312160" y="632448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_method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A9C3-1119-47E1-A07E-29B0217E66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Methods vs.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: all “input” as arguments/parame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le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s a built-in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lled as len(st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ethods: “input” are argument/parameters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e string the method was called 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 call: str.upper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2D1C-83BB-4EC1-B795-15324AFBC8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 Using String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dify binaryToDecimal.py to verify that the entered string contains only numb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one of the string method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could we make sure that it contains only 0s and 1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2F92-79ED-430F-B486-9C185A18F8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’ve used several built-in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en, input, raw_in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unctions from modules, e.g., math and rando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Functions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re small pieces of code that can be used in other pieces of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ubprograms that have been given a nam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ave 0 or more inpu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duce 0 or 1 outpu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fine our own function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C065-8CC0-4A11-ADC9-40D9DD6D41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 is a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black bo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lementation doesn’t mat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care that function generates appropriate output, given appropriate input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dn’t care how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function was implemen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73360" y="4648320"/>
            <a:ext cx="2971800" cy="1371600"/>
          </a:xfrm>
          <a:prstGeom prst="rect">
            <a:avLst/>
          </a:prstGeom>
          <a:solidFill>
            <a:srgbClr val="020202"/>
          </a:solidFill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raw_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8080" y="5334120"/>
            <a:ext cx="12952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45160" y="5334120"/>
            <a:ext cx="17524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040" y="510228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64960" y="502920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out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17240" y="480060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promp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89720" y="48006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ser_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57150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e saved output in a variab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7CD7-2E36-4B9D-AE73-7EAE63C6E6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write function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Allows you to break up a hard problem into smaller, more manageable part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kes your code easier to understand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Hides implementation details (</a:t>
            </a:r>
            <a:r>
              <a:rPr b="0" i="1" lang="en-US" sz="2800" spc="-1" strike="noStrike">
                <a:solidFill>
                  <a:srgbClr val="020202"/>
                </a:solidFill>
                <a:latin typeface="Arial"/>
              </a:rPr>
              <a:t>abstraction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Provides interface (input, output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kes part of the code reusable so that you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nly have to type code o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debug it all at o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Isolates errors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make changes in one function (maintainability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4DAC-8B01-477B-BC96-61D7763C17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08T20:55:54Z</dcterms:modified>
  <cp:revision>1293</cp:revision>
  <dc:subject/>
  <dc:title>PowerPoint Presentation</dc:title>
</cp:coreProperties>
</file>