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C0C-043D-4933-ACCA-54C79792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753D-35D8-4145-A7EC-52A5D571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9F9-AC73-49AF-8103-667DA5F3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7FE-AB00-49DB-AEF7-51BBF098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062C4-FE69-43B2-B936-E4DE6D14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E1AA5-52D6-40D5-9FE2-55A3F1CE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1F973-A653-4B6E-BB6D-EEE5D025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19964-90D3-40E7-8307-FCB58D35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56816-9EAD-490C-AE19-7969B4E8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EC392-79BA-49F8-A020-C02067D2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6A5BA-3A48-491A-BFF1-812512DF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447-2E64-418E-BF13-53BACDF7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AEE72-A20F-419D-BC26-89B934ED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D36BA-C444-4509-B0E8-E4584590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57B62-E47C-431F-B8A0-3C8E571A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F73EA-0AFA-4584-A4D9-EA5AF25B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46615-C874-4555-A1DD-180792BE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368-9D53-43CF-9A54-1C6C2143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002-B435-4C2E-9479-7E10BB4F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B3BD-A85A-4607-AFD9-7927A651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135-2742-4E18-8AAD-28512EA5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E76-3B15-495F-A4D4-C15DFB46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ED3-9F66-4DAD-A2A3-100CB4C5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28D-94DC-4212-BB6D-97E153B5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C782-F7D0-480E-9BAA-EEB29B6CD98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D8ED-2B9D-4887-BC02-B20D9D2962A1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3D9-DFC2-4264-AFC7-BFB99FEEFE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876920"/>
            <a:ext cx="4343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The max is”, z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3886200"/>
            <a:ext cx="22096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z=max(x, y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2"/>
            <a:endCxn id="125" idx="0"/>
          </p:cNvCxnSpPr>
          <p:nvPr/>
        </p:nvCxnSpPr>
        <p:spPr>
          <a:xfrm>
            <a:off x="2323800" y="43578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endCxn id="126" idx="0"/>
          </p:cNvCxnSpPr>
          <p:nvPr/>
        </p:nvCxnSpPr>
        <p:spPr>
          <a:xfrm>
            <a:off x="2323800" y="34434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3"/>
            <a:endCxn id="130" idx="1"/>
          </p:cNvCxnSpPr>
          <p:nvPr/>
        </p:nvCxnSpPr>
        <p:spPr>
          <a:xfrm flipV="1">
            <a:off x="3443040" y="1371240"/>
            <a:ext cx="1267560" cy="274392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32" idx="1"/>
            <a:endCxn id="126" idx="3"/>
          </p:cNvCxnSpPr>
          <p:nvPr/>
        </p:nvCxnSpPr>
        <p:spPr>
          <a:xfrm rot="10800000">
            <a:off x="3443400" y="4114080"/>
            <a:ext cx="19530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 flipV="1">
            <a:off x="1828800" y="3962520"/>
            <a:ext cx="1219320" cy="304560"/>
          </a:xfrm>
          <a:prstGeom prst="line">
            <a:avLst/>
          </a:prstGeom>
          <a:ln w="63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3526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Gets replaced with function’s output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13372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2971800"/>
            <a:ext cx="28195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y = input(“Enter 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2"/>
            <a:endCxn id="136" idx="0"/>
          </p:cNvCxnSpPr>
          <p:nvPr/>
        </p:nvCxnSpPr>
        <p:spPr>
          <a:xfrm>
            <a:off x="2323800" y="2604600"/>
            <a:ext cx="1080" cy="35316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 flipH="1" flipV="1">
            <a:off x="761760" y="2437920"/>
            <a:ext cx="15228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37160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To </a:t>
            </a:r>
            <a:r>
              <a:rPr b="1" lang="en-US" sz="2200" spc="-1" strike="noStrike">
                <a:solidFill>
                  <a:srgbClr val="010199"/>
                </a:solidFill>
                <a:latin typeface="Tahoma"/>
              </a:rPr>
              <a:t>input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9" idx="2"/>
            <a:endCxn id="136" idx="1"/>
          </p:cNvCxnSpPr>
          <p:nvPr/>
        </p:nvCxnSpPr>
        <p:spPr>
          <a:xfrm flipH="1" rot="16200000">
            <a:off x="390240" y="2691360"/>
            <a:ext cx="727560" cy="29124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648320" y="4114800"/>
            <a:ext cx="22096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304812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2"/>
            <a:endCxn id="142" idx="0"/>
          </p:cNvCxnSpPr>
          <p:nvPr/>
        </p:nvCxnSpPr>
        <p:spPr>
          <a:xfrm>
            <a:off x="6667200" y="25290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715000" y="2057400"/>
            <a:ext cx="19051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26440" y="3517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3468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411480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2"/>
            <a:endCxn id="132" idx="0"/>
          </p:cNvCxnSpPr>
          <p:nvPr/>
        </p:nvCxnSpPr>
        <p:spPr>
          <a:xfrm>
            <a:off x="5752800" y="4586040"/>
            <a:ext cx="110556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410080" y="5334120"/>
            <a:ext cx="28958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2" idx="2"/>
            <a:endCxn id="141" idx="0"/>
          </p:cNvCxnSpPr>
          <p:nvPr/>
        </p:nvCxnSpPr>
        <p:spPr>
          <a:xfrm flipH="1">
            <a:off x="5752800" y="351936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0" idx="2"/>
            <a:endCxn id="144" idx="0"/>
          </p:cNvCxnSpPr>
          <p:nvPr/>
        </p:nvCxnSpPr>
        <p:spPr>
          <a:xfrm>
            <a:off x="6667200" y="16146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4724280" y="1143000"/>
            <a:ext cx="38862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max(num1, num2)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2" idx="2"/>
            <a:endCxn id="147" idx="0"/>
          </p:cNvCxnSpPr>
          <p:nvPr/>
        </p:nvCxnSpPr>
        <p:spPr>
          <a:xfrm>
            <a:off x="6667560" y="351936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7" idx="2"/>
            <a:endCxn id="132" idx="0"/>
          </p:cNvCxnSpPr>
          <p:nvPr/>
        </p:nvCxnSpPr>
        <p:spPr>
          <a:xfrm flipH="1">
            <a:off x="6857280" y="4586040"/>
            <a:ext cx="118188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4867920" y="25884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 gets the value of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 gets the value of 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F48-AADB-4A06-9FB0-BE776DE479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4267080"/>
            <a:ext cx="22100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9" idx="2"/>
            <a:endCxn id="157" idx="0"/>
          </p:cNvCxnSpPr>
          <p:nvPr/>
        </p:nvCxnSpPr>
        <p:spPr>
          <a:xfrm flipH="1">
            <a:off x="62100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8643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571500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7" idx="2"/>
            <a:endCxn id="156" idx="0"/>
          </p:cNvCxnSpPr>
          <p:nvPr/>
        </p:nvCxnSpPr>
        <p:spPr>
          <a:xfrm flipH="1">
            <a:off x="5142960" y="3672000"/>
            <a:ext cx="106740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41148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1" idx="2"/>
          </p:cNvCxnSpPr>
          <p:nvPr/>
        </p:nvCxnSpPr>
        <p:spPr>
          <a:xfrm rot="5400000">
            <a:off x="5054760" y="5626800"/>
            <a:ext cx="44352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441160" y="57150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5" name=""/>
          <p:cNvCxnSpPr/>
          <p:nvPr/>
        </p:nvCxnSpPr>
        <p:spPr>
          <a:xfrm rot="5400000">
            <a:off x="41403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7" idx="2"/>
            <a:endCxn id="161" idx="0"/>
          </p:cNvCxnSpPr>
          <p:nvPr/>
        </p:nvCxnSpPr>
        <p:spPr>
          <a:xfrm rot="5400000">
            <a:off x="5119200" y="4609800"/>
            <a:ext cx="2029320" cy="153000"/>
          </a:xfrm>
          <a:prstGeom prst="curvedConnector5">
            <a:avLst>
              <a:gd name="adj1" fmla="val 71504"/>
              <a:gd name="adj2" fmla="val 50000"/>
              <a:gd name="adj3" fmla="val 71504"/>
            </a:avLst>
          </a:prstGeom>
          <a:ln w="3168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6311880" y="4657680"/>
            <a:ext cx="2832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mplicit false branch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Only way got here is if the condition was not tru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5CA-09E9-4593-B0E5-161C5BB673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return to “shortcut”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output as soon as know answ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are efficiency of two functions in binaryToDecimal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8AC-1430-40A0-A1B3-97C3FBED93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ssing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the actual parameters are given to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actu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parameters in the calling code do not change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ed example with swap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A4A-298F-4F72-8F1C-5712F2A1B2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Organiz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can go inside of program scrip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d before us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can go inside a separate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s code in ma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to reuse by importing from a modu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tains the “black box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87E-070B-4B9F-8C4B-136E4388B3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main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many languages, you put the “driver” for your program in a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ou can (and should) do this in Python as wel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thods go at the top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ers can quickly see what program do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usually takes no 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1520" y="487692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def main()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39CC-0331-4C64-8666-720E4E0D96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a main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l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 at the bottom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de-effect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not need to define functions befor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can “see” other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e that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function that calls other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20202"/>
                </a:solidFill>
                <a:latin typeface="Arial"/>
              </a:rPr>
              <a:t>Any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unction can call other functions 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9440" y="6186600"/>
            <a:ext cx="18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oldmac.p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B4B-B825-4BAB-BAED-357D765561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 with a main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ldmac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AB5-7BD2-45A3-AF39-38CCCD79FD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12193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Why can we name two variables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03C0-FD7C-45BE-B3E9-A5DAEB96B4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96320" y="426708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 st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7680" y="60199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unction names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are like last na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981080" y="5486040"/>
            <a:ext cx="182880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4232160"/>
            <a:ext cx="27432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Tahoma"/>
              </a:rPr>
              <a:t>Variable names</a:t>
            </a:r>
            <a:r>
              <a:rPr b="0" lang="en-US" sz="2300" spc="-1" strike="noStrike">
                <a:solidFill>
                  <a:srgbClr val="010199"/>
                </a:solidFill>
                <a:latin typeface="Tahoma"/>
              </a:rPr>
              <a:t> are like first names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324120" y="5029200"/>
            <a:ext cx="1143000" cy="3049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9B6-7AF0-4AA0-9392-23C5AA9211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write function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llows you to break up a hard problem into smaller, more manageable part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your code easier to understan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ides implementation details (</a:t>
            </a: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abstrac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ovides interface (input, output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part of the code reusable so that you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ly have to type it ou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debug it all a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solates err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make changes in one function (maintainability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EFD-40FE-4278-8D20-F5B2A384E9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x(num1, num2)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733920"/>
            <a:ext cx="99036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3733920"/>
            <a:ext cx="129564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8288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alled the functio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, so need to add its parameters to the st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4554-8FD2-4E21-983A-C319647209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352680"/>
            <a:ext cx="99036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3352680"/>
            <a:ext cx="129564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E82-5DB4-4D9B-95F9-953FE9BD71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3352680"/>
            <a:ext cx="99036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3352680"/>
            <a:ext cx="129564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1EE-E13F-4293-AA5D-8A25B78F21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205740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unctio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returned, so we no longer have to keep track of its variables on the stack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lifetime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of those variables is ov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9A3-F6AC-4AE8-9A4D-E2661274FE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cop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Functions can have the same parameter and variable names as other function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Need to look at the variable’s </a:t>
            </a: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scope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determine which one you’re looking a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Use the stack to figure out which variable you’re using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Scope level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Loca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scope (also called function scope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Can only be seen within the function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Globa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scope (also called file scope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Whole program can acces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More on these later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92320" y="60958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cop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B26-6F89-44F1-898A-C68DBCBA83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output of this program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user enters 4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8720" y="2489040"/>
            <a:ext cx="676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square(n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n * 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um = input("Enter a number to be squared: "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square(num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The square is: ", n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C5C5-34CB-4A2E-82D8-4AC8708886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“good”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Should be an “intuitive chunk”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Doesn’t do too much or too little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Should be reusable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Always have comment that tells what the function doe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2129-A256-4A1D-A8D9-5D10C739C7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“good”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recondi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: Things that must be true in order for the function to work correctl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.g., num must be eve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ostcondi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: Things that will be true when function finishes (if precondition is true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.g., the returned value is the max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5282-8272-493E-9E7E-8DFBA5FCAC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good comments for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style: Each function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have a com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ten at a high-leve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clude the precondition, postcondi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scribe the parameters (their types) and the result (precondition and postcondition may cover thi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983-A598-47A5-A892-E15E4B1760E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nlike functions, no special keyword to define a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dules are named by the file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, oldmac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n Python shell: import oldmac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plain what happene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9494-6A86-4F57-87D7-8F4FC77F35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is a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black bo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lementation doesn’t mat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care that function generates appropriate output, given appropriate input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care how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 was implemen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73360" y="464832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aw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8080" y="533412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45160" y="533412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040" y="510228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4960" y="5029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17240" y="48006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om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89720" y="4800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er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715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e saved output in a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7820-E673-49FE-884D-7ADAEC0DD9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 that our program doesn’t execute when it is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importe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a program, at bottom, ad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__name__ == '__main__’ 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n, to call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 the files now listed in the direct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2536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 important how this works; just know when to u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4038480" y="2765520"/>
            <a:ext cx="13716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F185-FCDA-418F-9E41-48EB3011813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n, to call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would you want to do thi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main function as driver to test functions in modu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access one of the defined 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EIEI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93FB-B32C-47AF-BB78-BE62C13490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 Read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icrosoft Excel 2007 bu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AC7-1D6C-4C61-92E3-B8217C4FF51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yntax of Function Defin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527040" y="1600200"/>
            <a:ext cx="838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SECOND_TO_HOUR = 3600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FEET_TO_MILE = (1.0/5280)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result = ftps * SECOND_TO_HOUR * FEET_TO_MILE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" y="12841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12400" y="127008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000"/>
            </a:b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75160" y="11430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Input Name/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368640" y="2673360"/>
            <a:ext cx="220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Body (or function definition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8040" y="510552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How to give outpu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96920" y="1676520"/>
            <a:ext cx="0" cy="8380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68520" y="1905120"/>
            <a:ext cx="0" cy="5331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82600" y="1752480"/>
            <a:ext cx="338040" cy="6652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554120" y="4419720"/>
            <a:ext cx="351000" cy="7617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2438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Function head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D03-51BE-4DAF-84CD-00887C1F7E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are functions in the cod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be defined in script before use (calling i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be in separat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to use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enu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 in modules when functions are reusable for many different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enefits: shorter code (no function defns), isolate testing of function, write “test driver” scripts to test functions separately from use in scrip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E2D-CFAC-4B57-BAEB-0C9B222B25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inputs to a function are called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call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/using functions, parameters must appear in same order as in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round(x, 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float to roun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integer of decimal places to round to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3B16-74A9-46C5-9FCE-902668EA95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orm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named in the the function definition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Actu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or literals that really get used when the function is called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round(x, n) :</a:t>
            </a:r>
            <a:br>
              <a:rPr sz="3200"/>
            </a:b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Celc = round(celc,2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l &amp; actual parameters must match in order, number, and type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orm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8320" y="3429000"/>
            <a:ext cx="12189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105520" y="3429000"/>
            <a:ext cx="7617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90920" y="3276720"/>
            <a:ext cx="12189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048120" y="3276720"/>
            <a:ext cx="7617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F711-2C3C-4764-AEC1-A9260E7B0D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Old McDonald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 verse of the song go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ld McDonald had a farm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nd on that farm he had a dog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ith a ruff, ruff he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nd a ruff, ruff the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ere a ruff, there a ruff, everywhere a ruff, ruff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ld McDonald had a farm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rite a function to print a vers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y does it make sense to write a function for the verse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at is input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at is output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667-AE74-496B-800F-78B48ECEAE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the code reaches a statement lik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x is the output returned to the place where function called and the function st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functions that don’t have explicit output, return does not have a value with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ptional: don’t need to have output/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D30-5502-41C2-9D4E-52443B24E9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15T20:49:48Z</cp:lastPrinted>
  <dcterms:modified xsi:type="dcterms:W3CDTF">2007-10-15T20:53:54Z</dcterms:modified>
  <cp:revision>1444</cp:revision>
  <dc:subject/>
  <dc:title>PowerPoint Presentation</dc:title>
</cp:coreProperties>
</file>