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599-B83D-4996-9FD7-B2FE949B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2F8-0D5F-4FA7-BFE6-11482C33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99A-712B-4227-93BF-E99BDFD0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861-323F-4EF1-BE53-A0A54C77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346F9-F72C-49BB-BAEF-A555E391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9391F-47E8-47FE-BA58-2E05D9FB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E9472-AA05-4DDC-BB7D-2FF68FCF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37E00-A1A3-4CF1-B687-70686716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74C34-BB07-47A5-AA67-4170FE9C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73961-875A-4F53-A96D-D7E330E6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CE522-9CDD-4FE6-9A15-591E148D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5FF-8D93-49FD-8375-3D5E2604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5253F-B660-4F97-956F-2AC9808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32AF0-717B-4516-9213-ACDCC83F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D3958-E959-4C89-B995-A82E724B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8980F-F0E8-445D-BF1A-AA81DBA4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2C387-2B13-4C13-A8FE-E377B92B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D24-C5C6-4AFA-A8A7-1CFE8ABA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902-21E5-44CD-8815-78B838EF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D07-07C5-4581-9C68-633377E2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055-E22A-4E30-9438-71B34932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DAD-4B29-4218-983C-132E8287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5BD-D713-4459-8CF7-E8C314E2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59B-8E69-4828-A017-1A234B9B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3A20-2C9A-46CB-AF34-4F79C109AB6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1B40-F0AD-46EC-89BD-178FFE40249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presentation: ASCI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 Issue: Environmental Monito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2880" y="682776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2EE-ECB0-466F-A154-561EAAA2AD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string is a sequence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character is stored as a binary number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SCII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American Standard Code for Information Interchange) is one standard encoding for charact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problem with ASCII is that it is based on the English langua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not represent other types of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nicode is a new stand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out: fix second ‘Q’ and ‘R’ to lowerca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0080" y="62452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 Table Hando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FAF-2AA6-4B16-A5EC-AA2DD6B564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E4A-D7BD-4A26-98FD-F33A5930B4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97--1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65--9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559-526A-41D0-9C43-1CF589F472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anslating to/from ASCI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 character into its ASCII numeric code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d('a') ==&gt; 97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n ASCII numeric code into its character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ch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r(97) ==&gt; 'a'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1520" y="595296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tab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C99-83D0-4B87-A5B1-CB688EA97A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ncryp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cess of encoding information to keep it secu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technique: Substitution Cip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ch character in message is replaced by a new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esar Cip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place with a character X places aw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Julius Caesar used it to communicate with his genera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ap around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ite program(s) to do this in lab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0D8-4AE8-4878-9689-76932B7F89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Comparis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me operations as with numb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==, !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, &l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gt;, &g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in conditions for if statements and 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800" y="25146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phabetical comparis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286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08200" y="6245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compa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E56-68C4-40D8-861E-570D676253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A67-D84D-4A97-9F3A-41283FE301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081-071F-4309-AF73-D3AAA3CFFD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len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F65-EFB0-4CF8-B308-FA33ABA6AD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2C9-80AB-4E96-9AC9-08AED7C9A6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0FA-7944-4C30-AED8-019797A8A8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Environmental Monito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disciplinary projects involving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ant new-ish CS research are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claimer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a seismologist or a biolog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9720" y="4800600"/>
            <a:ext cx="12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8160" y="4830840"/>
            <a:ext cx="11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32960" y="4822920"/>
            <a:ext cx="99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3D4-D546-434E-8E24-96B9504E9E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CS challenges to both projec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challenges only applicable to one projec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e environment impact the CS research problems/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id the researchers address these challenge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ddress the challenge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324-1D70-4B22-9C86-44C5422135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 CSists thought that efficiency didn’t matter anymo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B of memory, terabytes of storage on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w: small and embedded dev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efficient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0F6-FCAF-451C-AA48-38AD8791FA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issing data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nnectivity (good signal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uplicate data (different sources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ead sensor node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libration of data (time synchronization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stand extreme weather, condition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ttery lif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obustness: recover from software failure/malfunction or bad dat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652-501B-470C-ACD2-69A64C9141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curately simulate conditions (which will vary widely over long periods of tim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fferent goals from domain scient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S: push boundaries of sensor network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ample: Improve reliability of data to 95%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eismologists: need 100% reliable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A6D-C2F3-4774-8153-06E001E497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ar-powered batter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ify all when data gets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ZebraNet: 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nly transmit if zebra gives data to bas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olcano: only when “interesting”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FF4-6621-414E-8F94-9BCC076254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ndancy of data -- verify/validate it is corr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send to zebras with history of reporting back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ather proof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tteries: solar-panels to rechar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35B-CBE0-401F-823F-DD2D644309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vel simul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environment/scenarios on compu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zebras with hor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ush software to make sure it “recovers” appropriately from errors or bad information 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DBE-4AC0-452A-80F0-CD216FB282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 “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r each character in the string 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4F5-B22A-44CA-9EDD-28278647E8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05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86160" y="63244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EC9-D5CD-4ED9-9C89-45C493789A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A23-1C79-4A1F-8805-02153B9186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heck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arch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95C-4A37-46E8-BD35-3D26DC7259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15760" y="6245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E02-DC40-4ED3-9D86-E10A365F2F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lternative Solution by Cath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binaryToDecimal2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erate through string using an integer as the index and the substring([]) op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veloping solutions: if iterating (through whatever) in one direction doesn’t work, try the ot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232-8183-4B36-8AF6-98340893B0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0600" y="556272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520" y="55926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tuit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56B-14D5-430D-97AA-11B9B72733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05T20:18:44Z</cp:lastPrinted>
  <dcterms:modified xsi:type="dcterms:W3CDTF">2007-10-05T20:22:41Z</dcterms:modified>
  <cp:revision>1264</cp:revision>
  <dc:subject/>
  <dc:title>PowerPoint Presentation</dc:title>
</cp:coreProperties>
</file>