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106-1B1C-49E9-9C3D-0C4F4100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340-F9D2-4C57-9A31-ADA0BF9B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B7D2-2030-4CEC-9ACC-669FCCA8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F72-94D3-4261-8A78-9F6F3E94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0F991-5507-43BA-A9B3-2B8B9875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79409-1CAF-49D9-9C6C-31C27EF2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96A2D-A348-4273-959C-3FEEB622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04FE4-2E81-4E36-8744-361B2E41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3ED1D-898E-4258-B414-7219C834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6B7A2-11FD-4F7B-B195-640CE2E5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6670E-454B-4E33-BDD3-F1F4DC31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90A-6220-47E0-ABBE-E1E467F1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E8E85-E993-479D-8188-DDCF289E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4344A-57FA-4AAD-A1D8-C689AFF5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8D476-A1F3-427F-A533-B30FB486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32E5C-D43C-437D-BBD4-29D56E7E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F83F8-0EEC-4276-9741-1282A32A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24D-D787-421D-BD71-ADBB18EC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831-DB1E-4C27-AC81-01C11C3C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D9F-B541-4F8C-A956-21C3D877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EB5-1CA9-44CC-8D18-28F09F50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93D-57B9-4C05-BE50-425B5189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AED-A7B8-41C8-B36E-DB47D1DE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DFC-4FD9-4FEC-B7E1-21D160F6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C438-DC4F-4566-AF84-679F0A4CC04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7596-3BEB-4FD4-92E7-2788167DCE5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puter’s representations of data typ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B17-1B5F-4BEC-81C7-FB7F93A5A3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DB5-ECD6-420F-93A2-4E19011E84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 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Err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6027120" y="639756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953-56BD-4E36-9642-85C54E202B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E73-2FE4-4330-A23F-AFE810CF25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E1F-8EC2-47D0-88A5-A6EF4AC2EC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gram.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495-45E4-424D-A7BE-9C1B4E0532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d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efore in for loo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aluates to True or Fal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09480" y="2832120"/>
            <a:ext cx="40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ubstr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tring</a:t>
            </a:r>
            <a:r>
              <a:rPr b="1" lang="en-US" sz="28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5320" y="4689360"/>
            <a:ext cx="67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“.py”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, “is a Python script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06F-A106-4AFD-869F-CB8E297A7F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 are Immutab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: You cannot change the value of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you </a:t>
            </a:r>
            <a:r>
              <a:rPr b="0" lang="en-US" sz="3200" spc="-1" strike="noStrike">
                <a:solidFill>
                  <a:srgbClr val="f4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change a character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[0] = ‘S’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3520" y="3733560"/>
            <a:ext cx="2209680" cy="114300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733920"/>
            <a:ext cx="1905120" cy="106668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7CB-14A3-40BC-8322-89AA14ACA2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ber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briefly discussed that numbers are stored on the computer in bi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inary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: two values (zero, one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ke a light switch (eith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ff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Bi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each number in a number in binary repres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quivalent of a “digit” in decimal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726-94F4-4EF8-94E4-A89ADDDE03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7D2-E390-4F45-B132-B19D22F440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54,08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4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8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7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,000+ 4*1000+ 0*100+ 8*10+ 7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43000" y="403848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6BB-DFB6-4D08-A00C-85D00EEAC2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2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7560" y="1828800"/>
            <a:ext cx="52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828800"/>
            <a:ext cx="762120" cy="441972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0  9  8  7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0  1  2  3  4 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1 11 11 11 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3320" y="3840120"/>
            <a:ext cx="25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1 (N-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N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656-051B-4497-9C9D-36BA1057AC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 is base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binary number represents a power of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9FA-8567-453C-B5EB-145EE619D1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10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8+ 1*4+ 0*2+ 1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1676520"/>
          <a:ext cx="4572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30C-0E7C-4533-830F-B2BE677B52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16+0*8+ 1*4+ 1*2+ 0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167652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895-1171-440C-A5C0-EE26BF78F5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85520" y="5791320"/>
            <a:ext cx="32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261-4F11-4F62-BF1C-5010F8CF85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60600" y="541008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ADE-C71D-4222-91B9-03776F7B7B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3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07560" y="1828800"/>
            <a:ext cx="52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828800"/>
            <a:ext cx="762120" cy="48006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2 11 10  9  8  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  2  3  4  5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3 13 13 13 13 1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70320" y="3840120"/>
            <a:ext cx="24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3 (N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(N-1)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86C-EE5B-457A-85C4-F1E4AFB0CC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rite a program that reads in two numbers. Then use only if statements (no elses) to print "Player 1 wins" if the first number is bigger, "Player 2 wins" if the second number is bigger, and "You tied!" if the numbers are equal.</a:t>
            </a:r>
            <a:endParaRPr b="0" lang="en-US" sz="25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12F-D06B-4ACE-B2E6-970A8BA75E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raw the control flow diagram for your Craps solu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o analyze efficiency: are there any execution paths through the control flow diagram that aren’t possib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f so, revisit your solution to see if some other building blocks may be more appropriate (or see me to discuss!)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8F2-9444-4550-90AD-5FEC86DE39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xt Process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ly focused on number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manipulate strings to do useful wor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type and what you can do with th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hapter 4 of boo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BD0-24B3-4867-A544-859AF32FEF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8D8-453B-40DF-8C4F-03EBA179DF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 “for each character in the string str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2720" y="62485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ython shel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409A-F37B-411B-809B-C4C0664F39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27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D6E-B16E-480D-8046-8721AADB34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3T22:08:51Z</dcterms:modified>
  <cp:revision>1054</cp:revision>
  <dc:subject/>
  <dc:title>PowerPoint Presentation</dc:title>
</cp:coreProperties>
</file>