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84F8-7E34-45C7-8C26-70EC1E54A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7C80-2D9F-42E4-8441-84B0122BE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42251-08AD-4BD7-807B-B90E6BEEB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D4C1-1441-44D7-AAB4-7D667DF4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F10D-B70D-42C3-AD1F-60F87E107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95A8-1E6E-4525-BE43-55F287375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C8DB-BC90-4990-A864-98DA30DA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AC4E-FBE7-45CF-AF5E-844DC1EB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B327-8FD9-4955-91A5-38971952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8D0-ED3B-4AE4-B530-E5147D22C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64DD-F212-4AB3-8F46-1F140C86D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023-D614-4A2A-9FAE-805943478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2, 2007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5FC5E3F1-F05E-4A1F-B19A-422D768D082A}" type="slidenum">
              <a:rPr b="0" lang="en-GB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Review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Linux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Why programming languages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mpiled vs. Interpreted Languag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gramming in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Data typ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xpress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Variab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Arithmet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C71-FF55-4D6C-AB2B-1DCD975FB61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2" idx="3"/>
            <a:endCxn id="141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6" idx="1"/>
            <a:endCxn id="143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3"/>
            <a:endCxn id="142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1" idx="3"/>
            <a:endCxn id="146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1" idx="3"/>
            <a:endCxn id="150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55" idx="0"/>
            <a:endCxn id="150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7" name=""/>
          <p:cNvCxnSpPr>
            <a:stCxn id="156" idx="3"/>
            <a:endCxn id="151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0" idx="3"/>
            <a:endCxn id="155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50" idx="2"/>
            <a:endCxn id="152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0" y="990720"/>
            <a:ext cx="18752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preted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8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16A3-D140-451B-BBD7-0020E61753EF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7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ype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the kind of thing a variable can ho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roadly, the categories of primitive types 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umeric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oolea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056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18C1-7D01-4F3A-941D-7E85B624A6D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52280" y="1143000"/>
          <a:ext cx="8686800" cy="498780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94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3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41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"/>
          <p:cNvSpPr/>
          <p:nvPr/>
        </p:nvSpPr>
        <p:spPr>
          <a:xfrm>
            <a:off x="6169320" y="6434280"/>
            <a:ext cx="167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cc99"/>
                </a:solidFill>
                <a:latin typeface="Arial"/>
              </a:rPr>
              <a:t>Copy on board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B4A8-E24A-4B59-9EE4-EFACA8A8295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big (or small or precise) can we ge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e cannot represent all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blem: Computer has a finite capac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The computer only has so much memory that it can devote to one value.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Eventually, reach a cutoff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size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Limits precision of value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5181480"/>
            <a:ext cx="5791320" cy="53352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24240" y="5867280"/>
            <a:ext cx="815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n reality, computers represent data in 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nary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, using only 0s and 1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09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191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952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369800" y="5181480"/>
            <a:ext cx="5304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Tahoma"/>
              </a:rPr>
              <a:t>0  0  0  0  0  3  .  1  4  1  5  9  2  6  5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572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743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362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810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6002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1500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5181480"/>
            <a:ext cx="180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4771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5181480"/>
            <a:ext cx="1440" cy="533520"/>
          </a:xfrm>
          <a:prstGeom prst="line">
            <a:avLst/>
          </a:prstGeom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43600" y="4114800"/>
            <a:ext cx="3200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I 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has more decimals, but we’re out of space!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7084800" y="4876920"/>
            <a:ext cx="384120" cy="533160"/>
          </a:xfrm>
          <a:prstGeom prst="line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B6A4-1A86-4069-BBF7-9B89F6B149DE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reat what is in the “” or ‘’ literall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Known as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string litera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ello, world!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at is Sara’s cat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D57C-E9A8-4A17-9AAC-8EC2F71C9419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ooleans: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o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2 val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Tru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Fals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on these later…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value’s typ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01" name=""/>
          <p:cNvGraphicFramePr/>
          <p:nvPr/>
        </p:nvGraphicFramePr>
        <p:xfrm>
          <a:off x="990720" y="1422360"/>
          <a:ext cx="6858000" cy="421632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l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yp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5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-0.0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+6j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“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”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4047583648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ru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‘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alse’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8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568A-9716-43D0-B116-29D36BA3661C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troduction to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0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Variables have names, calle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dentifi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variable name (identifier) can be any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word that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nsists of letters, numbers, or _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start with a numb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annot be a Python </a:t>
            </a:r>
            <a:r>
              <a:rPr b="1" lang="en-US" sz="2800" spc="-1" strike="noStrike">
                <a:solidFill>
                  <a:srgbClr val="3333cc"/>
                </a:solidFill>
                <a:latin typeface="Tahoma"/>
              </a:rPr>
              <a:t>reserved wor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ike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for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while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</a:t>
            </a:r>
            <a:r>
              <a:rPr b="0" lang="en-US" sz="2600" spc="-1" strike="noStrike">
                <a:solidFill>
                  <a:srgbClr val="3333cc"/>
                </a:solidFill>
                <a:latin typeface="Courier New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, etc.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ython is case-sensitiv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n’t the same as </a:t>
            </a:r>
            <a:r>
              <a:rPr b="0" lang="en-US" sz="2800" spc="-1" strike="noStrike">
                <a:solidFill>
                  <a:srgbClr val="3333cc"/>
                </a:solidFill>
                <a:latin typeface="Courier New"/>
              </a:rPr>
              <a:t>Chang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0E97-C3AB-40FB-959A-E4D42B78542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7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 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0271-FD6A-42D8-BD3F-8FE01774B73F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earn more about a Linux command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List the files in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hange your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ke a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ind out 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e shortcut for …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ur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parent directory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emantic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5867280" y="2743200"/>
            <a:ext cx="1676520" cy="281952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869800" y="1981080"/>
            <a:ext cx="15188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Comput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3200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43434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867280" y="480060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867280" y="51814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96252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67280" y="3581280"/>
            <a:ext cx="167652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837360" y="3352680"/>
            <a:ext cx="13525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 = 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 = x + 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59400" y="295596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38480" y="3200400"/>
            <a:ext cx="1828800" cy="6094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945400" y="358128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675240" y="4191120"/>
            <a:ext cx="333000" cy="4338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4419720"/>
            <a:ext cx="1904760" cy="15228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45400" y="4343400"/>
            <a:ext cx="349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4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Variables can be given any value using the “=“ sig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alled an </a:t>
            </a:r>
            <a:r>
              <a:rPr b="1" lang="en-GB" sz="2800" spc="-1" strike="noStrike">
                <a:solidFill>
                  <a:srgbClr val="3333cc"/>
                </a:solidFill>
                <a:latin typeface="Tahoma"/>
              </a:rPr>
              <a:t>assignment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 state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yntax: </a:t>
            </a:r>
            <a:r>
              <a:rPr b="0" lang="en-US" sz="3200" spc="-1" strike="noStrike">
                <a:solidFill>
                  <a:srgbClr val="00cc99"/>
                </a:solidFill>
                <a:latin typeface="Arial"/>
              </a:rPr>
              <a:t>&lt;variable&gt; = &lt;expression&gt;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fter a variable is given a value, the variable is said to be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initializ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These aren’t equations! Read “=” as “get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current_year = 2007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my_num = 3.4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option = ‘q’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1123-5509-47D1-A77E-9147A9D01C1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s: The R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68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nly the variable(s) to the left of the = chan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should initialize a variable before using it on the righthand side (rhs) of a rule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603360" indent="-60336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You can only have one variable with any given name in a particular block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CB8-DB43-4FB3-9D46-A88AB4A5327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tera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ieces of data that are not variables are called </a:t>
            </a:r>
            <a:r>
              <a:rPr b="1" lang="en-GB" sz="3200" spc="-1" strike="noStrike">
                <a:solidFill>
                  <a:srgbClr val="020202"/>
                </a:solidFill>
                <a:latin typeface="Tahoma"/>
              </a:rPr>
              <a:t>literals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Ex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4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3.2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‘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q’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GB" sz="2800" spc="-1" strike="noStrike">
                <a:solidFill>
                  <a:srgbClr val="3333cc"/>
                </a:solidFill>
                <a:latin typeface="Tahoma"/>
              </a:rPr>
              <a:t>books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72C69-6CB3-4201-A1EA-C1B640D17B3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371600" y="1398600"/>
          <a:ext cx="6095880" cy="3584520"/>
        </p:xfrm>
        <a:graphic>
          <a:graphicData uri="http://schemas.openxmlformats.org/drawingml/2006/table">
            <a:tbl>
              <a:tblPr/>
              <a:tblGrid>
                <a:gridCol w="2322360"/>
                <a:gridCol w="377352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ymbo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ani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ddi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ubtrac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ultiplica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vis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emainder (“mod”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*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onentiation (pow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rithmetic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7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You can use the assignment operator (=) and arithmetic operators to do calculations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member your order of operations! (PEMDAS)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thing on the left gets changed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x = 4+3*1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y = 3.0/2.0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84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z = x+y;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35" name=""/>
          <p:cNvSpPr/>
          <p:nvPr/>
        </p:nvSpPr>
        <p:spPr>
          <a:xfrm>
            <a:off x="3505320" y="411480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The right-hand sides are </a:t>
            </a: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, just like in math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C4FB-50A3-41BA-9BFB-B1958460BB7C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38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is a func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unction: A command to do something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isplays the result of expression(s) to the termi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 rot="16200000">
            <a:off x="2438280" y="2779200"/>
            <a:ext cx="381240" cy="22100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61040" y="403560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0" y="342900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3886200" y="3657600"/>
            <a:ext cx="838080" cy="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657600" y="5028840"/>
            <a:ext cx="838080" cy="685800"/>
          </a:xfrm>
          <a:prstGeom prst="line">
            <a:avLst/>
          </a:prstGeom>
          <a:ln w="3168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508968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4B11-B33D-417A-8A2A-793199B4896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mpts user for input, gets the user’s inpu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put: for numb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aw_input for string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idth = input(“Enter the width: “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nter the width: ”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ssigns width the value the user enter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lor = raw_input(“What is your favorite color? 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8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rot="5400000">
            <a:off x="4305240" y="2324160"/>
            <a:ext cx="609840" cy="838080"/>
          </a:xfrm>
          <a:custGeom>
            <a:avLst/>
            <a:gdLst>
              <a:gd name="textAreaLeft" fmla="*/ 389520 w 609840"/>
              <a:gd name="textAreaRight" fmla="*/ 610200 w 60984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196720" y="4564080"/>
            <a:ext cx="47358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0cc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 that inpu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Use English to describe what your program is doing in </a:t>
            </a:r>
            <a:r>
              <a:rPr b="0" lang="en-US" sz="3200" spc="-1" strike="noStrike">
                <a:solidFill>
                  <a:srgbClr val="00cc99"/>
                </a:solidFill>
                <a:latin typeface="Tahoma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verything after a </a:t>
            </a:r>
            <a:r>
              <a:rPr b="0" lang="en-US" sz="2800" spc="-1" strike="noStrike">
                <a:solidFill>
                  <a:srgbClr val="00cc99"/>
                </a:solidFill>
                <a:latin typeface="Tahoma"/>
              </a:rPr>
              <a:t>#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is a comm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ython does not execute commen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w to Use Com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ocument the author, high-level description of the program at the top of the progra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rovide an outline of an algorith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Identifies the steps of the algorithm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cribe difficult-to-understand cod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tru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6" name=""/>
          <p:cNvSpPr/>
          <p:nvPr/>
        </p:nvSpPr>
        <p:spPr>
          <a:xfrm>
            <a:off x="1290960" y="2117880"/>
            <a:ext cx="6044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us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716520" y="2133720"/>
            <a:ext cx="587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8080" y="213372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5400000">
            <a:off x="4238280" y="-723600"/>
            <a:ext cx="304920" cy="5410080"/>
          </a:xfrm>
          <a:custGeom>
            <a:avLst/>
            <a:gdLst>
              <a:gd name="textAreaLeft" fmla="*/ 89640 w 304920"/>
              <a:gd name="textAreaRight" fmla="*/ 305280 w 304920"/>
              <a:gd name="textAreaTop" fmla="*/ 225360 h 5410080"/>
              <a:gd name="textAreaBottom" fmla="*/ 5184720 h 5410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048200" y="1600200"/>
            <a:ext cx="0" cy="53352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933360" y="1092240"/>
            <a:ext cx="266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048200" y="2590920"/>
            <a:ext cx="0" cy="9903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rot="5400000">
            <a:off x="4200480" y="-380880"/>
            <a:ext cx="380880" cy="7238880"/>
          </a:xfrm>
          <a:custGeom>
            <a:avLst/>
            <a:gdLst>
              <a:gd name="textAreaLeft" fmla="*/ 111960 w 380880"/>
              <a:gd name="textAreaRight" fmla="*/ 381240 w 380880"/>
              <a:gd name="textAreaTop" fmla="*/ 301320 h 7238880"/>
              <a:gd name="textAreaBottom" fmla="*/ 6937560 h 723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38472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urs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631880" y="3581280"/>
            <a:ext cx="134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635800" y="3565440"/>
            <a:ext cx="8391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www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2928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219400" y="30481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91040" y="3581280"/>
            <a:ext cx="689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mp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30400" y="3606840"/>
            <a:ext cx="10616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facult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80960" y="4419720"/>
            <a:ext cx="1600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directori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2194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17560" y="4444920"/>
            <a:ext cx="992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s11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5560" y="5511960"/>
            <a:ext cx="7383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5560" y="6197760"/>
            <a:ext cx="755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219400" y="5105520"/>
            <a:ext cx="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19400" y="5867280"/>
            <a:ext cx="0" cy="3812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048200" y="3962520"/>
            <a:ext cx="0" cy="53316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08080" y="5207040"/>
            <a:ext cx="14335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handout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96640" y="5207040"/>
            <a:ext cx="942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turni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14880" y="4267080"/>
            <a:ext cx="1844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Your web pag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019920" y="3962520"/>
            <a:ext cx="0" cy="38088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3581280" y="4800600"/>
            <a:ext cx="53352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114800" y="4800600"/>
            <a:ext cx="1066680" cy="4572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224400" y="5943600"/>
            <a:ext cx="26892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Paths through tre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Relative path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"/>
          <p:cNvSpPr/>
          <p:nvPr/>
        </p:nvSpPr>
        <p:spPr>
          <a:xfrm>
            <a:off x="228600" y="1295280"/>
            <a:ext cx="861048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= raw_input("What is your favorite color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My favorite color is _light_", color, 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= input("On a scale of 1 to 10, how much do you like Matt Damon? "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print "Cool!  I like him ", scale*1.8, 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comments, variables, functions, expressions, assignments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dentify the Pieces of a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0" name=""/>
          <p:cNvSpPr/>
          <p:nvPr/>
        </p:nvSpPr>
        <p:spPr>
          <a:xfrm>
            <a:off x="228600" y="1295280"/>
            <a:ext cx="8915400" cy="29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Demonstrate numeric and string in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 by Sara Sprenkle for CS111 on 9/12/07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#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lor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raw_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What is your favorite color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My favorite color is _light_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color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cale </a:t>
            </a:r>
            <a:r>
              <a:rPr b="0" lang="en-US" sz="2000" spc="-1" strike="noStrike">
                <a:solidFill>
                  <a:srgbClr val="de67b4"/>
                </a:solidFill>
                <a:latin typeface="Arial"/>
              </a:rPr>
              <a:t>=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inpu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(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On a scale of 1 to 10, how much do you like Matt Damon?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rint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Cool!  I like him ”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</a:t>
            </a:r>
            <a:r>
              <a:rPr b="0" lang="en-US" sz="2000" spc="-1" strike="noStrike">
                <a:solidFill>
                  <a:srgbClr val="fff4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1.8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b2b2b2"/>
                </a:solidFill>
                <a:latin typeface="Arial"/>
              </a:rPr>
              <a:t>" much!"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" y="4791240"/>
            <a:ext cx="815328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dentify the </a:t>
            </a:r>
            <a:r>
              <a:rPr b="0" lang="en-US" sz="2400" spc="-1" strike="noStrike">
                <a:solidFill>
                  <a:srgbClr val="00cc99"/>
                </a:solidFill>
                <a:latin typeface="Arial"/>
              </a:rPr>
              <a:t>commen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functions, </a:t>
            </a: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de67b4"/>
                </a:solidFill>
                <a:latin typeface="Arial"/>
              </a:rPr>
              <a:t>assignments, </a:t>
            </a:r>
            <a:r>
              <a:rPr b="0" lang="en-US" sz="2400" spc="-1" strike="noStrike">
                <a:solidFill>
                  <a:srgbClr val="b2b2b2"/>
                </a:solidFill>
                <a:latin typeface="Arial"/>
              </a:rPr>
              <a:t>literal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823120" y="4114800"/>
            <a:ext cx="1652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cc13"/>
                </a:solidFill>
                <a:latin typeface="Arial"/>
              </a:rPr>
              <a:t>expressio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3429000" y="3504960"/>
            <a:ext cx="304920" cy="1066680"/>
          </a:xfrm>
          <a:custGeom>
            <a:avLst/>
            <a:gdLst>
              <a:gd name="textAreaLeft" fmla="*/ 194760 w 304920"/>
              <a:gd name="textAreaRight" fmla="*/ 305280 w 30492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cc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0D4C-6A80-4E50-B786-35E18096B06C}" type="slidenum">
              <a:t>32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8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84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87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3333cc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3333cc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3" name=""/>
          <p:cNvCxnSpPr>
            <a:stCxn id="101" idx="3"/>
            <a:endCxn id="100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4" name=""/>
          <p:cNvCxnSpPr>
            <a:stCxn id="105" idx="0"/>
            <a:endCxn id="100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5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100" idx="3"/>
            <a:endCxn id="105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102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419360" y="2311560"/>
            <a:ext cx="4648680" cy="433800"/>
            <a:chOff x="4419360" y="2311560"/>
            <a:chExt cx="4648680" cy="433800"/>
          </a:xfrm>
        </p:grpSpPr>
        <p:sp>
          <p:nvSpPr>
            <p:cNvPr id="109" name=""/>
            <p:cNvSpPr/>
            <p:nvPr/>
          </p:nvSpPr>
          <p:spPr>
            <a:xfrm>
              <a:off x="50911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44193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228600" y="4724280"/>
            <a:ext cx="298764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hat you were doing in the “shell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5" idx="3"/>
            <a:endCxn id="114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0"/>
            <a:endCxn id="114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3"/>
            <a:endCxn id="115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2" name=""/>
          <p:cNvCxnSpPr>
            <a:stCxn id="114" idx="3"/>
            <a:endCxn id="119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14" idx="2"/>
            <a:endCxn id="116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4C1F-40D3-4B99-89DA-E6E1E9EE272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s: Java, C++, C, etc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ile whole program into bytecode/executable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n, execute the bytecode/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-49320"/>
            <a:ext cx="8686800" cy="13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Languag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09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de67b4"/>
                </a:solidFill>
                <a:latin typeface="Tahoma"/>
              </a:rPr>
              <a:t>Compil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compiles program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Validate program, report syntax errors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lvl="1" marL="1093680" indent="-35388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Tahoma"/>
              <a:buChar char="•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Creates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executable</a:t>
            </a:r>
            <a:r>
              <a:rPr b="0" lang="en-GB" sz="2600" spc="-1" strike="noStrike">
                <a:solidFill>
                  <a:srgbClr val="3333cc"/>
                </a:solidFill>
                <a:latin typeface="Tahoma"/>
              </a:rPr>
              <a:t> (bytecode or machine code)</a:t>
            </a:r>
            <a:endParaRPr b="0" lang="en-US" sz="2600" spc="-1" strike="noStrike">
              <a:solidFill>
                <a:srgbClr val="3333cc"/>
              </a:solidFill>
              <a:latin typeface="Tahoma"/>
            </a:endParaRPr>
          </a:p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Execute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executable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2680" y="373392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03848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31" idx="3"/>
            <a:endCxn id="130" idx="1"/>
          </p:cNvCxnSpPr>
          <p:nvPr/>
        </p:nvCxnSpPr>
        <p:spPr>
          <a:xfrm>
            <a:off x="4952520" y="419076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35" idx="1"/>
            <a:endCxn id="132" idx="3"/>
          </p:cNvCxnSpPr>
          <p:nvPr/>
        </p:nvCxnSpPr>
        <p:spPr>
          <a:xfrm flipH="1">
            <a:off x="5409360" y="5829120"/>
            <a:ext cx="12200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04920" y="3809880"/>
            <a:ext cx="2057400" cy="7621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6" idx="3"/>
            <a:endCxn id="131" idx="1"/>
          </p:cNvCxnSpPr>
          <p:nvPr/>
        </p:nvCxnSpPr>
        <p:spPr>
          <a:xfrm>
            <a:off x="2361960" y="419076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6629400" y="5334120"/>
            <a:ext cx="17524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0" idx="3"/>
            <a:endCxn id="135" idx="3"/>
          </p:cNvCxnSpPr>
          <p:nvPr/>
        </p:nvCxnSpPr>
        <p:spPr>
          <a:xfrm>
            <a:off x="8152920" y="419076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5560560" y="342900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16C-A400-479F-A632-E73D1AA2FE7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3T00:58:36Z</dcterms:modified>
  <cp:revision>458</cp:revision>
  <dc:subject/>
  <dc:title>Intro to Java</dc:title>
</cp:coreProperties>
</file>