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85D36-B6E7-4CE2-86E9-CFEE52CB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75BE-8E87-4169-949F-606E30B50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B197-B31D-4EFC-AC03-942A5E416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DF3A-6539-4C6E-B06B-342B1D587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7E3BC8-29F8-43AB-9035-C1D4F4B15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CB3A6A-E1DD-4F0D-92E4-DC9D825A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017F66-3B3D-41B3-BC7A-6E135AF4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168C8B-A8DE-4E05-8F9D-C990869E9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C8AAA4-BCF3-4B8F-94BA-CBEEEEF1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CCAAA8-573A-4A01-8B1A-2BD9F9636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D72881-E8F3-456E-8CCF-BC0D9F04C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BA0-D7A6-4CFE-9DBD-819EEE605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2C1EC7-EB01-4647-8B84-1FB58790D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BC1FEA-41B1-4C33-BD85-953638763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E7DD28-C5A5-42A6-ABA4-6D6045DE2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E65276-779D-4738-A9D9-FA848B102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E7467-B686-4281-B8CD-C7F369630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C508-9C77-48EA-AE1B-52114D00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B3B8-8517-4E4E-B38C-62FA22EF1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BCD-D9EA-4C4A-915B-A720E2C1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248B-69D0-45C6-900D-B6AD8A88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83AB-0565-4372-A8A8-C3D03758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7C8-33BC-4DB5-9904-86092F0C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33FA-8799-4021-8D16-6B537110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87E98-85BA-44F0-B6A5-728F3268B50D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B965-247C-4E27-957A-174F3A69CB8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 Conditional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096A-D0C4-429A-B726-D749B37BB8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s, comparing use of brea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condition shows when loop will stop executing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x % 2 !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Try again.  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 is an even number.” 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47960" y="1142640"/>
            <a:ext cx="4267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/* have to look inside loop to know when it stops */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ile True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 = input(“Enter a number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x %2 == 0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x, “is an even number.”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495680" y="1143000"/>
            <a:ext cx="0" cy="5257800"/>
          </a:xfrm>
          <a:prstGeom prst="line">
            <a:avLst/>
          </a:prstGeom>
          <a:ln w="2844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49528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Using break statement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est when loop has to execute at least once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C2B6-806D-458C-B594-E8CEC8ADBF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vs. For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ny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can be translated into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vice vers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whil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mor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powerfu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an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74B9-7AB1-408B-97E7-573260FE5C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mmary of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al state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, if-else, if-else-i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ile, f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0F6E-C5DB-44BF-BB52-505A6D2269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Nondeterministic Deci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times, we don’t want to necessarily know that a specific decision is always ma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, games often use randomness to make decis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oll dic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in flip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cation and behavior of badd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CA6-C408-4894-9D4B-991AB58F277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random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modu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provides the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rando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odule to generate pseudo-random numb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“pseudo-random”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tually generates a list of numbers and grabs the next one off the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 “seed” is used to initialize the random number gen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y default, the current time is us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3BA0-E83B-435A-A6EA-378AE56680F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Arial"/>
              </a:rPr>
              <a:t>Some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 random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om(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the next random floating point number in the range [0.0, 1.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andint(a, b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a random integer N such that a&lt;= N&lt;= 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00160" y="1419120"/>
            <a:ext cx="19512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573880" y="6245280"/>
            <a:ext cx="24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andom_tes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D26A-AA91-48E5-A6CF-785C704C320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imulate Flipping Coi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mulate by randomly selecting between 0 (heads) and 1 (tail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coinFlip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blem: How many flips does it take to get 3 consecutive head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09640" y="6245280"/>
            <a:ext cx="31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nsecutiveHea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E67B-6C59-4B26-85C0-418454F90F5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ctober Problem of the Mont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welve W&amp;L alumni get together during homecoming to have lunch.  Before they sit down to eat, everyone shakes hands with everyone else exactly once.  How many handshakes take plac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442120" y="6245280"/>
            <a:ext cx="24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ke_han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253C-ABCA-4B28-AE0D-ADC4F4D4AD5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vironmental Monitoring with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e blog entry for links, more inf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E22-EA14-48AE-A341-01D0B4F7A8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ditional Review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gical operators: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, and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no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numeric grade conversi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um_grade &lt; 0 or num_grade &gt; 100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ternative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not( num_grade &lt; 0 or num_grade &gt; 100)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mput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s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33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rint error messag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6C46-FC46-4107-B34C-5A53243F087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20A-2FC2-4BF0-9B29-8E3CCF80F6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90" idx="2"/>
            <a:endCxn id="89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93" idx="2"/>
            <a:endCxn id="90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7" name=""/>
          <p:cNvCxnSpPr>
            <a:stCxn id="89" idx="2"/>
            <a:endCxn id="93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94" idx="2"/>
            <a:endCxn id="90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0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5097-21F6-4909-8D95-289F1AE147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known Number of It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ums numbers input by use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op when the user inputs some designated stop value (Enter --&gt; “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652720" y="6245280"/>
            <a:ext cx="219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umtillzer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E8B2-CAF4-4FDE-9D5F-26FEFFA045B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: Sentinel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ntinel: when to st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uard” to th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value != sentinel 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ss valu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= get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D6CB-F1C1-4433-8625-23442469D9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C75-74AE-4B3A-91F3-D7F00FE33F5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es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make sure that the loop actually stops (is not infinite)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6094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condition’s variable inside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990720" indent="-533520">
              <a:buClr>
                <a:srgbClr val="6699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5628A-DD98-4357-9DD5-4FAC06DC3B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e of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break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state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break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statement can “break you” out of a loo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81280" y="3733920"/>
            <a:ext cx="35816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count &lt; 100 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9040" y="274320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16" idx="2"/>
            <a:endCxn id="115" idx="0"/>
          </p:cNvCxnSpPr>
          <p:nvPr/>
        </p:nvCxnSpPr>
        <p:spPr>
          <a:xfrm flipH="1">
            <a:off x="5371920" y="321480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19" idx="2"/>
            <a:endCxn id="116" idx="1"/>
          </p:cNvCxnSpPr>
          <p:nvPr/>
        </p:nvCxnSpPr>
        <p:spPr>
          <a:xfrm flipV="1" rot="16200000">
            <a:off x="2919600" y="3696480"/>
            <a:ext cx="2300760" cy="851400"/>
          </a:xfrm>
          <a:prstGeom prst="bentConnector4">
            <a:avLst>
              <a:gd name="adj1" fmla="val -9311"/>
              <a:gd name="adj2" fmla="val 125169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3733920" y="1752480"/>
            <a:ext cx="327636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, 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411160" y="319716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69320" y="246384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809880" y="4800600"/>
            <a:ext cx="13716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2"/>
            <a:endCxn id="119" idx="0"/>
          </p:cNvCxnSpPr>
          <p:nvPr/>
        </p:nvCxnSpPr>
        <p:spPr>
          <a:xfrm flipH="1">
            <a:off x="4494960" y="4205160"/>
            <a:ext cx="87732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4" name=""/>
          <p:cNvCxnSpPr>
            <a:stCxn id="120" idx="2"/>
            <a:endCxn id="116" idx="0"/>
          </p:cNvCxnSpPr>
          <p:nvPr/>
        </p:nvCxnSpPr>
        <p:spPr>
          <a:xfrm>
            <a:off x="5372280" y="2224080"/>
            <a:ext cx="216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5" name=""/>
          <p:cNvSpPr/>
          <p:nvPr/>
        </p:nvSpPr>
        <p:spPr>
          <a:xfrm>
            <a:off x="3809880" y="6248520"/>
            <a:ext cx="289584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6" name=""/>
          <p:cNvCxnSpPr/>
          <p:nvPr/>
        </p:nvCxnSpPr>
        <p:spPr>
          <a:xfrm flipH="1">
            <a:off x="5257440" y="297180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7" name=""/>
          <p:cNvSpPr/>
          <p:nvPr/>
        </p:nvSpPr>
        <p:spPr>
          <a:xfrm>
            <a:off x="5715000" y="4800600"/>
            <a:ext cx="15238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15" idx="2"/>
            <a:endCxn id="127" idx="0"/>
          </p:cNvCxnSpPr>
          <p:nvPr/>
        </p:nvCxnSpPr>
        <p:spPr>
          <a:xfrm>
            <a:off x="5371920" y="4205160"/>
            <a:ext cx="110556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077160" y="426708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20480" y="419112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27" idx="2"/>
            <a:endCxn id="125" idx="0"/>
          </p:cNvCxnSpPr>
          <p:nvPr/>
        </p:nvCxnSpPr>
        <p:spPr>
          <a:xfrm flipH="1">
            <a:off x="5257080" y="5272200"/>
            <a:ext cx="1220040" cy="962640"/>
          </a:xfrm>
          <a:prstGeom prst="straightConnector1">
            <a:avLst/>
          </a:prstGeom>
          <a:ln w="3168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489240" y="2697120"/>
            <a:ext cx="2594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nt =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ile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 &lt; 10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count &lt; 100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 +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   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brea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EFE2-0294-4EBF-A345-34DAD9501B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2T19:57:10Z</dcterms:modified>
  <cp:revision>941</cp:revision>
  <dc:subject/>
  <dc:title>PowerPoint Presentation</dc:title>
</cp:coreProperties>
</file>