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BD8-3FD7-47D7-B426-4FED6A95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0E61-0E85-40FA-99DA-C96CFDC9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319B-4500-4522-A0DD-C8F3C5574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247-79D6-4B6A-A086-CBA9A5BBE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5E59A-3A73-4CC3-8BD8-719B4819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85F1A8-4AE2-41B6-BEBC-8032F14F2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E5002C-4D30-4F98-AAD5-EB1AC7F8D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9233C3-4F4E-41A1-906F-B71611F4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C6F65-1F5C-4DF2-B0DC-014200F2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E4A889B-189A-47CA-8DD9-2862EFF54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FE453E-2146-4CF3-955A-1B349B2E5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2B36-3BD0-4787-B40B-0C78B753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42CDD-D071-474D-B15A-6B114996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3C8907-288F-44C3-A6C7-2084C44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C544D-5350-41FC-BFD1-7A54FDF01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89CC8-52E8-4B62-AEB5-0A86CFF5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2BD1CD-4698-4D7D-B02C-2EF58EAA1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F26-0F75-4442-9CEC-AEFFF0D36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C6B3-D65A-458F-85AD-B869B735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F7CA-B7AD-4819-B1D2-3BEB1F235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F549E-C53E-4FF7-B0CB-76F2E036B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A9D3-42D7-41BF-8FE6-17E93E8BE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C2B4-3AC7-4CBF-80E5-8793004E1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30A2-7D7A-44F1-A93C-609FD9BAE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7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A18C5-A871-486B-AA01-7CD367FF0F2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681F-4297-4A26-B04B-ED5CC5BCC06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Organiza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roduction to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orking with 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0B8-7846-479F-9899-9CF563676B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year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2D99-E182-41F7-BE6E-DA6111F1800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A5E9-8C01-4732-B4B8-99822F9BB83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 of reading from a file using file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 file: data/years.da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is what Python printed different than the file’s conten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to fix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le_read2.py (using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readl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5105520" y="1752480"/>
            <a:ext cx="3787560" cy="1557000"/>
            <a:chOff x="5105520" y="1752480"/>
            <a:chExt cx="3787560" cy="1557000"/>
          </a:xfrm>
        </p:grpSpPr>
        <p:sp>
          <p:nvSpPr>
            <p:cNvPr id="132" name=""/>
            <p:cNvSpPr/>
            <p:nvPr/>
          </p:nvSpPr>
          <p:spPr>
            <a:xfrm>
              <a:off x="5638680" y="1752480"/>
              <a:ext cx="325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Typically use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da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or </a:t>
              </a:r>
              <a:r>
                <a:rPr b="0" lang="en-US" sz="2400" spc="-1" strike="noStrike">
                  <a:solidFill>
                    <a:srgbClr val="020202"/>
                  </a:solidFill>
                  <a:latin typeface="Tahoma"/>
                </a:rPr>
                <a:t>.txt</a:t>
              </a:r>
              <a:r>
                <a:rPr b="0" lang="en-US" sz="2400" spc="-1" strike="noStrike">
                  <a:solidFill>
                    <a:srgbClr val="00c600"/>
                  </a:solidFill>
                  <a:latin typeface="Tahoma"/>
                </a:rPr>
                <a:t> file extension for these types of data/text files 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 flipV="1">
              <a:off x="5105520" y="2514240"/>
              <a:ext cx="914400" cy="228600"/>
            </a:xfrm>
            <a:prstGeom prst="line">
              <a:avLst/>
            </a:prstGeom>
            <a:ln w="38160">
              <a:solidFill>
                <a:srgbClr val="00c6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144C-7BDD-4F0B-AD1F-B89164AC46D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89320" y="42022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29718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213800" y="30942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038120" y="34750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057400" y="37800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D8A8-E20E-43D1-8A99-FF892FC6274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want to search a file for some term.  We want to know which lines of the file contain that term and a count of the number of lines that contained that ter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A3F49-FEE2-4886-B170-31A8B6DC87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earching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ime, we want to ignore all lines that begin with “#” (a.k.a., the line is a commen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would we have comments in a data fil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ata/years2.da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we revise the previous solution to do thi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7EE1-0DE1-4D85-9D28-2825CA6B000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andling Numeric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been dealing with reading and writing strings so fa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 we need to do to read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numb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rom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can we write numbers to a fi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BAF9-2251-46CA-990C-C95439CB55D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to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e a file object in write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yFile = file(“years.txt”, “w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create a file from 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le_write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happens if execute the program again with different user inpu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04760" y="6345360"/>
            <a:ext cx="184320" cy="4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5A4-BA8D-49F4-A2CD-ADDCEB0D21B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eptually, a file is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 stored in mem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use a file in a Python script, create an object of typ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varname&gt; = file(&lt;filename&gt;,&lt;mode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filename&gt; :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&lt;mode&gt; : string, either “r” for read or “w” for writ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dataFile = file( “temps.dat”, “r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89400" y="2971800"/>
            <a:ext cx="398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nown as th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construc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constructs” a 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3580920" y="3429000"/>
            <a:ext cx="83844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362D5-EA91-4930-B802-8B282A85B5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File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304920" y="1523880"/>
          <a:ext cx="8610480" cy="4141800"/>
        </p:xfrm>
        <a:graphic>
          <a:graphicData uri="http://schemas.openxmlformats.org/drawingml/2006/table">
            <a:tbl>
              <a:tblPr/>
              <a:tblGrid>
                <a:gridCol w="1981080"/>
                <a:gridCol w="6629400"/>
              </a:tblGrid>
              <a:tr h="947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the entire content from the file, returned as a string objec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lin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d one line from the file, returned as a string object (which includes the “\n”).  If it returns “”, then you’ve reached the end of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(str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rite a string to the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(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lose the file. 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u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close the file after done reading from/writing to a fil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EC0B-15D8-4D17-8720-A053419114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rger programs require functions to maintain readabilit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main() and other functions to break up your program into smaller, more manageable chunk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Abstrac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away” the detai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s before, you can still write smaller scripts without any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try out functions using smaller script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eed the main() function when using other functions to keep “driver” at top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therwise, functions need to be defined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befor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s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EDBD-F744-4EE5-819E-6EB80FCE3C8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ading from a Fil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 that a file is a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use a </a:t>
            </a:r>
            <a:r>
              <a:rPr b="1" lang="en-US" sz="3200" spc="-1" strike="noStrike">
                <a:solidFill>
                  <a:srgbClr val="00c600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a fi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 as: for each line in the file, do someth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35040" y="6321600"/>
            <a:ext cx="200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_read3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89320" y="3973680"/>
            <a:ext cx="3333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ne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ataFile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n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46280" y="27432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 line (of type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string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) from the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213800" y="2865600"/>
            <a:ext cx="157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le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038120" y="3246480"/>
            <a:ext cx="76212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3551400"/>
            <a:ext cx="457200" cy="5331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950-821A-448F-A9C0-3D187B78ED3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ditional Useful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04920" y="963720"/>
          <a:ext cx="8458200" cy="5387760"/>
        </p:xfrm>
        <a:graphic>
          <a:graphicData uri="http://schemas.openxmlformats.org/drawingml/2006/table">
            <a:tbl>
              <a:tblPr/>
              <a:tblGrid>
                <a:gridCol w="2971800"/>
                <a:gridCol w="5486400"/>
              </a:tblGrid>
              <a:tr h="56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trip([chars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the string with the leading and trailing characters removed.  Defaults to whitespace if no characters specified.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434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--stripping whitespace from beginning and end and using whitespace characters as the delimiter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plit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</a:t>
                      </a:r>
                      <a:r>
                        <a:rPr b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ist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of words in the string, using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ep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as the </a:t>
                      </a:r>
                      <a:r>
                        <a:rPr b="0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delimiter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string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</a:t>
                      </a:r>
                      <a:r>
                        <a:rPr b="0" i="1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[,start[,end]]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lowest index in the string where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b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.  Return -1 if not fou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3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lace(old, new)</a:t>
                      </a:r>
                      <a:endParaRPr b="0" lang="en-US" sz="23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copy of string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ld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replaced with </a:t>
                      </a:r>
                      <a:r>
                        <a:rPr b="0" i="1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ew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CF57-D8C3-48C4-AEAB-B6816CE52D8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Paradigm: Imperativ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st modern programming languages ar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imperativ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ve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ata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numbers and strings in variables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operation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data using operations, such as + (addition and concatenation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and operations are separa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to imperative: object-oriented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24B8E-7FD5-4CEF-B811-A66ECFB06D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 is a collection of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mbi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ata and method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bjects interact by invoking methods on other objec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 perform some operation on obj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3D44-341B-4ECC-929A-CED0E06AC98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ve been using objects and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Just didn’t call them objec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xample: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data type (or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 creat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bjec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of type (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clas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nimal = “cow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ound = “moo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362320" y="5029200"/>
            <a:ext cx="2895480" cy="106668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imal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cow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u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“moo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429000" y="54100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429000" y="5867280"/>
            <a:ext cx="68580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70800" y="4568760"/>
            <a:ext cx="13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em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477120" y="51148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Objects</a:t>
            </a: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 of type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257800" y="5562720"/>
            <a:ext cx="137160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2760" y="4975200"/>
            <a:ext cx="161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Variable names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identifi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23880" y="5562720"/>
            <a:ext cx="838440" cy="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62C2E-A492-4DBA-821F-2D499C9E351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-Oriented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efined methods that you can use on objects of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typ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 methods: lower, replace, find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 are similar to functions but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alled/us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differently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bjectname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name([parameter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s: animal.upper(), sound.center(10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day: new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clas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with its own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35721-BFFB-4F19-85CA-2F0506E05DD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ow if need to enter a lot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ror-pro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User enters the wrong value!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f want to run again after program gets modifi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7F4B-F870-4533-8429-E7B04F7902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urces of Input to Progra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xt fi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data once into a file, save it, and reuse it in your progra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for large amounts of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s can use files to communicat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able to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read from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n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write to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i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480060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05720" y="48769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9880" y="4724280"/>
            <a:ext cx="121932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yth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cri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3"/>
            <a:endCxn id="108" idx="1"/>
          </p:cNvCxnSpPr>
          <p:nvPr/>
        </p:nvCxnSpPr>
        <p:spPr>
          <a:xfrm>
            <a:off x="2228400" y="529560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0" name=""/>
          <p:cNvCxnSpPr>
            <a:stCxn id="108" idx="3"/>
            <a:endCxn id="107" idx="1"/>
          </p:cNvCxnSpPr>
          <p:nvPr/>
        </p:nvCxnSpPr>
        <p:spPr>
          <a:xfrm>
            <a:off x="5047920" y="5295600"/>
            <a:ext cx="16390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3733920" y="58644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2BAA-BAB3-4418-B26B-748A87CEE02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Use of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304920" y="2050920"/>
            <a:ext cx="1600200" cy="99072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di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4257720"/>
            <a:ext cx="167616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05320" y="1974960"/>
            <a:ext cx="1218960" cy="1143000"/>
          </a:xfrm>
          <a:prstGeom prst="foldedCorner">
            <a:avLst>
              <a:gd name="adj" fmla="val 12500"/>
            </a:avLst>
          </a:pr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6" name=""/>
          <p:cNvCxnSpPr>
            <a:stCxn id="113" idx="3"/>
            <a:endCxn id="115" idx="1"/>
          </p:cNvCxnSpPr>
          <p:nvPr/>
        </p:nvCxnSpPr>
        <p:spPr>
          <a:xfrm>
            <a:off x="1923840" y="2545920"/>
            <a:ext cx="156276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7" name=""/>
          <p:cNvCxnSpPr>
            <a:stCxn id="115" idx="2"/>
            <a:endCxn id="114" idx="0"/>
          </p:cNvCxnSpPr>
          <p:nvPr/>
        </p:nvCxnSpPr>
        <p:spPr>
          <a:xfrm>
            <a:off x="4114440" y="3137040"/>
            <a:ext cx="1080" cy="11023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18" name=""/>
          <p:cNvSpPr/>
          <p:nvPr/>
        </p:nvSpPr>
        <p:spPr>
          <a:xfrm>
            <a:off x="3200400" y="1066680"/>
            <a:ext cx="190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eb Page (Text File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4257720"/>
            <a:ext cx="1600200" cy="83808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We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Brow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0" name=""/>
          <p:cNvCxnSpPr>
            <a:stCxn id="114" idx="3"/>
            <a:endCxn id="119" idx="1"/>
          </p:cNvCxnSpPr>
          <p:nvPr/>
        </p:nvCxnSpPr>
        <p:spPr>
          <a:xfrm>
            <a:off x="4971960" y="4676400"/>
            <a:ext cx="141048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6564600" y="3678120"/>
            <a:ext cx="116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irefo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22840" y="5288040"/>
            <a:ext cx="306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nders” web page for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2CEF-C1C6-401D-8414-518F9504D2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7T21:27:22Z</cp:lastPrinted>
  <dcterms:modified xsi:type="dcterms:W3CDTF">2007-10-17T21:59:52Z</dcterms:modified>
  <cp:revision>1804</cp:revision>
  <dc:subject/>
  <dc:title>PowerPoint Presentation</dc:title>
</cp:coreProperties>
</file>