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1467A-9A6A-451B-BF4C-0E82647C8481}" type="slidenum">
              <a:rPr b="0" lang="en-US" sz="1200" spc="-1" strike="noStrike">
                <a:solidFill>
                  <a:srgbClr val="33339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7BA0D-9A39-48D5-9467-2C295AE4FDB0}" type="slidenum">
              <a:rPr b="0" lang="en-US" sz="1200" spc="-1" strike="noStrike">
                <a:solidFill>
                  <a:srgbClr val="3333c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31840" y="674640"/>
            <a:ext cx="4606920" cy="345456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96400" y="4352760"/>
            <a:ext cx="5077080" cy="41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0A1B-9D01-443E-B507-BD8442F2A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F92B-DA08-4A42-849D-F32A06486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46AF-C717-448F-91F6-25A2C1B38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D02D-B9C8-47FF-BBDE-FB84A27D4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3F5925-B520-4A3F-800C-7AD9DDC59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A7807D-FC8D-4BE0-81D5-4CCB52707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2056A4-56D3-444B-A41B-44BCF100E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D91E1C-29FA-49AA-A3A4-0ADB18827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708FA6-AFF0-4DDD-A0AE-D694F8633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68B6FE-0839-4566-8E23-6F822ADD2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BEB36B-808A-41BD-942E-7F1D2B49F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56E0-2143-4699-8D62-A102A8429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EA8048-6E8A-448E-B220-3393C8154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52862D-D259-406A-A606-B467524CC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5A41E5-033E-41D0-9FD9-093B0C414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C34161-C252-4B4C-8E24-22F63C35F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05B06E-E1F2-42A3-B58D-EB1A03480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E85B-C16D-40FB-8BE0-C5135B688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9064-4097-4746-B3B9-581BFEACB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641C-D53D-46DF-B914-B7BD457DF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B1A2-A290-4418-9312-F6489AC50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F3AE-0BB0-4DA3-9525-2AFCF4EA6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8833-558B-4CC6-83AB-6E29A7332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85F6-18E9-45DB-92FE-290D31AEC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3" marL="1598760" indent="-289080">
              <a:spcBef>
                <a:spcPts val="79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4" marL="2006640" indent="-29196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5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6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Sept 24,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Sprenkle - CS1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CAF62-2D21-4CC0-A684-042E031CFDD9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EA7CC-9D78-4824-B7E0-C9D18DE52593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bjectiv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Review: format specifiers, for loop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Nested for loop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ode readability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E9D5-F97B-4513-903C-06CF9C4BA1E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acticing For Loop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rint the following: 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311120" y="228600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1 2 3 4 5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BC5F-3126-4B70-B4EF-05ABCFAAC94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acticing For Loop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rint the following: 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311120" y="2286000"/>
            <a:ext cx="1366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1 2 3 4 5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1 2 3 4 5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1 2 3 4 5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23FE-2AA0-410B-BAD8-0B56C424E13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Improving Code Readability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omment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on’t affect Python’s executio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tart with a ‘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#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’ sig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onstant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hange one value (at top of program) to change value everywhere in program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Flexible programs 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Gets rid of “magic numbers”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Give a clear name/purpose to values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DB32-9AE7-481C-BF2A-A498AAF499B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256680"/>
            <a:ext cx="868824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2017b8"/>
                </a:solidFill>
                <a:latin typeface="Tahoma"/>
              </a:rPr>
              <a:t>Variable Name Conven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8240" cy="49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Variables start with lowercase lette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Constants (values that won’t change) are in all capital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Example: Variable for the current yea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2000" indent="-3348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currentYea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2000" indent="-3348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current_yea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2000" indent="-3348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current yea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2000" indent="-3348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CURRENT_YEA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143000" y="4952880"/>
            <a:ext cx="1752480" cy="533520"/>
          </a:xfrm>
          <a:prstGeom prst="line">
            <a:avLst/>
          </a:prstGeom>
          <a:ln w="31680">
            <a:solidFill>
              <a:srgbClr val="dc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1219320" y="5105520"/>
            <a:ext cx="1600200" cy="457200"/>
          </a:xfrm>
          <a:prstGeom prst="line">
            <a:avLst/>
          </a:prstGeom>
          <a:ln w="31680">
            <a:solidFill>
              <a:srgbClr val="dc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CA50-55FB-4464-9003-3760446F83DF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Improving Code Readability/Usability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at does this program do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How would you figure it out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at would you do to improve the program’s readability and usability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11800" y="5715000"/>
            <a:ext cx="29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program_before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program_after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3E99-BC4B-4D1D-AA80-7EFE6680021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ence Post Problem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Given some posts and some beams to connect the posts, build a fence that is X fenceposts long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806440" y="6248520"/>
            <a:ext cx="215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fence_post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C1A4-E84C-490B-B617-324DC02FDAF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Assigning Students to Group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Using a for loop and the modulo (%) operato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C4BD-6688-4FF9-9E96-BC3379249BF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TODO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Read “Why You Can’t Cite Wikipedia in My Class” for Friday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4372-A110-41FC-9F2D-F42F2C56EBE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Exam-like Review Ques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If you want to use functions or constants that are defined in a module, what type of statement do you use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In module_example.py, when we computed e</a:t>
            </a:r>
            <a:r>
              <a:rPr b="0" lang="en-US" sz="3200" spc="-1" strike="noStrike" baseline="30000">
                <a:solidFill>
                  <a:srgbClr val="020202"/>
                </a:solidFill>
                <a:latin typeface="Arial"/>
              </a:rPr>
              <a:t>i</a:t>
            </a:r>
            <a:r>
              <a:rPr b="0" lang="en-US" sz="3200" spc="-1" strike="noStrike" baseline="30000">
                <a:solidFill>
                  <a:srgbClr val="020202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+ 1, the answer wasn’t 0.  Why? 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7F57-FFB7-4C48-B233-53F28F0AACD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ormatting Outpu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Make the output from the program easy for user to read, understand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Using str() constructo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rmat specifiers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More formatting options for </a:t>
            </a:r>
            <a:r>
              <a:rPr b="1" lang="en-US" sz="2800" spc="-1" strike="noStrike">
                <a:solidFill>
                  <a:srgbClr val="010199"/>
                </a:solidFill>
                <a:latin typeface="Courier New"/>
              </a:rPr>
              <a:t>prin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ontrol over how output is displayed to use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Right, center, left justification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Number of decimals to display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BDE5-1850-41FF-9D44-BB67D656C7C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olution: using str()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Recall: str() is </a:t>
            </a:r>
            <a:r>
              <a:rPr b="0" lang="en-US" sz="3200" spc="-1" strike="noStrike">
                <a:solidFill>
                  <a:srgbClr val="00c600"/>
                </a:solidFill>
                <a:latin typeface="Arial"/>
              </a:rPr>
              <a:t>constructor/converter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function to convert other data types to string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: str(33) </a:t>
            </a:r>
            <a:r>
              <a:rPr b="0" lang="en-US" sz="2800" spc="-1" strike="noStrike">
                <a:solidFill>
                  <a:srgbClr val="010199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‘33’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Use when printing output with the </a:t>
            </a:r>
            <a:r>
              <a:rPr b="1" lang="en-US" sz="3200" spc="-1" strike="noStrike">
                <a:solidFill>
                  <a:srgbClr val="00c6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(i.e., concatenation) operato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rint “You owe $” + str(x) + “.”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C3DA-7734-4FE1-B241-C61E9B8D668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ormat Specifier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General format: </a:t>
            </a:r>
            <a:r>
              <a:rPr b="0" lang="en-US" sz="3200" spc="-1" strike="noStrike">
                <a:solidFill>
                  <a:srgbClr val="00c600"/>
                </a:solidFill>
                <a:latin typeface="Arial"/>
              </a:rPr>
              <a:t>%</a:t>
            </a:r>
            <a:r>
              <a:rPr b="0" lang="en-US" sz="3200" spc="-1" strike="noStrike">
                <a:solidFill>
                  <a:srgbClr val="010199"/>
                </a:solidFill>
                <a:latin typeface="Arial"/>
              </a:rPr>
              <a:t>[flags][width][.precision]</a:t>
            </a:r>
            <a:r>
              <a:rPr b="0" lang="en-US" sz="3200" spc="-1" strike="noStrike">
                <a:solidFill>
                  <a:srgbClr val="00c600"/>
                </a:solidFill>
                <a:latin typeface="Arial"/>
              </a:rPr>
              <a:t>cod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flags: 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0: zero fills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c600"/>
                </a:solidFill>
                <a:latin typeface="Arial"/>
              </a:rPr>
              <a:t>+: include a sign before positive integers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-: left-justification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width: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20202"/>
                </a:solidFill>
                <a:latin typeface="Arial"/>
              </a:rPr>
              <a:t>Minimum</a:t>
            </a: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 number of character spaces reserved to display the entire value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Includes decimal point, digits before and after the decimal point and the sign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477120" y="838080"/>
            <a:ext cx="2420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The </a:t>
            </a:r>
            <a:r>
              <a:rPr b="0" lang="en-US" sz="2800" spc="-1" strike="noStrike">
                <a:solidFill>
                  <a:srgbClr val="010199"/>
                </a:solidFill>
                <a:latin typeface="Tahoma"/>
              </a:rPr>
              <a:t>[]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 mean “</a:t>
            </a:r>
            <a:r>
              <a:rPr b="0" lang="en-US" sz="2800" spc="-1" strike="noStrike">
                <a:solidFill>
                  <a:srgbClr val="010199"/>
                </a:solidFill>
                <a:latin typeface="Tahoma"/>
              </a:rPr>
              <a:t>optional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”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9D29-1C8B-4614-8C39-345EF0DC46C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ormat Specifier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General format: </a:t>
            </a:r>
            <a:r>
              <a:rPr b="0" lang="en-US" sz="3200" spc="-1" strike="noStrike">
                <a:solidFill>
                  <a:srgbClr val="00c600"/>
                </a:solidFill>
                <a:latin typeface="Arial"/>
              </a:rPr>
              <a:t>%</a:t>
            </a:r>
            <a:r>
              <a:rPr b="0" lang="en-US" sz="3200" spc="-1" strike="noStrike">
                <a:solidFill>
                  <a:srgbClr val="010199"/>
                </a:solidFill>
                <a:latin typeface="Arial"/>
              </a:rPr>
              <a:t>[flags][width][.precision]</a:t>
            </a:r>
            <a:r>
              <a:rPr b="0" lang="en-US" sz="3200" spc="-1" strike="noStrike">
                <a:solidFill>
                  <a:srgbClr val="00c600"/>
                </a:solidFill>
                <a:latin typeface="Arial"/>
              </a:rPr>
              <a:t>code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recision: 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75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20202"/>
                </a:solidFill>
                <a:latin typeface="Arial"/>
              </a:rPr>
              <a:t>Number of digits after the decimal point for </a:t>
            </a:r>
            <a:r>
              <a:rPr b="1" lang="en-US" sz="2700" spc="-1" strike="noStrike">
                <a:solidFill>
                  <a:srgbClr val="020202"/>
                </a:solidFill>
                <a:latin typeface="Arial"/>
              </a:rPr>
              <a:t>real</a:t>
            </a:r>
            <a:r>
              <a:rPr b="0" lang="en-US" sz="2700" spc="-1" strike="noStrike">
                <a:solidFill>
                  <a:srgbClr val="020202"/>
                </a:solidFill>
                <a:latin typeface="Arial"/>
              </a:rPr>
              <a:t> values</a:t>
            </a:r>
            <a:endParaRPr b="0" lang="en-US" sz="27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ode: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For the value’s </a:t>
            </a:r>
            <a:r>
              <a:rPr b="1" lang="en-US" sz="2800" spc="-1" strike="noStrike">
                <a:solidFill>
                  <a:srgbClr val="020202"/>
                </a:solidFill>
                <a:latin typeface="Arial"/>
              </a:rPr>
              <a:t>type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3" marL="1598760" indent="-289080">
              <a:lnSpc>
                <a:spcPct val="90000"/>
              </a:lnSpc>
              <a:spcBef>
                <a:spcPts val="64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s - string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3" marL="1598760" indent="-289080">
              <a:lnSpc>
                <a:spcPct val="90000"/>
              </a:lnSpc>
              <a:spcBef>
                <a:spcPts val="64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d (or i) - integer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3" marL="1598760" indent="-289080">
              <a:lnSpc>
                <a:spcPct val="90000"/>
              </a:lnSpc>
              <a:spcBef>
                <a:spcPts val="64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f - floating point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3" marL="1598760" indent="-289080">
              <a:lnSpc>
                <a:spcPct val="90000"/>
              </a:lnSpc>
              <a:spcBef>
                <a:spcPts val="64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e - floating point with exponent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E644-E122-4571-BC7F-95777F40D7A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Using Format Specifier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Basic format i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print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&lt;templatestring&gt;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 %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(&lt;value1&gt;, &lt;value2&gt;, …, &lt;valuen&gt;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Arial"/>
              </a:rPr>
              <a:t>templatestring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is a template for the print statement with format specifiers instead of the value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For each format specifier in templatestring, should have a </a:t>
            </a:r>
            <a:r>
              <a:rPr b="1" lang="en-US" sz="2800" spc="-1" strike="noStrike">
                <a:solidFill>
                  <a:srgbClr val="00c600"/>
                </a:solidFill>
                <a:latin typeface="Arial"/>
              </a:rPr>
              <a:t>replacement valu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Throws 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TypeError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if not enough replacements for specifiers in templatestring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64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199"/>
                </a:solidFill>
                <a:latin typeface="Arial"/>
              </a:rPr>
              <a:t>If only one replacement value, don’t need ()</a:t>
            </a:r>
            <a:endParaRPr b="0" lang="en-US" sz="26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777280" y="1143000"/>
            <a:ext cx="28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Arial"/>
              </a:rPr>
              <a:t>Formatting operator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4876920" y="1371600"/>
            <a:ext cx="914400" cy="38088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862880" y="2209680"/>
            <a:ext cx="30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Replacement value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5400000">
            <a:off x="6629040" y="609480"/>
            <a:ext cx="381240" cy="3124080"/>
          </a:xfrm>
          <a:custGeom>
            <a:avLst/>
            <a:gdLst>
              <a:gd name="textAreaLeft" fmla="*/ 0 w 381240"/>
              <a:gd name="textAreaRight" fmla="*/ 137520 w 381240"/>
              <a:gd name="textAreaTop" fmla="*/ 81360 h 3124080"/>
              <a:gd name="textAreaBottom" fmla="*/ 304272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BBA0-950E-400F-96D1-D8DBF49E5D6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ormat Specifier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3885840"/>
            <a:ext cx="8686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What if precision is bigger than the decimal places?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4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Arial"/>
              </a:rPr>
              <a:t>Fills decimal with 0s</a:t>
            </a:r>
            <a:endParaRPr b="0" lang="en-US" sz="20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What if field width is smaller than the length of the value?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4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Arial"/>
              </a:rPr>
              <a:t>Prints entire value</a:t>
            </a:r>
            <a:endParaRPr b="0" lang="en-US" sz="20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For more info: 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4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Arial"/>
              </a:rPr>
              <a:t>http://docs.python.org/lib/typesseq-strings.html</a:t>
            </a:r>
            <a:endParaRPr b="0" lang="en-US" sz="20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16040" y="2664000"/>
            <a:ext cx="229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Field width is 5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304920" y="1676520"/>
          <a:ext cx="2971800" cy="517320"/>
        </p:xfrm>
        <a:graphic>
          <a:graphicData uri="http://schemas.openxmlformats.org/drawingml/2006/table">
            <a:tbl>
              <a:tblPr/>
              <a:tblGrid>
                <a:gridCol w="593640"/>
                <a:gridCol w="595440"/>
                <a:gridCol w="593640"/>
                <a:gridCol w="595080"/>
                <a:gridCol w="594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2" name=""/>
          <p:cNvSpPr/>
          <p:nvPr/>
        </p:nvSpPr>
        <p:spPr>
          <a:xfrm rot="16200000">
            <a:off x="1562040" y="1104840"/>
            <a:ext cx="457200" cy="2819520"/>
          </a:xfrm>
          <a:custGeom>
            <a:avLst/>
            <a:gdLst>
              <a:gd name="textAreaLeft" fmla="*/ 292320 w 457200"/>
              <a:gd name="textAreaRight" fmla="*/ 457560 w 457200"/>
              <a:gd name="textAreaTop" fmla="*/ 73440 h 2819520"/>
              <a:gd name="textAreaBottom" fmla="*/ 2746080 h 2819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3657600" y="1523880"/>
          <a:ext cx="5181480" cy="517680"/>
        </p:xfrm>
        <a:graphic>
          <a:graphicData uri="http://schemas.openxmlformats.org/drawingml/2006/table">
            <a:tbl>
              <a:tblPr/>
              <a:tblGrid>
                <a:gridCol w="576360"/>
                <a:gridCol w="574560"/>
                <a:gridCol w="576360"/>
                <a:gridCol w="576360"/>
                <a:gridCol w="574560"/>
                <a:gridCol w="576360"/>
                <a:gridCol w="576000"/>
                <a:gridCol w="574920"/>
                <a:gridCol w="576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.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"/>
          <p:cNvSpPr/>
          <p:nvPr/>
        </p:nvSpPr>
        <p:spPr>
          <a:xfrm>
            <a:off x="245520" y="1063800"/>
            <a:ext cx="315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print “%5d” % month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565880" y="990720"/>
            <a:ext cx="357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print “%9.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f” % expens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rot="16200000">
            <a:off x="8115120" y="1714320"/>
            <a:ext cx="304560" cy="1143000"/>
          </a:xfrm>
          <a:custGeom>
            <a:avLst/>
            <a:gdLst>
              <a:gd name="textAreaLeft" fmla="*/ 194760 w 304560"/>
              <a:gd name="textAreaRight" fmla="*/ 304920 w 30456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6200000">
            <a:off x="6095880" y="377640"/>
            <a:ext cx="457200" cy="5181480"/>
          </a:xfrm>
          <a:custGeom>
            <a:avLst/>
            <a:gdLst>
              <a:gd name="textAreaLeft" fmla="*/ 292320 w 457200"/>
              <a:gd name="textAreaRight" fmla="*/ 457560 w 457200"/>
              <a:gd name="textAreaTop" fmla="*/ 135000 h 5181480"/>
              <a:gd name="textAreaBottom" fmla="*/ 5046480 h 5181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83120" y="3121200"/>
            <a:ext cx="229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Field width is 9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999480" y="2362320"/>
            <a:ext cx="204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Precision is 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27920" y="3352680"/>
            <a:ext cx="21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17b8"/>
                </a:solidFill>
                <a:latin typeface="Tahoma"/>
              </a:rPr>
              <a:t>Right-justified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96400" y="6245280"/>
            <a:ext cx="308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format_specifiers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BB86-4A48-4666-AB6B-A091F8F095A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actic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rmat output from xrange_analysis.py nicely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6CE8-3C47-494D-9A33-DDBF8F3DF5F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7T01:49:46Z</dcterms:created>
  <dc:creator>Sara Sprenkle</dc:creator>
  <dc:description/>
  <dc:language>en-US</dc:language>
  <cp:lastModifiedBy>Sara Sprenkle</cp:lastModifiedBy>
  <dcterms:modified xsi:type="dcterms:W3CDTF">2007-09-25T02:42:01Z</dcterms:modified>
  <cp:revision>312</cp:revision>
  <dc:subject/>
  <dc:title>PowerPoint Presentation</dc:title>
</cp:coreProperties>
</file>