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89C-A14D-4427-B75E-2A08D9F5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92E-0A16-4BDC-A679-AD095AC7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DD1-7930-490B-A169-AB35F1C5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A54-8B9D-4A9C-8912-F84DFBCC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8C1F6-E616-4442-8DBE-7A2D6916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C7289-4846-474F-880F-3B82CFB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E95BC-D61D-4FE9-B5D6-515D1D75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D27AF-8EEE-4902-BDBA-1B3FD839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E02C8-A85C-4EDE-9CEB-2E9B1D17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838B0-C771-4564-AF7F-F9BF246D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6A74C-6BE9-4EF1-91EF-B6BF2592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568-AAE9-47EB-A764-C75CD060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C9FEF-2FDA-4863-91CD-C6281C44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7EFEF-D39D-4F2A-907C-D3493E40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BC2B6-C718-44F2-A9D0-2253D72D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CEF8B-3161-4E24-B617-2A2F7151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F68C2-4C76-43C3-AEF1-0F021519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B21-BC42-40C3-9B26-8E79AD02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5EA-B7F2-46A8-9FA6-DD727781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77A-46E4-46CA-8B35-200E8E43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B31-8D68-48A5-A6B5-2A013943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B73-322D-4BD7-BA42-9686E414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F82-8542-4C9B-A2FB-CDF93B2F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7E0-3FF3-4988-9278-E83C2CA7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8BBA-28FB-40B5-9A98-00741A8BF6F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E24C-91F3-463F-BF5C-1EB618E191D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presentation: ASCI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 Issue: Environmental Monito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2880" y="682776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B2C-F47B-45C9-964F-9CD0427CA5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string is a sequence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character is stored as a binary number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SCII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American Standard Code for Information Interchange) is one standard encoding for charact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problem with ASCII is that it is based on the English langua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not represent other types of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nicode is a new stand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out: fix second ‘Q’ and ‘R’ to lowerca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0080" y="62452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 Table Hando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87F-5A81-4CE9-BEFE-3141DF7161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916-128E-44D3-A95C-86B42D2518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97--1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65--9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ECD-C280-47EF-828E-3938EA6D93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anslating to/from ASCI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 character into its ASCII numeric code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d('a') ==&gt; 97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n ASCII numeric code into its character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ch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r(97) ==&gt; 'a'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1520" y="595296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tab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4D2-9528-4D90-9F94-F5898630E1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ncryp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cess of encoding information to keep it secu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technique: Substitution Cip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ch character in message is replaced by a new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esar Cip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place with a character X places aw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Julius Caesar used it to communicate with his genera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ap around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ite program(s) to do this in lab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DFC-DBA8-43AA-AF8C-DB3099C866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Comparis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me operations as with numb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==, !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, &l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gt;, &g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in conditions for if statements and 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800" y="25146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phabetical comparis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286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08200" y="624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compa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39E-F76F-41D4-8197-90ECA3F684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6F4-92CE-471E-AEB3-3D282890D8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07E-84B8-4902-8E73-499568A842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len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4B2-71A4-4AE5-8AFB-74E4C9E0AB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AD1-9032-4475-B998-B676B09448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3E1-1BDB-4888-B581-F3EAAE058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Environmental Monito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disciplinary projects involving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ant new-ish CS research are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claimer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a seismologist or a biolog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9720" y="480060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8160" y="483084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32960" y="4822920"/>
            <a:ext cx="99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DFD-79E9-4D5E-882D-DB8742EA5F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CS challenges to both projec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challenges only applicable to one projec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e environment impact the CS research problems/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id the researchers address these challenge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ddress the challenge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5AF-2EDA-487F-9EF7-A60D39168F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 CSists thought that efficiency didn’t matter anymo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B of memory, terabytes of storage on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w: small and embedded dev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efficient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6D4-1FCD-447A-8784-9AED515925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issing data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nnectivity (good signal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uplicate data (different sources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ead sensor node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libration of data (time synchronization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stand extreme weather, condition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ttery lif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obustness: recover from software failure/malfunction or bad dat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443-B3FE-4EE2-9954-6AB9AD7441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curately simulate conditions (which will vary widely over long periods of tim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fferent goals from domain scient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S: push boundaries of sensor network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ample: Improve reliability of data to 95%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eismologists: need 100% reliable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C7C-8E84-460F-9B9A-06E1EB07F3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ar-powered batter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ify all when data gets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ZebraNet: 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nly transmit if zebra gives data to bas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olcano: only when “interesting”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12E-3D13-43C7-96B2-E5E8AC5296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ndancy of data -- verify/validate it is corr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send to zebras with history of reporting back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ather proof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tteries: solar-panels to rechar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7FE-36F6-46AB-9A50-008ECC9167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vel simul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environment/scenarios on compu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zebras with hor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ush software to make sure it “recovers” appropriately from errors or bad information 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3BB-72E0-4D53-9F21-101805189C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 “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r each character in the string 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14B-DEFB-4051-B451-8256D9BEA6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05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86160" y="63244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107-54A6-4127-A7C8-024FF4E339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061-629A-451A-8C8E-B94C356C9C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heck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arch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73B-CBE5-4BC3-ABA3-E2316DE880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5760" y="6245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776-B679-4A6C-A4B5-1ADF17809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lternative Solution by Cath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binaryToDecimal2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erate through string using an integer as the index and the substring([]) op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veloping solutions: if iterating (through whatever) in one direction doesn’t work, try the ot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360-D45E-48EB-85D2-9822A74E92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0600" y="556272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520" y="55926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tuit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D84-947E-48E5-96A9-2B109A8579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05T20:18:44Z</cp:lastPrinted>
  <dcterms:modified xsi:type="dcterms:W3CDTF">2007-10-05T20:22:41Z</dcterms:modified>
  <cp:revision>1264</cp:revision>
  <dc:subject/>
  <dc:title>PowerPoint Presentation</dc:title>
</cp:coreProperties>
</file>