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F418-E63D-41E8-B4F2-A49C80D3E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743C-1A96-42AC-83A8-225869FEF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4B5F-9B80-48D9-8146-2EEEC542D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39A4-3443-4EBB-A53F-C8E316CF2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0FF804-F549-47C7-8607-908FDC2D7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A103C9-7581-400A-A439-FF172E9FC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28C4D6-2AF8-4E83-B453-3DBFD2FE2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A7770E-77D7-4A5D-8DBA-2BF60AA29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3D90E9-8739-4F4A-B6F3-EEB1ADC23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237499-AE7C-410E-9FE5-D729DFD04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A6A3F4-029D-47C5-A6D3-D6DC7BA44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7837-A142-4AC2-937B-6C957A004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780685-FA91-4295-A759-066888479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BE08F0-6668-42F1-95FC-F0C3FA356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950255-82C3-454F-B075-1B7536826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9803B1-B7F1-4A3C-9917-F045C7AEE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8BF185-B816-419E-9A9E-35EC45C48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EA3B-449E-40B7-96FF-FC1B5FE33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75B5-60E3-47C8-B2B1-3B8072714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B699-CF1E-48F3-B150-1C94DFEB3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6D94-21AF-4F8D-877D-629E81F81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1239-E91B-49D8-8F19-559478040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3B4B-44DA-48BB-9259-EDE62D9A9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7B70-8B69-4848-BBC4-12495E151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3" marL="1598760" indent="-289080">
              <a:spcBef>
                <a:spcPts val="79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4" marL="2006640" indent="-29196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5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6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Oct 15,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Sprenkle - CS1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760FC-DEA3-4E7F-81CC-6116A178D2B9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688F9-812B-4F51-97BA-DDB1669180B0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assing arrays to function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5A4B-A0BA-49A6-8AB7-06E40975F7D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Issues: Open  source 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ource is available to be read/editted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Linux kernel is open sourc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Linux kernel is fre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ome distributions add additional software, charge for O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roprietary vs. open-source softwar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Who has control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o you trust them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5854-6881-48C7-80D1-62D127BA963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7T01:49:46Z</dcterms:created>
  <dc:creator>Sara Sprenkle</dc:creator>
  <dc:description/>
  <dc:language>en-US</dc:language>
  <cp:lastModifiedBy>Sara Sprenkle</cp:lastModifiedBy>
  <dcterms:modified xsi:type="dcterms:W3CDTF">2007-10-15T22:45:01Z</dcterms:modified>
  <cp:revision>1459</cp:revision>
  <dc:subject/>
  <dc:title>PowerPoint Presentation</dc:title>
</cp:coreProperties>
</file>