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42B-5EE2-479E-A173-1BFD0764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2C8-21BE-4357-8FFD-15A3CD48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14F-18E5-4482-BBB7-3FCABC93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D32-0A90-4D6C-823B-01E75F0D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D1358-3182-41D6-AB3E-A294AC3B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73B8A-98A8-44F9-8F51-C9F65942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02EDD-27E0-48A3-B823-EEDD5591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92C38-14CF-4D4F-BF7B-17E1CD8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BA7D5-2EF0-4CC8-9D28-175D63D3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F0827-817E-4D45-BDCC-FBF0CB5B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14CEB-F575-4D8A-AF4A-340348A5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592-88B8-4F89-A6E4-C4CA61D6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22B09-3067-4AD7-A678-3700587C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7BD26-E515-4D7C-9C83-C4FF8398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182BE-0E60-4EE1-823F-F09A8322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00F55-EE35-45A7-871B-02CE6846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AAD13-B645-467B-A21D-7E66959F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0D8-3539-4B4F-AC44-A92C22CC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41A-DD5F-4F1D-8DDE-26656644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D6F-0956-4A32-82AA-7E3EA45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2AE-F92D-4058-B987-A2D1CF19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0B0-AA82-4DF4-8FE2-B8A69496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514-D02B-4DE7-94D8-EFEBEBF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B7E-9C2D-405E-A710-607AF9D0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66F4-D4D9-414B-AFE3-A28118E3BC8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F632-B153-4637-85D4-3BEAF5BB0C8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roduction to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orking with 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D52-1E89-4BF8-A1C2-A381B3982E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year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DE2-3224-4426-8B29-912F97D025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057-8882-487E-B75E-C07D059091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of reading from a file using file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file: data/years.d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is what Python printed different than the file’s conten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to fix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2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l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1752480"/>
            <a:ext cx="3787560" cy="1557000"/>
            <a:chOff x="5105520" y="1752480"/>
            <a:chExt cx="3787560" cy="1557000"/>
          </a:xfrm>
        </p:grpSpPr>
        <p:sp>
          <p:nvSpPr>
            <p:cNvPr id="132" name=""/>
            <p:cNvSpPr/>
            <p:nvPr/>
          </p:nvSpPr>
          <p:spPr>
            <a:xfrm>
              <a:off x="5638680" y="1752480"/>
              <a:ext cx="325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Typically use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da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or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tx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file extension for these types of data/text files 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105520" y="2514240"/>
              <a:ext cx="9144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C71-E3E9-4351-884B-3A3C89EE70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9320" y="42022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29718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800" y="30942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38120" y="34750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7800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B31-9365-4B9E-BF2B-7E8F18E13C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search a file for some term.  We want to know which lines of the file contain that term and a count of the number of lines that contained that te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A24-9C76-4AB8-9600-9F0C02585D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ime, we want to ignore all lines that begin with “#” (a.k.a., the line is a commen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would we have comments in a data fi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ata/years2.da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we revise the previous solution to do thi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CC8-BD4D-441F-8C8B-09B015F077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ling Numeric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been dealing with reading and writing string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 we need to do to read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rom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write numbers to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10B-A0C7-49B3-BC8C-8ECFCECAA4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to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file object in write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yFile = file(“years.txt”, “w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create a file from 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e_write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happens if execute the program again with different user inp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4760" y="63453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08F-5231-43DB-A243-EB80CA93C4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temp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3B4-AA27-4000-9D6E-B1FE84E52C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B97-2E91-419C-810E-8F4FA1AA09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rger programs require functions to maintain readabilit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main() and other functions to break up your program into smaller, more manageable chunk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bstrac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away” the detai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s before, you can still write smaller scripts without any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try out functions using smaller script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eed the main() function when using other functions to keep “driver” at top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therwise, functions need to be defined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9FF-642E-451E-B3C1-2C37D32AB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9320" y="39736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27432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3800" y="28656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038120" y="32464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5514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56B-57A4-4759-AF37-573987BACE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tional Useful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63720"/>
          <a:ext cx="8458200" cy="5387760"/>
        </p:xfrm>
        <a:graphic>
          <a:graphicData uri="http://schemas.openxmlformats.org/drawingml/2006/table">
            <a:tbl>
              <a:tblPr/>
              <a:tblGrid>
                <a:gridCol w="2971800"/>
                <a:gridCol w="548640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ip([chars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the string with the leading and trailing characters removed.  Defaults to whitespace if no characters specified.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--stripping whitespace from beginning and end and using whitespace characters as the delimiter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, using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as the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delimiter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string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start[,end]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lowest index in the string where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.  Return -1 if not fou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lace(old, new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copy of string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ld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replaced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ew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7AD-7A2A-4765-8050-D394F85315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Paradigm: Imperativ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modern programming languages ar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numbers and strings in variable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operation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data using operations, such as + (addition and concatenation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and operations are separa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to imperative: object-oriented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EBE-3124-4500-9151-F86274315E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is a collection of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mb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and method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interact by invoking methods on other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 perform some operation on obj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AB9-1F80-4BDD-8760-C70094D44F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been using objects and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Just didn’t call them objec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: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data type (or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 creat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type (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nimal = “cow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ound = “moo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029200"/>
            <a:ext cx="2895480" cy="10666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c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u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moo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58672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0800" y="45687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14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Objects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 of type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800" y="5562720"/>
            <a:ext cx="137160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4975200"/>
            <a:ext cx="161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Variable names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562720"/>
            <a:ext cx="83844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40F-074B-4679-8876-EE015CC776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efined methods that you can use on objects of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methods: lower, replace, find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 are similar to functions but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alled/us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ifferent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bjectname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name([parameter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 animal.upper(), sound.center(1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day: new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with its own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99E-2ABC-4B5A-84FF-5B4B60AA53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ow if need to enter a lot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ror-pro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User enters the wrong value!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f want to run again after program gets modifi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08F-9B3A-49C9-B459-D97E026274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data once into a file, save it, and reuse it in your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for large amounts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s can use files to communic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able to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read 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write to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80060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48769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724280"/>
            <a:ext cx="121932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cri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>
            <a:off x="2228400" y="529560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3"/>
            <a:endCxn id="107" idx="1"/>
          </p:cNvCxnSpPr>
          <p:nvPr/>
        </p:nvCxnSpPr>
        <p:spPr>
          <a:xfrm>
            <a:off x="5047920" y="5295600"/>
            <a:ext cx="16390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733920" y="586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358-380E-4A5E-9C2D-FACD0BFE80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Use of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092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257720"/>
            <a:ext cx="167616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974960"/>
            <a:ext cx="121896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  <a:endCxn id="115" idx="1"/>
          </p:cNvCxnSpPr>
          <p:nvPr/>
        </p:nvCxnSpPr>
        <p:spPr>
          <a:xfrm>
            <a:off x="1923840" y="254592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4" idx="0"/>
          </p:cNvCxnSpPr>
          <p:nvPr/>
        </p:nvCxnSpPr>
        <p:spPr>
          <a:xfrm>
            <a:off x="4114440" y="3137040"/>
            <a:ext cx="1080" cy="11023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20040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eb Page (Text File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42577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1"/>
          </p:cNvCxnSpPr>
          <p:nvPr/>
        </p:nvCxnSpPr>
        <p:spPr>
          <a:xfrm>
            <a:off x="4971960" y="4676400"/>
            <a:ext cx="14104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64600" y="36781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irefo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22840" y="528804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nders” web page for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BCA-1215-46BE-9FB8-9AC9EEA094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7T21:27:22Z</cp:lastPrinted>
  <dcterms:modified xsi:type="dcterms:W3CDTF">2007-10-17T21:59:52Z</dcterms:modified>
  <cp:revision>1804</cp:revision>
  <dc:subject/>
  <dc:title>PowerPoint Presentation</dc:title>
</cp:coreProperties>
</file>