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9EF9-A244-4E1F-A91C-2AEB815B8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7013-159A-473C-A854-4B8CD87D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93B6-B283-4259-8E93-80E1DE45C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12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0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12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0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1344-8096-49C0-97CD-2F9B24750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46AF9-4482-4FBF-B6CE-3492A310D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EF967-80D0-4F7D-93FB-39B655A3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3821F-2272-4EB1-8BB5-0893EEF0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ECA1B-1B45-434D-9386-E125CA64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F25CA-FD3A-4A3B-8EEF-E59A00AC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5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E6526-7263-4DF8-B60A-D15C1A97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D7E49-0630-41DB-A3A0-C0736822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C400-B09C-4861-8616-469D9C8B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89CF0-A8AC-451A-8C37-96466CB1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6F5B2-4410-403F-9CCE-497C3258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D751B-F219-4564-9DE7-351D938F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BE567-5403-4538-B7A7-631CF6CB7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512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20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512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20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D72B8-022C-4198-8F58-EBBDF3259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8A27-C121-4F01-8532-A88C1528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D300-25BA-45DF-92C6-73BEEE4D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12F8-F8C6-4EF8-B43F-7AFB2E1E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5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ED6F-B867-4F4F-A2DF-BA0323E3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E357-0D61-4B11-9B40-DEB1C096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AA7E-7707-4AD6-8E20-152A65AE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4203-26F8-4D39-9E3D-3FC389A3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3" marL="1596960" indent="-28728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4" marL="2004840" indent="-29016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5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6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p 11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A2D2DE-0D13-43B0-A0C1-853A1CA76F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02191-0382-44A2-AD1F-2F205DA8DC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3" marL="1596960" indent="-28728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4" marL="2004840" indent="-29016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5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6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74924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2017b8"/>
                </a:solidFill>
                <a:latin typeface="Tahoma"/>
              </a:rPr>
              <a:t>Lab 0</a:t>
            </a:r>
            <a:endParaRPr b="0" lang="en-US" sz="48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6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Professor Sprenkl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Tahoma"/>
              </a:rPr>
              <a:t>sprenkles@wlu.edu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September 11, 2007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0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tart on paper --&gt; Web, after log i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Linux workshee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Logi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Open browser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Navigate to Lab 0, from “Schedule” pag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ntinue on Web-based Lab 0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37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Why programming languages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Start lab #0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UNIX/Linux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Portal account (Blog for “Broader CS Issues”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Web pag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Text Editor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Pytho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D4E6-080D-4858-913B-BAB1F443345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5372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Do We Need Programming Language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53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ers can’t understand English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oo ambiguous (PB&amp;J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umans can’t easily write machine cod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3276720"/>
            <a:ext cx="5943600" cy="380880"/>
          </a:xfrm>
          <a:prstGeom prst="rect">
            <a:avLst/>
          </a:prstGeom>
          <a:solidFill>
            <a:srgbClr val="cb98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Statement (English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5638680"/>
            <a:ext cx="5943600" cy="381240"/>
          </a:xfrm>
          <a:prstGeom prst="rect">
            <a:avLst/>
          </a:prstGeom>
          <a:solidFill>
            <a:srgbClr val="ffb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 code/Central Processing Unit (CPU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70040" y="6102360"/>
            <a:ext cx="486288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000000 00001</a:t>
            </a: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00010 00110 00000 100000</a:t>
            </a:r>
            <a:endParaRPr b="0" lang="en-US" sz="19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372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Do We Need Programming Language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53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ers can’t understand English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oo ambiguous (PB&amp;J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umans can’t easily write machine cod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3276720"/>
            <a:ext cx="5943600" cy="380880"/>
          </a:xfrm>
          <a:prstGeom prst="rect">
            <a:avLst/>
          </a:prstGeom>
          <a:solidFill>
            <a:srgbClr val="cb98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Statement (English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3962520"/>
            <a:ext cx="594360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gorithm/Pseudo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5257800"/>
            <a:ext cx="5943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te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4648320"/>
            <a:ext cx="5943600" cy="3808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level Programming Language (Python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95480" y="6019920"/>
            <a:ext cx="5943600" cy="380880"/>
          </a:xfrm>
          <a:prstGeom prst="rect">
            <a:avLst/>
          </a:prstGeom>
          <a:solidFill>
            <a:srgbClr val="ffb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 code/Central Processing Unit (CPU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0" y="3200400"/>
            <a:ext cx="2819520" cy="1523880"/>
            <a:chOff x="0" y="3200400"/>
            <a:chExt cx="2819520" cy="1523880"/>
          </a:xfrm>
        </p:grpSpPr>
        <p:sp>
          <p:nvSpPr>
            <p:cNvPr id="100" name=""/>
            <p:cNvSpPr/>
            <p:nvPr/>
          </p:nvSpPr>
          <p:spPr>
            <a:xfrm>
              <a:off x="2666880" y="3352680"/>
              <a:ext cx="152640" cy="1371600"/>
            </a:xfrm>
            <a:custGeom>
              <a:avLst/>
              <a:gdLst>
                <a:gd name="textAreaLeft" fmla="*/ 44640 w 152640"/>
                <a:gd name="textAreaRight" fmla="*/ 153000 w 152640"/>
                <a:gd name="textAreaTop" fmla="*/ 56880 h 1371600"/>
                <a:gd name="textAreaBottom" fmla="*/ 131472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3200400"/>
              <a:ext cx="2590920" cy="12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Programmer (YOU!)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ranslates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 from problem to algorithm (solution) to program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0" y="4846680"/>
            <a:ext cx="2819520" cy="943920"/>
            <a:chOff x="0" y="4846680"/>
            <a:chExt cx="2819520" cy="943920"/>
          </a:xfrm>
        </p:grpSpPr>
        <p:sp>
          <p:nvSpPr>
            <p:cNvPr id="103" name=""/>
            <p:cNvSpPr/>
            <p:nvPr/>
          </p:nvSpPr>
          <p:spPr>
            <a:xfrm>
              <a:off x="2666880" y="4923000"/>
              <a:ext cx="152640" cy="609480"/>
            </a:xfrm>
            <a:custGeom>
              <a:avLst/>
              <a:gdLst>
                <a:gd name="textAreaLeft" fmla="*/ 44640 w 152640"/>
                <a:gd name="textAreaRight" fmla="*/ 153000 w 152640"/>
                <a:gd name="textAreaTop" fmla="*/ 25200 h 609480"/>
                <a:gd name="textAreaBottom" fmla="*/ 5842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846680"/>
              <a:ext cx="2590920" cy="94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Python 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interpreter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 translates into bytecode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15372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Do We Need Programming Language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53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ers can’t understand English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oo ambiguous (PB&amp;J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umans can’t easily write machine cod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3276720"/>
            <a:ext cx="5943600" cy="380880"/>
          </a:xfrm>
          <a:prstGeom prst="rect">
            <a:avLst/>
          </a:prstGeom>
          <a:solidFill>
            <a:srgbClr val="cb98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Statement (English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3962520"/>
            <a:ext cx="594360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gorithm/Pseudo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5257800"/>
            <a:ext cx="5943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te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4648320"/>
            <a:ext cx="5943600" cy="3808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level Programming Language (Python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6019920"/>
            <a:ext cx="5943600" cy="380880"/>
          </a:xfrm>
          <a:prstGeom prst="rect">
            <a:avLst/>
          </a:prstGeom>
          <a:solidFill>
            <a:srgbClr val="ffb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 code/Central Processing Unit (CPU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5486400"/>
            <a:ext cx="152640" cy="609480"/>
          </a:xfrm>
          <a:custGeom>
            <a:avLst/>
            <a:gdLst>
              <a:gd name="textAreaLeft" fmla="*/ 44640 w 152640"/>
              <a:gd name="textAreaRight" fmla="*/ 153000 w 15264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320" y="5257800"/>
            <a:ext cx="259056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ython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preter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executes the bytecode in a “virtual machine”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 I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 programming langua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n interpreter (a program)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 Interpret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536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Validates the Python programming language expressio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968400" indent="-24444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Enforces Python syntax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968400" indent="-24444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Reports syntax errors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609480" indent="-6094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Simulates a computer (executes the expression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9684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365760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3581280"/>
            <a:ext cx="160020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yth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expressi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5181480"/>
            <a:ext cx="137160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3"/>
            <a:endCxn id="118" idx="1"/>
          </p:cNvCxnSpPr>
          <p:nvPr/>
        </p:nvCxnSpPr>
        <p:spPr>
          <a:xfrm>
            <a:off x="3123720" y="415260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23" idx="0"/>
            <a:endCxn id="118" idx="2"/>
          </p:cNvCxnSpPr>
          <p:nvPr/>
        </p:nvCxnSpPr>
        <p:spPr>
          <a:xfrm flipH="1" flipV="1">
            <a:off x="5295240" y="4647600"/>
            <a:ext cx="572040" cy="5338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5105520" y="5181480"/>
            <a:ext cx="152388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18" idx="3"/>
            <a:endCxn id="123" idx="3"/>
          </p:cNvCxnSpPr>
          <p:nvPr/>
        </p:nvCxnSpPr>
        <p:spPr>
          <a:xfrm>
            <a:off x="6324120" y="4152600"/>
            <a:ext cx="305640" cy="1524600"/>
          </a:xfrm>
          <a:prstGeom prst="bentConnector3">
            <a:avLst>
              <a:gd name="adj1" fmla="val 231721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8" idx="2"/>
            <a:endCxn id="120" idx="0"/>
          </p:cNvCxnSpPr>
          <p:nvPr/>
        </p:nvCxnSpPr>
        <p:spPr>
          <a:xfrm flipH="1">
            <a:off x="3428640" y="4647960"/>
            <a:ext cx="1867680" cy="5338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grpSp>
        <p:nvGrpSpPr>
          <p:cNvPr id="126" name=""/>
          <p:cNvGrpSpPr/>
          <p:nvPr/>
        </p:nvGrpSpPr>
        <p:grpSpPr>
          <a:xfrm>
            <a:off x="4190760" y="2311560"/>
            <a:ext cx="4648680" cy="433800"/>
            <a:chOff x="4190760" y="2311560"/>
            <a:chExt cx="4648680" cy="433800"/>
          </a:xfrm>
        </p:grpSpPr>
        <p:sp>
          <p:nvSpPr>
            <p:cNvPr id="127" name=""/>
            <p:cNvSpPr/>
            <p:nvPr/>
          </p:nvSpPr>
          <p:spPr>
            <a:xfrm>
              <a:off x="4862520" y="2311560"/>
              <a:ext cx="397692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Have a lot of these early on!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4190760" y="2514600"/>
              <a:ext cx="685800" cy="1522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7086600" y="4267080"/>
            <a:ext cx="19051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nly if no syntax error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 Interpret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536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Validates the Python programming language expressio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Enforces Python syntax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Reports syntax errors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609480" indent="-6094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Simulates a computer (executes the expression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Runtime errors (e.g., divide by 0)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Semantic errors (not what you </a:t>
            </a:r>
            <a:r>
              <a:rPr b="0" i="1" lang="en-GB" sz="2400" spc="-1" strike="noStrike">
                <a:solidFill>
                  <a:srgbClr val="020202"/>
                </a:solidFill>
                <a:latin typeface="Tahoma"/>
              </a:rPr>
              <a:t>meant</a:t>
            </a: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6662880" y="4427640"/>
            <a:ext cx="1566720" cy="753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9880" y="4386240"/>
            <a:ext cx="1219320" cy="87156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yth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expressi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75200" y="5951520"/>
            <a:ext cx="1044720" cy="7542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33" idx="3"/>
            <a:endCxn id="132" idx="1"/>
          </p:cNvCxnSpPr>
          <p:nvPr/>
        </p:nvCxnSpPr>
        <p:spPr>
          <a:xfrm flipV="1">
            <a:off x="5029200" y="4804560"/>
            <a:ext cx="1634400" cy="1836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37" idx="0"/>
            <a:endCxn id="132" idx="2"/>
          </p:cNvCxnSpPr>
          <p:nvPr/>
        </p:nvCxnSpPr>
        <p:spPr>
          <a:xfrm flipH="1" flipV="1">
            <a:off x="7446600" y="5180760"/>
            <a:ext cx="402480" cy="77076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7162920" y="5951520"/>
            <a:ext cx="1371600" cy="7542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2" idx="3"/>
            <a:endCxn id="137" idx="3"/>
          </p:cNvCxnSpPr>
          <p:nvPr/>
        </p:nvCxnSpPr>
        <p:spPr>
          <a:xfrm>
            <a:off x="8229240" y="4805280"/>
            <a:ext cx="305640" cy="1524960"/>
          </a:xfrm>
          <a:prstGeom prst="bentConnector3">
            <a:avLst>
              <a:gd name="adj1" fmla="val 175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2" idx="2"/>
            <a:endCxn id="134" idx="0"/>
          </p:cNvCxnSpPr>
          <p:nvPr/>
        </p:nvCxnSpPr>
        <p:spPr>
          <a:xfrm flipH="1">
            <a:off x="5496840" y="5181120"/>
            <a:ext cx="1950120" cy="77076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grpSp>
        <p:nvGrpSpPr>
          <p:cNvPr id="140" name=""/>
          <p:cNvGrpSpPr/>
          <p:nvPr/>
        </p:nvGrpSpPr>
        <p:grpSpPr>
          <a:xfrm>
            <a:off x="4495320" y="2311560"/>
            <a:ext cx="4648680" cy="433800"/>
            <a:chOff x="4495320" y="2311560"/>
            <a:chExt cx="4648680" cy="433800"/>
          </a:xfrm>
        </p:grpSpPr>
        <p:sp>
          <p:nvSpPr>
            <p:cNvPr id="141" name=""/>
            <p:cNvSpPr/>
            <p:nvPr/>
          </p:nvSpPr>
          <p:spPr>
            <a:xfrm>
              <a:off x="5167080" y="2311560"/>
              <a:ext cx="397692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Have a lot of these early on!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4495320" y="2514600"/>
              <a:ext cx="685800" cy="1522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212760" y="5248440"/>
            <a:ext cx="29876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3000"/>
              </a:lnSpc>
              <a:buClr>
                <a:srgbClr val="00cc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ood way to test expression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ur Programming Pro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686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Programmer types a </a:t>
            </a:r>
            <a:r>
              <a:rPr b="0" lang="en-GB" sz="3000" spc="-1" strike="noStrike">
                <a:solidFill>
                  <a:srgbClr val="66ccff"/>
                </a:solidFill>
                <a:latin typeface="Tahoma"/>
              </a:rPr>
              <a:t>program/script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into a </a:t>
            </a:r>
            <a:r>
              <a:rPr b="1" lang="en-GB" sz="3000" spc="-1" strike="noStrike">
                <a:solidFill>
                  <a:srgbClr val="010199"/>
                </a:solidFill>
                <a:latin typeface="Tahoma"/>
              </a:rPr>
              <a:t>text editor</a:t>
            </a:r>
            <a:r>
              <a:rPr b="1" lang="en-GB" sz="30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(jEdit or IDLE).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An </a:t>
            </a:r>
            <a:r>
              <a:rPr b="0" lang="en-GB" sz="3000" spc="-1" strike="noStrike">
                <a:solidFill>
                  <a:srgbClr val="ff00ff"/>
                </a:solidFill>
                <a:latin typeface="Tahoma"/>
              </a:rPr>
              <a:t>interpreter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turns each expression into </a:t>
            </a:r>
            <a:r>
              <a:rPr b="0" lang="en-GB" sz="3000" spc="-1" strike="noStrike">
                <a:solidFill>
                  <a:srgbClr val="cb98fe"/>
                </a:solidFill>
                <a:latin typeface="Tahoma"/>
              </a:rPr>
              <a:t>bytecode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and then executes each expression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3578400"/>
            <a:ext cx="2057400" cy="99036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52680" y="3502080"/>
            <a:ext cx="160020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.py  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5102280"/>
            <a:ext cx="137160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47" idx="3"/>
            <a:endCxn id="146" idx="1"/>
          </p:cNvCxnSpPr>
          <p:nvPr/>
        </p:nvCxnSpPr>
        <p:spPr>
          <a:xfrm>
            <a:off x="4952520" y="407304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51" idx="0"/>
            <a:endCxn id="146" idx="2"/>
          </p:cNvCxnSpPr>
          <p:nvPr/>
        </p:nvCxnSpPr>
        <p:spPr>
          <a:xfrm flipH="1" flipV="1">
            <a:off x="7124040" y="4568400"/>
            <a:ext cx="57204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304920" y="3578400"/>
            <a:ext cx="2057400" cy="990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(jEdit or IDLE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2" idx="3"/>
            <a:endCxn id="147" idx="1"/>
          </p:cNvCxnSpPr>
          <p:nvPr/>
        </p:nvCxnSpPr>
        <p:spPr>
          <a:xfrm>
            <a:off x="2361960" y="407304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6934320" y="5102280"/>
            <a:ext cx="152388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46" idx="3"/>
            <a:endCxn id="151" idx="3"/>
          </p:cNvCxnSpPr>
          <p:nvPr/>
        </p:nvCxnSpPr>
        <p:spPr>
          <a:xfrm>
            <a:off x="8152920" y="4073400"/>
            <a:ext cx="305640" cy="1524960"/>
          </a:xfrm>
          <a:prstGeom prst="bentConnector3">
            <a:avLst>
              <a:gd name="adj1" fmla="val 231721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46" idx="2"/>
            <a:endCxn id="148" idx="0"/>
          </p:cNvCxnSpPr>
          <p:nvPr/>
        </p:nvCxnSpPr>
        <p:spPr>
          <a:xfrm flipH="1">
            <a:off x="5257440" y="4568760"/>
            <a:ext cx="186768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5029200" y="4264200"/>
            <a:ext cx="12193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 “line” at a tim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320" y="4797360"/>
            <a:ext cx="441936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3000"/>
              </a:lnSpc>
              <a:buClr>
                <a:srgbClr val="02020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et feedback about which line caused the problem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176040" indent="-176040">
              <a:lnSpc>
                <a:spcPct val="93000"/>
              </a:lnSpc>
              <a:buClr>
                <a:srgbClr val="02020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terpreter stops validating/executing line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66C9-B6D1-47F6-A526-23BF45F37F01}" type="slidenum">
              <a:t>9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on University</dc:creator>
  <dc:description/>
  <dc:language>en-US</dc:language>
  <cp:lastModifiedBy>Sara Sprenkle</cp:lastModifiedBy>
  <cp:lastPrinted>2007-09-10T23:03:20Z</cp:lastPrinted>
  <dcterms:modified xsi:type="dcterms:W3CDTF">2007-09-11T17:22:27Z</dcterms:modified>
  <cp:revision>241</cp:revision>
  <dc:subject/>
  <dc:title>Intro to Java</dc:title>
</cp:coreProperties>
</file>