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533F-0F5C-403A-99D4-8F10F6E47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E812-E2FD-4FBB-8754-5AFE99BA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ED5A-D6A3-429A-B7B4-94825003E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55AE-8651-4BCA-9B84-248897CEF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80D98-94D3-40A8-9FF7-412787308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4C18F-7A07-4BAE-AB73-03130FD1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0B5FD-FA6C-4B3C-998B-63861FDC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A009D-01DE-44E8-88B1-BAE1CE41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2D09F-5AC6-4343-92CF-B2411127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25DF9-1020-4CE1-99E1-9437D4D6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D5DF0-003D-4194-91BA-C6FAB663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FD8E-ABDC-453F-92CB-D514DB8A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DFBCA-072D-4601-8A81-41ABC9D6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E15C8-E7F9-4E08-A5D2-D7D56A77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4EBB2-E3C4-403C-AE07-E638294C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E9A73-CF08-4903-8DA3-BA8D31748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4DC48-E020-4211-8E18-72452B2F5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E19B-147B-4C8E-A240-714E6227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C76D-C8C4-454F-93DF-CB47408F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0B99-16F1-40B0-A1CB-96F2AF9A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B7FB-D15B-48DF-99E0-95FA032D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EAB3-F6A9-4A99-A89D-BE721CE3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A173-FE47-4F2B-9165-2A79EFA7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CFD7-6842-4D44-A85C-ACDA24EE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28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B796-766E-4BC5-A725-FAF25736D49A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1FC1-B262-4D34-8581-9D710AB6AABF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on conditional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definite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ikipedi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860D-4555-4392-B893-903C3A696EE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ore Complex Condi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17b8"/>
                </a:solidFill>
                <a:latin typeface="Arial"/>
              </a:rPr>
              <a:t>Boolean</a:t>
            </a:r>
            <a:endParaRPr b="0" lang="en-US" sz="30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Two logical values: True and False</a:t>
            </a:r>
            <a:endParaRPr b="0" lang="en-US" sz="26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20202"/>
                </a:solidFill>
                <a:latin typeface="Arial"/>
              </a:rPr>
              <a:t>Combine conditions with </a:t>
            </a:r>
            <a:r>
              <a:rPr b="0" lang="en-US" sz="3000" spc="-1" strike="noStrike">
                <a:solidFill>
                  <a:srgbClr val="2017b8"/>
                </a:solidFill>
                <a:latin typeface="Arial"/>
              </a:rPr>
              <a:t>Boolean operators</a:t>
            </a:r>
            <a:endParaRPr b="0" lang="en-US" sz="30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5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199"/>
                </a:solidFill>
                <a:latin typeface="Courier New"/>
              </a:rPr>
              <a:t>and</a:t>
            </a:r>
            <a:r>
              <a:rPr b="0" lang="en-US" sz="3000" spc="-1" strike="noStrike">
                <a:solidFill>
                  <a:srgbClr val="010199"/>
                </a:solidFill>
                <a:latin typeface="Arial"/>
              </a:rPr>
              <a:t> – True only if </a:t>
            </a:r>
            <a:r>
              <a:rPr b="1" lang="en-US" sz="3000" spc="-1" strike="noStrike">
                <a:solidFill>
                  <a:srgbClr val="010199"/>
                </a:solidFill>
                <a:latin typeface="Arial"/>
              </a:rPr>
              <a:t>both</a:t>
            </a:r>
            <a:r>
              <a:rPr b="0" lang="en-US" sz="3000" spc="-1" strike="noStrike">
                <a:solidFill>
                  <a:srgbClr val="010199"/>
                </a:solidFill>
                <a:latin typeface="Arial"/>
              </a:rPr>
              <a:t> operands are True</a:t>
            </a:r>
            <a:endParaRPr b="0" lang="en-US" sz="30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5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199"/>
                </a:solidFill>
                <a:latin typeface="Courier New"/>
              </a:rPr>
              <a:t>or</a:t>
            </a:r>
            <a:r>
              <a:rPr b="0" lang="en-US" sz="3000" spc="-1" strike="noStrike">
                <a:solidFill>
                  <a:srgbClr val="010199"/>
                </a:solidFill>
                <a:latin typeface="Arial"/>
              </a:rPr>
              <a:t> – True if </a:t>
            </a:r>
            <a:r>
              <a:rPr b="1" lang="en-US" sz="3000" spc="-1" strike="noStrike">
                <a:solidFill>
                  <a:srgbClr val="010199"/>
                </a:solidFill>
                <a:latin typeface="Arial"/>
              </a:rPr>
              <a:t>at least</a:t>
            </a:r>
            <a:r>
              <a:rPr b="0" lang="en-US" sz="3000" spc="-1" strike="noStrike">
                <a:solidFill>
                  <a:srgbClr val="010199"/>
                </a:solidFill>
                <a:latin typeface="Arial"/>
              </a:rPr>
              <a:t> one operand is True</a:t>
            </a:r>
            <a:endParaRPr b="0" lang="en-US" sz="30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199"/>
                </a:solidFill>
                <a:latin typeface="Courier New"/>
              </a:rPr>
              <a:t>not</a:t>
            </a:r>
            <a:r>
              <a:rPr b="0" lang="en-US" sz="3000" spc="-1" strike="noStrike">
                <a:solidFill>
                  <a:srgbClr val="010199"/>
                </a:solidFill>
                <a:latin typeface="Arial"/>
              </a:rPr>
              <a:t> – True if the operand is not True</a:t>
            </a: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20202"/>
                </a:solidFill>
                <a:latin typeface="Arial"/>
              </a:rPr>
              <a:t>English examples</a:t>
            </a:r>
            <a:endParaRPr b="0" lang="en-US" sz="30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it is raining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t is col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it is Saturday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t is Sunda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8151-2192-4071-8791-1F8CE37205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ruth T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52280" y="1863720"/>
          <a:ext cx="8793360" cy="326232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1523880"/>
                <a:gridCol w="1173240"/>
                <a:gridCol w="876240"/>
                <a:gridCol w="876240"/>
                <a:gridCol w="1433520"/>
                <a:gridCol w="13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or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A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or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7400" y="137196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operand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0511-E2F7-47A2-8FE6-8A94407542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ruth T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52280" y="1863720"/>
          <a:ext cx="8793360" cy="326232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1523880"/>
                <a:gridCol w="1173240"/>
                <a:gridCol w="876240"/>
                <a:gridCol w="876240"/>
                <a:gridCol w="1433520"/>
                <a:gridCol w="13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or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A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or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7400" y="136872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operand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F85E-9018-4A41-A1C9-6DA5505F3E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s the output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x = 2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y = 3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z = 4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b = x==2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c = not b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d = (y&lt;4) and (z&lt;3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d = (y&lt;4) or (z&lt;3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d = not d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print b, c, d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58440" y="624852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val_cond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2129-C987-4166-8264-FDC0077D6D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: Numeric Grade Input Rang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nforce that user must input a numeric grade between 0 and 10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ing </a:t>
            </a: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an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ing </a:t>
            </a: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5FDC-E8BD-40A7-8D07-8734E9B8CD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hort-circuit Evalu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n’t necessarily need to evaluate all expressions in a compound express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A and B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A is false, compound expression is fals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A or B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A is true, compound expression is tr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 need to evaluate B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ut more important/limiting expression fir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87320" y="5516640"/>
            <a:ext cx="481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f count &gt; 0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and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sum/count &gt; 10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o someth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8557-C822-4016-8211-17C801FA65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definite Loo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loops are </a:t>
            </a:r>
            <a:r>
              <a:rPr b="1" i="1" lang="en-US" sz="3200" spc="-1" strike="noStrike">
                <a:solidFill>
                  <a:srgbClr val="010199"/>
                </a:solidFill>
                <a:latin typeface="Arial"/>
              </a:rPr>
              <a:t>definit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ecute a fixed number of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definite loops: keeps iterating until certain conditions are me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pending on condition, no guarantee in advance of how many times the loop body will be execut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AAD4-863B-401C-A437-07D19FE834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Loop Syntax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9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while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017b8"/>
                </a:solidFill>
                <a:latin typeface="Arial"/>
              </a:rPr>
              <a:t>condition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20202"/>
                </a:solidFill>
                <a:latin typeface="Arial"/>
              </a:rPr>
              <a:t>statements</a:t>
            </a:r>
            <a:endParaRPr b="0" lang="en-US" sz="3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3048120"/>
            <a:ext cx="8915400" cy="14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Like a looped </a:t>
            </a:r>
            <a:r>
              <a:rPr b="1" lang="en-US" sz="3200" spc="-1" strike="noStrike">
                <a:solidFill>
                  <a:srgbClr val="00c600"/>
                </a:solidFill>
                <a:latin typeface="Tahoma"/>
              </a:rPr>
              <a:t>if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statement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Execute statements only when condition is true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70320" y="1600560"/>
            <a:ext cx="28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bod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of while loop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276360" y="1828800"/>
            <a:ext cx="1981080" cy="15228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A241-B4BD-4BFE-BD12-A8C2D02A9A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94240" y="2971800"/>
            <a:ext cx="35812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i equals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198108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&lt; 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73" name=""/>
          <p:cNvCxnSpPr>
            <a:stCxn id="172" idx="2"/>
            <a:endCxn id="171" idx="0"/>
          </p:cNvCxnSpPr>
          <p:nvPr/>
        </p:nvCxnSpPr>
        <p:spPr>
          <a:xfrm flipH="1">
            <a:off x="6284160" y="2452680"/>
            <a:ext cx="2520" cy="5054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72" idx="1"/>
          </p:cNvCxnSpPr>
          <p:nvPr/>
        </p:nvCxnSpPr>
        <p:spPr>
          <a:xfrm flipV="1" rot="16200000">
            <a:off x="4270680" y="2495880"/>
            <a:ext cx="2300760" cy="1728000"/>
          </a:xfrm>
          <a:prstGeom prst="bentConnector4">
            <a:avLst>
              <a:gd name="adj1" fmla="val -20845"/>
              <a:gd name="adj2" fmla="val 124255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4646520" y="990720"/>
            <a:ext cx="32767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24120" y="243540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82280" y="170172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56360" y="403848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1" idx="2"/>
            <a:endCxn id="175" idx="0"/>
          </p:cNvCxnSpPr>
          <p:nvPr/>
        </p:nvCxnSpPr>
        <p:spPr>
          <a:xfrm>
            <a:off x="6284520" y="3443400"/>
            <a:ext cx="1080" cy="5814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6" idx="2"/>
            <a:endCxn id="172" idx="0"/>
          </p:cNvCxnSpPr>
          <p:nvPr/>
        </p:nvCxnSpPr>
        <p:spPr>
          <a:xfrm>
            <a:off x="6284520" y="1461600"/>
            <a:ext cx="2520" cy="5058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4722840" y="5486400"/>
            <a:ext cx="28954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82" name=""/>
          <p:cNvCxnSpPr/>
          <p:nvPr/>
        </p:nvCxnSpPr>
        <p:spPr>
          <a:xfrm flipH="1">
            <a:off x="6170400" y="2209680"/>
            <a:ext cx="1845360" cy="3263040"/>
          </a:xfrm>
          <a:prstGeom prst="bentConnector4">
            <a:avLst>
              <a:gd name="adj1" fmla="val -24351"/>
              <a:gd name="adj2" fmla="val 92596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83" name=""/>
          <p:cNvSpPr/>
          <p:nvPr/>
        </p:nvSpPr>
        <p:spPr>
          <a:xfrm>
            <a:off x="76320" y="1447920"/>
            <a:ext cx="411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while i &lt; 10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i equals 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809880"/>
            <a:ext cx="41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Questions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will “i” get printed out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is the condition evaluated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hat is the value of i after the loop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77920" y="632160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hilevsfo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D39F-DCC7-4B26-991B-7F809CDCCD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4494240" y="2971800"/>
            <a:ext cx="35812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i equals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198108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&lt; 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88" idx="2"/>
            <a:endCxn id="187" idx="0"/>
          </p:cNvCxnSpPr>
          <p:nvPr/>
        </p:nvCxnSpPr>
        <p:spPr>
          <a:xfrm flipH="1">
            <a:off x="6284160" y="2452680"/>
            <a:ext cx="2520" cy="5054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91" idx="2"/>
            <a:endCxn id="188" idx="1"/>
          </p:cNvCxnSpPr>
          <p:nvPr/>
        </p:nvCxnSpPr>
        <p:spPr>
          <a:xfrm flipV="1" rot="16200000">
            <a:off x="4270680" y="2495880"/>
            <a:ext cx="2300760" cy="1728000"/>
          </a:xfrm>
          <a:prstGeom prst="bentConnector4">
            <a:avLst>
              <a:gd name="adj1" fmla="val -20845"/>
              <a:gd name="adj2" fmla="val 124255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4646520" y="990720"/>
            <a:ext cx="32767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120" y="243540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82280" y="170172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56360" y="403848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87" idx="2"/>
            <a:endCxn id="191" idx="0"/>
          </p:cNvCxnSpPr>
          <p:nvPr/>
        </p:nvCxnSpPr>
        <p:spPr>
          <a:xfrm>
            <a:off x="6284520" y="3443400"/>
            <a:ext cx="1080" cy="5814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92" idx="2"/>
            <a:endCxn id="188" idx="0"/>
          </p:cNvCxnSpPr>
          <p:nvPr/>
        </p:nvCxnSpPr>
        <p:spPr>
          <a:xfrm>
            <a:off x="6284520" y="1461600"/>
            <a:ext cx="2520" cy="5058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97" name=""/>
          <p:cNvSpPr/>
          <p:nvPr/>
        </p:nvSpPr>
        <p:spPr>
          <a:xfrm>
            <a:off x="4722840" y="5486400"/>
            <a:ext cx="28954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98" name=""/>
          <p:cNvCxnSpPr/>
          <p:nvPr/>
        </p:nvCxnSpPr>
        <p:spPr>
          <a:xfrm flipH="1">
            <a:off x="6170400" y="2209680"/>
            <a:ext cx="1845360" cy="3263040"/>
          </a:xfrm>
          <a:prstGeom prst="bentConnector4">
            <a:avLst>
              <a:gd name="adj1" fmla="val -24351"/>
              <a:gd name="adj2" fmla="val 92596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76320" y="1447920"/>
            <a:ext cx="411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while i &lt; 10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i equals 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809880"/>
            <a:ext cx="41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Questions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will “i” get printed out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is the condition evaluated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hat is the value of i after the loop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77920" y="632160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hilevsfo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52480" y="9158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nitialize i before using in condi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838080" y="1143000"/>
            <a:ext cx="914400" cy="380880"/>
          </a:xfrm>
          <a:prstGeom prst="line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8728-7521-4470-A2A0-8CA6BB2366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Quick Tri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ing the same string repeated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 the * operator for string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Quick way to draw the line in the multiplication t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01800" y="3962520"/>
            <a:ext cx="314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or x in xrange(0,14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 += “-”*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st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28BD-0073-41F0-8D63-D56DDB4D07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Will This Loop Do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unt = 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ile count &gt; 0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cou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unt += 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CCA4-6E34-4F61-AB00-4C8787C87C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finite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dition will never be false so keeps execut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stop an executing program in Linux u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ntrol-C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70D0-CB53-4818-A05E-362F0CFA3E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S Issue: Citing Wikipedia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were the major issues that the article brought up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does this article relate to this cours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0200" y="4525920"/>
            <a:ext cx="12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Jennif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ya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ill 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t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61120" y="4530600"/>
            <a:ext cx="103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Kei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ath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Oliv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37640" y="4518000"/>
            <a:ext cx="111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lyse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aura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ill 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6072-CF3E-44C6-B863-6EA5DE4665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oogle Algorithm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gle founders: Larry Page and Sergey Bri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anford CS graduate stud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ttp://infolab.stanford.edu/~backrub/google.htm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ased on PageRan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a href=“webpage”&gt;description&lt;/a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ages linked with same description most get higher rank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ank pages linked from highly-ranked pages high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C88D-ACB5-4E07-BD36-9BB3666AF9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ikiScann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Virgil Griffith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rad student, trouble maker :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lso discovered vulnerabilities in Blackboar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bines information from two databas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P addresses of anonymous edi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P addresses belong to what compani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10160" y="6324480"/>
            <a:ext cx="21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esolve_ips.s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1598-7C46-4AE7-9D91-0B5F1B74BB4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oogle uses Linux Clus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eed high-performance cluster, high up-tim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erform various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oad balanc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eb serv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ata-gathering (spidering the Web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…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2CE3-6B8C-4E86-A2C5-4EE555EEE97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lational Operato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75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10199"/>
                </a:solidFill>
                <a:latin typeface="Arial"/>
              </a:rPr>
              <a:t>&lt;expression&gt; &lt;relational_operator&gt;&lt;expression&gt;</a:t>
            </a:r>
            <a:endParaRPr b="0" lang="en-US" sz="27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219320" y="2362320"/>
          <a:ext cx="6858000" cy="4049640"/>
        </p:xfrm>
        <a:graphic>
          <a:graphicData uri="http://schemas.openxmlformats.org/drawingml/2006/table">
            <a:tbl>
              <a:tblPr/>
              <a:tblGrid>
                <a:gridCol w="2133360"/>
                <a:gridCol w="4724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Relational Operator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eaning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ss than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=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ss than or equal to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g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Greater than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gt;=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Greater than or equal to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==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quals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!=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Not equals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 rot="16200000">
            <a:off x="-632880" y="458208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Low precedenc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F1B8-7854-4D9E-AC6A-F54309DC5C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f-Else-If stat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676520"/>
            <a:ext cx="198144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if x % 2 == 0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289548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even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2"/>
            <a:endCxn id="93" idx="0"/>
          </p:cNvCxnSpPr>
          <p:nvPr/>
        </p:nvCxnSpPr>
        <p:spPr>
          <a:xfrm flipH="1">
            <a:off x="952200" y="2146320"/>
            <a:ext cx="876960" cy="7372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2057400" y="2895480"/>
            <a:ext cx="182880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if x % 3 == 0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2" idx="2"/>
            <a:endCxn id="95" idx="0"/>
          </p:cNvCxnSpPr>
          <p:nvPr/>
        </p:nvCxnSpPr>
        <p:spPr>
          <a:xfrm>
            <a:off x="1828440" y="2146320"/>
            <a:ext cx="1143720" cy="7372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228600" y="5715000"/>
            <a:ext cx="198108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ext statement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93" idx="2"/>
            <a:endCxn id="97" idx="0"/>
          </p:cNvCxnSpPr>
          <p:nvPr/>
        </p:nvCxnSpPr>
        <p:spPr>
          <a:xfrm>
            <a:off x="952200" y="3365280"/>
            <a:ext cx="267120" cy="23374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5" idx="2"/>
            <a:endCxn id="100" idx="0"/>
          </p:cNvCxnSpPr>
          <p:nvPr/>
        </p:nvCxnSpPr>
        <p:spPr>
          <a:xfrm flipH="1">
            <a:off x="2552400" y="3365640"/>
            <a:ext cx="419760" cy="6606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635040" y="229860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00560" y="22860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990720"/>
            <a:ext cx="45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if x %2 == 0 : 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print x, “is a multiple of 2”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elif x%3==0 : 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print x, “ is a multiple of 3”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2" marL="39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print x, “is not a multiple of 2 or 3”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4038480"/>
            <a:ext cx="236232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a multiple of 3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21120" y="344160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38480" y="3886200"/>
            <a:ext cx="2210040" cy="76212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not a 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multiple of 2 or 3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5" idx="2"/>
            <a:endCxn id="105" idx="0"/>
          </p:cNvCxnSpPr>
          <p:nvPr/>
        </p:nvCxnSpPr>
        <p:spPr>
          <a:xfrm>
            <a:off x="2971440" y="3365280"/>
            <a:ext cx="2172600" cy="5086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0" idx="2"/>
            <a:endCxn id="97" idx="0"/>
          </p:cNvCxnSpPr>
          <p:nvPr/>
        </p:nvCxnSpPr>
        <p:spPr>
          <a:xfrm flipH="1">
            <a:off x="1218960" y="4508640"/>
            <a:ext cx="1334160" cy="11944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2"/>
            <a:endCxn id="97" idx="0"/>
          </p:cNvCxnSpPr>
          <p:nvPr/>
        </p:nvCxnSpPr>
        <p:spPr>
          <a:xfrm flipH="1">
            <a:off x="1218600" y="4660560"/>
            <a:ext cx="3925080" cy="10422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4057920" y="32767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EFF0-23BC-42A6-9EE9-1C8AFC2F5C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 building blocks: nesting if-else stat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19320" y="1298520"/>
            <a:ext cx="3620520" cy="31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condition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 </a:t>
            </a: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condition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lse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lse 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1752480"/>
            <a:ext cx="304920" cy="1905120"/>
          </a:xfrm>
          <a:custGeom>
            <a:avLst/>
            <a:gdLst>
              <a:gd name="textAreaLeft" fmla="*/ 0 w 304920"/>
              <a:gd name="textAreaRight" fmla="*/ 110160 w 30492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36232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f-else statement is </a:t>
            </a: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nested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inside the if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0F23-7F04-4F55-8FBA-2ED87138AF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 building blocks: nesting if-else stat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19320" y="1298520"/>
            <a:ext cx="362052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condition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lse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 </a:t>
            </a: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condition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lse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2590920"/>
            <a:ext cx="380880" cy="2057400"/>
          </a:xfrm>
          <a:custGeom>
            <a:avLst/>
            <a:gdLst>
              <a:gd name="textAreaLeft" fmla="*/ 0 w 380880"/>
              <a:gd name="textAreaRight" fmla="*/ 137520 w 3808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19720" y="328608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f-else statement is </a:t>
            </a: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nested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inside the e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493380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This structure can be rewritten as an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-elif-else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stateme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8D07-6C0F-46CB-AA94-EB9DA60E72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odify: Check for Other Bad In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"This program determines your birth year"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"given your age and current year"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age = input("Enter your age &gt;&gt; "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age &gt; 110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"Don't be ridiculous, you can't be that old."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else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currentYear = input("Enter the current year &gt;&gt; "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birthyear = currentYear - age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"You were either born in", birthyear, "or", birthyear-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491A-67E4-4FF2-9FDF-613C09ABB5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: Numeric to Letter Gra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termine if a numeric grade is a letter grade  (A, B, C, D, or F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066680" y="2685960"/>
          <a:ext cx="6858000" cy="310500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Numeric Grad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tter Grad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90 and abov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80 to below 90 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70 to below 8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60 to below 7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elow 6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81EB-EF7E-4501-9655-56A79A387B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esting with If Stat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ke sure have test cases that execute each branch in control flow dia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.e., Each execution path is “covered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266688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if x % 2 == 0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373392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even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6" idx="2"/>
            <a:endCxn id="127" idx="0"/>
          </p:cNvCxnSpPr>
          <p:nvPr/>
        </p:nvCxnSpPr>
        <p:spPr>
          <a:xfrm flipH="1">
            <a:off x="1942920" y="3137040"/>
            <a:ext cx="876960" cy="5846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3048120" y="3733920"/>
            <a:ext cx="182880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if x % 3 == 0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6" idx="2"/>
            <a:endCxn id="129" idx="0"/>
          </p:cNvCxnSpPr>
          <p:nvPr/>
        </p:nvCxnSpPr>
        <p:spPr>
          <a:xfrm>
            <a:off x="2819160" y="3137040"/>
            <a:ext cx="1143720" cy="5846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295280" y="5943600"/>
            <a:ext cx="198144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ext statement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7" idx="2"/>
            <a:endCxn id="131" idx="0"/>
          </p:cNvCxnSpPr>
          <p:nvPr/>
        </p:nvCxnSpPr>
        <p:spPr>
          <a:xfrm>
            <a:off x="1943280" y="4203720"/>
            <a:ext cx="343440" cy="17280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2"/>
            <a:endCxn id="134" idx="0"/>
          </p:cNvCxnSpPr>
          <p:nvPr/>
        </p:nvCxnSpPr>
        <p:spPr>
          <a:xfrm flipH="1">
            <a:off x="3543120" y="4203720"/>
            <a:ext cx="419760" cy="6606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25760" y="32893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91280" y="32767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4876920"/>
            <a:ext cx="236196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a multiple of 3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11840" y="428004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4724280"/>
            <a:ext cx="2209680" cy="76212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not a 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multiple of 2 or 3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29" idx="2"/>
            <a:endCxn id="138" idx="0"/>
          </p:cNvCxnSpPr>
          <p:nvPr/>
        </p:nvCxnSpPr>
        <p:spPr>
          <a:xfrm>
            <a:off x="3962520" y="4203360"/>
            <a:ext cx="2171880" cy="5086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34" idx="2"/>
            <a:endCxn id="131" idx="0"/>
          </p:cNvCxnSpPr>
          <p:nvPr/>
        </p:nvCxnSpPr>
        <p:spPr>
          <a:xfrm flipH="1">
            <a:off x="2285280" y="5346360"/>
            <a:ext cx="1258200" cy="5850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8" idx="2"/>
            <a:endCxn id="131" idx="0"/>
          </p:cNvCxnSpPr>
          <p:nvPr/>
        </p:nvCxnSpPr>
        <p:spPr>
          <a:xfrm flipH="1">
            <a:off x="2285280" y="5499000"/>
            <a:ext cx="3848760" cy="43272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5048640" y="41148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59000" y="3048120"/>
            <a:ext cx="1307880" cy="2895480"/>
          </a:xfrm>
          <a:custGeom>
            <a:avLst/>
            <a:gdLst/>
            <a:ahLst/>
            <a:rect l="l" t="t" r="r" b="b"/>
            <a:pathLst>
              <a:path w="824" h="1824">
                <a:moveTo>
                  <a:pt x="824" y="0"/>
                </a:moveTo>
                <a:cubicBezTo>
                  <a:pt x="516" y="64"/>
                  <a:pt x="208" y="128"/>
                  <a:pt x="104" y="432"/>
                </a:cubicBezTo>
                <a:cubicBezTo>
                  <a:pt x="0" y="736"/>
                  <a:pt x="184" y="1592"/>
                  <a:pt x="200" y="1824"/>
                </a:cubicBezTo>
              </a:path>
            </a:pathLst>
          </a:custGeom>
          <a:noFill/>
          <a:ln w="38160">
            <a:solidFill>
              <a:srgbClr val="00c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09680" y="3048120"/>
            <a:ext cx="1511280" cy="2895480"/>
          </a:xfrm>
          <a:custGeom>
            <a:avLst/>
            <a:gdLst/>
            <a:ahLst/>
            <a:rect l="l" t="t" r="r" b="b"/>
            <a:pathLst>
              <a:path w="952" h="1824">
                <a:moveTo>
                  <a:pt x="384" y="0"/>
                </a:moveTo>
                <a:cubicBezTo>
                  <a:pt x="628" y="132"/>
                  <a:pt x="872" y="264"/>
                  <a:pt x="912" y="480"/>
                </a:cubicBezTo>
                <a:cubicBezTo>
                  <a:pt x="952" y="696"/>
                  <a:pt x="776" y="1072"/>
                  <a:pt x="624" y="1296"/>
                </a:cubicBezTo>
                <a:cubicBezTo>
                  <a:pt x="472" y="1520"/>
                  <a:pt x="236" y="1672"/>
                  <a:pt x="0" y="1824"/>
                </a:cubicBezTo>
              </a:path>
            </a:pathLst>
          </a:custGeom>
          <a:noFill/>
          <a:ln w="38160">
            <a:solidFill>
              <a:srgbClr val="00c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3048120"/>
            <a:ext cx="2717640" cy="2895480"/>
          </a:xfrm>
          <a:custGeom>
            <a:avLst/>
            <a:gdLst/>
            <a:ahLst/>
            <a:rect l="l" t="t" r="r" b="b"/>
            <a:pathLst>
              <a:path w="1712" h="1824">
                <a:moveTo>
                  <a:pt x="144" y="0"/>
                </a:moveTo>
                <a:cubicBezTo>
                  <a:pt x="336" y="188"/>
                  <a:pt x="528" y="376"/>
                  <a:pt x="768" y="576"/>
                </a:cubicBezTo>
                <a:cubicBezTo>
                  <a:pt x="1008" y="776"/>
                  <a:pt x="1712" y="992"/>
                  <a:pt x="1584" y="1200"/>
                </a:cubicBezTo>
                <a:cubicBezTo>
                  <a:pt x="1456" y="1408"/>
                  <a:pt x="728" y="1616"/>
                  <a:pt x="0" y="1824"/>
                </a:cubicBezTo>
              </a:path>
            </a:pathLst>
          </a:custGeom>
          <a:noFill/>
          <a:ln w="38160">
            <a:solidFill>
              <a:srgbClr val="00c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93040" y="3124080"/>
            <a:ext cx="33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hree execution path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D9B0-FCD7-4767-85A1-F22DF6846F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04T19:07:35Z</dcterms:modified>
  <cp:revision>667</cp:revision>
  <dc:subject/>
  <dc:title>PowerPoint Presentation</dc:title>
</cp:coreProperties>
</file>