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6BAB8-B2D5-4C88-97BD-73CB12465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7C0-46E1-43C0-9931-AB30B2064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1EF-E1E8-4021-AA48-80B9757FD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1E02E-06DC-48D7-B7B7-A9E2BA49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0F27A2-217D-4413-9128-11C2D283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E0EBF8-C5CB-416B-B2FD-B663ED74E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51FD0B-94CE-4A73-81E0-0E41AF28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99DA83-C82A-43EF-AD9F-3B378B127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063B79-FB87-44D0-B209-DED6F8FBA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A32D71-B303-4CC8-8542-9E25D443C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1FC539-43E5-4F0B-83AC-DF43A5EF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D43A-B419-4D39-9658-AC4650664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4123AE-BABB-41E0-BB69-573204D0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DFE016-6A8C-4643-9823-C75AEB3C8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31D1D4-1FBC-4B8F-8A1B-4AD496FC8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57B823-2F15-4D87-BFE8-D73B479E9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59E82-C17B-424F-A4BA-2AF43A406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3A59-A577-4A69-9825-EB043BBE4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3446-8692-4DD6-9D21-FC7FAC77D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6818-3980-47D3-B3D9-AE3ACF73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BF11-0C7E-4F70-B4B6-17ED99640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854C-AB31-4614-9567-1A6201C43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6018-2EEE-4EA9-AA2F-AF108837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6145-105D-4F7E-8C44-849BD5769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ADE3-0662-43A3-B166-566D6F46B0AA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48DD4-1091-4124-A2F6-29B63EAC12A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1 Feedbac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y Linux/UNIX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ab 2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93DEA-A094-4C54-92E4-5C890BB5752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enefits of Remote Ac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tilize more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ute partial answers on different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bine partial answers into final answ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ewer idle CPU cyc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Take advantage of other machine’s resource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pplication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tributed and parallel process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cientific compu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C33C-3A2F-4550-9450-548E36CBBD3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2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cus: formatting output, for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actice using Linux remote acces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stuff you should kno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 help on initial problem-solving ste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imulate the problem/solution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rite out your algorithm on pap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3401-7028-456F-B145-5B602A5B980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in’ goo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commen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naming of variabl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test cas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EE209-3EEC-443E-8BEB-BC7376FF96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Variable Nam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descriptive variable nam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or atomic weight, the input from the user about the number of hydrogen atoms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um_h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egin with lowercase letter for typical variabl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ll caps for consta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riables that don’t change during program execu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10AA-397B-45DC-BA09-5DD9534663D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monstrate that your program works using </a:t>
            </a:r>
            <a:r>
              <a:rPr b="1" i="1" lang="en-US" sz="3200" spc="-1" strike="noStrike">
                <a:solidFill>
                  <a:srgbClr val="020202"/>
                </a:solidFill>
                <a:latin typeface="Arial"/>
              </a:rPr>
              <a:t>sever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00c600"/>
                </a:solidFill>
                <a:latin typeface="Arial"/>
              </a:rPr>
              <a:t>differen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est cases when there is user-inpu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well-known test cases, when applicabl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r example with F--&gt;C, use 32F, 212F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show me testing from when you were developing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after you’ve done all testing/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tart IDLE shell to get rid of previous testing resul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F7DDC-5139-44DD-A7F6-06E496434A0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1 Feedback: Data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ed to use constructor/converter if variable is of correct data typ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x = raw_input(“…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x is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 “You entered” + x + “.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Note don’t need to use str(x) because x is already a string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4763-CF49-491E-B8DA-1E2717E69D5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pending on who you ask, you’ll get different answ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76FA1-B5F5-49A4-952A-997307212B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Linux/UNIX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perating system reas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bility -- reboot less ofte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fficiency (requires fewer hardware resourc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secure (fewer viruses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 operations efficienc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amount of time that user’s hands leave key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duce mouse click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20202"/>
                </a:solidFill>
                <a:latin typeface="Arial"/>
              </a:rPr>
              <a:t>Re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ulti-user capabiliti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ore than one user can use the machine’s resour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7E2F-4A8D-427F-82D2-C7CD627B188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0520" y="4038120"/>
            <a:ext cx="85345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1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ascal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2 physically sitting at machine named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malltalk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User 2 remotely logs into pascal using ssh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SH: secure shell protocol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1D9E-13E9-4DF7-A6A1-A710BD4F87E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Machine Resources Remotel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52280" y="4114440"/>
            <a:ext cx="86868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2 can execute programs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remotely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n </a:t>
            </a: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pascal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machine from command lin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’t use desktop manag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r1 and User2 share pascal’s resour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1371600"/>
            <a:ext cx="2362320" cy="23623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asc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2666880"/>
            <a:ext cx="1905120" cy="838440"/>
          </a:xfrm>
          <a:prstGeom prst="rect">
            <a:avLst/>
          </a:prstGeom>
          <a:noFill/>
          <a:ln w="381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1371600"/>
            <a:ext cx="2362320" cy="1905120"/>
          </a:xfrm>
          <a:prstGeom prst="rect">
            <a:avLst/>
          </a:pr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malltal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286000"/>
            <a:ext cx="1905120" cy="83808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819160" y="2514600"/>
            <a:ext cx="2819160" cy="0"/>
          </a:xfrm>
          <a:prstGeom prst="line">
            <a:avLst/>
          </a:prstGeom>
          <a:ln w="38160">
            <a:solidFill>
              <a:srgbClr val="0101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82760" y="2054160"/>
            <a:ext cx="66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s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143000" y="1981080"/>
            <a:ext cx="1066680" cy="457200"/>
          </a:xfrm>
          <a:prstGeom prst="rect">
            <a:avLst/>
          </a:pr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User 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2179-6036-4104-97DD-8B2842C3EEE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09-25T16:05:14Z</dcterms:modified>
  <cp:revision>425</cp:revision>
  <dc:subject/>
  <dc:title>PowerPoint Presentation</dc:title>
</cp:coreProperties>
</file>