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CC05-BFD4-4227-BC15-89C365E3F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938C-415D-4768-9740-4403E322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C9BA-93C2-4ED2-BC97-57286B61E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2D148-431F-4457-A74D-B882595FD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B6FD9F-19CA-4D68-9F7F-24E02AD15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C85D4-9E89-4ECB-9E05-2DF58DA07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5ECD30-294E-4D9B-9C61-A9DCEC3A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0A3FDB-C4F7-409C-85B1-8024711F8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6A5D0-8836-4AF9-A57E-78AC91CB8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06936-ECB8-43B2-A7A1-77FE7E7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F7E753-9477-40A5-B012-2370C6E0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480-10B6-49D3-B426-25A751D1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2791A-AB29-4C65-81BD-AE373EC4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5A2167-5095-4933-BD16-0BD6909D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9F3F87-241C-40D4-AC06-603952BA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F3ABAA-8C32-4600-8872-D6711E543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74F951-DA4B-4887-82E1-26FF548D1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B93-42B0-413F-AB3B-162529B14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8559-F240-4E8F-856E-6D6403E9B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BB2B-7A05-4882-B74A-76DE2640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3831-1477-4FDC-8E77-0100BD87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CF07-ED2F-4703-895F-ADFFB4B58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973D-B1FD-4CD3-BBB0-B77B8312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5E804-3AC2-4A71-A599-8CC43575F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B6ACC-1E9C-4F2B-8F6B-EB3F5FFFCC6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0D184-11E4-4EEE-B844-73AF10D9BCA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nouncement: Midterm prep docu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1A11-A072-42D0-95E2-F3DE167C6D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son of Code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out func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outfun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th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nu_withfunction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E6AF0-2F52-4FF2-9137-FDDBDF674AD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, Problem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o make a funct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place that has some useful code that we may want to reus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BFCB-2E9B-4133-AFE3-3F59067390E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 ft/s to mp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280" y="3352680"/>
            <a:ext cx="86868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ft/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utput: mp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152388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ftpersTo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8080" y="220968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45160" y="220968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5040" y="197820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4960" y="1978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66080" y="17496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Ft/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66000" y="174960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E74D-298B-4DB9-B385-75049C9DDBF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-368640" y="272880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C5F5-9AEC-4A61-B573-27200BFFC78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3C97-E5BD-4DEB-97F9-2F2E3A1D2F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67EA-1A10-4A28-AC18-1BB70D52721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E41C-59C9-461A-9B97-C7B7B2ECD87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return (see </a:t>
            </a:r>
            <a:r>
              <a:rPr b="0" lang="en-US" sz="2600" spc="-1" strike="noStrike">
                <a:solidFill>
                  <a:srgbClr val="00c600"/>
                </a:solidFill>
                <a:latin typeface="Arial"/>
              </a:rPr>
              <a:t>menu.p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2C35E-9D59-4E10-A3E8-F6DB48BF063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alling your own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ennifer_mph = ftpsToMPH(jen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ura_mph = ftpsToMPH(laura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nus_mph = ftpsToMPH(venus_ft_sec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3886200"/>
            <a:ext cx="2210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Output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is assigned to venus_mp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29720" y="4054320"/>
            <a:ext cx="146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400"/>
            </a:b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550480" y="411480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1447920" y="3352680"/>
            <a:ext cx="1143000" cy="5335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962520" y="3504960"/>
            <a:ext cx="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6019920" y="3504960"/>
            <a:ext cx="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819520" y="2971800"/>
            <a:ext cx="2133360" cy="533520"/>
          </a:xfrm>
          <a:prstGeom prst="rect">
            <a:avLst/>
          </a:prstGeom>
          <a:solidFill>
            <a:srgbClr val="6699ff">
              <a:alpha val="31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6E3B-62DE-4BD2-BFDE-09E25AFBB8A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you call the function, the computer jumps to the function and executes i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en it is done, it returns to the same place in the first code where it left off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98720" y="3427560"/>
            <a:ext cx="3915360" cy="19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S2HR = 3600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FT2MI = (1.0/5280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result = ftps * S2HR * FT2MI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519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2666880" y="3580920"/>
            <a:ext cx="1981440" cy="129564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3809880" y="4952880"/>
            <a:ext cx="1447920" cy="763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6800" y="3733920"/>
            <a:ext cx="3624840" cy="15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COURT_LEN = 78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#Make calculations to ft/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ft_s = COURT_LEN / jSpee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Arial"/>
              </a:rPr>
              <a:t>j_mi_hr = ftpersToMPH(j_ft_s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14160" y="597384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: not great variable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57EA-0BE9-4A18-944A-5F13A136CC3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stants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stants: don’t change for “life” of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uring one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’s a constant always (like PI), that’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play Rainbow Dice to 10, 100, or 10000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kes easy to change program once at t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3C68-8511-4FF1-8248-80BC1279CC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9" name=""/>
          <p:cNvCxnSpPr>
            <a:stCxn id="168" idx="2"/>
            <a:endCxn id="167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endCxn id="168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68" idx="3"/>
            <a:endCxn id="172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74" idx="1"/>
            <a:endCxn id="168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75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7" idx="2"/>
            <a:endCxn id="178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81" idx="2"/>
            <a:endCxn id="178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5" name=""/>
          <p:cNvCxnSpPr>
            <a:stCxn id="186" idx="2"/>
            <a:endCxn id="184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6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702400" y="3505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0" name=""/>
          <p:cNvCxnSpPr>
            <a:stCxn id="183" idx="2"/>
            <a:endCxn id="174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4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1" name=""/>
          <p:cNvCxnSpPr>
            <a:stCxn id="184" idx="2"/>
            <a:endCxn id="183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2" name=""/>
          <p:cNvCxnSpPr>
            <a:stCxn id="172" idx="2"/>
            <a:endCxn id="186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3" name=""/>
          <p:cNvCxnSpPr>
            <a:stCxn id="184" idx="2"/>
            <a:endCxn id="189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4" name=""/>
          <p:cNvCxnSpPr>
            <a:stCxn id="189" idx="2"/>
            <a:endCxn id="174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2C0-3F7B-4B8D-918A-6D0CD70305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4267080"/>
            <a:ext cx="22096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4864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201" idx="2"/>
            <a:endCxn id="199" idx="0"/>
          </p:cNvCxnSpPr>
          <p:nvPr/>
        </p:nvCxnSpPr>
        <p:spPr>
          <a:xfrm flipH="1">
            <a:off x="66672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2" name=""/>
          <p:cNvSpPr/>
          <p:nvPr/>
        </p:nvSpPr>
        <p:spPr>
          <a:xfrm>
            <a:off x="53215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34680" y="37339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010280" y="426708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199" idx="2"/>
            <a:endCxn id="198" idx="0"/>
          </p:cNvCxnSpPr>
          <p:nvPr/>
        </p:nvCxnSpPr>
        <p:spPr>
          <a:xfrm flipH="1">
            <a:off x="5752800" y="367200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01" name=""/>
          <p:cNvSpPr/>
          <p:nvPr/>
        </p:nvSpPr>
        <p:spPr>
          <a:xfrm>
            <a:off x="45720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(num1, num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199" idx="2"/>
            <a:endCxn id="204" idx="0"/>
          </p:cNvCxnSpPr>
          <p:nvPr/>
        </p:nvCxnSpPr>
        <p:spPr>
          <a:xfrm>
            <a:off x="6667560" y="367200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204" idx="2"/>
          </p:cNvCxnSpPr>
          <p:nvPr/>
        </p:nvCxnSpPr>
        <p:spPr>
          <a:xfrm rot="5400000">
            <a:off x="7035840" y="4178880"/>
            <a:ext cx="443520" cy="156276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822040" y="533412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09" name=""/>
          <p:cNvCxnSpPr/>
          <p:nvPr/>
        </p:nvCxnSpPr>
        <p:spPr>
          <a:xfrm rot="5400000">
            <a:off x="48261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9EC-DC94-4FD4-A528-26D64C567AD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4" name=""/>
          <p:cNvCxnSpPr>
            <a:stCxn id="215" idx="2"/>
            <a:endCxn id="213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8" name=""/>
          <p:cNvCxnSpPr>
            <a:stCxn id="213" idx="2"/>
            <a:endCxn id="212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7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221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3" idx="2"/>
            <a:endCxn id="217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6373-F2D4-431E-B005-4DF0612EA59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actual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wap 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wap two values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put into a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E0F3-CDF2-4E49-96F9-313EC808984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A34D-3310-4AB4-BC34-41D6E8B811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2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9F4B-76DD-4A2A-B0A8-61649F78FA2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le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call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BA29-B34D-4746-A4D3-0A1FC6CE43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 Using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one of the string 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73F6-CE40-4558-9C28-ECF83AC7334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used several built-i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en, input, raw_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s from modules, e.g., math and rando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Functions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re small pieces of code that can be used in other pieces of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ubprograms that have been given a 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ave 0 or more in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duce 0 or 1 outpu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fine our own func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2E7C0-A3D1-45D3-B4F9-2C5DB0E7E0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B5FE-3965-4D85-B24E-3CC6C7834F8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code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3243A-676B-42F7-9F95-DBD301E67F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8T20:55:54Z</dcterms:modified>
  <cp:revision>1293</cp:revision>
  <dc:subject/>
  <dc:title>PowerPoint Presentation</dc:title>
</cp:coreProperties>
</file>