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DA1C-6DBF-4CC3-85E8-A2D327FC4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A0A4-0988-4B7E-B24F-74F58F091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4826-055B-4C42-B800-7EA294557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8708-9562-4CD3-8E51-F514647C7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693C-3F85-403C-A905-5EC931AEB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EA6F-69E0-4BDB-8C23-AE4298744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AF57-A027-4591-A118-2B2B97822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0920-9479-4436-9BAA-05F168168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FD71-892A-45BD-B425-80C2C5EC3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4A25-675C-4FCC-BC18-6A7D6A894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BBA1-F7C0-4CAA-B56C-1BEBB872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3EC2-D5BC-4255-B753-144D1B8E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EF61B-30E7-4989-A752-3B76F343AA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523880"/>
            <a:ext cx="8077320" cy="4419720"/>
          </a:xfrm>
          <a:prstGeom prst="rightArrow">
            <a:avLst>
              <a:gd name="adj1" fmla="val 50000"/>
              <a:gd name="adj2" fmla="val 45689"/>
            </a:avLst>
          </a:prstGeom>
          <a:solidFill>
            <a:srgbClr val="d5d5d5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5:56:27Z</dcterms:created>
  <dc:creator>Sara Sprenkle</dc:creator>
  <dc:description/>
  <dc:language>en-US</dc:language>
  <cp:lastModifiedBy>Sara Sprenkle</cp:lastModifiedBy>
  <cp:lastPrinted>2007-10-22T15:56:42Z</cp:lastPrinted>
  <dcterms:modified xsi:type="dcterms:W3CDTF">2007-10-22T15:57:07Z</dcterms:modified>
  <cp:revision>1</cp:revision>
  <dc:subject/>
  <dc:title>PowerPoint Presentation</dc:title>
</cp:coreProperties>
</file>