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6999120" cy="9285120"/>
          </a:xfrm>
          <a:custGeom>
            <a:avLst/>
            <a:gdLst>
              <a:gd name="textAreaLeft" fmla="*/ 360 w 6999120"/>
              <a:gd name="textAreaRight" fmla="*/ 6998760 w 6999120"/>
              <a:gd name="textAreaTop" fmla="*/ 360 h 9285120"/>
              <a:gd name="textAreaBottom" fmla="*/ 9284760 h 9285120"/>
            </a:gdLst>
            <a:ahLst/>
            <a:rect l="textAreaLeft" t="textAreaTop" r="textAreaRight" b="textAreaBottom"/>
            <a:pathLst>
              <a:path w="21600" h="28654">
                <a:moveTo>
                  <a:pt x="4" y="0"/>
                </a:moveTo>
                <a:arcTo wR="4" hR="4" stAng="16200000" swAng="-5400000"/>
                <a:lnTo>
                  <a:pt x="0" y="28650"/>
                </a:lnTo>
                <a:arcTo wR="4" hR="4" stAng="10800000" swAng="-5400000"/>
                <a:lnTo>
                  <a:pt x="21596" y="28654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962520" y="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68200" y="685440"/>
            <a:ext cx="4671720" cy="3505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040" y="4419360"/>
            <a:ext cx="51800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962520" y="8839080"/>
            <a:ext cx="3046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E07357-F3CE-41ED-8F00-D9FD075C1F3A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68560" y="685800"/>
            <a:ext cx="4673520" cy="3506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040" y="4419720"/>
            <a:ext cx="51814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have written and used algorithms even if you did not realize 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cess of doing long division, for example, is an algorith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ipes are another 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2A52-17A7-47D6-A704-216D2A302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8876-D1E2-4887-820A-0159EA6AF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4BC9-4B10-48F9-AF39-61B6164D6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D3E-456B-4319-B4CF-9F871381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CBBB34-C61A-4865-B81D-8831ED24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1D10A-CFE1-40A4-829A-12DC9FA0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0C837F-538F-41B3-8BC1-1EFE9527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65D2049-1640-40DE-ABFB-6BC11DB1A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AFD8A3-2284-45E7-A308-8577C1E73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B3B4D-46AD-47B8-9A6E-CC441D830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FB35CB-8E08-4E18-9883-995A4C5E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C5AC3-42FD-4073-897F-389531684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E6C845-78EC-4C3A-8F7F-4715A0D89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506D14-5536-4FFE-AB69-8AB11C464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41A827-2D8C-47CB-83F2-9BDE0F4FF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C5C09-377B-4F0F-9F8C-A5F208968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7B749A-EB08-4581-8F5F-683B87DB3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50F32-959B-4BAD-ACCF-205446378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4CF4-771E-4536-BF71-3E815DD71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9DB1D-4C92-4710-927D-A222B2B0E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6BF2-0E1F-4EA0-BDCB-C9786D2C4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BE7-84D6-43F7-812C-DE78F76F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FA7D-71E1-472B-92C4-630A7EE6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C893-5556-4498-B1DC-F03D5850D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10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AFA11D78-7126-476B-8C63-F4535011E9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6B9E72-1F56-4564-BAF3-B8D035BDDD3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01916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Introduction to Programming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eptember 10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ther Lessons To Rememb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cowboy’s wisdom: Good judgment comes from experienc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ow can you get experience?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ad judgment works every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 errors can have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bad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effect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event the bad effects--especially before you turn in your assignment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71373-9979-4156-86D8-F46E4C1705E3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10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ff00ff"/>
              </a:buClr>
              <a:buSzPct val="125000"/>
              <a:buFont typeface="Wingdings" charset="2"/>
              <a:buChar char="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9FD29-912A-4F55-A350-9E348A95A6E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49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ming language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pecific rules for what is and isn’t allowed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ust be exac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uter carries out commands as they are give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Syntax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: the symbols give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Semantics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: what it mea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:  III * IV = 3 x 4 = 12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ming languages are 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unambiguou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512E-E7D6-4940-B44D-BDFC70057642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9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A common </a:t>
            </a:r>
            <a:r>
              <a:rPr b="0" i="1" lang="en-GB" sz="3200" spc="-1" strike="noStrike">
                <a:solidFill>
                  <a:srgbClr val="3333cc"/>
                </a:solidFill>
                <a:latin typeface="Tahoma"/>
              </a:rPr>
              <a:t>interpreted</a:t>
            </a: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 programming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First released by Guido van Rossum in 1991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Named after </a:t>
            </a:r>
            <a:r>
              <a:rPr b="0" i="1" lang="en-GB" sz="3200" spc="-1" strike="noStrike">
                <a:solidFill>
                  <a:srgbClr val="020202"/>
                </a:solidFill>
                <a:latin typeface="Tahoma"/>
              </a:rPr>
              <a:t>Monty Python’s Flying Circu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Minimalist syntax, emphasizes </a:t>
            </a:r>
            <a:r>
              <a:rPr b="0" lang="en-GB" sz="3200" spc="-1" strike="noStrike">
                <a:solidFill>
                  <a:srgbClr val="3333cc"/>
                </a:solidFill>
                <a:latin typeface="Tahoma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Flexible, fast, useful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37680" indent="-3376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Used by scientists, engineers, systems programmer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F29A-E32B-426A-BD1F-929EF5BFA3F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0760" indent="-32076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20760" indent="-32076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Gives user immediate feedback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01640" indent="-26676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.g., if program contains error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Behind the scenes: </a:t>
            </a:r>
            <a:r>
              <a:rPr b="0" lang="en-GB" sz="26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 (a program itself) turns each expression into </a:t>
            </a:r>
            <a:r>
              <a:rPr b="0" lang="en-GB" sz="26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 and then executes the expression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2076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5867280" y="36576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35812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343400" y="51814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8" idx="3"/>
            <a:endCxn id="127" idx="1"/>
          </p:cNvCxnSpPr>
          <p:nvPr/>
        </p:nvCxnSpPr>
        <p:spPr>
          <a:xfrm>
            <a:off x="4723920" y="4152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32" idx="0"/>
            <a:endCxn id="127" idx="2"/>
          </p:cNvCxnSpPr>
          <p:nvPr/>
        </p:nvCxnSpPr>
        <p:spPr>
          <a:xfrm flipH="1" flipV="1">
            <a:off x="6895440" y="4647600"/>
            <a:ext cx="57204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6705720" y="51814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3" name=""/>
          <p:cNvCxnSpPr>
            <a:stCxn id="127" idx="3"/>
            <a:endCxn id="132" idx="3"/>
          </p:cNvCxnSpPr>
          <p:nvPr/>
        </p:nvCxnSpPr>
        <p:spPr>
          <a:xfrm>
            <a:off x="7924320" y="4152600"/>
            <a:ext cx="305640" cy="152460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4" name=""/>
          <p:cNvCxnSpPr>
            <a:stCxn id="127" idx="2"/>
            <a:endCxn id="129" idx="0"/>
          </p:cNvCxnSpPr>
          <p:nvPr/>
        </p:nvCxnSpPr>
        <p:spPr>
          <a:xfrm flipH="1">
            <a:off x="5028840" y="4647960"/>
            <a:ext cx="186768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219320"/>
            <a:ext cx="8686800" cy="24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(a program itself)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6095880" y="3809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352680" y="373392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572000" y="5334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38" idx="3"/>
            <a:endCxn id="137" idx="1"/>
          </p:cNvCxnSpPr>
          <p:nvPr/>
        </p:nvCxnSpPr>
        <p:spPr>
          <a:xfrm>
            <a:off x="4952520" y="430488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42" idx="0"/>
            <a:endCxn id="137" idx="2"/>
          </p:cNvCxnSpPr>
          <p:nvPr/>
        </p:nvCxnSpPr>
        <p:spPr>
          <a:xfrm flipH="1" flipV="1">
            <a:off x="7124040" y="480024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304920" y="3809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4" name=""/>
          <p:cNvCxnSpPr>
            <a:stCxn id="143" idx="3"/>
            <a:endCxn id="138" idx="1"/>
          </p:cNvCxnSpPr>
          <p:nvPr/>
        </p:nvCxnSpPr>
        <p:spPr>
          <a:xfrm>
            <a:off x="2361960" y="430488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6934320" y="5334120"/>
            <a:ext cx="15238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37" idx="3"/>
            <a:endCxn id="142" idx="3"/>
          </p:cNvCxnSpPr>
          <p:nvPr/>
        </p:nvCxnSpPr>
        <p:spPr>
          <a:xfrm>
            <a:off x="8152920" y="430524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7" idx="2"/>
            <a:endCxn id="139" idx="0"/>
          </p:cNvCxnSpPr>
          <p:nvPr/>
        </p:nvCxnSpPr>
        <p:spPr>
          <a:xfrm flipH="1">
            <a:off x="5257440" y="480060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06BE-7CB7-4B39-B2E4-8764C5047BAA}" type="slidenum">
              <a:t>15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NIX/Linux operating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10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Operating syst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Manages the computer’s resources, e.g., CPU, memory, disk spac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Examples: UNIX, Windows XP, Windows 2000, Mac OSX, Linux, etc.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UNIX/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Command-line interface (not a GUI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Type commands into terminal window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Example commands: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cp file1.c file1copy.c       (copy a file)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Tahoma"/>
              </a:rPr>
              <a:t>mkdir cisc105                 (make a directory)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049A-3FCE-4AB1-9C56-65D21FE08F39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038480"/>
            <a:ext cx="4952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In a Linux terminal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jedit &amp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  <a:ea typeface="Luxi Sans"/>
              </a:rPr>
              <a:t>or idle &amp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ython &lt;nameofscript&gt;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10199"/>
              </a:buClr>
              <a:buFont typeface="Wingdings" charset="2"/>
              <a:buChar char="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  <a:ea typeface="Luxi Sans"/>
              </a:rPr>
              <a:t>E.g., python hello.p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19920" y="1523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276720" y="144792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95680" y="3048120"/>
            <a:ext cx="137160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2" idx="3"/>
            <a:endCxn id="151" idx="1"/>
          </p:cNvCxnSpPr>
          <p:nvPr/>
        </p:nvCxnSpPr>
        <p:spPr>
          <a:xfrm>
            <a:off x="4876560" y="201888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56" idx="0"/>
            <a:endCxn id="151" idx="2"/>
          </p:cNvCxnSpPr>
          <p:nvPr/>
        </p:nvCxnSpPr>
        <p:spPr>
          <a:xfrm flipH="1" flipV="1">
            <a:off x="7048080" y="2514240"/>
            <a:ext cx="57240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28600" y="152388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7" idx="3"/>
            <a:endCxn id="152" idx="1"/>
          </p:cNvCxnSpPr>
          <p:nvPr/>
        </p:nvCxnSpPr>
        <p:spPr>
          <a:xfrm>
            <a:off x="2286000" y="201888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6858000" y="3048120"/>
            <a:ext cx="1523880" cy="99036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1" idx="3"/>
            <a:endCxn id="156" idx="3"/>
          </p:cNvCxnSpPr>
          <p:nvPr/>
        </p:nvCxnSpPr>
        <p:spPr>
          <a:xfrm>
            <a:off x="8077320" y="2019240"/>
            <a:ext cx="305280" cy="1524960"/>
          </a:xfrm>
          <a:prstGeom prst="bentConnector3">
            <a:avLst>
              <a:gd name="adj1" fmla="val 231759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1" idx="2"/>
            <a:endCxn id="153" idx="0"/>
          </p:cNvCxnSpPr>
          <p:nvPr/>
        </p:nvCxnSpPr>
        <p:spPr>
          <a:xfrm flipH="1">
            <a:off x="5181120" y="251460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C699-7DCB-4901-B2EB-549D52936531}" type="slidenum">
              <a:t>17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problem solv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Pyth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Introduction to Linux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D977-ECC8-4BEC-AC6B-3A0867A49948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0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ational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 problem that can be solved by logic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o solve the problem: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rea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ode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the proble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esign an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algorith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for solving the problem using the model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Write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that implements the algorithm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F7F01-9D96-426D-AD72-CF570107937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-4716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utational Problem Solving 101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: a well-defined recipe for solving a proble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Has a finite number of steps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mpletes in a finite amount of tim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n algorithm written in a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programming langu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Also called cod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pplicatio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arge programs, solving many problem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48566-62B2-4F35-A776-8D84D4870AF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on Algorith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484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lgorithms often have a defined type of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Tahoma"/>
              </a:rPr>
              <a:t>outpu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orrect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algorithms give the intended output for a set of input.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Example: Multiply by 1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I/O for a correct algorithm: 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5,50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.32, 3.2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x, 10x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ore examples: Long division, recip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321000" y="4389480"/>
            <a:ext cx="1066680" cy="685800"/>
          </a:xfrm>
          <a:prstGeom prst="rect">
            <a:avLst/>
          </a:prstGeom>
          <a:solidFill>
            <a:srgbClr val="33cccc">
              <a:alpha val="72000"/>
            </a:srgbClr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nput 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30840" y="4191120"/>
            <a:ext cx="1981080" cy="1044360"/>
          </a:xfrm>
          <a:prstGeom prst="parallelogram">
            <a:avLst>
              <a:gd name="adj" fmla="val 47423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algorithm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91520" y="4352760"/>
            <a:ext cx="1066680" cy="685800"/>
          </a:xfrm>
          <a:prstGeom prst="rect">
            <a:avLst/>
          </a:prstGeom>
          <a:solidFill>
            <a:srgbClr val="33cc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101" idx="3"/>
            <a:endCxn id="102" idx="1"/>
          </p:cNvCxnSpPr>
          <p:nvPr/>
        </p:nvCxnSpPr>
        <p:spPr>
          <a:xfrm flipV="1">
            <a:off x="4387320" y="4712400"/>
            <a:ext cx="691560" cy="19800"/>
          </a:xfrm>
          <a:prstGeom prst="straightConnector1">
            <a:avLst/>
          </a:prstGeom>
          <a:ln w="640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2" idx="3"/>
            <a:endCxn id="103" idx="1"/>
          </p:cNvCxnSpPr>
          <p:nvPr/>
        </p:nvCxnSpPr>
        <p:spPr>
          <a:xfrm flipV="1">
            <a:off x="6564240" y="4695480"/>
            <a:ext cx="828000" cy="18000"/>
          </a:xfrm>
          <a:prstGeom prst="straightConnector1">
            <a:avLst/>
          </a:prstGeom>
          <a:ln w="640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3711600" y="5079960"/>
            <a:ext cx="29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I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768800" y="5079960"/>
            <a:ext cx="42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Tahoma"/>
              </a:rPr>
              <a:t>O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6AD5-7C81-4938-AB43-EA8DE8528AE4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-46440"/>
            <a:ext cx="86868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aking a Peanut Butter &amp; Jelly Sandwich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ow do you make a peanut butter and jelly sandwich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Write down the steps so that someone else can follow your instruction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ake no assumptions about the person’s knowledge of PB&amp;J sandwich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person has the following materials: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Tahoma"/>
              </a:rPr>
              <a:t>Loaf of bread, Jar of PB, Jelly, 2 Knives, paper plates, napkins</a:t>
            </a:r>
            <a:endParaRPr b="0" lang="en-US" sz="26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A48A-5D8F-4CFF-934B-AA3269D47F24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 of PB&amp;J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e computer: a blessing and a curs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cognize and meet the challenge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e unambiguous, descriptiv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Must be clear for the computer to understand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 what I </a:t>
            </a:r>
            <a:r>
              <a:rPr b="1" lang="en-US" sz="2800" spc="-1" strike="noStrike">
                <a:solidFill>
                  <a:srgbClr val="020202"/>
                </a:solidFill>
                <a:latin typeface="Tahoma"/>
              </a:rPr>
              <a:t>meant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!  Not what I said!”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reating/Implementing an algorithm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Break down piec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ry it ou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vis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AC4A-6DA3-42E8-8256-2E229349B50E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 of PB&amp;J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35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Be prepared for special cas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ren’t necessarily spares in real lif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eed to write correct algorithms!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Reusing similar techniques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Do the same thing with a little twist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ooping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For repeating the same act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2495B-8821-4CB8-B67A-3050CE34451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ts of an Algorith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59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Primitive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data you have, what you can do to the data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ming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dentify things we’re using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equence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of operation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Conditional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andle special case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Repetition/Loop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Subroutines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Call, reuse similar technique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 rot="2493000">
            <a:off x="5218920" y="3566880"/>
            <a:ext cx="3460680" cy="8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An overview for the semester!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1C98-BB18-4049-BEA3-ACC6D9DB64C0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dcterms:modified xsi:type="dcterms:W3CDTF">2007-09-19T01:21:11Z</dcterms:modified>
  <cp:revision>121</cp:revision>
  <dc:subject/>
  <dc:title>Intro to Java</dc:title>
</cp:coreProperties>
</file>