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6DCB-6BE5-48EC-B4A0-E44D79629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D3171-7A79-4391-A2EF-CC345B379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B0C-4F96-4734-AFFB-634132529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FC027-C118-4303-9ACA-E595DBF18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2F11A-A069-422E-B804-E08699774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1F90FE-78B1-42A1-8DFC-5BE51F54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73BC7B-37B1-4E89-9DD3-640D77E0E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394454-A9C1-4592-955D-C0F213B43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822EA8-38C0-4175-8121-6705CDA6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B7D305-229A-47CC-B742-58970641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7A619A-128B-40C4-A066-8F7AA250C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15D-F67E-4687-89B8-61B83CA1A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441B51-CFE0-4D31-B5DB-D1CB615A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2D6EB5-0053-4505-8D3E-CD39362EF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D8CF1-AC87-4826-B99E-B5955CF8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25BAFC-7CFF-4E2A-B774-A3C6398AA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E44E0C-2E51-4CDB-9D4A-973EBDBCD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D6E-5E85-4EAF-848B-C19CF6A3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47D-2AF2-4AAB-A540-1E0385FF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5502-DDD8-4D9F-A336-FDFB580A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47428-A8A3-44E6-B3AF-EEA3C9108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3144-BB10-4502-8CFA-AE7023CA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36B0-F66E-4A86-8370-489A7E24C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BB20-DDA3-4218-830F-9123D16F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19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6694-5E2D-4F07-A3E6-484F03D1085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C4C7-0272-4F5C-99D8-3D94D601BE9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Precedence/Arithmetic, importing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ite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66F4-A6AB-47BD-A334-C39872293D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ing/Repet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33720" y="2133720"/>
            <a:ext cx="502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peat 10 ti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9" idx="2"/>
            <a:endCxn id="118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1" name=""/>
          <p:cNvCxnSpPr>
            <a:stCxn id="118" idx="2"/>
            <a:endCxn id="119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AA78-569B-43FF-8B6F-F7418AE79AD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4862520"/>
            <a:ext cx="49514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38718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7" idx="2"/>
            <a:endCxn id="126" idx="0"/>
          </p:cNvCxnSpPr>
          <p:nvPr/>
        </p:nvCxnSpPr>
        <p:spPr>
          <a:xfrm>
            <a:off x="5752800" y="43434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2"/>
            <a:endCxn id="127" idx="1"/>
          </p:cNvCxnSpPr>
          <p:nvPr/>
        </p:nvCxnSpPr>
        <p:spPr>
          <a:xfrm flipV="1" rot="16200000">
            <a:off x="4271400" y="3852000"/>
            <a:ext cx="1234440" cy="1729440"/>
          </a:xfrm>
          <a:prstGeom prst="bentConnector4">
            <a:avLst>
              <a:gd name="adj1" fmla="val -33459"/>
              <a:gd name="adj2" fmla="val 156464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 flipH="1">
            <a:off x="2208960" y="3733920"/>
            <a:ext cx="381240" cy="2361960"/>
          </a:xfrm>
          <a:custGeom>
            <a:avLst/>
            <a:gdLst>
              <a:gd name="textAreaLeft" fmla="*/ -360 w 381240"/>
              <a:gd name="textAreaRight" fmla="*/ 137160 w 381240"/>
              <a:gd name="textAreaTop" fmla="*/ 61560 h 2361960"/>
              <a:gd name="textAreaBottom" fmla="*/ 2300400 h 2361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04920" y="421596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Make 10 PB&amp;J sandwich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530040" y="533412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Loop </a:t>
            </a: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216120" y="3352680"/>
            <a:ext cx="20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Loop</a:t>
            </a:r>
            <a:r>
              <a:rPr b="1" lang="en-US" sz="2400" spc="-1" strike="noStrike">
                <a:solidFill>
                  <a:srgbClr val="ff8ef4"/>
                </a:solidFill>
                <a:latin typeface="Tahoma"/>
              </a:rPr>
              <a:t> head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99040" y="2666880"/>
            <a:ext cx="211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op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952880" y="3048120"/>
            <a:ext cx="76320" cy="99036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25760" y="296856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ywor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581280" y="3352680"/>
            <a:ext cx="9144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657600" y="3352680"/>
            <a:ext cx="160020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FE4C-4F92-4A8E-ADA0-30553FBBB59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DC48-4200-4648-8C8E-58CD57BD700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only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to repe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for x in xrange(5): print “Hello!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73600" y="60958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ple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37F7-D803-47A5-BC26-FAC7025156E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5880" y="6095880"/>
            <a:ext cx="2725920" cy="36684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ake PB&amp;J sandwich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5181480"/>
            <a:ext cx="24382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for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 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 xrange(10)</a:t>
            </a:r>
            <a:r>
              <a:rPr b="1" lang="en-US" sz="20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2" name=""/>
          <p:cNvCxnSpPr>
            <a:stCxn id="151" idx="2"/>
            <a:endCxn id="150" idx="0"/>
          </p:cNvCxnSpPr>
          <p:nvPr/>
        </p:nvCxnSpPr>
        <p:spPr>
          <a:xfrm flipH="1">
            <a:off x="7459200" y="5652720"/>
            <a:ext cx="8640" cy="42948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2"/>
            <a:endCxn id="151" idx="1"/>
          </p:cNvCxnSpPr>
          <p:nvPr/>
        </p:nvCxnSpPr>
        <p:spPr>
          <a:xfrm flipV="1" rot="16200000">
            <a:off x="6312960" y="5330160"/>
            <a:ext cx="1067760" cy="1226160"/>
          </a:xfrm>
          <a:prstGeom prst="bentConnector4">
            <a:avLst>
              <a:gd name="adj1" fmla="val -20067"/>
              <a:gd name="adj2" fmla="val 129897"/>
            </a:avLst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B573-113C-4CF9-945F-91C9F87004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Goes in the Loop Body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PB&amp;J Sandwi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ther materials (bread, PB, J, knives, plat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pen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ut 2 pieces of bread on pl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PB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Spread Jelly on one side of one sl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cc"/>
                </a:solidFill>
                <a:latin typeface="Arial"/>
              </a:rPr>
              <a:t>Place PB-side facedown on Jelly-side of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ose br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lean knif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away material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1752480"/>
            <a:ext cx="7924680" cy="99072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" y="2819520"/>
            <a:ext cx="7924680" cy="190476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4800600"/>
            <a:ext cx="7924680" cy="15238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77120" y="213372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rot="16200000">
            <a:off x="-499680" y="355284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Tahoma"/>
              </a:rPr>
              <a:t>Loop Bod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97640" y="5135400"/>
            <a:ext cx="195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Finaliz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8D41-5E2B-45FB-A5B5-0813B72BC0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0" y="2133720"/>
            <a:ext cx="2416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Times to repea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3733560" y="2590920"/>
            <a:ext cx="1904760" cy="68580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F500-5D47-4EFC-B611-D8A1A9CD783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alyzing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</a:t>
            </a: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o, exactl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174720" y="6095880"/>
            <a:ext cx="288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_analysi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108-3540-4DDD-840E-CD243DF016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above signature mea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382F-211C-4F8B-9480-63D2B7C787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BB0E-3A62-4AE4-8E66-6524553C179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ponenti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al: compute -3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ggested: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ow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(-3, 2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Courier New"/>
              </a:rPr>
              <a:t>pow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else could we get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fun, what is 2 ** -3 ** 2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6881-B5AA-46DC-89EE-E34AD2DEE2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xrange</a:t>
            </a:r>
            <a:r>
              <a:rPr b="0" lang="en-US" sz="4000" spc="-1" strike="noStrike">
                <a:solidFill>
                  <a:srgbClr val="010199"/>
                </a:solidFill>
                <a:latin typeface="Tahoma"/>
              </a:rPr>
              <a:t>([start,] stop[, step]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1 argument: xrange(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0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2 arguments: xrange(start, sto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=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3 arguments: xrange(start, stop, step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s from start to stop-1 with step size=ste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at with negative numbers,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6880" y="6168960"/>
            <a:ext cx="253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ing_xran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3F16-40F9-40F4-8E67-823223E7B28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verage 5 numbers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1432-22C8-4F76-9F20-4C0A2D64D00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6A16-72F2-4325-A6AF-F60EB4D43BE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Libr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has a rich library of functions and definitions available for your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library is broken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odu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A </a:t>
            </a:r>
            <a:r>
              <a:rPr b="1" lang="en-US" sz="2800" spc="-1" strike="noStrike">
                <a:solidFill>
                  <a:srgbClr val="00c600"/>
                </a:solidFill>
                <a:latin typeface="Tahoma"/>
              </a:rPr>
              <a:t>module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 is a file containing Python definitions and state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nefits of functions/definitions i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rewrite someone else’s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in a module, it is a very efficient (in terms of computation speed and memory usag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5C8B-AECA-42A2-AB13-415FB94C3F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or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 the definitions in a module, you must first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the modul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: to use the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math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module’s definitions, use the the import statement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ypically import statements are at </a:t>
            </a:r>
            <a:r>
              <a:rPr b="0" i="1" lang="en-US" sz="2400" spc="-1" strike="noStrike">
                <a:solidFill>
                  <a:srgbClr val="010199"/>
                </a:solidFill>
                <a:latin typeface="Arial"/>
              </a:rPr>
              <a:t>top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of program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To use, prepend constant or function with “modulename.”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constants: 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xamples for functions: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th.sqr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15880" y="2209680"/>
            <a:ext cx="232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ort math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28120" y="6172200"/>
            <a:ext cx="290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module_examp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FA6B-928C-41D0-8D8D-08A1CD0B50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 can import only a subset of the modu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library&gt;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name1&gt;, &lt;name2&gt;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mat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i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can use just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stead of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math.pi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3109A-7315-442B-8332-2C49745531A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nding Modules To U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I know if some code that I want already exis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Library Referenc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docs.python.org/lib/lib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has functions/constants for manipulating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the most part, to practice, in the beginning you will write most of your code from scratc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2860-DE8A-47F4-AF92-1A8ACA2E829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086600" y="51814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combine them to create more complex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utions to proble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6600" y="48006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086600" y="43434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38098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08660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891DA-D998-46E0-9A35-420E68BF11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A3ED-B98F-4A0A-8ED9-81A316573B1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876920" y="388620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oday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arn new building block, new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76920" y="35053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876920" y="304812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311616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4CE7-7FF2-4CC9-8966-F3D118612E6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19T20:24:05Z</dcterms:modified>
  <cp:revision>229</cp:revision>
  <dc:subject/>
  <dc:title>PowerPoint Presentation</dc:title>
</cp:coreProperties>
</file>