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6AADD-4597-43ED-BA1E-B1BF6F025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9A2-AAB4-46B1-BA23-9CDF7611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C703-E383-4C3A-81C4-28BA7FDD0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7222-3AE9-4BB2-A8FF-A791B40F6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6768-679E-4654-87C2-6A238A925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58C5-9F84-4E7E-AA98-3516C474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4E59F-55CE-48FB-AB5F-29333F56A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BC6F-6E67-494F-9D9E-16D44E6F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C38E-8C63-420F-9591-09945C771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2DC1E-17B4-4B2B-8363-FECF4CBA2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7943-7BCC-4D47-A64F-198949894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F8DA-0491-488F-A941-9EF867656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B0C43-3956-4B80-8ECF-7F0C89C6FE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1523880"/>
            <a:ext cx="8077320" cy="4419720"/>
          </a:xfrm>
          <a:prstGeom prst="rightArrow">
            <a:avLst>
              <a:gd name="adj1" fmla="val 50000"/>
              <a:gd name="adj2" fmla="val 45689"/>
            </a:avLst>
          </a:prstGeom>
          <a:solidFill>
            <a:srgbClr val="d5d5d5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2T15:56:27Z</dcterms:created>
  <dc:creator>Sara Sprenkle</dc:creator>
  <dc:description/>
  <dc:language>en-US</dc:language>
  <cp:lastModifiedBy>Sara Sprenkle</cp:lastModifiedBy>
  <cp:lastPrinted>2007-10-22T15:56:42Z</cp:lastPrinted>
  <dcterms:modified xsi:type="dcterms:W3CDTF">2007-10-22T15:57:07Z</dcterms:modified>
  <cp:revision>1</cp:revision>
  <dc:subject/>
  <dc:title>PowerPoint Presentation</dc:title>
</cp:coreProperties>
</file>