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148-05F9-4083-960C-776DF7C6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DB4-86F5-44F7-81BF-5D0B3C5D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574-E1FB-4259-B76B-3A962C5D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CD6-5E75-464F-8CCE-1DCB0A9A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CFCB6-AD17-4EA0-BFD1-B2662A19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30EB3-2A1B-42C4-8F59-434F1D4E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2FA6D-1636-4B39-8DC9-A4F230B2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E4637-49D4-4560-B7F4-E5FBF152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679F7-8A25-4CC0-B6A3-737A2805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C0A5A-66E7-4011-8DC4-AA7A4975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09769-1A95-429F-9701-4CCD06F3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A6A-B44D-40D8-84C6-A11F4E84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284AD-4D46-46D0-ABD9-3D8A817F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6E6DE-A8F4-49A7-86C1-DB2B7880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F431C-49B3-4B7A-9452-5A2C99C8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22548-92E0-4C67-AE41-CF7BAF85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5DBB9-5B8D-4A3E-B0AD-72D56546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290-6687-477D-AEA2-EE163E6E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8CC-BB6A-47BA-B5C8-B3CD860D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583-7ECB-4AD1-A812-C26FDFA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CE3-4AFC-4473-8F2C-4EF9AC7F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5D5-A8C0-498D-8108-AB1E9845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3D9-759B-4EC1-8280-0D15B7AC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6A3-A44D-4DDC-9CC6-1AC5CE7F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3119-F5AE-4307-8FF7-3BED43B820B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A101-334C-47BF-8D02-46229835475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eat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ails got some of you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out co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py directory to turnin direct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practice (expressions into shel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page changes in index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080" y="47242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initions from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epend constant or function with “modulename.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pi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we write the expression e</a:t>
            </a:r>
            <a:r>
              <a:rPr b="0" lang="en-US" sz="2800" spc="-1" strike="noStrike" baseline="30000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101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+ 1 in Pyth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1280" y="62485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comments i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igh-level comments, authorshi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s for your algorithms, imple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more testing o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good test cases for your program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the output from those test cases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ut don’t go overboard, testing every possible number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nor Syst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edge the Honor Code on printed shee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Key -- onli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-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ng” listing form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s detailed info about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Last modified da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siz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wners, permiss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/home/courses/cs111/handouts/lab0/*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.py” extension in comm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s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rst one: more lenient in grad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ter: tougher on grammar, spelling errors, post as a comment, explicitly summarize the top three points, etc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elled out on “CS Issues” pa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ture rubr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log entry - 6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cussion - 4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Command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fill in the appropriate th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optional arg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Move or Rename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v &lt;sourcefile&gt; &lt;destinatio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&lt;destination&gt; is a directory, keeps the original source file’s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: mv ~/labs/file.py labs/lab1/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“file.py” will be in labs/lab1 direc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perform some tas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tak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 value that can be used in 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func_name(arg0, arg1, …, arg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the function, the arguments may or may not be required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[ ]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dicate an optional argu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067360" y="1638360"/>
            <a:ext cx="457200" cy="4038480"/>
          </a:xfrm>
          <a:custGeom>
            <a:avLst/>
            <a:gdLst>
              <a:gd name="textAreaLeft" fmla="*/ 0 w 457200"/>
              <a:gd name="textAreaRight" fmla="*/ 164880 w 4572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400" y="2971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Argument/parameter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raw_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prompt is given as an argument, prints the prompt without a newline/carriage retur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prompt, just waits for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user’s input (up to “enter”) a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t return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1520" y="99072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Known as function’s “signatur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371600"/>
            <a:ext cx="990360" cy="10666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920" y="14875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Template for how to “call” func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26080" y="19447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Optional argu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67080" y="2133720"/>
            <a:ext cx="1371600" cy="1522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Built-i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(x[,n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und the float t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digits after the decimal po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round to nearest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bs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absolute valu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e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the typ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95560" y="63216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unction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18T17:55:52Z</cp:lastPrinted>
  <dcterms:modified xsi:type="dcterms:W3CDTF">2007-09-18T18:53:02Z</dcterms:modified>
  <cp:revision>69</cp:revision>
  <dc:subject/>
  <dc:title>PowerPoint Presentation</dc:title>
</cp:coreProperties>
</file>