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0F6-99AB-4E37-88D2-68CB4664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A55-9950-4CC3-912F-3C61CA4B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A14-1DB5-44E6-83A0-7A6E25F3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C50-50E5-41C4-BEE3-4D194DD6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2FC56-F618-475C-A855-86316327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7ABF6-12F8-415A-829E-475BD1CD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E71F3-E2C3-4C48-BBA9-65C444A8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6D622-FF2C-4F75-9027-23B851FF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8E33E-CE58-4A94-8719-7E23E28A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7C678-2F2D-4915-92C3-DAF1EE26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AA9DB-D218-4337-A919-C6FFEAD6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CE3-1858-48BF-9C49-A0CBFD50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76EC0-B6D2-41D2-AA20-AA01A54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F1760-AD1C-42D0-800F-954AF9A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E8ED8-A346-46CF-B613-601699DF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1F697-B1B8-473D-9EAE-FDE9365F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F95B2-1F3F-40E9-8A6E-AB7055F8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BCE-D3AC-455F-8EBB-59639D13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209-C18F-4520-A6F8-FFE67BB8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2F8-1B67-40A6-B191-873EC5E1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E72-3606-4716-8FC4-20AA67C2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CC6-5EEA-4E18-9E45-10AB4EB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25D-9758-4AEF-8666-E91539CD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F54-4635-485F-B80C-A4F96990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D8ED-B0D7-4797-8F54-0527D6B1B74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84B4-1A42-4D4A-8B45-7E581406B7F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efinite for loops, xran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 Puzzles From Cyberspa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840-84E4-4ECB-BD5A-BE63DA7412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 with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uts spaces around numbers when they get printed o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9000" y="2666880"/>
            <a:ext cx="4260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13.54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, x, “.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366-3C75-41C1-AA6F-DA0A828833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constructor/converter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constructor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 when printing output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AB8-DED7-4140-BC2B-A73E7F14F3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other problem with 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" y="152244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SALES_TAX=.05 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# the sales tax in V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value = input("How much does your item cost?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tax = value * (1+SALES_TAX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value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)"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tax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with tax"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43040" y="61722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ales_tax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2D8-456C-4CEF-B3FC-EDCDE6ACBA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ormat specifiers give control over how output is displayed to us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ight, left justificatio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3560" y="232884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)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value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 with tax”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t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566720"/>
            <a:ext cx="0" cy="7621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6095880" y="278604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8800" y="35020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67480" y="248112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5790600" y="182844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8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27760" y="15969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Format specifi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250-84DE-419B-AA9C-51F7E5588D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+: adds a + sign before positive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 (default is right-justification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D6B-7F07-4554-808D-27B27E528D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dicates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/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ay to forma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704-C4E3-4F6D-96E8-C80000B880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2880" y="2286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629400" y="685440"/>
            <a:ext cx="380880" cy="3124080"/>
          </a:xfrm>
          <a:custGeom>
            <a:avLst/>
            <a:gdLst>
              <a:gd name="textAreaLeft" fmla="*/ 0 w 380880"/>
              <a:gd name="textAreaRight" fmla="*/ 13752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0D8-29A0-46B4-B440-DF4DEA5AB7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6A3-3CF5-44D9-9CAD-E79E8EB5D8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F3D-DF8F-4361-9981-BE8B5BDCDF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3A5-02F6-41D8-99CA-1F01908146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00c600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4FA-2713-4F8B-8CBB-B6D7FAECE9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Exciting Conclusion of Four Puzzles in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text: Book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ode v2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Lawrence Lessi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read Chapter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sents the problems, not the author’s proposed solu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E80-36F3-4515-A8AA-05BBF46998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uzzles in Cyberspace 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main themes/puzzles of the boo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ch is the most important puzzle to solv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CS information would you need to know to be able to propose 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C08-5EC6-4BA2-94BB-2BA65EC56E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76920" y="42670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8862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49740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F42-B9B8-4BCF-8CAC-7634BE7F25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coun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D52-76D9-497F-A942-63131DD913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 argument: xrange(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arguments: xrange(start, 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3 arguments: xrange(start, stop, ste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208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4495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484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24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6736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50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64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78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92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068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44956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0700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520" y="4492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97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1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160" y="58644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[start, stop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0384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9320" y="52117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0,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329-4622-4961-AD0D-B891986340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9568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487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484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424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673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50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78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92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068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48006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1156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797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97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1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200" y="3657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5, -15, -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34016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02080" y="243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148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424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736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50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64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78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92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068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23623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6732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9520" y="2359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520" y="121932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1, 15, 3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9018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34340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895480"/>
            <a:ext cx="3048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5562720"/>
            <a:ext cx="44197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2600" y="6172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ew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E04-1FA0-4121-AE35-BB4704E973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D6C-D2D5-4673-B044-FF05652C13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ep through in mem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BE0-544E-4AEB-8673-DF70CFEE79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p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str() 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mat specifi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42A-3725-4965-B89B-6EB132A0DA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4T17:57:21Z</dcterms:modified>
  <cp:revision>341</cp:revision>
  <dc:subject/>
  <dc:title>PowerPoint Presentation</dc:title>
</cp:coreProperties>
</file>