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407-3BAD-4E10-A618-CEAA8FE8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F0B-0A26-424B-A191-5E829418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484-1FB5-430F-8023-54FE17BD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42E-2459-4BD6-B0E6-900378BE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52DDD-6745-4576-8827-A114140A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395E8-F496-43BF-8001-66C81BB6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18743-85D3-4405-9764-34799D2C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1BCC1-92DC-4DF2-9C44-C47C7EC4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0E1A5-548F-4E9D-98CB-F632FFA8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E2C53-2E39-456C-A0DF-039B22AA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D5355-5B72-4679-8500-5FA55C41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A60-41AF-41F1-BD4E-54CEE04C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AF30C-01E1-40A0-9F83-6F2AC33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EF362-225C-4E0C-96AF-71F31EE2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1096C-C516-4B41-801D-6929EA6C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AE3AF-7198-4662-9733-6272504A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197A7-DCC3-44D4-B6F0-8655EC64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EBD-1101-438B-9E99-839EF070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2A2-06D1-4230-843D-F546CBC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BE7-E048-4C59-AE20-2A5ABF10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E83-D877-412C-9B47-F811FFA2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D00-59DE-4D8A-A25E-D94C0D7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835-8EE5-426D-A817-69F5DEF5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08E-E661-4D1E-8E22-88AE1EFF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21B3-6A3C-422C-8B04-BD75C2DE504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DC37-ED8F-42BA-A147-525322A8B4C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eat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ails got some of you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out co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py directory to turnin direct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practice (expressions into shel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page changes in index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080" y="47242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initions from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epend constant or function with “modulename.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pi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we write the expression e</a:t>
            </a:r>
            <a:r>
              <a:rPr b="0" lang="en-US" sz="2800" spc="-1" strike="noStrike" baseline="30000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101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+ 1 in Pyth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1280" y="62485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comments i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igh-level comments, authorshi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s for your algorithms, imple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more testing o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good test cases for your program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the output from those test cases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ut don’t go overboard, testing every possible number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nor Syst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edge the Honor Code on printed shee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Key -- onli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-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ng” listing form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s detailed info about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Last modified da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siz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wners, permiss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/home/courses/cs111/handouts/lab0/*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.py” extension in comm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s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rst one: more lenient in grad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ter: tougher on grammar, spelling errors, post as a comment, explicitly summarize the top three points, etc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elled out on “CS Issues” pa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ture rubr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log entry - 6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cussion - 4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Command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fill in the appropriate th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optional arg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Move or Rename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v &lt;sourcefile&gt; &lt;destinatio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&lt;destination&gt; is a directory, keeps the original source file’s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: mv ~/labs/file.py labs/lab1/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“file.py” will be in labs/lab1 direc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perform some tas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tak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 value that can be used in 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func_name(arg0, arg1, …, arg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the function, the arguments may or may not be required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[ ]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dicate an optional argu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067360" y="163836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2971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Argument/parameter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raw_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prompt is given as an argument, prints the prompt without a newline/carriage retur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prompt, just waits for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user’s input (up to “enter”) a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t return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1520" y="9907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Known as function’s “signatur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371600"/>
            <a:ext cx="990360" cy="10666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920" y="14875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Template for how to “call” func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6080" y="1944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Optional argu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67080" y="2133720"/>
            <a:ext cx="1371600" cy="1522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Built-i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(x[,n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und the float t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digits after the decimal po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round to nearest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bs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absolute valu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e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the typ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95560" y="63216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unction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18T17:55:52Z</cp:lastPrinted>
  <dcterms:modified xsi:type="dcterms:W3CDTF">2007-09-18T18:53:02Z</dcterms:modified>
  <cp:revision>69</cp:revision>
  <dc:subject/>
  <dc:title>PowerPoint Presentation</dc:title>
</cp:coreProperties>
</file>