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617-F83C-4542-BEC6-E31C3433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42E-A098-4C50-8BF7-C3C7B9EE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60C-280E-49FD-9546-9E3F1E1E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590-00F1-4C6F-9945-AC5FA583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ED90A-0F21-4599-931D-470F9CA3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8A8E7-21F9-4137-B341-9D61EE66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35899-D94F-47E1-9129-F6AAA753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1B8D7-CD88-45C0-9EB3-96E14FA7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9F5CD-124A-4E7C-B1E3-31EBED89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47F8D-40D2-4BD7-BD3F-716FE07F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060C8-1AA6-40D0-ACE9-1997A260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6B9-1BD3-42A2-9401-18034386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D8DF4-2747-4249-BECF-D4234269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82E92-E46C-4AB9-9159-225F532A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74F91-9E69-44F4-9DA6-7361C250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7B875-7EDC-425F-B008-BD5CD2C8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05E46-9ECD-436E-BBB7-F5E4E02E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ECE-DF64-43BE-985A-BC8A29BF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ED4-C9FF-49D7-AF6A-812EA9C7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8FC-C710-4D02-A641-154569B2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047-CF4B-4F4D-832D-8AFF7C8A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66D-1E3F-4E9E-B5FF-402DB5F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C25-BFAD-4402-B2F3-7BC036DB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504-E44E-4A3B-ACB1-D5EB6AE3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6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B02E-D887-42BB-A607-7925EE1F4DA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6FF3-B284-4ABB-BF7F-5898B20AEC9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ap-up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5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CDC-E98D-446C-BF08-DA099B57EA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main(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is program converts binary numbers to decimal numbers.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not isBinary(binary_string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Sorry, that is not a binary string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e decimal value is", binaryToDecimal(binary_string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840" y="586728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esents overview of what program does (hides detail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429000"/>
            <a:ext cx="28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ld we write this without function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674-A969-468E-8B62-E66E267147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/Post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e: binary_string is a string that contains only 0s and 1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ost: returns the decimal value for the binary string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ToInt( binary_string 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Alternatively, could do isBinary check here too,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but, what would you </a:t>
            </a:r>
            <a:r>
              <a:rPr b="0" i="1" lang="en-US" sz="22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in that case?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= len(binary_string)-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= 0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for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t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_string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t = int(bi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int bit,"* 2^%d" % expone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+= bit * (2 ** exponen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-= 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dec_value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876560" y="4373640"/>
            <a:ext cx="4038840" cy="1191240"/>
            <a:chOff x="4876560" y="4373640"/>
            <a:chExt cx="4038840" cy="1191240"/>
          </a:xfrm>
        </p:grpSpPr>
        <p:sp>
          <p:nvSpPr>
            <p:cNvPr id="91" name=""/>
            <p:cNvSpPr/>
            <p:nvPr/>
          </p:nvSpPr>
          <p:spPr>
            <a:xfrm>
              <a:off x="5867280" y="437364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Commented out print statement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(No side effects)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876560" y="4800600"/>
              <a:ext cx="11430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14A-CD0B-47C0-AC89-62E6BE7A9F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now “lifetime” of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during execution of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lated to idea of “scope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bout variables outside of func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get tricky, as I demonstrated yester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on_function_var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355-8C99-473B-A9FC-AE614F0B63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bugging Adv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uild up your program in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ways write only small pieces of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, debug. Repe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function body as part of main, te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separate out into its ow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function separately from other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ment out irrelevant code to make sure that the function behaves as expec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5DC-D914-47F0-8219-32452FD01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iterate through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c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range(len(s))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s[x]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spa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ing method: replace(old, new[, count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:  s.replace(‘ ‘, ‘’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505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35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 w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343400"/>
            <a:ext cx="304920" cy="4572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943240" y="4191120"/>
            <a:ext cx="152280" cy="6858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559-1624-4BC0-AD08-A741673F73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fficient solution to determine if palindrom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decision: What should be part of the  isPalindrome func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wer casing and removal of spac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83520" y="2362320"/>
            <a:ext cx="4421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range(len(string)/2)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r[-x-1]!=str[x]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F88-A54D-4C07-A929-BBC37F8DF1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ish up problem from last la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ections in the la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and us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your ow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14C-D713-4C89-9EBC-32FE5AAE94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6T19:00:12Z</dcterms:modified>
  <cp:revision>1520</cp:revision>
  <dc:subject/>
  <dc:title>PowerPoint Presentation</dc:title>
</cp:coreProperties>
</file>