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6336-71CC-4CE3-8FCE-74E8078E6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6DC2-BEE9-40B4-8D46-809C34CB9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908C-7B65-4535-A769-B659BA6B9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99F13-ED8B-4510-8C3F-E520ED02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9278AC-40B4-419C-8AF6-CC398890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8D263D-3135-494E-8B4A-47EA0DC7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79995-BBB8-470D-A9FF-7F6B00CCF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BE4F75-5A09-4DAF-B991-18C80A5E3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F29530-A69B-4439-82A9-BA7AAFB5C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3314A-001D-44DE-AEE4-839BE53CD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FEB47F-BA76-4B43-8135-6CDF81E4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94C1D-9042-4AE7-BE94-B67DC0CB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CE8C87-F212-438F-B2C9-1BEB2FC1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67D053-1639-4C9E-BF7B-5633F439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4D5E18-19D6-4ADC-AB11-4D6F4458D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F0A0C7-A193-4789-8BD0-4FC37FDB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B6824B-EF15-4D2D-92CE-DAAF166F6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3CED-7240-4E35-AF4A-26BBCE6BF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99080-74A0-4975-A8DF-927EC837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CD316-A45E-4326-AE81-4B9D8C0E8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F093-DA18-4713-928B-008054F4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B360-39B0-4DA3-BD7C-493926E2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DB4D-4913-4983-92C4-E1C8CAE00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D3A-B283-4147-8BEA-D3054E15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 14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580EF-45E7-42B2-BA04-A4CBC1091BA7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6700-69BC-4DB0-AE2E-9A48B08F62DC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view: Linux, documentation, programm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programming in Pyth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ftware development pract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bugg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Debugg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22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dit the program, re-execute/test until everything 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he error is often called a “bug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Diagnosing and fixing it is called </a:t>
            </a: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257800"/>
            <a:ext cx="2057400" cy="990720"/>
          </a:xfrm>
          <a:prstGeom prst="flowChartAlternateProcess">
            <a:avLst/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5181480"/>
            <a:ext cx="175248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0" y="5257800"/>
            <a:ext cx="18288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1" name=""/>
          <p:cNvCxnSpPr>
            <a:stCxn id="159" idx="3"/>
            <a:endCxn id="158" idx="1"/>
          </p:cNvCxnSpPr>
          <p:nvPr/>
        </p:nvCxnSpPr>
        <p:spPr>
          <a:xfrm>
            <a:off x="2514600" y="5752800"/>
            <a:ext cx="9151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58" idx="3"/>
            <a:endCxn id="160" idx="1"/>
          </p:cNvCxnSpPr>
          <p:nvPr/>
        </p:nvCxnSpPr>
        <p:spPr>
          <a:xfrm>
            <a:off x="5486400" y="5752800"/>
            <a:ext cx="1372320" cy="108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63" name=""/>
          <p:cNvSpPr/>
          <p:nvPr/>
        </p:nvSpPr>
        <p:spPr>
          <a:xfrm>
            <a:off x="609480" y="3505320"/>
            <a:ext cx="2057400" cy="990360"/>
          </a:xfrm>
          <a:prstGeom prst="rect">
            <a:avLst/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(jEdit)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4" name=""/>
          <p:cNvCxnSpPr>
            <a:stCxn id="163" idx="2"/>
            <a:endCxn id="159" idx="0"/>
          </p:cNvCxnSpPr>
          <p:nvPr/>
        </p:nvCxnSpPr>
        <p:spPr>
          <a:xfrm>
            <a:off x="1638000" y="4495320"/>
            <a:ext cx="1080" cy="686520"/>
          </a:xfrm>
          <a:prstGeom prst="straightConnector1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65" name=""/>
          <p:cNvCxnSpPr>
            <a:stCxn id="158" idx="0"/>
            <a:endCxn id="163" idx="3"/>
          </p:cNvCxnSpPr>
          <p:nvPr/>
        </p:nvCxnSpPr>
        <p:spPr>
          <a:xfrm flipV="1" rot="16200000">
            <a:off x="2933280" y="3733200"/>
            <a:ext cx="1257840" cy="1791720"/>
          </a:xfrm>
          <a:prstGeom prst="bent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5091120" y="3581280"/>
            <a:ext cx="2431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ERROR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  <a:ea typeface="Luxi Sans"/>
              </a:rPr>
              <a:t>Identify bug, fi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67" name=""/>
          <p:cNvCxnSpPr>
            <a:stCxn id="160" idx="0"/>
            <a:endCxn id="163" idx="3"/>
          </p:cNvCxnSpPr>
          <p:nvPr/>
        </p:nvCxnSpPr>
        <p:spPr>
          <a:xfrm flipV="1" rot="16200000">
            <a:off x="4590720" y="2075760"/>
            <a:ext cx="1257840" cy="5106240"/>
          </a:xfrm>
          <a:prstGeom prst="bentConnector2">
            <a:avLst/>
          </a:prstGeom>
          <a:ln w="38160">
            <a:solidFill>
              <a:srgbClr val="ff0000"/>
            </a:solidFill>
            <a:miter/>
          </a:ln>
        </p:spPr>
      </p:cxnSp>
      <p:sp>
        <p:nvSpPr>
          <p:cNvPr id="168" name=""/>
          <p:cNvSpPr/>
          <p:nvPr/>
        </p:nvSpPr>
        <p:spPr>
          <a:xfrm>
            <a:off x="5567040" y="6324480"/>
            <a:ext cx="266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bug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E42F9-E454-41C9-B9A3-BD9D741EBC4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Finishing Up Wednesday’s 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Average three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614640" y="6324480"/>
            <a:ext cx="168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averag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AE2-EAA4-47AF-9B81-9BB47979370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d Development Practi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ign the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reak into pieces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lement and Test each piece separate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dentify the best pieces to make progres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terate over each step to improve i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rite comments FIRST for each step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laborate on what you’re doing in comments when necessar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Review: Numeric Primitive Typ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152280" y="1143000"/>
          <a:ext cx="8686800" cy="4245120"/>
        </p:xfrm>
        <a:graphic>
          <a:graphicData uri="http://schemas.openxmlformats.org/drawingml/2006/table">
            <a:tbl>
              <a:tblPr/>
              <a:tblGrid>
                <a:gridCol w="1828800"/>
                <a:gridCol w="2362320"/>
                <a:gridCol w="4495680"/>
              </a:tblGrid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ata Type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escription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xamples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901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in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Plain integers (32-bit precision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214, -2, 0, 2, 100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ange: -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to 2</a:t>
                      </a:r>
                      <a:r>
                        <a:rPr b="0" lang="en-GB" sz="2400" spc="-1" strike="noStrike" baseline="30000">
                          <a:solidFill>
                            <a:srgbClr val="020202"/>
                          </a:solidFill>
                          <a:latin typeface="Arial"/>
                        </a:rPr>
                        <a:t>31</a:t>
                      </a: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-1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float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14480"/>
                          <a:tab algn="l" pos="228600"/>
                          <a:tab algn="l" pos="343080"/>
                          <a:tab algn="l" pos="457200"/>
                          <a:tab algn="l" pos="571680"/>
                          <a:tab algn="l" pos="685800"/>
                          <a:tab algn="l" pos="800280"/>
                          <a:tab algn="l" pos="914400"/>
                          <a:tab algn="l" pos="1028880"/>
                          <a:tab algn="l" pos="1143000"/>
                          <a:tab algn="l" pos="1257480"/>
                          <a:tab algn="l" pos="1371600"/>
                          <a:tab algn="l" pos="1486080"/>
                          <a:tab algn="l" pos="1600200"/>
                          <a:tab algn="l" pos="1714680"/>
                          <a:tab algn="l" pos="1828800"/>
                          <a:tab algn="l" pos="1943280"/>
                          <a:tab algn="l" pos="2057400"/>
                          <a:tab algn="l" pos="2171880"/>
                          <a:tab algn="l" pos="2286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al number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GB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.001, -1.234, 1000.1, 0.00, 2.45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long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igger integers (neg or pos, precision limited by computer memory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2147483648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L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complex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maginary numbers (have real and imaginary part)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* 1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--&gt; (-1+0</a:t>
                      </a:r>
                      <a:r>
                        <a:rPr b="0" lang="en-US" sz="2400" spc="-1" strike="noStrike">
                          <a:solidFill>
                            <a:srgbClr val="00b000"/>
                          </a:solidFill>
                          <a:latin typeface="Arial"/>
                        </a:rPr>
                        <a:t>j</a:t>
                      </a: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1A3BB-A187-4232-8850-7D3E050B4F32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56680"/>
            <a:ext cx="86882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Strings: </a:t>
            </a:r>
            <a:r>
              <a:rPr b="1" lang="en-GB" sz="4000" spc="-1" strike="noStrike">
                <a:solidFill>
                  <a:srgbClr val="2017b8"/>
                </a:solidFill>
                <a:latin typeface="Courier New"/>
              </a:rPr>
              <a:t>st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8240" cy="41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d for tex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Indicated by double quotes “” or single quotes ‘’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In general, I’ll use double quo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55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mpty string: “” or ‘’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55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Use triple quotes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 for strings that go across multiple lin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0">
              <a:spcBef>
                <a:spcPts val="550"/>
              </a:spcBef>
              <a:buNone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48320" y="4800600"/>
            <a:ext cx="2710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“““</a:t>
            </a: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s long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Like, really long </a:t>
            </a:r>
            <a:r>
              <a:rPr b="0" lang="en-US" sz="2400" spc="-1" strike="noStrike">
                <a:solidFill>
                  <a:srgbClr val="00b000"/>
                </a:solidFill>
                <a:latin typeface="Geneva CY"/>
              </a:rPr>
              <a:t>””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3C61-2460-4BE8-950B-4EC63580C08F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8240" cy="10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inting Out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42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imple state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_not_ a function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Displays the result of expression(s) to the termina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Hello, class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“Your answer is”, answ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6200000">
            <a:off x="2438280" y="3284280"/>
            <a:ext cx="380880" cy="2210040"/>
          </a:xfrm>
          <a:custGeom>
            <a:avLst/>
            <a:gdLst>
              <a:gd name="textAreaLeft" fmla="*/ 243360 w 380880"/>
              <a:gd name="textAreaRight" fmla="*/ 381240 w 38088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101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661040" y="4540320"/>
            <a:ext cx="19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10199"/>
                </a:solidFill>
                <a:latin typeface="Tahoma"/>
                <a:ea typeface="Luxi Sans"/>
              </a:rPr>
              <a:t>string litera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95680" y="3781440"/>
            <a:ext cx="457200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print</a:t>
            </a: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 automatically adds a ‘\n’ (carriage return) after it’s print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886200" y="4162320"/>
            <a:ext cx="838080" cy="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3657600" y="5381280"/>
            <a:ext cx="838080" cy="685800"/>
          </a:xfrm>
          <a:prstGeom prst="line">
            <a:avLst/>
          </a:prstGeom>
          <a:ln w="31680">
            <a:solidFill>
              <a:srgbClr val="33cc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5442120"/>
            <a:ext cx="289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cccc"/>
                </a:solidFill>
                <a:latin typeface="Arial"/>
              </a:rPr>
              <a:t>Use commas to print multiple “things” in one line 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61040" y="4543560"/>
            <a:ext cx="26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Unless ends with 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7680" y="624852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demo_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5BCB-E861-4532-969B-3A61A0455BF7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scape Sequenc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37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scape Sequen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newline character (carriage return)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tab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quote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backslash -&gt; </a:t>
            </a:r>
            <a:r>
              <a:rPr b="0" lang="en-GB" sz="2800" spc="-1" strike="noStrike">
                <a:solidFill>
                  <a:srgbClr val="00b000"/>
                </a:solidFill>
                <a:latin typeface="Arial"/>
              </a:rPr>
              <a:t>\\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print “To print a \\, you must use \”\\\\\”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799A1-B75E-4953-9063-615AFDCB3515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11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To print a tab, you must use ‘\t’.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Print </a:t>
            </a:r>
            <a:r>
              <a:rPr b="0" lang="en-GB" sz="3200" spc="-1" strike="noStrike">
                <a:solidFill>
                  <a:srgbClr val="010199"/>
                </a:solidFill>
                <a:latin typeface="Arial"/>
              </a:rPr>
              <a:t>I said, ”How are you?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0840" y="5983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escape_practic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DD5F-39E1-4EF1-BEBE-FA39C729DF1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3200" spc="-1" strike="noStrike">
                <a:solidFill>
                  <a:srgbClr val="020202"/>
                </a:solidFill>
                <a:latin typeface="Courier New"/>
              </a:rPr>
              <a:t>raw_in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are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ompts user for input, gets the user’s inpu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numb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raw_input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: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ypically used in assign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idth = input(“Enter the width: “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 execution, terminal display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nter the width: 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ssigns </a:t>
            </a:r>
            <a:r>
              <a:rPr b="0" lang="en-US" sz="2800" spc="-1" strike="noStrike">
                <a:solidFill>
                  <a:srgbClr val="010199"/>
                </a:solidFill>
                <a:latin typeface="Courier New"/>
              </a:rPr>
              <a:t>width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he value the user en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rot="16200000">
            <a:off x="4305240" y="2247840"/>
            <a:ext cx="609840" cy="2819520"/>
          </a:xfrm>
          <a:custGeom>
            <a:avLst/>
            <a:gdLst>
              <a:gd name="textAreaLeft" fmla="*/ 0 w 609840"/>
              <a:gd name="textAreaRight" fmla="*/ 220320 w 6098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98640" y="3048120"/>
            <a:ext cx="355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Prompt displayed to us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etting Input from Us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lor = raw_input(“What is your favorite color? ”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83760" y="2590920"/>
            <a:ext cx="541584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&gt; python 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hat is your favorite color? </a:t>
            </a:r>
            <a:r>
              <a:rPr b="0" lang="en-US" sz="2400" spc="-1" strike="noStrike">
                <a:solidFill>
                  <a:srgbClr val="6699ff"/>
                </a:solidFill>
                <a:latin typeface="Arial"/>
              </a:rPr>
              <a:t>bl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ool!  My favorite color is _light_ blue !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920" y="2514600"/>
            <a:ext cx="6476760" cy="1371600"/>
          </a:xfrm>
          <a:prstGeom prst="rect">
            <a:avLst/>
          </a:prstGeom>
          <a:noFill/>
          <a:ln w="3168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21680" y="1981080"/>
            <a:ext cx="15537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cccc"/>
                </a:solidFill>
                <a:latin typeface="Arial"/>
              </a:rPr>
              <a:t>Terminal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rot="5400000">
            <a:off x="4228920" y="2400120"/>
            <a:ext cx="685800" cy="761760"/>
          </a:xfrm>
          <a:custGeom>
            <a:avLst/>
            <a:gdLst>
              <a:gd name="textAreaLeft" fmla="*/ 438120 w 685800"/>
              <a:gd name="textAreaRight" fmla="*/ 686160 w 685800"/>
              <a:gd name="textAreaTop" fmla="*/ 19800 h 761760"/>
              <a:gd name="textAreaBottom" fmla="*/ 741960 h 761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631"/>
                </a:lnTo>
                <a:cubicBezTo>
                  <a:pt x="10800" y="9531"/>
                  <a:pt x="5400" y="10431"/>
                  <a:pt x="0" y="10431"/>
                </a:cubicBezTo>
                <a:cubicBezTo>
                  <a:pt x="5400" y="10431"/>
                  <a:pt x="10800" y="11331"/>
                  <a:pt x="10800" y="1223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03880" y="1752480"/>
            <a:ext cx="40543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Grabs every character up to the user presses “enter”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197800" y="4564080"/>
            <a:ext cx="554796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Assigns variable </a:t>
            </a:r>
            <a:r>
              <a:rPr b="1" lang="en-US" sz="2400" spc="-1" strike="noStrike">
                <a:solidFill>
                  <a:srgbClr val="010199"/>
                </a:solidFill>
                <a:latin typeface="Courier New"/>
              </a:rPr>
              <a:t>color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he user’s 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85280" y="6095880"/>
            <a:ext cx="21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input_demo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 you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isplay the files in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 into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reate a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out 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syntax for the copy command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“abbreviation” for …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cur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parent directory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CS Issu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d summarie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ood English, complete sentenc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chanics detai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ost as </a:t>
            </a:r>
            <a:r>
              <a:rPr b="1" lang="en-US" sz="2800" spc="-1" strike="noStrike">
                <a:solidFill>
                  <a:srgbClr val="00b000"/>
                </a:solidFill>
                <a:latin typeface="Arial"/>
              </a:rPr>
              <a:t>comment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to keep the blog a bit more organiz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ollow instructions on “CS Issues” about what summary should contai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edit your own pos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ay want to write in a word processor and then copy over to blo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knew about MMOGs before reading this articl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may of you participated in this or something similar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many of you read onlin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my PDF version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rinted out the Web page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Four Problems of Cyberspa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28600" y="4572000"/>
            <a:ext cx="2743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Will L.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72200" y="4723920"/>
            <a:ext cx="2743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Laur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Will R.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Matt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429000" y="4724280"/>
            <a:ext cx="1905120" cy="15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Jennifer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Keith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athy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8600" y="1219320"/>
            <a:ext cx="8458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main points (so far)?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very advancement in technology has positive and negative impacts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hat are the positive and negative impacts of email?  Of IM?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view: Linux File System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80880" y="1865160"/>
            <a:ext cx="99072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1865160"/>
            <a:ext cx="914400" cy="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7520" y="144792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/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358280" y="152388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84840" y="1523880"/>
            <a:ext cx="13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stud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096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096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80880" y="1865160"/>
            <a:ext cx="838440" cy="45720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65160"/>
            <a:ext cx="533520" cy="8384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397120" y="15238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635360" y="243828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312960" y="243828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public_htm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56868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565960" y="34290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lab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6800" y="4587840"/>
            <a:ext cx="6328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is a shortname for your home directory, i.e.,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short for </a:t>
            </a:r>
            <a:r>
              <a:rPr b="0" lang="en-US" sz="2400" spc="-1" strike="noStrike">
                <a:solidFill>
                  <a:srgbClr val="020202"/>
                </a:solidFill>
                <a:latin typeface="Courier New"/>
              </a:rPr>
              <a:t>/home/students/yournam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05520" y="1066680"/>
            <a:ext cx="281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ME directory (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~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5105160" y="1905120"/>
            <a:ext cx="99036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1905120"/>
            <a:ext cx="990720" cy="60948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962160" y="2895480"/>
            <a:ext cx="99036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952880" y="2895480"/>
            <a:ext cx="990720" cy="6098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557064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How would you copy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triangle.py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your </a:t>
            </a:r>
            <a:r>
              <a:rPr b="0" lang="en-US" sz="2400" spc="-1" strike="noStrike">
                <a:solidFill>
                  <a:srgbClr val="010199"/>
                </a:solidFill>
                <a:latin typeface="Courier New"/>
              </a:rPr>
              <a:t>public_html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directory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78320" y="39258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triang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428640" y="3809880"/>
            <a:ext cx="304920" cy="152640"/>
          </a:xfrm>
          <a:prstGeom prst="line">
            <a:avLst/>
          </a:prstGeom>
          <a:ln w="38160">
            <a:solidFill>
              <a:srgbClr val="00b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23680" y="217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819520" y="22096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6280" y="3328920"/>
            <a:ext cx="33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*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piled vs. Interpreted Langua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095880" y="4038480"/>
            <a:ext cx="2057400" cy="609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Compil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352680" y="3886200"/>
            <a:ext cx="1600200" cy="9144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267080" y="5562720"/>
            <a:ext cx="1371600" cy="83808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6" idx="3"/>
            <a:endCxn id="115" idx="1"/>
          </p:cNvCxnSpPr>
          <p:nvPr/>
        </p:nvCxnSpPr>
        <p:spPr>
          <a:xfrm>
            <a:off x="4952520" y="434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20" idx="1"/>
            <a:endCxn id="117" idx="3"/>
          </p:cNvCxnSpPr>
          <p:nvPr/>
        </p:nvCxnSpPr>
        <p:spPr>
          <a:xfrm flipH="1">
            <a:off x="5638320" y="5981400"/>
            <a:ext cx="99144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304920" y="3962520"/>
            <a:ext cx="2057400" cy="7617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3"/>
            <a:endCxn id="116" idx="1"/>
          </p:cNvCxnSpPr>
          <p:nvPr/>
        </p:nvCxnSpPr>
        <p:spPr>
          <a:xfrm>
            <a:off x="2361960" y="434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0" name=""/>
          <p:cNvSpPr/>
          <p:nvPr/>
        </p:nvSpPr>
        <p:spPr>
          <a:xfrm>
            <a:off x="6629400" y="5486400"/>
            <a:ext cx="17524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 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Machine 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15" idx="3"/>
            <a:endCxn id="120" idx="3"/>
          </p:cNvCxnSpPr>
          <p:nvPr/>
        </p:nvCxnSpPr>
        <p:spPr>
          <a:xfrm>
            <a:off x="8152920" y="4343040"/>
            <a:ext cx="229320" cy="1639080"/>
          </a:xfrm>
          <a:prstGeom prst="bentConnector3">
            <a:avLst>
              <a:gd name="adj1" fmla="val 200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095880" y="1523880"/>
            <a:ext cx="2057400" cy="68580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1371600"/>
            <a:ext cx="1600200" cy="99072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0" y="2892600"/>
            <a:ext cx="137160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5" idx="3"/>
            <a:endCxn id="124" idx="1"/>
          </p:cNvCxnSpPr>
          <p:nvPr/>
        </p:nvCxnSpPr>
        <p:spPr>
          <a:xfrm>
            <a:off x="4952520" y="1866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8" name=""/>
          <p:cNvCxnSpPr>
            <a:stCxn id="129" idx="0"/>
            <a:endCxn id="124" idx="2"/>
          </p:cNvCxnSpPr>
          <p:nvPr/>
        </p:nvCxnSpPr>
        <p:spPr>
          <a:xfrm flipH="1" flipV="1">
            <a:off x="7124040" y="2208960"/>
            <a:ext cx="57204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0" name=""/>
          <p:cNvSpPr/>
          <p:nvPr/>
        </p:nvSpPr>
        <p:spPr>
          <a:xfrm>
            <a:off x="304920" y="1447920"/>
            <a:ext cx="2057400" cy="83808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  <a:ea typeface="Luxi Sans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1" name=""/>
          <p:cNvCxnSpPr>
            <a:stCxn id="130" idx="3"/>
            <a:endCxn id="125" idx="1"/>
          </p:cNvCxnSpPr>
          <p:nvPr/>
        </p:nvCxnSpPr>
        <p:spPr>
          <a:xfrm>
            <a:off x="2361960" y="186660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34320" y="2892600"/>
            <a:ext cx="1523880" cy="7650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  <a:ea typeface="Luxi Sans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4" idx="3"/>
            <a:endCxn id="129" idx="3"/>
          </p:cNvCxnSpPr>
          <p:nvPr/>
        </p:nvCxnSpPr>
        <p:spPr>
          <a:xfrm>
            <a:off x="8152920" y="1866600"/>
            <a:ext cx="305640" cy="1408680"/>
          </a:xfrm>
          <a:prstGeom prst="bentConnector3">
            <a:avLst>
              <a:gd name="adj1" fmla="val 175000"/>
            </a:avLst>
          </a:prstGeom>
          <a:ln w="442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4" idx="2"/>
            <a:endCxn id="126" idx="0"/>
          </p:cNvCxnSpPr>
          <p:nvPr/>
        </p:nvCxnSpPr>
        <p:spPr>
          <a:xfrm flipH="1">
            <a:off x="5257440" y="2209320"/>
            <a:ext cx="1867680" cy="6836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>
            <a:off x="4952880" y="198108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0280" y="3505320"/>
            <a:ext cx="16711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Compil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8080" y="990720"/>
            <a:ext cx="2891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20202"/>
                </a:solidFill>
                <a:latin typeface="Arial"/>
              </a:rPr>
              <a:t>Purely Interpreted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560560" y="4724280"/>
            <a:ext cx="30380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Validates </a:t>
            </a:r>
            <a:r>
              <a:rPr b="1" lang="en-US" sz="2000" spc="-1" strike="noStrike">
                <a:solidFill>
                  <a:srgbClr val="00b000"/>
                </a:solidFill>
                <a:latin typeface="Arial"/>
              </a:rPr>
              <a:t>whole</a:t>
            </a:r>
            <a:r>
              <a:rPr b="0" lang="en-US" sz="2000" spc="-1" strike="noStrike">
                <a:solidFill>
                  <a:srgbClr val="00b000"/>
                </a:solidFill>
                <a:latin typeface="Arial"/>
              </a:rPr>
              <a:t> program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2360" y="2692440"/>
            <a:ext cx="31708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immediate feedback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9040" y="5257800"/>
            <a:ext cx="26618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00"/>
                </a:solidFill>
                <a:latin typeface="Arial"/>
              </a:rPr>
              <a:t>+ execution speed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’s Implement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ation of compiled and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active mode: interpret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alidate, execute each lin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ython “interpreter” in script mode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mpiles Python script into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byte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uns Python Virtual Machine that interprets the bytecode and execut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ocumenting Your Co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English to describe what your program is doing in </a:t>
            </a:r>
            <a:r>
              <a:rPr b="1" lang="en-US" sz="3200" spc="-1" strike="noStrike">
                <a:solidFill>
                  <a:srgbClr val="33cccc"/>
                </a:solidFill>
                <a:latin typeface="Arial"/>
              </a:rPr>
              <a:t>commen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verything after a </a:t>
            </a:r>
            <a:r>
              <a:rPr b="1" lang="en-US" sz="2800" spc="-1" strike="noStrike">
                <a:solidFill>
                  <a:srgbClr val="33cccc"/>
                </a:solidFill>
                <a:latin typeface="Arial"/>
              </a:rPr>
              <a:t>#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s a commen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3760" indent="-285840">
              <a:lnSpc>
                <a:spcPct val="92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Color-coded in IDLE, jEdit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ython does not execute comm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es not affect the correctness of your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mproves program’s </a:t>
            </a: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readabilit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sier for someone else to read and update your cod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en to Use Com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cument the author, high-level description of the program at the top of the pro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vide an outline of an algorith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2000" indent="-334800">
              <a:lnSpc>
                <a:spcPct val="9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eparates the steps of the algorithm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1280" indent="-341280">
              <a:lnSpc>
                <a:spcPct val="9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scribe difficult-to-understand cod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824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2017b8"/>
                </a:solidFill>
                <a:latin typeface="Tahoma"/>
              </a:rPr>
              <a:t>Err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8240" cy="522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Sometimes the program doesn’t work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Arial"/>
              </a:rPr>
              <a:t>Types of programming erro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Syntax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Interpreter shows where the problem i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Logic/semantic err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+3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The </a:t>
            </a:r>
            <a:r>
              <a:rPr b="0" lang="en-GB" sz="2600" spc="-1" strike="noStrike">
                <a:solidFill>
                  <a:srgbClr val="dc0202"/>
                </a:solidFill>
                <a:latin typeface="Arial"/>
              </a:rPr>
              <a:t>anser</a:t>
            </a: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 is “ 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84080" indent="-3312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Arial"/>
              </a:rPr>
              <a:t>Exceptions/Runtime erro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answer = 2/0;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81520" indent="-28296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600" spc="-1" strike="noStrike">
                <a:solidFill>
                  <a:srgbClr val="020202"/>
                </a:solidFill>
                <a:latin typeface="Arial"/>
              </a:rPr>
              <a:t>Undefined variable nam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marL="337680" indent="-3376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b000"/>
                </a:solidFill>
                <a:latin typeface="Arial"/>
              </a:rPr>
              <a:t>Expose when </a:t>
            </a:r>
            <a:r>
              <a:rPr b="1" lang="en-US" sz="3200" spc="-1" strike="noStrike">
                <a:solidFill>
                  <a:srgbClr val="00b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F92-4A52-4D9A-A77C-639A82913C92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1143000"/>
            <a:ext cx="1752840" cy="762120"/>
          </a:xfrm>
          <a:prstGeom prst="rect">
            <a:avLst/>
          </a:prstGeom>
          <a:solidFill>
            <a:srgbClr val="fedc0f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1143000"/>
            <a:ext cx="1676520" cy="762120"/>
          </a:xfrm>
          <a:prstGeom prst="rect">
            <a:avLst/>
          </a:prstGeom>
          <a:solidFill>
            <a:srgbClr val="33cccc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ogra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30800" y="1152360"/>
            <a:ext cx="1946520" cy="752760"/>
          </a:xfrm>
          <a:prstGeom prst="rect">
            <a:avLst/>
          </a:prstGeom>
          <a:solidFill>
            <a:srgbClr val="de6c70"/>
          </a:solidFill>
          <a:ln w="158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029200" y="1295280"/>
            <a:ext cx="1219320" cy="533520"/>
          </a:xfrm>
          <a:prstGeom prst="rightArrow">
            <a:avLst>
              <a:gd name="adj1" fmla="val 50000"/>
              <a:gd name="adj2" fmla="val 57136"/>
            </a:avLst>
          </a:prstGeom>
          <a:gradFill rotWithShape="0">
            <a:gsLst>
              <a:gs pos="0">
                <a:srgbClr val="000099"/>
              </a:gs>
              <a:gs pos="100000">
                <a:srgbClr val="33cccc"/>
              </a:gs>
            </a:gsLst>
            <a:lin ang="10800000"/>
          </a:gra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33520" y="192096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17b8"/>
                </a:solidFill>
                <a:latin typeface="Arial"/>
              </a:rPr>
              <a:t>Test Ca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52280" y="2514600"/>
            <a:ext cx="86108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 case: input used to test the program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erify if </a:t>
            </a:r>
            <a:r>
              <a:rPr b="0" lang="en-US" sz="3200" spc="-1" strike="noStrike">
                <a:solidFill>
                  <a:srgbClr val="d7556d"/>
                </a:solidFill>
                <a:latin typeface="Arial"/>
              </a:rPr>
              <a:t>output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is what you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expected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</a:t>
            </a:r>
            <a:r>
              <a:rPr b="1" i="1" lang="en-US" sz="3200" spc="-1" strike="noStrike">
                <a:solidFill>
                  <a:srgbClr val="00b000"/>
                </a:solidFill>
                <a:latin typeface="Arial"/>
              </a:rPr>
              <a:t>goo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test case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o help determine if program is correc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ester plays devil’s advocat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ant to expos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ll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bugs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 lvl="1" marL="640800" indent="-2152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 before customer/professor!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2T18:16:22Z</dcterms:created>
  <dc:creator>Sara Sprenkle</dc:creator>
  <dc:description/>
  <dc:language>en-US</dc:language>
  <cp:lastModifiedBy>Sara Sprenkle</cp:lastModifiedBy>
  <dcterms:modified xsi:type="dcterms:W3CDTF">2007-09-15T16:08:20Z</dcterms:modified>
  <cp:revision>313</cp:revision>
  <dc:subject/>
  <dc:title>PowerPoint Presentation</dc:title>
</cp:coreProperties>
</file>