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802-92B7-458D-8E80-68AD976E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9C9-B5E7-4A6B-8A93-C67BD91B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98E-2AD8-44BC-8026-4AAD74CE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CF5-A132-4D1D-8F58-2CFC54EC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ED211-DE2A-4429-87FF-FFB188E1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70F00-50EF-4995-9636-081ADE07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B6169-5D57-41B6-8400-BFB8E0C6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9AB1B-59F1-47E5-8902-77AE5159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A91D2-9F98-45EA-975D-C6698E35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51FA-836C-4F2A-B9D4-476DDBAC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03D4F-1E69-4D93-85B6-70F5E936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649-CE66-445B-8C20-113BD558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8C211-55F2-407F-9FD9-1405EACA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436AA-2ADA-4764-9071-4A39EC3E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0A31D-F785-4238-B201-B801B473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52893-7EFE-4C97-85D1-1A9BA2FD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4AC67-4B38-4711-A795-D0721836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CD8-5CAD-411E-9643-245F105D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797-8CE7-49C0-A880-DBAE1A7A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0B2-901C-4958-8A5D-675EC12B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445-344A-4EC2-8447-D272A6A5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51F-B3E9-423C-AE61-FD4C2B9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925-7E80-4CFA-80BD-E0EBCE0B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A1A-10E5-4D46-80B4-9D521E8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EA23-344F-4153-9BE5-576AB03B927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AB5B-AD7E-4C22-8288-4F5FE6920CE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se end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/improving docu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parameter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142-D985-4857-B8B5-E64A26AF08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pecial Value: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ecial value we can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.g., Return value from function when there is an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nul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Jav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= list.sort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s None because list.sort() doe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return any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BF7-B0A7-44B0-B38E-72C1B43909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 file of the fo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lastname&gt; &lt;major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mapping between the last names and maj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2960" y="6248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32C-30CF-4DA7-A8DD-0FC795C31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the previous program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uld we solve this using a lis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63244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95E-CA41-47E2-948E-489B5EA2E5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Docu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di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function that returns a list of methods and attributes in an objec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get docum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Python she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&lt;module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modulenam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2F9-E5EC-45B3-91CB-85C938ED64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is Documentation Coming From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es from the code itself in “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doc string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“documentation string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 strings are simply string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use triple-quoted strings because documentation goes across several l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800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verse(animal, sound)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“””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s a verse of Old MacDonald, filling in the strings for animal and sound “””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F2C-82D7-40DF-8528-E82D1E0E7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faults for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w with the xrang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have to specify start or increment when calling the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start to 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increment to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assign a default value to a parame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general, default parameter should come after all the parameters that need to be defin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77D-E088-4AEB-88CA-574502A652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ault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 the rollDie function could assume that a die has 6 si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320184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rollDie(sides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=6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random.randint(1,side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2789280"/>
            <a:ext cx="76212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680" y="22860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signs a valu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NLY 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passed a paramet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240" y="464832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Examples of calling the function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8800" y="51055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6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1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62485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am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8BB-BDA6-4746-9634-9058343C86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wist: Not every student has a major (don’t declare until sophomore yea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1FF-3EDC-4ED2-BC29-9E8015F486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, revise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ents can have more than one maj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uld count these separatel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odify the previous program to do tha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455-9718-4414-914C-D78C0EC623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1CB-EF9A-4391-BF0C-CF9E7FA435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key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not necessarily alphabet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s are from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key to one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r mor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are </a:t>
            </a:r>
            <a:r>
              <a:rPr b="1" i="1" lang="en-US" sz="2600" spc="-1" strike="noStrike">
                <a:solidFill>
                  <a:srgbClr val="020202"/>
                </a:solidFill>
                <a:latin typeface="Arial"/>
              </a:rPr>
              <a:t>uniqu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, Values are not necessarily uniqu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xample: student ids --&gt; last nam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must be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mmutabl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(numbers, strings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Hashtables/Hashmap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88080"/>
            <a:ext cx="88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ow would we handle if there is more than one value for a ke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ABB-FF28-492F-9406-3CE9BE5DF3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ictionari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ful for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a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k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okup by keywo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look through entire list or sort list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804-CD6D-4B92-99F5-DAA010F416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from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 name --&gt; function defin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 name --&gt;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CII value --&gt;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C8F-2013-41E3-A4E9-6A42393047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433-7489-44FA-82EF-E9910146C0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8C7-B0DE-43D2-83B0-8B6467FDB7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ng/Modify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3B9-B795-46D7-8478-E518081E67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397160"/>
          <a:ext cx="6858000" cy="2903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dict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key&gt; in &lt;dict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key&gt; in &lt;dict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 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4932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Unlike strings and lists, doesn’t make sense to do slicing, concatenation, repetition for dictionarie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09C-FC85-4908-814D-631AD6624E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397160"/>
          <a:ext cx="8458200" cy="326376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clea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ove all items from dictionar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key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keys 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value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values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get(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</a:t>
                      </a:r>
                      <a:r>
                        <a:rPr b="0" i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fault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&lt;dict&gt;[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 if 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a key; Otherwise, returns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(or default value)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A89-E5A7-48A4-9E75-C332325D50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5:41Z</cp:lastPrinted>
  <dcterms:modified xsi:type="dcterms:W3CDTF">2007-10-24T01:38:19Z</dcterms:modified>
  <cp:revision>2268</cp:revision>
  <dc:subject/>
  <dc:title>PowerPoint Presentation</dc:title>
</cp:coreProperties>
</file>