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018-C0A7-4AD7-9C17-6C9988FC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537-BE69-48E1-97BF-774158F9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B3D-5521-4BDF-AEB1-D83249EC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6C0-7BB7-472E-BDE7-66ED4D0C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360DF-D5E6-4FC0-B612-EFC4B2C6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7A95A-82BC-4056-8389-B37087BF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A7856-EA7E-41FB-BCAE-7F4211C1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9BDC0-F384-43AB-87EC-3BB6BE27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2E484-94EF-44B3-AAC2-C0BEFDC8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D688F-5797-46A5-9A83-C5019403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38261-8395-44C1-9A9F-1C2B89C3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4C0-444E-4442-9F4E-BB3D108E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BA0D8-EF00-4FE7-BE7C-0FE021EF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5C3D5-4BD3-41BC-8ADA-D7393F23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6C2DB-686F-4E34-BB9C-9330714F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C4B74-B048-4AB1-A354-2F5AD6E6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68307-3EAC-46F2-98DE-BAAE6C7C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F9C-E89E-4EB8-8AC2-C0FCEF58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6FC-BD43-4C7B-8B5E-4CFCF810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E39-5F3F-4D9C-8CF9-EA6728D8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44A-EC33-46FF-8F4D-FE6A6836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DF1-FED1-474A-AE37-CA0479F1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0E6-6B72-448E-B1C1-5A5E77E1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A96-452D-4A29-8B86-056EE4EB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3D24-C789-4230-95F1-E6A284EDCF6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B08C-DF32-4E69-947E-E2883310930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i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B7C-0F17-4F87-A0D5-C7BF9CFC03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2880" y="312408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range(15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s a list of size 15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0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1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x] = newfi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num in fibs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each num on sep lin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75120" y="6321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31320" y="1914480"/>
            <a:ext cx="39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ilar to xrang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n use same parame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2286000"/>
            <a:ext cx="137160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E29-E67F-42AF-8A3D-7B94E1BBA3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Arra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ly, lists are similar to array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imilar to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Vector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C++ and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ArrayLis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Jav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, arrays hav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ength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insert and remove elements from arrays so that the length of the array chan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make the array as big as you’ll think you’ll ne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DDD-7ADB-4FC6-AC0B-998151B3DB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 ar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immu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be mutat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, can’t be modified/chang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sts can be chang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table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8680" y="396252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=[“milk”, “eggs”, “bread”, “Doritos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4080" y="447192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0] = “skim milk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3] = “popcorn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6264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 is now [“skim milk”, “eggs”, “bread”, “popcorn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84F-19B2-4603-9F30-10E15C53FA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pie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following code outpu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[1, 2, 3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[0] = 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B77-0628-4730-AF44-E1DDFD7DD7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Identifiers are Poin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 is not a copy of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ints to what x points t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to make a copy of 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 +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: y=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y.extend(x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00400" y="1806480"/>
          <a:ext cx="3505320" cy="5173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18280" y="16002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2720" y="24717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06480"/>
            <a:ext cx="1828800" cy="2286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2263680"/>
            <a:ext cx="167652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5D7-88E0-458C-9193-17A7DA3A75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as Parameters to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modify a list passed as a parameter into a function, the list is modified outsid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s a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assed-by-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fferent from immutable types (e.g., numbers, string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rameter is actually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poin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the list in memory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AE6-A779-43F3-88C5-007122A25E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ort a list of 3 numbers, in descending ord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ith list method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we do this using only three comparison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00" y="3222720"/>
            <a:ext cx="66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# order list such that list[0] &gt;= list[1] &gt;= list[2]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descendSort3Nums( list3 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5720" y="6278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4602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lled a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5211720"/>
            <a:ext cx="35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3Nums(list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53D-5C94-40A3-B0D1-82983928F2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Does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in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Work for List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x in groceries, where groceries is a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element in list, checks if element equals (==)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worst case, how many elements does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to chec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improve the search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71A-D55E-4BA0-8F4C-242B582E73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earch Improv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rt the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helps search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63960" y="62452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i-Low g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540-D671-427F-BB67-DD1B411F50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aster Look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I wanted to know the Registrar’s phone number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ould I search through an alphabetized list of phone number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, I would look up the Registrar and find the phone numb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ssociate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with the Registr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ype of data structure is known as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dictionar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s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83D-EAC2-4556-9C81-56A54B6500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Sequences of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ommonly group a sequence of data together and refer to them by one na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 of the week: Sunday, Monday, Tuesday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nths of the year: January, February, March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pping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represent this data as a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arrays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other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A28-3747-4E14-ADD0-30E5E96A3D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CLASS ANSWERS: variable names --&gt; values, function names --&gt; function definitions, ascii value --&gt; character, character --&gt; ascii value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BF9-4083-4C2F-8AB4-893A463698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eys are not necessarily alphabetiz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pings are from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key to one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r mor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uniqu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Values are not necessarily uniq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61A-D978-4593-A8B6-D05D1CCBAF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259-3802-4B05-BF5A-9E93C9042E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101-EABB-4B52-B61F-4202CA56F5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ert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996-B946-4C6E-A5FB-B9E561EA4B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56383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cience &amp; Engineering: near 5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26684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6684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5B8-4628-4BA7-9BE2-2C3949341B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8DA-77E0-480C-91C4-0110B0D4E0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2001, S&amp;E: 11% full, 22% assoc, 36% ass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S: 8%, 13%, 14%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1143000"/>
          <a:ext cx="7238880" cy="44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F4C-5579-4511-9EAF-9133E4FF37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 related item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ame with a single variable name instead of creating many separate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.g., sunday = “Sun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has an </a:t>
            </a:r>
            <a:r>
              <a:rPr b="0" i="1" lang="en-US" sz="2800" spc="-1" strike="noStrike">
                <a:solidFill>
                  <a:srgbClr val="00c6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venient for dealing with large amounts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could keep all the temperature data in a list if needed to reuse la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and methods for handling, manipulat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A32-EEA6-4DD3-94CD-FE80891F37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: A Closer Loo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&lt;listname&gt;[&lt;int_expr&gt;]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accessing characters in a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-1] is “Sat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0] is “Sun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43000" y="1803240"/>
          <a:ext cx="7620120" cy="1015920"/>
        </p:xfrm>
        <a:graphic>
          <a:graphicData uri="http://schemas.openxmlformats.org/drawingml/2006/table">
            <a:tbl>
              <a:tblPr/>
              <a:tblGrid>
                <a:gridCol w="1089000"/>
                <a:gridCol w="1087560"/>
                <a:gridCol w="1089000"/>
                <a:gridCol w="1154160"/>
                <a:gridCol w="1023840"/>
                <a:gridCol w="1087560"/>
                <a:gridCol w="1089000"/>
              </a:tblGrid>
              <a:tr h="52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o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ue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d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hu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ri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87480" y="11397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2905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osition/index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371600"/>
            <a:ext cx="53316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2895120"/>
            <a:ext cx="914400" cy="3812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en(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InWeek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) is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7680" y="1219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aysInWee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4A9-9023-44A3-A2E6-E35C9B4054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+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eti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* &lt;int-expr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&lt;int-expr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seq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lic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: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var&gt; in &lt;seq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expr&gt; in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87560" y="577044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imilar to operations for string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5BE-CA78-4099-B916-FD094B20B0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L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very element in the list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quivalent t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6000" y="3317760"/>
            <a:ext cx="27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tem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st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item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9960" y="23162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 item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8200" y="22860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62520" y="2666880"/>
            <a:ext cx="76176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51080" y="2895480"/>
            <a:ext cx="45720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1760" y="5146560"/>
            <a:ext cx="419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range(len(list))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st[x]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5114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819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3000" y="62784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OfWeek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4D8-CC1C-4B53-B074-18B52CAFCB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embershi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heck if a list contains an elem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Example problem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rolledstudents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is a list of students who are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ant to check if a student who attends the class is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If have a list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attendingstudents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, check if each attending student is an enrolled stud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71080" y="396252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student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enrolledstudents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udent, “is not enrolled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35B-9CE3-414C-8357-B00D09FF37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417680"/>
          <a:ext cx="8305920" cy="4865760"/>
        </p:xfrm>
        <a:graphic>
          <a:graphicData uri="http://schemas.openxmlformats.org/drawingml/2006/table">
            <a:tbl>
              <a:tblPr/>
              <a:tblGrid>
                <a:gridCol w="2819520"/>
                <a:gridCol w="5486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append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 elemen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the e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sort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ort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vers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verse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dex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index of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Error i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not in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ser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ser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to list at index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coun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number of occurrences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move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pop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h element of the list and returns its valu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015-3447-4AE5-A921-AE761C8022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480" y="3200400"/>
            <a:ext cx="798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[]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 an empty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append the first two Fib numb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6)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ompute the next 13 nu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newfib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fib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out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31000" y="63244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53A-7C54-40A7-AB8C-9A59922F7C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1:06Z</cp:lastPrinted>
  <dcterms:modified xsi:type="dcterms:W3CDTF">2007-10-22T19:51:30Z</dcterms:modified>
  <cp:revision>2147</cp:revision>
  <dc:subject/>
  <dc:title>PowerPoint Presentation</dc:title>
</cp:coreProperties>
</file>