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8C51-F483-40D2-BDED-CA2082BF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CCBF-7D37-4083-8015-19D257593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0B9E-4F88-43F8-AD5A-C7F75808C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EDB0-B1E5-4B52-9A7F-D95B241D3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25912B-EC9E-42CD-BE84-740993DE8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F61D9E-32FF-4BB7-BA36-07732125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D4957C-3153-4897-BC6B-CBCAC7859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28CC4E-1DFB-4C1F-BA70-B0CB3F55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6BBD94-42EF-4990-9BE2-F5072419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D9BB5C-42C8-4FC8-87AE-DC6F8AD85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D5C0D6-5EF3-4597-A0B4-17FB8ED78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C5FA-C8EF-4F99-9DAD-C09FE15FA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5BF6D-538A-468A-9510-7B19345D8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EA5129-55AF-435A-A535-0DA57360B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460FC2-51F6-4CA0-BC85-6F6ECA06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70D66-B88B-4AC3-8915-725DDC2D5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DA9014-CDC9-4590-A16F-2D85DAD4C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4FF-4927-4D46-975F-2ADB92DF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5F4D-E0B3-451A-8148-351AABD771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28BF-2544-4BE1-8172-E07E6421F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FE43-91F0-4CED-96F4-13D50C3A8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EFD1-BBF7-4C7F-B4BB-3D1BFEF4F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40AF-8C4F-4E6A-9C7B-4555690E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9812-1081-44A5-8B28-132F354D5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9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E58E9-263D-4EED-A809-7A37605E2AA2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0C81-3864-432C-9E32-0633187F59C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s 1, 2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137160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g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22096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3" idx="2"/>
            <a:endCxn id="84" idx="0"/>
          </p:cNvCxnSpPr>
          <p:nvPr/>
        </p:nvCxnSpPr>
        <p:spPr>
          <a:xfrm flipH="1">
            <a:off x="1028520" y="1828800"/>
            <a:ext cx="876600" cy="38124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4" idx="2"/>
            <a:endCxn id="87" idx="0"/>
          </p:cNvCxnSpPr>
          <p:nvPr/>
        </p:nvCxnSpPr>
        <p:spPr>
          <a:xfrm>
            <a:off x="1028520" y="2666880"/>
            <a:ext cx="952920" cy="381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520920" y="18414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6080" y="11430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3" idx="2"/>
            <a:endCxn id="87" idx="0"/>
          </p:cNvCxnSpPr>
          <p:nvPr/>
        </p:nvCxnSpPr>
        <p:spPr>
          <a:xfrm flipH="1" rot="16200000">
            <a:off x="1333440" y="2400120"/>
            <a:ext cx="1219680" cy="76680"/>
          </a:xfrm>
          <a:prstGeom prst="curvedConnector3">
            <a:avLst>
              <a:gd name="adj1" fmla="val 25036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90720" y="304812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g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4920" y="579132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2"/>
            <a:endCxn id="91" idx="0"/>
          </p:cNvCxnSpPr>
          <p:nvPr/>
        </p:nvCxnSpPr>
        <p:spPr>
          <a:xfrm flipH="1">
            <a:off x="1104840" y="5257800"/>
            <a:ext cx="876600" cy="5338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91" idx="2"/>
          </p:cNvCxnSpPr>
          <p:nvPr/>
        </p:nvCxnSpPr>
        <p:spPr>
          <a:xfrm>
            <a:off x="1104840" y="6248520"/>
            <a:ext cx="991440" cy="3690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711360" y="52578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3" idx="2"/>
          </p:cNvCxnSpPr>
          <p:nvPr/>
        </p:nvCxnSpPr>
        <p:spPr>
          <a:xfrm flipH="1" rot="16200000">
            <a:off x="1352520" y="5886000"/>
            <a:ext cx="1371960" cy="115200"/>
          </a:xfrm>
          <a:prstGeom prst="curvedConnector3">
            <a:avLst>
              <a:gd name="adj1" fmla="val 25721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990720" y="480060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==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04920" y="394956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7" idx="2"/>
            <a:endCxn id="97" idx="0"/>
          </p:cNvCxnSpPr>
          <p:nvPr/>
        </p:nvCxnSpPr>
        <p:spPr>
          <a:xfrm flipH="1">
            <a:off x="1104840" y="3505320"/>
            <a:ext cx="876600" cy="444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7" idx="2"/>
            <a:endCxn id="93" idx="0"/>
          </p:cNvCxnSpPr>
          <p:nvPr/>
        </p:nvCxnSpPr>
        <p:spPr>
          <a:xfrm>
            <a:off x="1104840" y="4406760"/>
            <a:ext cx="876600" cy="3942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597240" y="358128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7" idx="2"/>
            <a:endCxn id="93" idx="0"/>
          </p:cNvCxnSpPr>
          <p:nvPr/>
        </p:nvCxnSpPr>
        <p:spPr>
          <a:xfrm rot="16200000">
            <a:off x="1333440" y="4152960"/>
            <a:ext cx="1295640" cy="360"/>
          </a:xfrm>
          <a:prstGeom prst="curvedConnector2">
            <a:avLst/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6095880" y="129528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g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2860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2"/>
            <a:endCxn id="103" idx="0"/>
          </p:cNvCxnSpPr>
          <p:nvPr/>
        </p:nvCxnSpPr>
        <p:spPr>
          <a:xfrm flipH="1">
            <a:off x="5371920" y="1752480"/>
            <a:ext cx="1715040" cy="5338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3" idx="2"/>
            <a:endCxn id="106" idx="0"/>
          </p:cNvCxnSpPr>
          <p:nvPr/>
        </p:nvCxnSpPr>
        <p:spPr>
          <a:xfrm>
            <a:off x="5371920" y="2743200"/>
            <a:ext cx="1752840" cy="198144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5702400" y="17654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07560" y="10666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2" idx="2"/>
            <a:endCxn id="110" idx="0"/>
          </p:cNvCxnSpPr>
          <p:nvPr/>
        </p:nvCxnSpPr>
        <p:spPr>
          <a:xfrm flipH="1" rot="16200000">
            <a:off x="7353360" y="1485720"/>
            <a:ext cx="381600" cy="914760"/>
          </a:xfrm>
          <a:prstGeom prst="curvedConnector3">
            <a:avLst>
              <a:gd name="adj1" fmla="val 25118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7010280" y="21337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g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772400" y="31240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11" idx="2"/>
            <a:endCxn id="106" idx="0"/>
          </p:cNvCxnSpPr>
          <p:nvPr/>
        </p:nvCxnSpPr>
        <p:spPr>
          <a:xfrm flipH="1">
            <a:off x="7124400" y="3581280"/>
            <a:ext cx="1219680" cy="114336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6248520" y="31240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0" idx="2"/>
            <a:endCxn id="113" idx="0"/>
          </p:cNvCxnSpPr>
          <p:nvPr/>
        </p:nvCxnSpPr>
        <p:spPr>
          <a:xfrm flipH="1">
            <a:off x="6896160" y="2590920"/>
            <a:ext cx="1105200" cy="53352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2"/>
            <a:endCxn id="106" idx="0"/>
          </p:cNvCxnSpPr>
          <p:nvPr/>
        </p:nvCxnSpPr>
        <p:spPr>
          <a:xfrm>
            <a:off x="6896160" y="3581280"/>
            <a:ext cx="228600" cy="114336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6502680" y="26035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0" idx="2"/>
          </p:cNvCxnSpPr>
          <p:nvPr/>
        </p:nvCxnSpPr>
        <p:spPr>
          <a:xfrm flipH="1" rot="16200000">
            <a:off x="7911720" y="2679840"/>
            <a:ext cx="520920" cy="342720"/>
          </a:xfrm>
          <a:prstGeom prst="curvedConnector3">
            <a:avLst>
              <a:gd name="adj1" fmla="val 26901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6324480" y="47242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036320" y="5635800"/>
            <a:ext cx="478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nsider case num1=5, num2=3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AD82-DBB4-4874-A554-9B0E442642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 2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095880" y="129528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&lt;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0" y="22860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2"/>
            <a:endCxn id="121" idx="0"/>
          </p:cNvCxnSpPr>
          <p:nvPr/>
        </p:nvCxnSpPr>
        <p:spPr>
          <a:xfrm flipH="1">
            <a:off x="5371920" y="1765080"/>
            <a:ext cx="171504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2"/>
            <a:endCxn id="124" idx="0"/>
          </p:cNvCxnSpPr>
          <p:nvPr/>
        </p:nvCxnSpPr>
        <p:spPr>
          <a:xfrm>
            <a:off x="5372280" y="2755440"/>
            <a:ext cx="1753200" cy="1956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5702400" y="17654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0" idx="2"/>
            <a:endCxn id="127" idx="0"/>
          </p:cNvCxnSpPr>
          <p:nvPr/>
        </p:nvCxnSpPr>
        <p:spPr>
          <a:xfrm flipH="1" rot="16200000">
            <a:off x="7365960" y="1485360"/>
            <a:ext cx="35604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7010280" y="21337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l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72400" y="31240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8" idx="2"/>
            <a:endCxn id="124" idx="0"/>
          </p:cNvCxnSpPr>
          <p:nvPr/>
        </p:nvCxnSpPr>
        <p:spPr>
          <a:xfrm flipH="1">
            <a:off x="7124040" y="3594240"/>
            <a:ext cx="122004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6248520" y="31240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30" idx="0"/>
          </p:cNvCxnSpPr>
          <p:nvPr/>
        </p:nvCxnSpPr>
        <p:spPr>
          <a:xfrm flipH="1">
            <a:off x="6895440" y="2603160"/>
            <a:ext cx="110556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30" idx="2"/>
            <a:endCxn id="124" idx="0"/>
          </p:cNvCxnSpPr>
          <p:nvPr/>
        </p:nvCxnSpPr>
        <p:spPr>
          <a:xfrm>
            <a:off x="6895800" y="3594240"/>
            <a:ext cx="22932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>
            <a:off x="6502680" y="26035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4" name=""/>
          <p:cNvCxnSpPr>
            <a:stCxn id="127" idx="2"/>
          </p:cNvCxnSpPr>
          <p:nvPr/>
        </p:nvCxnSpPr>
        <p:spPr>
          <a:xfrm flipH="1" rot="16200000">
            <a:off x="7917480" y="2685600"/>
            <a:ext cx="508680" cy="343800"/>
          </a:xfrm>
          <a:prstGeom prst="curvedConnector5">
            <a:avLst>
              <a:gd name="adj1" fmla="val 48725"/>
              <a:gd name="adj2" fmla="val 50000"/>
              <a:gd name="adj3" fmla="val 48725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324480" y="47242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676520" y="220968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1 == num2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320040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i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2"/>
            <a:endCxn id="136" idx="0"/>
          </p:cNvCxnSpPr>
          <p:nvPr/>
        </p:nvCxnSpPr>
        <p:spPr>
          <a:xfrm flipH="1">
            <a:off x="952200" y="2679480"/>
            <a:ext cx="171504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8" name=""/>
          <p:cNvCxnSpPr>
            <a:stCxn id="136" idx="2"/>
            <a:endCxn id="139" idx="0"/>
          </p:cNvCxnSpPr>
          <p:nvPr/>
        </p:nvCxnSpPr>
        <p:spPr>
          <a:xfrm>
            <a:off x="952560" y="3669840"/>
            <a:ext cx="1753200" cy="19566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1283040" y="26798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1" name=""/>
          <p:cNvCxnSpPr>
            <a:stCxn id="135" idx="2"/>
            <a:endCxn id="142" idx="0"/>
          </p:cNvCxnSpPr>
          <p:nvPr/>
        </p:nvCxnSpPr>
        <p:spPr>
          <a:xfrm flipH="1" rot="16200000">
            <a:off x="2946240" y="2399760"/>
            <a:ext cx="356040" cy="915120"/>
          </a:xfrm>
          <a:prstGeom prst="curvedConnector5">
            <a:avLst>
              <a:gd name="adj1" fmla="val 50000"/>
              <a:gd name="adj2" fmla="val 49980"/>
              <a:gd name="adj3" fmla="val 50000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2590920" y="304812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2 &lt; num1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038480"/>
            <a:ext cx="11430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1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4" name=""/>
          <p:cNvCxnSpPr>
            <a:stCxn id="143" idx="2"/>
            <a:endCxn id="139" idx="0"/>
          </p:cNvCxnSpPr>
          <p:nvPr/>
        </p:nvCxnSpPr>
        <p:spPr>
          <a:xfrm flipH="1">
            <a:off x="2704320" y="4508640"/>
            <a:ext cx="122004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5" name=""/>
          <p:cNvSpPr/>
          <p:nvPr/>
        </p:nvSpPr>
        <p:spPr>
          <a:xfrm>
            <a:off x="1828800" y="4038480"/>
            <a:ext cx="12952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2 win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6" name=""/>
          <p:cNvCxnSpPr>
            <a:stCxn id="142" idx="2"/>
            <a:endCxn id="145" idx="0"/>
          </p:cNvCxnSpPr>
          <p:nvPr/>
        </p:nvCxnSpPr>
        <p:spPr>
          <a:xfrm flipH="1">
            <a:off x="2475720" y="3517560"/>
            <a:ext cx="1105560" cy="50868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45" idx="2"/>
            <a:endCxn id="139" idx="0"/>
          </p:cNvCxnSpPr>
          <p:nvPr/>
        </p:nvCxnSpPr>
        <p:spPr>
          <a:xfrm>
            <a:off x="2476080" y="4508640"/>
            <a:ext cx="229320" cy="1117800"/>
          </a:xfrm>
          <a:prstGeom prst="straightConnector1">
            <a:avLst/>
          </a:prstGeom>
          <a:ln w="255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8" name=""/>
          <p:cNvSpPr/>
          <p:nvPr/>
        </p:nvSpPr>
        <p:spPr>
          <a:xfrm>
            <a:off x="2082960" y="3517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2" idx="2"/>
          </p:cNvCxnSpPr>
          <p:nvPr/>
        </p:nvCxnSpPr>
        <p:spPr>
          <a:xfrm flipH="1" rot="16200000">
            <a:off x="3497760" y="3600000"/>
            <a:ext cx="508680" cy="343800"/>
          </a:xfrm>
          <a:prstGeom prst="curvedConnector5">
            <a:avLst>
              <a:gd name="adj1" fmla="val 48725"/>
              <a:gd name="adj2" fmla="val 50000"/>
              <a:gd name="adj3" fmla="val 48725"/>
            </a:avLst>
          </a:prstGeom>
          <a:ln w="3816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39" name=""/>
          <p:cNvSpPr/>
          <p:nvPr/>
        </p:nvSpPr>
        <p:spPr>
          <a:xfrm>
            <a:off x="1905120" y="56386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En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5080" y="1139760"/>
            <a:ext cx="497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ch tends to be more efficien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182B-B05F-4749-91B6-50C7E4DE525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MI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bably better to compute as a float and then round to nearest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you do tha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elegant if/else condit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840" y="3581280"/>
            <a:ext cx="3278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bmi &lt; 19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bel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if bmi &gt; 25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abov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in rang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10320" y="4175280"/>
            <a:ext cx="4042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bmi &gt;= 19 and bmi &lt;=25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in rang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if bmi &gt; 25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above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bel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419720" y="3654360"/>
            <a:ext cx="25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As  opposed to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7880" y="6093000"/>
            <a:ext cx="26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Both are corr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F60E0-6306-47A1-94A8-41CFC18B44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fficiency and Elega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art thinking more about efficiency and elegance when writing program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variable names, good comments, good spac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4CE-F047-40FB-997E-15A04F69F7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urn in before end of cla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0950-2B01-4CED-AAF0-BB769962A74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09-27T16:51:22Z</cp:lastPrinted>
  <dcterms:modified xsi:type="dcterms:W3CDTF">2007-10-10T00:27:57Z</dcterms:modified>
  <cp:revision>514</cp:revision>
  <dc:subject/>
  <dc:title>PowerPoint Presentation</dc:title>
</cp:coreProperties>
</file>