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3ABFC-D19C-4F9C-BE8F-6F6BD58B4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670-F306-4863-96F1-29486DFA0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2A23-3BB6-4A2C-9DE9-53899CC20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78AB-78E5-4EA7-B907-B8DEDE304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B3AC0C-E01B-43C3-B9D8-B3588FEFA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674C30-C452-427D-95DB-5415CC39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588598-478F-4F41-84DD-50A8947A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D421B7-21DC-42DF-B623-55F08EBEA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E35AD1-D76D-4C16-B584-90E5F6EAC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87C438-8537-4443-8DD1-BF52E47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053D3A-D84C-4721-AA85-0ECBC4AC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1ADB2-2EC1-4FB7-B295-F7612BF42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56D75A-319F-484C-B2E1-BF62172C8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7F789-A10B-4341-A077-768A3D06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091F0E-689B-4913-AF37-D95D3B6C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01B46-80E3-4CC2-B1C3-832891D07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F0FB6B-5CF4-42F2-95AF-43C840EB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8C58-ED21-4E1A-84B9-18E712AC9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6C4C-5223-464A-ABC5-24A475514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A82-3C47-4F9F-88BF-CDC67106D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E123-2185-4808-AF25-0D0821C95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822D-34F3-4C17-8E30-1F7F185B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1164-F4D6-4438-A7A6-2EA5B0CC9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D219-BD41-41BF-A639-7C2BB5FC5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6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535C3-FB30-4A73-AFA0-8AA683BCF762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159F0-ECF5-4D71-A53E-8B9C8A925EA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ap-up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5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3889-1917-46B9-98C8-FC1959D5FF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Using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1920" y="1066320"/>
            <a:ext cx="89917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main(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is program converts binary numbers to decimal numbers.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not isBinary(binary_string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Sorry, that is not a binary string"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nary_string = raw_input("Enter a number in binary: "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print "The decimal value is", binaryToDecimal(binary_string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840" y="5867280"/>
            <a:ext cx="81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esents overview of what program does (hides details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19920" y="3429000"/>
            <a:ext cx="287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ould we write this without function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72C1-47ED-4A38-A21E-1BB60A05F8C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e/Post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e: binary_string is a string that contains only 0s and 1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ost: returns the decimal value for the binary string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ToInt( binary_string )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Alternatively, could do isBinary check here too,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# but, what would you </a:t>
            </a:r>
            <a:r>
              <a:rPr b="0" i="1" lang="en-US" sz="22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0c600"/>
                </a:solidFill>
                <a:latin typeface="Arial"/>
              </a:rPr>
              <a:t> in that case?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= len(binary_string)-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= 0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for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t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binary_string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bit = int(bi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# print bit,"* 2^%d" % exponent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c_value += bit * (2 ** exponent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exponent -= 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 dec_value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876560" y="4373640"/>
            <a:ext cx="4038840" cy="1191240"/>
            <a:chOff x="4876560" y="4373640"/>
            <a:chExt cx="4038840" cy="1191240"/>
          </a:xfrm>
        </p:grpSpPr>
        <p:sp>
          <p:nvSpPr>
            <p:cNvPr id="91" name=""/>
            <p:cNvSpPr/>
            <p:nvPr/>
          </p:nvSpPr>
          <p:spPr>
            <a:xfrm>
              <a:off x="5867280" y="4373640"/>
              <a:ext cx="3048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Commented out print statement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(No side effects)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4876560" y="4800600"/>
              <a:ext cx="11430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C53C-663F-4B73-AE75-68A82A2518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now “lifetime” of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during execution of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lated to idea of “scope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bout variables outside of func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get tricky, as I demonstrated yester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on_function_vars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F997-6EA4-48F4-A2B0-3101E09AECA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bugging Adv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uild up your program in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ways write only small pieces of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, debug. Repe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function body as part of main, te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n, separate out into its ow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function separately from other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ment out irrelevant code to make sure that the function behaves as expec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AE965-811C-4EF8-AE27-C0FCFC631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ternatives to iterate through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h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c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xrange(len(s))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6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print s[x]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oving spa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ing method: replace(old, new[, count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:  s.replace(‘ ‘, ‘’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86200" y="3505320"/>
            <a:ext cx="1523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334120" y="3352680"/>
            <a:ext cx="19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 to replace w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24280" y="4343400"/>
            <a:ext cx="304920" cy="4572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5943240" y="4191120"/>
            <a:ext cx="152280" cy="6858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75B7-0E3E-42D2-9A6C-28A35661E2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4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efficient solution to determine if palindrom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decision: What should be part of the  isPalindrome functi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wer casing and removal of space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83520" y="2362320"/>
            <a:ext cx="442188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xrange(len(string)/2)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r[-x-1]!=str[x]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return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BA5-4BBD-46E9-8940-1FF25366E7F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5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ish up problem from last la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rections in the lab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and us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writing your own modu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92F-85A6-4B86-97F8-3DEA02A6AE6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16T19:00:12Z</dcterms:modified>
  <cp:revision>1520</cp:revision>
  <dc:subject/>
  <dc:title>PowerPoint Presentation</dc:title>
</cp:coreProperties>
</file>