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ct" ContentType="image/x-pict"/>
  <Override PartName="/ppt/media/image4.jpeg" ContentType="image/jpeg"/>
  <Override PartName="/ppt/media/image9.pct" ContentType="image/x-pict"/>
  <Override PartName="/ppt/media/image5.pct" ContentType="image/x-pict"/>
  <Override PartName="/ppt/media/image10.pct" ContentType="image/x-pict"/>
  <Override PartName="/ppt/media/image6.pct" ContentType="image/x-pict"/>
  <Override PartName="/ppt/media/image7.pct" ContentType="image/x-pict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68560" y="685440"/>
            <a:ext cx="46735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839080"/>
            <a:ext cx="3048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771E0-10B7-4D71-9394-201B0CB5880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53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1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r science isn’t about computers B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 to know something about computers and how they work to be able to use them.   And, we need to know the terminology used to talk about compu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4839-9AE8-49FF-A396-52903FF52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6667-7C3C-462F-94D2-16C14794C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A1F-5AF2-43C3-BE27-1DE6F48BF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11BE-CAD8-4912-AFC0-A3E21FC55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FA5C0-F75B-4202-A215-D2090E5E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BED776-3CBF-4655-8AA6-30A2BF8A7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3B57EC-8AB8-48DF-94C3-409F67B19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B08B48-0957-409B-ACA9-56C9F4F9B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DB22D-03A6-4AF6-91A4-97F73AF3C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C7D21A-9B29-4E1B-B04D-53B32441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C28E9A-85A2-461A-B57E-117DFC27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C8DC-73F8-48F2-AD30-7E22DB5A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40000-B7F5-4C42-B11B-3EF21468F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9704C0-3AFD-4FC9-85E0-531FE3326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EF3BF-A824-457E-BC7E-6B061EF31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DA1C1A-A4A4-4A7D-AE62-B2A0D4D1D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1763F0-AFE5-4E86-A454-AED8C9128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2938D-6DAF-4E20-96D6-5D6221950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71D4-FC74-4448-BA7D-C7025A1DE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A669-04A7-4000-BF86-CFAB81F9E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5256-9021-468B-91FA-1863D528B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8173-1AAD-4D9F-AE96-914787F5E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51E1-91C5-46B3-AD8E-171963695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DA9E-991D-424E-B88A-53AB97CD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ep 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Sprenkle - CS 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90CAB-6B6C-4141-BD5C-99548E4F0B71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24CAC-A68C-493E-B2B8-2C07C7B915AA}" type="slidenum"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907920" algn="ctr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3" marL="1309680" algn="ctr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4" marL="1714680" algn="ctr">
              <a:spcBef>
                <a:spcPts val="550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5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  <a:p>
            <a:pPr lvl="6" marL="1714680">
              <a:spcBef>
                <a:spcPts val="550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2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ct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CS111</a:t>
            </a:r>
            <a:br>
              <a:rPr sz="4800"/>
            </a:b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Fall 2007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12408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ptember 7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annie Albrech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51920" y="1142640"/>
            <a:ext cx="4343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461767"/>
                </a:solidFill>
                <a:latin typeface="Tahoma"/>
              </a:rPr>
              <a:t>Williams Colle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aging software that is running and communicating on computers around the world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bbies: surfing, ultimate, rugb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876920" y="0"/>
            <a:ext cx="3657600" cy="36529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4484520" y="3506760"/>
            <a:ext cx="4507200" cy="335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72A-3AAC-47E9-9ADF-E192AD25F2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Jeff Forb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5562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of the practice at 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uke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781680" y="533520"/>
            <a:ext cx="1879560" cy="22478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086360" y="3048120"/>
            <a:ext cx="4981320" cy="375588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390600" y="2819520"/>
            <a:ext cx="4105080" cy="30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 science education, intelligent control and robotics, reinforcement learning, and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415800" indent="-30132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arambeeNe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CS education via social network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8A83-048F-409D-95C5-75E60A9A6B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e Lis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ent graduate of 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University of Delawar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uble major in CS and Psycholog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erested in decreasing the division between the technological haves and have no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nly 3% of Africans have Internet acces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ell phones are commonly used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08640" y="1219320"/>
            <a:ext cx="4483080" cy="351468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495680" y="479916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Lucida Grande"/>
              </a:rPr>
              <a:t>Sue with Alex, one of the computer teachers at Ketasco Secondary School, in the computer lab in Keta, Ghana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495680" y="1219320"/>
            <a:ext cx="4496040" cy="4572000"/>
          </a:xfrm>
          <a:prstGeom prst="rect">
            <a:avLst/>
          </a:prstGeom>
          <a:noFill/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D10-6E15-40B4-A392-E5B6340500A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ina Bhatt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P Labs Principal Scientis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eads design for novel mobile technologi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ystem for matching your foundation, using pictures from your cell pho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427560" y="3936960"/>
            <a:ext cx="2286000" cy="13971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6248520" y="228600"/>
            <a:ext cx="1879560" cy="139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EF7E-09FE-4D44-BB72-99B5328F67F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asic Computer Architectur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80880" y="4114800"/>
            <a:ext cx="7620120" cy="993240"/>
            <a:chOff x="380880" y="4114800"/>
            <a:chExt cx="7620120" cy="993240"/>
          </a:xfrm>
        </p:grpSpPr>
        <p:sp>
          <p:nvSpPr>
            <p:cNvPr id="144" name=""/>
            <p:cNvSpPr/>
            <p:nvPr/>
          </p:nvSpPr>
          <p:spPr>
            <a:xfrm>
              <a:off x="4572000" y="4114800"/>
              <a:ext cx="3429000" cy="990720"/>
            </a:xfrm>
            <a:prstGeom prst="rect">
              <a:avLst/>
            </a:prstGeom>
            <a:solidFill>
              <a:srgbClr val="020202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Hard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80880" y="4191120"/>
              <a:ext cx="38862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The machine, made up of CPU, memory, hard drive, keyboard, etc.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336600" y="3124080"/>
            <a:ext cx="7664400" cy="990720"/>
            <a:chOff x="336600" y="3124080"/>
            <a:chExt cx="7664400" cy="990720"/>
          </a:xfrm>
        </p:grpSpPr>
        <p:sp>
          <p:nvSpPr>
            <p:cNvPr id="147" name=""/>
            <p:cNvSpPr/>
            <p:nvPr/>
          </p:nvSpPr>
          <p:spPr>
            <a:xfrm>
              <a:off x="4572000" y="3124080"/>
              <a:ext cx="3429000" cy="990720"/>
            </a:xfrm>
            <a:prstGeom prst="rect">
              <a:avLst/>
            </a:prstGeom>
            <a:solidFill>
              <a:srgbClr val="010199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bfa"/>
                  </a:solidFill>
                  <a:latin typeface="Tahoma"/>
                </a:rPr>
                <a:t>Operating System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6600" y="3276720"/>
              <a:ext cx="3378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Manages hardware resource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372600" y="2403360"/>
            <a:ext cx="40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MSOffice Applications (Excel, Word),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Solitaire, Firefox, Internet Explor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065200" y="1066680"/>
            <a:ext cx="2891880" cy="1067040"/>
            <a:chOff x="5065200" y="1066680"/>
            <a:chExt cx="2891880" cy="1067040"/>
          </a:xfrm>
        </p:grpSpPr>
        <p:sp>
          <p:nvSpPr>
            <p:cNvPr id="151" name=""/>
            <p:cNvSpPr/>
            <p:nvPr/>
          </p:nvSpPr>
          <p:spPr>
            <a:xfrm>
              <a:off x="5065200" y="1066680"/>
              <a:ext cx="289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What we create in CS111!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5562720" y="1447920"/>
              <a:ext cx="76176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324480" y="1447920"/>
              <a:ext cx="762120" cy="685800"/>
            </a:xfrm>
            <a:prstGeom prst="line">
              <a:avLst/>
            </a:prstGeom>
            <a:ln w="25560">
              <a:solidFill>
                <a:srgbClr val="02020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403920" y="3568680"/>
            <a:ext cx="309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Windows, OSX, UNIX, Linux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32280" y="4800600"/>
            <a:ext cx="35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199"/>
                </a:solidFill>
                <a:latin typeface="Tahoma"/>
              </a:rPr>
              <a:t>Dell, Apple, IBM, HP, Toshiba, …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32360" y="2070000"/>
            <a:ext cx="7568640" cy="1054080"/>
            <a:chOff x="432360" y="2070000"/>
            <a:chExt cx="7568640" cy="1054080"/>
          </a:xfrm>
        </p:grpSpPr>
        <p:sp>
          <p:nvSpPr>
            <p:cNvPr id="157" name=""/>
            <p:cNvSpPr/>
            <p:nvPr/>
          </p:nvSpPr>
          <p:spPr>
            <a:xfrm>
              <a:off x="45720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629400" y="2133720"/>
              <a:ext cx="1371600" cy="990360"/>
            </a:xfrm>
            <a:prstGeom prst="rect">
              <a:avLst/>
            </a:prstGeom>
            <a:solidFill>
              <a:srgbClr val="33cccc"/>
            </a:solidFill>
            <a:ln w="25560">
              <a:solidFill>
                <a:srgbClr val="02020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Application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095880" y="243828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432360" y="2070000"/>
              <a:ext cx="1834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20202"/>
                  </a:solidFill>
                  <a:latin typeface="Tahoma"/>
                </a:rPr>
                <a:t>Solve problems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8001000" y="2133720"/>
            <a:ext cx="761760" cy="1981080"/>
            <a:chOff x="8001000" y="2133720"/>
            <a:chExt cx="761760" cy="1981080"/>
          </a:xfrm>
        </p:grpSpPr>
        <p:sp>
          <p:nvSpPr>
            <p:cNvPr id="162" name=""/>
            <p:cNvSpPr/>
            <p:nvPr/>
          </p:nvSpPr>
          <p:spPr>
            <a:xfrm>
              <a:off x="8001000" y="2133720"/>
              <a:ext cx="457200" cy="198108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51480 h 1981080"/>
                <a:gd name="textAreaBottom" fmla="*/ 1929600 h 1981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c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 rot="5400000">
              <a:off x="8009280" y="2945880"/>
              <a:ext cx="113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c600"/>
                  </a:solidFill>
                  <a:latin typeface="Tahoma"/>
                </a:rPr>
                <a:t>Software</a:t>
              </a: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09B8-B757-49B0-A353-1FFFEB2F552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CB35-D7D9-49EF-AA6A-CDC45AC76E3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E6893-4AE9-4083-8F73-FA84193B80F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his Course Is Abo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1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lgorithms, dealing with informat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programming (Python)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 to broader issues in C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S10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rvey of computer science topics: algorithms, circuits, low-level instructions, web/databas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4A7D-4EDF-4AD4-83F2-EE96C735A7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to Expect from this Cla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rst programming co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ts to learn!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ntroductions to a lot of new idea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ifferent way of thin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imilar yet different from math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y get stuck but ask me for help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BC7-6877-4249-ADC2-4EF397A21BD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ttp://www.cs.wlu.edu/~sprenkle/cs111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heck frequently for up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nday, Wednesday, Friday lectur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lides posted after class, in handout, PDF forma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n’t copy down slides verbati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 lot isn’t on the slid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Use slides later to review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esday lab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ogramming projects due on Friday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8B7E5-F5EF-4CBA-B925-74E42610A10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rvey Says…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317600"/>
            <a:ext cx="8686800" cy="508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year are you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a computer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used the Internet regularly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made a web pag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o has written a program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y are you taking this cours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C40-C3B0-4B20-94D8-77ACC3017B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ass Detail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3 Exa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2 Midterms (see schedule online for dates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na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Tahoma"/>
              </a:rPr>
              <a:t>Discussion of broader issues in CS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Articles about computer science’s effect on </a:t>
            </a:r>
            <a:r>
              <a:rPr b="0" i="1" lang="en-US" sz="2600" spc="-1" strike="noStrike">
                <a:solidFill>
                  <a:srgbClr val="020202"/>
                </a:solidFill>
                <a:latin typeface="Tahoma"/>
              </a:rPr>
              <a:t>everything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Write up on blog, due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Discussion on Friday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Opportunities for extra credit for finding, reading, summarizing additional article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CFD8-624B-4CCC-A9C1-E29F47D68B4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tructor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eep your interest in C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mpt, constructive feedback on assignmen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Office hours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ednesday: 3:30-4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ursday: 12:30-3:30 p.m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mail for appointm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pond within 24 hours to emailed ques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2F503-2A68-4E95-ABDE-06580FC103B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udent Responsibilit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heck W&amp;L email and course web page frequently for updat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ew entire syllabus onlin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ttend and participate in class and lectu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ndatory attendan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e respectful to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rive promptly to lecture/lab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urn off cell phon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Be patient, flexible, and learn from mistak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EBEE-9BC6-4147-96C5-A1F549ED758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nor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may discuss programming assignments informally with other student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ing a solution is an honor violation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udents should know where to draw the line between getting legitimate outside assistance with course material and outright cheat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5520" indent="-3330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dents who obtain too much assistance without learning the material ultimately cheat themselves the most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you have any uncertainty about what this means, consult with me before you collaborate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written assignments should be done individually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3B9D-6342-479C-8546-174E0981767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Your TODO List: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view the course web p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idterm dat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ad Chapter 1 of Text Book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nly skim 1.4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Due next Frida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irst CS issues reading/writeup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uesday’s lab/assignmen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FC089-BF61-4B35-8705-E5AAD3884DD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eet &amp; gr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er scienc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this clas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6CBC-302E-444D-8036-23773CFAD84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: 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Know any famous computer scientist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0001-0853-463B-98A2-5C3DA9F8EC1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Computer Scienc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hat is computable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can we compute X most effectively/efficiently/accurately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timize speed, space using optimum data structures, algorith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69680" indent="-3261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ccurate modeling of “world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380880" y="1066680"/>
            <a:ext cx="7925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“</a:t>
            </a:r>
            <a:r>
              <a:rPr b="0" lang="en-US" sz="3200" spc="-1" strike="noStrike">
                <a:solidFill>
                  <a:srgbClr val="00c600"/>
                </a:solidFill>
                <a:latin typeface="Lucida Grande"/>
              </a:rPr>
              <a:t>Computer Science is no more about computers than astronomy is about telescopes.”             --Edsger Dijkstr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44C6-021C-43C8-A52B-5EB38CB140C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ut programming is a foundation to do much, much more!</a:t>
            </a:r>
            <a:endParaRPr b="0" lang="en-US" sz="2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04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08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0F20-8EC2-41F1-9566-2F8A155A063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t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hardwar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Windows (or other operating system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x Microsoft Office (or other desktop applications) probl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26B8-8F74-4FC9-B6D8-967CD90BE33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erests: Software testing, empirical studies, distributed system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cus: Automated web application test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C1D2-6305-4261-95CA-8BCC9D6368F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 do as a computer scient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238880" cy="4794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844600" y="4444920"/>
            <a:ext cx="315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ff"/>
                </a:solidFill>
                <a:latin typeface="Tahoma"/>
              </a:rPr>
              <a:t>Find the error(s)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385D-8B4A-49ED-B8B8-394DAB0DBAB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tt Wels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800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ssistant professor at </a:t>
            </a:r>
            <a:r>
              <a:rPr b="0" lang="en-US" sz="3200" spc="-1" strike="noStrike">
                <a:solidFill>
                  <a:srgbClr val="a10000"/>
                </a:solidFill>
                <a:latin typeface="Tahoma"/>
              </a:rPr>
              <a:t>Harvard Univers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search: distributed systems and network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ensor networks to monitor volcano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ote </a:t>
            </a:r>
            <a:r>
              <a:rPr b="0" i="1" lang="en-US" sz="3200" spc="-1" strike="noStrike">
                <a:solidFill>
                  <a:srgbClr val="020202"/>
                </a:solidFill>
                <a:latin typeface="Tahoma"/>
              </a:rPr>
              <a:t>Running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48320" y="3733920"/>
            <a:ext cx="2286000" cy="29970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4584600" y="76320"/>
            <a:ext cx="4483080" cy="3396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7162920" y="4191120"/>
            <a:ext cx="1828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of. Welsh at </a:t>
            </a:r>
            <a:r>
              <a:rPr b="0" lang="en-US" sz="2400" spc="-1" strike="noStrike">
                <a:solidFill>
                  <a:srgbClr val="a10000"/>
                </a:solidFill>
                <a:latin typeface="Tahoma"/>
              </a:rPr>
              <a:t>Volcán Reventad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 Ecuador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 flipV="1">
            <a:off x="7543800" y="3048120"/>
            <a:ext cx="457200" cy="12189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076A1-2B89-467A-8963-7D2CBC2EE10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5T21:23:27Z</dcterms:created>
  <dc:creator>Elon University</dc:creator>
  <dc:description/>
  <dc:language>en-US</dc:language>
  <cp:lastModifiedBy>Sara Sprenkle</cp:lastModifiedBy>
  <cp:lastPrinted>2007-09-07T15:41:18Z</cp:lastPrinted>
  <dcterms:modified xsi:type="dcterms:W3CDTF">2007-09-07T15:43:18Z</dcterms:modified>
  <cp:revision>728</cp:revision>
  <dc:subject/>
  <dc:title>Intro to Java</dc:title>
</cp:coreProperties>
</file>