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DCD-76DB-4B9E-AA0E-A74500C7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392-0753-4A5D-BAB6-449BACD8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977-32B3-46F6-9ACB-69BC356D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A22-64A6-476B-A37C-3D39865D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295A6-9DC4-4717-B332-56D47797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5762B-06AF-400E-9C36-EC9F5B4A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9A6EB-8D80-4824-9E8D-B2F3751E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A1E91-70B3-40B8-ADF1-9C637CD0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59543-25F0-4720-A0A3-9E895D47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599D6-273D-4AB4-BEBE-27E1E606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AB589-6716-4ABA-82FD-1E0F97B7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64F-C23D-41CF-8252-675ECC8A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1E991-CC08-46C1-9E71-82DF8A3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5C4B3-ADA0-4542-84B5-341B3A71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3EC24-44AB-4F1B-906F-240D4177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61900-4896-436F-87B3-E450A6D2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7630E-0DFF-4E3A-842F-30C7E075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1D8-793F-4E19-B0EE-ABBD91B4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FF5-094B-4ECF-926B-1AEF1865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11D-A8AE-4F2E-AA1F-BBCCBF86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D2D-034E-40CA-AC6C-BCD90D2B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9E7-1E52-42C0-957C-B25EBD4F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4EF-A5E9-435F-B261-18893F2C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FCB-F5EE-4CC3-B3D8-6A8BF39F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C14B-844F-4D11-9D8A-49895DAB6B7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5A74-AADF-480C-9D77-B8FE1C31326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 Conditional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E67-9DCE-4E1A-AB90-C2A3FCAE67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s, comparing use of brea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condition shows when loop will stop executing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x % 2 !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Try again.  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 is an even number.”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have to look inside loop to know when it stops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True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x %2 =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is an even number.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143000"/>
            <a:ext cx="0" cy="5257800"/>
          </a:xfrm>
          <a:prstGeom prst="line">
            <a:avLst/>
          </a:prstGeom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4952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Using break statement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est when loop has to execute at least once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DB5-C6B0-407A-A571-411F4366A3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vs.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y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can be translated into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vice vers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mor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powerfu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an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AB0-2155-4ABB-BC38-4548B6CE7D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 of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al stat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, if-else, if-else-i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ile, f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98D-C01E-4B71-AD8C-2CABDBAD7A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ndeterministic Deci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times, we don’t want to necessarily know that a specific decision is always ma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games often use randomness to make decis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ll d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in fli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cation and behavior of badd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FF5-6421-495C-BA9E-D4636A2F12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random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modu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provides the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rando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to generate pseudo-random numb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“pseudo-random”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tually generates a list of numbers and grabs the next one off the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 “seed” is used to initialize the random number gen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y default, the current time is us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0C6-09A1-45E7-A414-353D92BE3D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Arial"/>
              </a:rPr>
              <a:t>Some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 random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(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next random floating point number in the range [0.0, 1.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int(a, b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a random integer N such that a&lt;= N&lt;= 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0160" y="1419120"/>
            <a:ext cx="19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73880" y="62452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dom_te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B10-8EAA-4387-9276-ECDB8C2A9D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imulate Flipping Coi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ulate by randomly selecting between 0 (heads) and 1 (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coinFlip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lem: How many flips does it take to get 3 consecutive head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09640" y="624528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ecutiveHea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412-4217-41BD-A0CC-775DC8A09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ctober Problem of the Mont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welve W&amp;L alumni get together during homecoming to have lunch.  Before they sit down to eat, everyone shakes hands with everyone else exactly once.  How many handshakes take plac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42120" y="62452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ke_han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377-0BE4-4191-A2A7-C4E8C8AAC5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vironmental Monitoring with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e blog entry for links, more inf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974-8F61-4E86-B83B-2EB41D6C97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ditional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gical operators: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no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numeric grade convers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um_grade &lt; 0 or num_grade &gt; 100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t( num_grade &lt; 0 or num_grade &gt; 100)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914-18D0-461B-862E-C03615A591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FC6-8810-467B-87A1-3CAC9DDE0C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90" idx="2"/>
            <a:endCxn id="89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3" idx="2"/>
            <a:endCxn id="90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2"/>
            <a:endCxn id="90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0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CDD-F641-4FE1-85D8-7DE68E5F85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known Number of It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ums numbers input by use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op when the user inputs some designated stop value (Enter --&gt; “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2720" y="624528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tillzer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56D-5911-4BD8-8DC6-8980ECE5B8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: Sentinel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ntinel: when to st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uard” to th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value != sentinel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valu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BE2-26F8-40D7-AD45-8EEE8F1D77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297-FC95-46FA-8EF4-C764DD9DD2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condition’s variable insid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736-709B-4C0D-8FE1-A760D9ABDC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e of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state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can “break you” out of a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733920"/>
            <a:ext cx="35816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count &lt; 100 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9040" y="27432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2"/>
            <a:endCxn id="115" idx="0"/>
          </p:cNvCxnSpPr>
          <p:nvPr/>
        </p:nvCxnSpPr>
        <p:spPr>
          <a:xfrm flipH="1">
            <a:off x="5371920" y="321480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2"/>
            <a:endCxn id="116" idx="1"/>
          </p:cNvCxnSpPr>
          <p:nvPr/>
        </p:nvCxnSpPr>
        <p:spPr>
          <a:xfrm flipV="1" rot="16200000">
            <a:off x="2919600" y="3696480"/>
            <a:ext cx="2300760" cy="851400"/>
          </a:xfrm>
          <a:prstGeom prst="bentConnector4">
            <a:avLst>
              <a:gd name="adj1" fmla="val -9311"/>
              <a:gd name="adj2" fmla="val 125169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733920" y="1752480"/>
            <a:ext cx="327636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, 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160" y="319716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69320" y="24638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800600"/>
            <a:ext cx="13716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2"/>
            <a:endCxn id="119" idx="0"/>
          </p:cNvCxnSpPr>
          <p:nvPr/>
        </p:nvCxnSpPr>
        <p:spPr>
          <a:xfrm flipH="1">
            <a:off x="4494960" y="4205160"/>
            <a:ext cx="87732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0" idx="2"/>
            <a:endCxn id="116" idx="0"/>
          </p:cNvCxnSpPr>
          <p:nvPr/>
        </p:nvCxnSpPr>
        <p:spPr>
          <a:xfrm>
            <a:off x="5372280" y="222408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 flipH="1">
            <a:off x="5257440" y="297180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715000" y="4800600"/>
            <a:ext cx="15238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5" idx="2"/>
            <a:endCxn id="127" idx="0"/>
          </p:cNvCxnSpPr>
          <p:nvPr/>
        </p:nvCxnSpPr>
        <p:spPr>
          <a:xfrm>
            <a:off x="5371920" y="4205160"/>
            <a:ext cx="110556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077160" y="4267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0480" y="41911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25" idx="0"/>
          </p:cNvCxnSpPr>
          <p:nvPr/>
        </p:nvCxnSpPr>
        <p:spPr>
          <a:xfrm flipH="1">
            <a:off x="5257080" y="5272200"/>
            <a:ext cx="1220040" cy="962640"/>
          </a:xfrm>
          <a:prstGeom prst="straightConnector1">
            <a:avLst/>
          </a:prstGeom>
          <a:ln w="3168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89240" y="2697120"/>
            <a:ext cx="259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 &lt; 10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count &lt; 100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 +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34A-5F5F-4929-AED6-5FF24A7403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2T19:57:10Z</dcterms:modified>
  <cp:revision>941</cp:revision>
  <dc:subject/>
  <dc:title>PowerPoint Presentation</dc:title>
</cp:coreProperties>
</file>