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F2D5-7637-4E49-A284-16BAECD40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556E-9CCF-4CB4-9AC4-D0C7FE0A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5624-A788-4C53-9AAE-2CBE496DB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D663-FA8E-4587-A476-92D5F0DA4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C66F43-B021-42AB-B7EE-2822687F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ECD6AA-5CAC-40D4-AA1C-A63791A0E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452FB9-1F4A-4AFB-B79B-561D4C335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FFF9AB-3F99-45D2-AE83-F84804D31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60B60-9B0C-4969-B4AD-FC3241789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AD08E-D946-49D7-BD0E-0CF189E85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EC0009-FB92-43AF-88A8-0ED8F251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0536-AA58-4313-9C97-647504ABB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BA0FD-CCBF-4768-9AEE-228D6290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D5FD06-A5AC-42D0-9DD9-655A994E8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650814-CBA6-41C3-981C-FE85C106E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11C1E-8980-493E-94CE-C33C9A889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A2530-D90C-46A7-8502-C79CB6B7E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333E-D0EC-4FCC-AF98-5246B690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C272-F5C9-4C60-99FC-161ACD0AD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9B4D-6C94-4204-9ABB-0617AC83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4EEA-FEED-49FD-9B47-19C1EBEB4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3C0E-C2A2-444A-ADA3-AC24D7ECA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178D-9004-42ED-A404-CFDA7DE9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DFD3-A016-4EBC-8CEF-9632364B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23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76D7B-DD95-4163-85C4-D6D5107F3822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267EA-DE4E-4AF2-A629-10B4A180E001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mly Lab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and Sanitiz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rgonomic inform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310BA-F60A-4384-B694-A0F0CA0D0B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Exerci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a comment for this func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905120"/>
            <a:ext cx="80773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Encodes a lowercase string using a key, preserving spaces in # the string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RE: a lowercase string to be encoded (toEncode) and th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integer key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OST: returns the encoded string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def encode(toEncode, key)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E8124-3208-4482-8693-AB7E538FC6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Not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ll-named parameters make documentation easi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’m not strict on the pre/post format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Just need to be clear 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the function does (at high level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ypes of parame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ype of the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caller knows what to pass to the function and if they should assign the output to a vari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39E6-6578-40DA-B1C5-EF158E697B6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al or No Deal Overview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Have 26 cases with various amounts of mone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mounts are known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layer selects a case (hope has the big jackpot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In each round, player opens up case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veals amounts that are not in the case they chos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Banker makes an offer to buy the cas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layer decides if want to take the deal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Is the offer more than what is in the case?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Make decision based on amounts that haven’t been opened yet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Games ends when only one more case to open or player takes the deal.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2F8E-1181-4C95-91CF-16E30F6686F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: Deal or No Dea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lay the game, written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: partial solution in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our job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, understand given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ll in the functions for a complete sol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F061-2ED8-4590-9337-A6BD85C4608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6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arm up problems using lis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al or No Dea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F7BF-1BA8-4A1B-BC4C-4558D694C7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5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 organiz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in functions at top of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 statements at top of program (outside of any function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/algorithm improve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 through the string as charac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Rather than iterating through positions in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encode a letter if it’s not a spa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66680" y="5288040"/>
            <a:ext cx="466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f ch != “ “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# convert to ASCII, etc. 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2A7C-39FD-44B4-B6B7-D1F64D23360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agic Numb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 lot of you used 97, 122, 26 explicitly in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ometimes not documented (commented) wh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f ASCII values changed or used different representation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etter to use constants and lookup value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165320" y="4640400"/>
            <a:ext cx="68356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OWER_BOUND = ord(‘a’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PPER_BOUND = ord(‘z’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ANGE = UPPER_BOUND-LOWER_BOUND + 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92D5-4FB0-483C-8743-B1B323561C6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adability/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ed translateLett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roved readabilit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lightly decreased efficiency because adds another function cal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ayoff in readability dominat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EECB-782F-4091-B211-B3FC50B1E9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ment functions, programs/modules at high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ment inside functions at low-level (implementation details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(derived from students’ submissions)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4365720"/>
            <a:ext cx="830592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This function calculates the speeding ticket fine, if speeding.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RE: Input params are two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positive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numbers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representing th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speed limit and the clocked speed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OST: Return the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computed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fin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def calculateFine(speed_limit, clock_speed)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…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F0CA-99DE-4C8A-A315-78D639CEDF2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is This a Good Comment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276720"/>
            <a:ext cx="86868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cribes the input parameters’ types and implies the type of the out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ays that if you give it negative numbers, you could get a goofy answer bac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es not include implementation detai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Tells caller how to use th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1066680"/>
            <a:ext cx="830556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This function calculates the speeding ticket fine, if speeding.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RE: Input params are two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positive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numbers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representing th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speed limit and the clocked speed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OST: Return the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computed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fin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def calculateFine(speed_limit, clock_speed)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…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301A-04CA-4735-B527-6C756496B0B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Exerci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a comment for this func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85680" y="373392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def translateLetter(char, key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6AE0-4965-4AE9-AE41-AF1791FDBF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Exerci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a comment for this func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2666880"/>
            <a:ext cx="80773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Encodes a single character.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RE: Input parameters are a single,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 lowercase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character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string (char) and an </a:t>
            </a: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integer</a:t>
            </a: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 key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Tahoma"/>
              </a:rPr>
              <a:t># POST: returns the encoded character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def translateLetter(char, key)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4836-E3B8-4E05-809C-3DF090D76E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enting Exercis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a comment for this func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266688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def encode(toEncode, key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C950-6E65-484E-BE2F-BA91EACA2B0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23T16:58:19Z</cp:lastPrinted>
  <dcterms:modified xsi:type="dcterms:W3CDTF">2007-10-23T18:50:03Z</dcterms:modified>
  <cp:revision>2297</cp:revision>
  <dc:subject/>
  <dc:title>PowerPoint Presentation</dc:title>
</cp:coreProperties>
</file>