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D854-2879-44D9-9F0D-54C355317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0CD7-D8AA-4A00-9126-C5DD665B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6BDE-FECA-484C-A7BB-18F48B16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75F6-AAB7-482C-BD0B-2C62E70D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95315-195F-4231-B48A-B67901D4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F5721-9EF9-468B-948F-037DAB3C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4077D-2E4A-4527-A1CA-0FD8C73E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CC77A-9A55-4925-8FFE-C2D8357F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E2920-FD77-47B7-A319-523B3D4D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B6AE6-F870-4BE1-A866-A830189F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87D44-5F04-4EA2-A6DB-AD8383B4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B98B-5B84-44AD-A882-BBBC1952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11A59-1C2F-4CCF-9516-DB766988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05E11-990B-4CEE-9CC7-C6E31388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53145-E0DD-4EFF-A4A4-83F5A8CB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B73AF-A57E-46D3-BECC-FEACF2086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ECADC-B0A1-4542-A902-CEC4A2E7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9FCC-C072-4747-B691-55946BB6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F2AB-8C41-4BB3-AD16-137532AC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CF1C-4063-4852-A0CC-E2EA2929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E5C8-87A6-4BF7-B93C-4D554A2F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6509-51D0-4DED-A82A-09102F8D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9512-3B39-4B8D-AEA4-5D036307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D479-5D18-4507-A2E3-970DAA7F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24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3DAE-7707-4D24-BCB1-7AA46AB1269B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C0C2-A65F-45A1-BC1B-94B2B7A5B56B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Dictionari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se end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/improving documen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ault parameter valu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6F28-DC6A-4AEF-9DC5-781F2E8066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pecial Value: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Non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pecial value we can u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.g., Return value from function when there is an err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milar to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nul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n Jav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you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st = list.sort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77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li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s None because list.sort() does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return anyth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8D78-A771-488C-A7CD-BF0A5B9C3E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Probl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a file of the for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lastname&gt; &lt;major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e a mapping between the last names and majo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32960" y="624852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jors_dictio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D636-5FB3-4725-A4B5-08403A0F72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Probl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dify the previous program to keep track of the number of majors of each typ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uld we solve this using a lis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49800" y="632448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jors_dictionary2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63E8-BAE8-4F03-902F-5EAE8A3287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Docum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di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function that returns a list of methods and attributes in an objec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r(&lt;typ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help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get document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the Python shel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elp(&lt;typ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 &lt;module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elp(&lt;modulenam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CA3C-FAD2-4230-8E67-E5234B983C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ere is Documentation Coming From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es from the code itself in “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doc string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.e., “documentation string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c strings are simply strings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afte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e function head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ypically use triple-quoted strings because documentation goes across several lin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4800600"/>
            <a:ext cx="7086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def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verse(animal, sound):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“””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s a verse of Old MacDonald, filling in the strings for animal and sound “””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D2CC-8B53-4D67-85D3-49D3906AB8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faults for 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aw with the xrang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dn’t have to specify start or increment when calling the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ault start to 0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ault increment to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assign a default value to a paramet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 general, default parameter should come after all the parameters that need to be defin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BC92-1264-4D3F-8CFD-E75A959742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Default 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y default the rollDie function could assume that a die has 6 sid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8160" y="3201840"/>
            <a:ext cx="51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rollDie(sides</a:t>
            </a: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=6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random.randint(1,sides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200040" y="2789280"/>
            <a:ext cx="762120" cy="8380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46680" y="2286000"/>
            <a:ext cx="435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signs a valu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ONLY IF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not passed a paramet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4240" y="4648320"/>
            <a:ext cx="48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Examples of calling the function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58800" y="5105520"/>
            <a:ext cx="165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ollDie(6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ollDie(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ollDie(12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84680" y="624852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am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CFB4-13B5-441A-933A-4101596236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tudent Majo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want to keep track of the number of majors of each typ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wist: Not every student has a major (don’t declare until sophomore yea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E872-FFE5-40AD-9754-09A540E342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tudent Majors, revised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udents can have more than one maj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uld count these separatel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can we modify the previous program to do that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2B88-F9EF-4E9B-9EFD-C3D5E9E451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Music 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have an album file that has the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rtist 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lbum 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name 1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length 1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name 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length 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an album file, print out the number of songs and the total length of the albu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44956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ength has the format min:secon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9940-6E6B-4885-99A6-EAC9FBADFC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ctionaries in Pyth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p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key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o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valu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Keys are not necessarily alphabetiz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ppings are from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one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key to one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or more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valu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Keys are </a:t>
            </a:r>
            <a:r>
              <a:rPr b="1" i="1" lang="en-US" sz="2600" spc="-1" strike="noStrike">
                <a:solidFill>
                  <a:srgbClr val="020202"/>
                </a:solidFill>
                <a:latin typeface="Arial"/>
              </a:rPr>
              <a:t>unique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, Values are not necessarily uniqu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01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Example: student ids --&gt; last nam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Keys must be </a:t>
            </a: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immutable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(numbers, strings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milar to Hashtables/Hashmaps in other languag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5788080"/>
            <a:ext cx="882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How would we handle if there is more than one value for a key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06B4-AC56-4743-AEE6-CE691E20D3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ictionari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ful for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fas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ku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okup by keywor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n’t need to look through entire list or sort list fir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1023-F629-4B0B-B73E-B7103CF265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s of Dictionar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the keys and values for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ction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xtbook’s inde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okbook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RL (Uniform Resource Locato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 from clas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unction name --&gt; function defini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Variable name --&gt; 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SCII value --&gt; charac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8880-2752-4404-804B-BA538546ED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Dictionaries in Pyth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{&lt;key&gt;:&lt;value&gt;, …, &lt;key&gt;:&lt;value&gt;}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7280" y="3313080"/>
            <a:ext cx="71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empty = 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{}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ascii =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 {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‘a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7, ‘b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8, ‘c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9, …, ‘z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122 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B7AE-3EC9-4960-8269-09121CE47D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ccessing Values using Key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45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dictionary&gt;[&lt;key&gt;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Tahoma"/>
              </a:rPr>
              <a:t>KeyError</a:t>
            </a:r>
            <a:r>
              <a:rPr b="0" lang="en-US" sz="32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f key is not in dictiona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68760" y="2779560"/>
            <a:ext cx="396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ascii[‘z’]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directory[‘registrar’]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7E69-5872-4175-88BB-EC43AD65A5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dding/Modifying Key-Value Pai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dictionary&gt;[&lt;key&gt;] = &lt;valu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scii[‘a’] = 97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9160" y="624852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_dictio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58F0-F69C-4102-813E-F588B4F265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ctionary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143000" y="1397160"/>
          <a:ext cx="6858000" cy="290340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dex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[&lt;key&gt;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n(&lt;dict&gt;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ter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or &lt;key&gt; in &lt;dict&gt;: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mbership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key&gt; in &lt;dict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le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l &lt;dict&gt;[&lt;key&gt;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380880" y="493236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Unlike strings and lists, doesn’t make sense to do slicing, concatenation, repetition for dictionaries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F55F-9B94-436B-97FC-E13912D358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ctionary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04920" y="1397160"/>
          <a:ext cx="8458200" cy="3263760"/>
        </p:xfrm>
        <a:graphic>
          <a:graphicData uri="http://schemas.openxmlformats.org/drawingml/2006/table">
            <a:tbl>
              <a:tblPr/>
              <a:tblGrid>
                <a:gridCol w="3124080"/>
                <a:gridCol w="5334120"/>
              </a:tblGrid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thod Nam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unctionalit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.clear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move all items from dictionary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.keys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a copy of dictionary’s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i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of keys 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.values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a copy of dictionary’s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i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of values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.get(</a:t>
                      </a:r>
                      <a:r>
                        <a:rPr b="0" i="1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[,</a:t>
                      </a:r>
                      <a:r>
                        <a:rPr b="0" i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fault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&lt;dict&gt;[</a:t>
                      </a:r>
                      <a:r>
                        <a:rPr b="0" i="1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] if </a:t>
                      </a:r>
                      <a:r>
                        <a:rPr b="0" i="1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a key; Otherwise, returns </a:t>
                      </a:r>
                      <a:r>
                        <a:rPr b="0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ne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(or default value)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6D9B-62C2-4022-846F-11F947DD1C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22T19:45:41Z</cp:lastPrinted>
  <dcterms:modified xsi:type="dcterms:W3CDTF">2007-10-24T01:38:19Z</dcterms:modified>
  <cp:revision>2268</cp:revision>
  <dc:subject/>
  <dc:title>PowerPoint Presentation</dc:title>
</cp:coreProperties>
</file>