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CD85-05C3-4E81-9F34-95D8D0465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8178-1A7D-411F-AE96-69BD9C3B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892B-C994-4B67-A0FA-BA885562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F301-F2A3-49DC-8453-F345DD71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1D32A-3306-461D-8B8A-6D0F7423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BD5F6-5589-4503-B703-D991D6B1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DBF47-340B-44B9-A534-715C7D55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0F9FE-3598-456E-BEDD-FF82890D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95455-BA08-4A49-9E48-8CFB1E68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E5EC1-09FB-4094-9FF0-6C5ED00A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F572A-CA63-41CE-BD00-675D6A32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B8F9-B8D2-4F82-B221-103720CA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795AA-13AD-4CA4-9338-D4E587AE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D44F7-5C4A-422F-9F62-4E730E5D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50C67-5968-4F0B-BBC3-5DF2FCC5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D2C3F-907F-4965-B72D-8F27CFFAC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752D1-E918-432C-BE5B-9A01DF68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CC3E-C3D5-474D-A469-C13E80C9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341D-E9AF-4689-BADB-F99F1F17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9C97-12F8-4C36-9295-2BBCDE4B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6777-6BCE-4FDB-9C5E-E4AF5930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D4BD-E52B-4902-A485-234F5B6D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CFF1-90E3-4F80-A718-CE9E1BE9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9AF2-1C9D-4AE2-BD12-FDE5CA4B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5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5660-7899-4368-9861-08D58E811E42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EF51-07B6-489A-9E14-AD83DEEA5BFC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assing arrays to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1E39-82F1-418F-8F47-FE7F46F161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ssues: Open  source 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urce is available to be read/editt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inux kernel is open sourc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nux kernel is fre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ome distributions add additional software, charge for O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prietary vs. open-source softwar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o has control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 you trust them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786F-751E-46C4-8AE0-E00CE51A93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15T22:45:01Z</dcterms:modified>
  <cp:revision>1459</cp:revision>
  <dc:subject/>
  <dc:title>PowerPoint Presentation</dc:title>
</cp:coreProperties>
</file>