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274-F229-46E3-9B47-90D9E35B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251-54E2-408C-B1A1-E28F180E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1E7-DDEE-40E2-84B2-F2D9B2E1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AD8D-7A86-40F9-BBB9-0674B442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BD0F6-8121-4C4B-B84B-AC09AABF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84C4A-E114-4022-9FFD-55A987EA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C9D6A-4F0A-4845-893A-AC28A27C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5412C-EB21-474F-876F-60B1B73F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397FA-790A-46A3-9F98-AF3420FD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E1E74-579C-486A-BA27-0528E750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A24AD-C66A-4271-BA8D-0E97238E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7F1-C005-4BCC-AD67-D26B5841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89ED4-3866-495C-B925-EEAFA84C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285C3-406E-44F1-81FB-9EEB1640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F7C83-19E3-469B-914C-830609DB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D0003-B1D5-49B2-B6BF-66B6BBC1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460B0-B8EA-4D30-8CB4-D6C7AB61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EBC1-1DBB-4F35-8F29-DC0BDAB6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233E-B43C-4D76-BA95-7F1F5F32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C66-B9DC-43E8-8B09-46187E73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927-F5B9-4DAE-8E6E-E3760229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BCED-8720-44F9-ACAC-FC3764F5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9D2-44EF-49FA-B330-1AEA9CEE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551-F925-4A24-98A5-3E9F462A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Apr 4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3786-C672-4865-9F2F-F3185E603C7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CEB9-C222-4B1E-B740-5A202D37B20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nal Exam Ques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luding CS11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ther programming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is computer scienc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E21-1D48-411F-9483-C9957B452D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ng 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is the syntax/semantics of these languages different from Pyth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easier or harder to do in these other programming languages than in Pyth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9AD-C670-40AF-975A-72355F20C8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ng 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nefits of Pyth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pler syntax (e.g., fewer {} and ()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cover some content with less overh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ta types aren’t explicit (static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an be harder for you to remember and keep straigh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compiled explicitly beforeha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ep executing to find all the syntax bug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lows you to do some crazy stuff that won’t work in other programming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C05-5A72-4DFB-85D9-1D9986EA7E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o Uses Python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Googl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ackends of Gmail and Google Maps and search-engine internal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AS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ollaborative engineering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ahoo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oups: Maintain discussion groups; Map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RedHat Linux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ystem infrastructu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Original BitTorrent client; Youtube; Civilization IV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232-E048-4AF1-8E8F-F570B96482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!=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2895480"/>
            <a:ext cx="1600200" cy="1533600"/>
          </a:xfrm>
          <a:prstGeom prst="ellipse">
            <a:avLst/>
          </a:prstGeom>
          <a:solidFill>
            <a:srgbClr val="120df3"/>
          </a:solidFill>
          <a:ln w="28440">
            <a:solidFill>
              <a:srgbClr val="120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381600" y="175248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df3"/>
                </a:solidFill>
                <a:latin typeface="Arial"/>
                <a:ea typeface="ＭＳ Ｐゴシック"/>
              </a:rPr>
              <a:t>programming : CS :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689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  <a:ea typeface="ＭＳ Ｐゴシック"/>
              </a:rPr>
              <a:t>machining : enginee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3242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  <a:ea typeface="ＭＳ Ｐゴシック"/>
              </a:rPr>
              <a:t>grammar : literatur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3959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  <a:ea typeface="ＭＳ Ｐゴシック"/>
              </a:rPr>
              <a:t>equations : mathematic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2109240" y="544032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0df3"/>
                </a:solidFill>
                <a:latin typeface="Arial"/>
                <a:ea typeface="ＭＳ Ｐゴシック"/>
              </a:rPr>
              <a:t>a vehicle, not a destination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2819520"/>
            <a:ext cx="1828800" cy="175248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2895480"/>
            <a:ext cx="1600200" cy="1533600"/>
          </a:xfrm>
          <a:prstGeom prst="ellipse">
            <a:avLst/>
          </a:prstGeom>
          <a:noFill/>
          <a:ln w="28440">
            <a:solidFill>
              <a:srgbClr val="120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1200" y="3378240"/>
            <a:ext cx="15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bfa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8200" y="3660840"/>
            <a:ext cx="136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bfa"/>
                </a:solidFill>
                <a:latin typeface="Arial"/>
              </a:rPr>
              <a:t>Computer Science</a:t>
            </a:r>
            <a:endParaRPr b="0" lang="en-US" sz="16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50080" y="464832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alking : W&amp;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429-2E1E-449D-8AD0-90C6573FCC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ften research involves combinations of these field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ot just programming!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But programming is a tool to do much, much more!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2280" y="1192320"/>
            <a:ext cx="2743200" cy="2609280"/>
            <a:chOff x="152280" y="1192320"/>
            <a:chExt cx="2743200" cy="2609280"/>
          </a:xfrm>
        </p:grpSpPr>
        <p:sp>
          <p:nvSpPr>
            <p:cNvPr id="125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280" y="1573200"/>
              <a:ext cx="27432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and parallel system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952880" y="15796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819520" y="1173240"/>
            <a:ext cx="2133360" cy="2931840"/>
            <a:chOff x="2819520" y="1173240"/>
            <a:chExt cx="2133360" cy="2931840"/>
          </a:xfrm>
        </p:grpSpPr>
        <p:sp>
          <p:nvSpPr>
            <p:cNvPr id="129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19520" y="1571760"/>
              <a:ext cx="2133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and verification,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858000" y="1600200"/>
            <a:ext cx="213372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45D-EA78-4B4F-A0C5-2FB7099915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= field we discussed or did a problem i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ome are a stretch :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52280" y="1192320"/>
            <a:ext cx="2743200" cy="3401280"/>
            <a:chOff x="152280" y="1192320"/>
            <a:chExt cx="2743200" cy="3401280"/>
          </a:xfrm>
        </p:grpSpPr>
        <p:sp>
          <p:nvSpPr>
            <p:cNvPr id="137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280" y="1573560"/>
              <a:ext cx="27432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 and parallel system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952880" y="157968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819520" y="1173240"/>
            <a:ext cx="2133360" cy="3418560"/>
            <a:chOff x="2819520" y="1173240"/>
            <a:chExt cx="2133360" cy="3418560"/>
          </a:xfrm>
        </p:grpSpPr>
        <p:sp>
          <p:nvSpPr>
            <p:cNvPr id="141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19520" y="1571760"/>
              <a:ext cx="21333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 and verification,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58000" y="1600200"/>
            <a:ext cx="21337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700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700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9F12-9E4E-477C-B534-C86C608D58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== Complexity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udy of Complex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an it be don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ased on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inform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naging, manipulating data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ossible algorithm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ell can it be don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ost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efficient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algorithm in terms of time and/or spac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t be done at all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ften, proof is a program--an implementation of the abov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647-6D58-40E1-825A-7E32C81910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versity in Computer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5562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&amp;E around 50%, CS &lt; 20%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1066680"/>
          <a:ext cx="632448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63244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217-D37D-489B-A17C-D4A44C48FD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raduate Enrollme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1517760"/>
            <a:ext cx="7331040" cy="4730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35480" y="1066680"/>
            <a:ext cx="59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hare of S&amp;E Graduate Students by Fiel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CB7-B5C8-457A-A769-FEE9DBAC08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ttracting Computer Scient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mand for software engineers is high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Create new software, applications --&gt; improve productivity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Good starting salaries, esp. compared to other college graduate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mputer science majors are decreasing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Dropped with dot-com bust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osing “normal” people of all genders, ethnicitie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eed to attract and retain more maj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Maintain technical innovation, diversity of idea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Computing’s effect on other field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oes attracting new majors compromise/weaken the discipline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76F-3FB8-47F6-A6FC-A74956456D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pplying What You Know To Other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t the beginning of the semester, some of you ask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y Python?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ll I be able to read/write programs in other programming languages?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ll answer the first by showing that you can do the seco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BC7-A234-4C01-B1E8-BAB4899D8E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" y="2255760"/>
          <a:ext cx="8610480" cy="2697120"/>
        </p:xfrm>
        <a:graphic>
          <a:graphicData uri="http://schemas.openxmlformats.org/drawingml/2006/table">
            <a:tbl>
              <a:tblPr/>
              <a:tblGrid>
                <a:gridCol w="2001960"/>
                <a:gridCol w="1579320"/>
                <a:gridCol w="2425680"/>
                <a:gridCol w="2603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ereotyp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% Tru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rception changed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How to Addres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457200" y="5029200"/>
            <a:ext cx="26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ome stereotypes have some truth to the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905120" y="4191120"/>
            <a:ext cx="761760" cy="9144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0360" y="4906800"/>
            <a:ext cx="18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nce W&amp;L or since CS1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343400" y="4038480"/>
            <a:ext cx="457200" cy="9907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43160" y="5105520"/>
            <a:ext cx="286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n classroom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 a profession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cruitment tools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162920" y="4114800"/>
            <a:ext cx="75960" cy="9907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3049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up1: Julie, Lucy, Vasil, Col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up2: Greg, Dave, Joe, Alex, Na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up3: Ty, Clay, Arturo, Joa, Stua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BEBF-8839-4BDC-B929-056C782BAA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do we need women and minorities and oth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versity of perspective, idea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Robot: makers of Roomb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le and Female co-founder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mes: Missing 50% of marke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ims - most popular game in histor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oader: need applications for all peop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103-B241-4B1A-9FAA-831A04D60D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e impact of computer science on your lif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nderstand some of the computing issues b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aking out some of the myste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curity, testing, debugging, efficienc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gorithms are everywhe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cess for solving proble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ping human intuition to systematic/automatic proc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2CF-3E55-431E-A900-1A647B200C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pplying What You Know To Other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yntax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symbols us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emantic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what the symbols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EA86-EF84-4B49-9CD1-8B351CEE28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Python Program Doing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A6AE-71B5-45D2-B0F1-D827EA864E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Python Program Doing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tting a line of input from “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andard 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 (from the user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litting the input into integ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culating the result to a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ding if a student is admitted, based on the result of the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B42-3DA1-43D7-820E-85D2700486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missions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 University decides to admit students based on a formula that weighs various facto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cores of 70 or better are admit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put: single line, 4 integers, in order bel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880" y="3657600"/>
          <a:ext cx="8305920" cy="26431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eight Factor (Multipli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igh School GP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 - 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AT scor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00-24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P Cours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-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angib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-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CEE-B854-459B-B342-829A3489B1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Input/Expected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371600"/>
          <a:ext cx="7620120" cy="480060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ected Outpu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 1 0 30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N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 10 99 239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 7 82 150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 5 0 99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N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 5 0 100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 5 0 101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0D5-2AA6-49CE-8D36-15EA1F4822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Python Program Doing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tting a line of input from “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andard 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 (from the user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litting the input into integ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culating the result to a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ding if a student is admitted, based on the result of the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3480" y="4834080"/>
            <a:ext cx="67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dentify these pieces in the other program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999-6CBB-4A89-AB5B-4B961752AD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Lab.s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ash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ava, C++, 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ming content problem: determining if someone should be admitted to colle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FA3-6D17-44B7-B461-907BA74CD8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2-03T20:55:52Z</cp:lastPrinted>
  <dcterms:modified xsi:type="dcterms:W3CDTF">2008-04-04T19:40:22Z</dcterms:modified>
  <cp:revision>4174</cp:revision>
  <dc:subject/>
  <dc:title>PowerPoint Presentation</dc:title>
</cp:coreProperties>
</file>