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C86-6611-41D1-899C-1541F7DD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FE3-127A-4836-BB8C-17E6506C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0FD-2957-4E3F-A06A-84798448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EDE-6500-42F4-990D-40B5CDB2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170C1-9618-4657-B408-50F4E413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3D3B1-9ACA-474C-94E4-A19A8C99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12389-B8A4-44DB-8708-AC91C20B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B3A1D-1327-4160-A19D-49D3FFBA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2EC32-A9E0-4CD8-83CA-D32C0543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5E9F9-6557-4117-BEC4-694FE1A9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A0C58-EBAF-4D35-A047-01A2E513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974-BF0B-4052-AC59-7B580B07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21F33-14E7-4F9D-BEEF-1919A151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3D87D-DDA5-4259-B5F3-FCB1E79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56BD7-5D5A-439F-883B-7D66D588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86437-7784-42BD-96C0-D9120D3D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E0857-46A4-4DBA-AFAF-9ADA1638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CE8-B25F-4132-B864-FFEAFAB9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B1D-764D-442D-88E4-9FA7C2F5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8F5-4240-4216-AE88-C9FFA624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140-18D8-42B5-A646-4A5E7C49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B6C-9726-4206-B691-1D1E616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88C-5823-400F-BD7D-3517C4F6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63E-E79C-449C-AC87-968185A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FAD4-2D04-46B6-B779-086DE92A30B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4C17-AF4F-4074-BBD9-70BC80EB59A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roduction to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orking with 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34B-F5B9-43BD-9AD1-669A711026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year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162-BF50-4316-95AB-5E2AC3EAD5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1E2-D356-4D9C-80D9-182A293862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of reading from a file using file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file: data/years.d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is what Python printed different than the file’s conten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to fix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2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l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1752480"/>
            <a:ext cx="3787560" cy="1557000"/>
            <a:chOff x="5105520" y="1752480"/>
            <a:chExt cx="3787560" cy="1557000"/>
          </a:xfrm>
        </p:grpSpPr>
        <p:sp>
          <p:nvSpPr>
            <p:cNvPr id="132" name=""/>
            <p:cNvSpPr/>
            <p:nvPr/>
          </p:nvSpPr>
          <p:spPr>
            <a:xfrm>
              <a:off x="5638680" y="1752480"/>
              <a:ext cx="325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Typically use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da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or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tx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file extension for these types of data/text files 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105520" y="2514240"/>
              <a:ext cx="9144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732-3FA6-4F66-97F0-F7E7F9D348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9320" y="42022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29718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800" y="3094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34750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7800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04F-32B1-4BB4-B586-FB47B0327B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search a file for some term.  We want to know which lines of the file contain that term and a count of the number of lines that contained that te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E76-D194-48A5-9BF4-69CF334AF3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ime, we want to ignore all lines that begin with “#” (a.k.a., the line is a commen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would we have comments in a data fi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ata/years2.da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we revise the previous solution to do thi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A26-1763-4613-81F1-DADF7F6C73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ling Numeric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been dealing with reading and writing string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 we need to do to read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rom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write numbers to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40C-4B09-4798-B8A9-11C5771579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to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file object in write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yFile = file(“years.txt”, “w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create a file from 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e_write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happens if execute the program again with different user inp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63453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799-DB3E-4598-B3C9-6DB03BB092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temp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9FD-BDD5-4C40-B762-7867CA968F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BF9-256D-4B32-AF4B-20D4AA42E1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rger programs require functions to maintain readabilit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main() and other functions to break up your program into smaller, more manageable chunk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away” the detai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s before, you can still write smaller scripts without any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try out functions using smaller script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eed the main() function when using other functions to keep “driver” at top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therwise, functions need to be defined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420-2B7F-4798-B7B5-75CCA52DDC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9320" y="39736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27432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800" y="28656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038120" y="32464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514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DC4-4487-42B9-AFD7-30DD4E4B98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tional Useful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63720"/>
          <a:ext cx="8458200" cy="5387760"/>
        </p:xfrm>
        <a:graphic>
          <a:graphicData uri="http://schemas.openxmlformats.org/drawingml/2006/table">
            <a:tbl>
              <a:tblPr/>
              <a:tblGrid>
                <a:gridCol w="2971800"/>
                <a:gridCol w="54864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ip([chars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the string with the leading and trailing characters removed.  Defaults to whitespace if no characters specified.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--stripping whitespace from beginning and end and using whitespace characters as the delimiter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, using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as the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delimiter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string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start[,end]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lowest index in the string where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.  Return -1 if not fou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lace(old, new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copy of string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ld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replaced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ew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FF0-8557-454A-998B-951DE4C189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Paradigm: Imperativ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modern programming languages ar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numbers and strings in variable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operation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data using operations, such as + (addition and concatenation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and operations are separa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to imperative: object-oriented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BA7-F3AC-4EC0-8127-E7A6FEB32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is a collection of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mb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and method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interact by invoking methods on other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 perform some operation on obj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4C3-2752-4579-932A-590A35D71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been using objects and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Just didn’t call them objec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: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data type (or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 creat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type (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nimal = “cow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ound = “moo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029200"/>
            <a:ext cx="2895480" cy="10666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c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u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moo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58672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0800" y="4568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14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bjects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of type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800" y="556272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975200"/>
            <a:ext cx="161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Variable names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562720"/>
            <a:ext cx="83844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A6D-AF05-4514-892E-DBF37375DC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efined methods that you can use on objects of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methods: lower, replace, find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 are similar to functions but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alled/us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ifferent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bjectname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name([parameter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 animal.upper(), sound.center(1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day: new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with its own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52E-1C5A-495D-9A2C-868FDFF5CA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ow if need to enter a lot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ror-pro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User enters the wrong value!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f want to run again after program gets modifi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577-E400-48F2-B9C1-ED3DE7365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data once into a file, save it, and reuse it in your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for large amounts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s can use files to communic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able to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read 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write to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8769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724280"/>
            <a:ext cx="121932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cri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>
            <a:off x="2228400" y="529560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3"/>
            <a:endCxn id="107" idx="1"/>
          </p:cNvCxnSpPr>
          <p:nvPr/>
        </p:nvCxnSpPr>
        <p:spPr>
          <a:xfrm>
            <a:off x="5047920" y="5295600"/>
            <a:ext cx="16390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733920" y="586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D8B-67E6-4E8C-877C-5472C71CAB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Use of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092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257720"/>
            <a:ext cx="167616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974960"/>
            <a:ext cx="121896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  <a:endCxn id="115" idx="1"/>
          </p:cNvCxnSpPr>
          <p:nvPr/>
        </p:nvCxnSpPr>
        <p:spPr>
          <a:xfrm>
            <a:off x="1923840" y="254592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4" idx="0"/>
          </p:cNvCxnSpPr>
          <p:nvPr/>
        </p:nvCxnSpPr>
        <p:spPr>
          <a:xfrm>
            <a:off x="4114440" y="3137040"/>
            <a:ext cx="1080" cy="11023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20040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eb Page (Text File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2577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1"/>
          </p:cNvCxnSpPr>
          <p:nvPr/>
        </p:nvCxnSpPr>
        <p:spPr>
          <a:xfrm>
            <a:off x="4971960" y="4676400"/>
            <a:ext cx="14104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64600" y="3678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irefo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2840" y="528804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nders” web page for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D68-C3A1-4414-A150-CF25ED2E8A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7T21:27:22Z</cp:lastPrinted>
  <dcterms:modified xsi:type="dcterms:W3CDTF">2007-10-17T21:59:52Z</dcterms:modified>
  <cp:revision>1804</cp:revision>
  <dc:subject/>
  <dc:title>PowerPoint Presentation</dc:title>
</cp:coreProperties>
</file>