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FEB6-03F8-4AD4-89FE-BD86928F2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797CF-C26D-4228-BE83-ED7A2E3D7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9C87-1B02-4CC8-9298-A38C238B1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4BE3-A5A2-442B-A599-7CF1E1776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203386-2DDC-418D-844B-8D17D29E1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1366E9-59D1-4B3E-AF0D-B20705012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396DB2-EC6D-480F-864C-459CF9DA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93FAE-03EA-4581-9FCE-01A0032C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AB1F08-D068-4D3C-BB2A-286C85C2E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67DE4D-3067-498E-B7AD-355E490A7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C9A041-2BEA-45E7-9762-AB6D1CD3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29B8-1C52-47BE-AA14-7A9C227BA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263F9-D301-4F20-B183-290B047A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793E44-60F5-4F93-8382-87AF83F4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03774D-7F56-41C5-925D-0D487DB5D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95A77-3AE0-4D02-B1E8-4EDC16D7F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09752A-8E2A-4602-89D3-B697293E4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207A-F5EA-42B2-8278-7412EE8C7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5A02-894F-4E60-8807-2C237C3E0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5968-692C-41DE-9F81-0E9C3A059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FB14-C719-4CCF-BA10-03D084B27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35E-9C24-4F46-A02A-04B6042E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0D3-6575-4A2C-952D-B7D0BDA8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7542-DCE8-4175-BF8F-D0DD2BFD9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C4C4-8728-456D-8EDE-AA17535C159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31E8-43D0-4ED0-8142-CD67A3C2A81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arithmetic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cal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Modulo Operator: %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Modular Arithmetic: Remainder from divi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Works with integers on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6 % 4 is read as “six mod four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3 % 6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2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7 % 14 =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14 % 7 =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FB8D6-6759-4DA2-AD44-D3564251463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Brainsto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1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10 do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 %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% 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/10 do (integer division)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3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51/10 =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40/10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678/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8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Arial"/>
              </a:rPr>
              <a:t>12543 / 10 =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Arial"/>
              </a:rPr>
              <a:t>What useful thing does % 2 do?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26A2-1822-46C2-8146-DC9ED0320F4A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1: Type Conver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ou can convert a variable’s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Use the type’s </a:t>
            </a:r>
            <a:r>
              <a:rPr b="1" lang="en-GB" sz="2800" spc="-1" strike="noStrike">
                <a:solidFill>
                  <a:srgbClr val="010199"/>
                </a:solidFill>
                <a:latin typeface="Arial"/>
              </a:rPr>
              <a:t>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04920" y="2514600"/>
          <a:ext cx="8610480" cy="3487680"/>
        </p:xfrm>
        <a:graphic>
          <a:graphicData uri="http://schemas.openxmlformats.org/drawingml/2006/table">
            <a:tbl>
              <a:tblPr/>
              <a:tblGrid>
                <a:gridCol w="3657600"/>
                <a:gridCol w="2209680"/>
                <a:gridCol w="274320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version Function/Constructo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Value Returned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912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3.77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(“33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ng(1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2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&lt;number or string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loat(22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2.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08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&lt;any value&gt;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(99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9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9C85-7659-4B0E-BD8F-A510E633255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rick #2: Arithmetic Shorthan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544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alled </a:t>
            </a:r>
            <a:r>
              <a:rPr b="1" lang="en-GB" sz="3200" spc="-1" strike="noStrike">
                <a:solidFill>
                  <a:srgbClr val="010199"/>
                </a:solidFill>
                <a:latin typeface="Arial"/>
              </a:rPr>
              <a:t>extended assignment operators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x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+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ecrement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= x –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-=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nd oth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 /= 2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mount *= 1.05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DB84-5B20-48EC-9991-95A83589320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371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Revise average three numbers to make result have type </a:t>
            </a:r>
            <a:r>
              <a:rPr b="0" lang="en-GB" sz="3200" spc="-1" strike="noStrike">
                <a:solidFill>
                  <a:srgbClr val="020202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two approach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elsius to Fahrenhei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F = (9/5)C + 3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est cas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E11D-2D8C-4E1F-BFFB-D32578296922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280" y="4114800"/>
            <a:ext cx="86868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I feel ” + “sleepy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Oops! “ *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4920" y="1219320"/>
          <a:ext cx="8534160" cy="2251080"/>
        </p:xfrm>
        <a:graphic>
          <a:graphicData uri="http://schemas.openxmlformats.org/drawingml/2006/table">
            <a:tbl>
              <a:tblPr/>
              <a:tblGrid>
                <a:gridCol w="1752480"/>
                <a:gridCol w="2666880"/>
                <a:gridCol w="411480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n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ntax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1 + str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two strings into one str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tr * num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e string </a:t>
                      </a:r>
                      <a:r>
                        <a:rPr b="0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num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im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the following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the string variabl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promp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or the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so that it prompts the user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448640" y="1828800"/>
            <a:ext cx="322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IN = “1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_MAX=“10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cale = input( prompt 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4952880"/>
            <a:ext cx="80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 a scale of 1 to 10, how much do you like Matt Damon?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91040" y="6248520"/>
            <a:ext cx="12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sca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tomorr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some little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view your notes about programm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other half of Four Problems in Cyberspace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79440" y="1563840"/>
            <a:ext cx="170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ound sig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4190760" y="1828800"/>
            <a:ext cx="1600200" cy="30492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7D1D-96B6-4373-A325-4F65C4426A5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Assignment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ssignment statements are NOT math equ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ount = count +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se are command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cccc"/>
                </a:solidFill>
                <a:latin typeface="Arial"/>
              </a:rPr>
              <a:t>x = x + 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What’s the value of 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D3D-A799-4B5F-AFFE-516FC99DF47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1398600"/>
          <a:ext cx="8229600" cy="3584520"/>
        </p:xfrm>
        <a:graphic>
          <a:graphicData uri="http://schemas.openxmlformats.org/drawingml/2006/table">
            <a:tbl>
              <a:tblPr/>
              <a:tblGrid>
                <a:gridCol w="1936800"/>
                <a:gridCol w="3625560"/>
                <a:gridCol w="26672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ssociativit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f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igh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6" name=""/>
          <p:cNvSpPr/>
          <p:nvPr/>
        </p:nvSpPr>
        <p:spPr>
          <a:xfrm>
            <a:off x="520920" y="5511960"/>
            <a:ext cx="65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ual precedence rules (P E - DM% AS)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29520" y="6248520"/>
            <a:ext cx="134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g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 flipV="1">
            <a:off x="5333760" y="5867280"/>
            <a:ext cx="75960" cy="609840"/>
          </a:xfrm>
          <a:prstGeom prst="line">
            <a:avLst/>
          </a:prstGeom>
          <a:ln w="38160">
            <a:solidFill>
              <a:srgbClr val="00b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T Math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to write out all operations explicit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math class, a (b+1) meant a * (b+1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6080" y="2514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Write this way in 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6287760" y="1636200"/>
            <a:ext cx="304920" cy="1450800"/>
          </a:xfrm>
          <a:custGeom>
            <a:avLst/>
            <a:gdLst>
              <a:gd name="textAreaLeft" fmla="*/ 194760 w 304920"/>
              <a:gd name="textAreaRight" fmla="*/ 305280 w 304920"/>
              <a:gd name="textAreaTop" fmla="*/ 37800 h 1450800"/>
              <a:gd name="textAreaBottom" fmla="*/ 1413000 h 1450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46280" y="4025880"/>
            <a:ext cx="298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5+3*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-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** 3 ** 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Two Types of Divi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7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Float Division: Result is a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flo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.0/6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.0/3.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At least one number must have a decimal, i.e., have typ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flo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teger Division: Result is an </a:t>
            </a:r>
            <a:r>
              <a:rPr b="0" lang="en-GB" sz="3200" spc="-1" strike="noStrike">
                <a:solidFill>
                  <a:srgbClr val="00b000"/>
                </a:solidFill>
                <a:latin typeface="Courier New"/>
              </a:rPr>
              <a:t>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3/6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6/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x/y, if both x and y are i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oth numbers are </a:t>
            </a:r>
            <a:r>
              <a:rPr b="0" lang="en-GB" sz="2800" spc="-1" strike="noStrike">
                <a:solidFill>
                  <a:srgbClr val="010199"/>
                </a:solidFill>
                <a:latin typeface="Courier New"/>
              </a:rPr>
              <a:t>int</a:t>
            </a: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B483-25D7-42EE-A872-42D7229CB04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ivision Practice (NOT Math class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8240" cy="41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x = 6/4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y = 4 / 6 * 5.0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 = 6/12.0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b = 6.0/12;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.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z = x / 3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05360" y="1231920"/>
            <a:ext cx="808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What is the result?  What is the </a:t>
            </a:r>
            <a:r>
              <a:rPr b="1" lang="en-US" sz="2800" spc="-1" strike="noStrike">
                <a:solidFill>
                  <a:srgbClr val="2017b8"/>
                </a:solidFill>
                <a:latin typeface="Arial"/>
              </a:rPr>
              <a:t>type</a:t>
            </a:r>
            <a:r>
              <a:rPr b="0" lang="en-US" sz="2800" spc="-1" strike="noStrike">
                <a:solidFill>
                  <a:srgbClr val="2017b8"/>
                </a:solidFill>
                <a:latin typeface="Arial"/>
              </a:rPr>
              <a:t> of the value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0188-E91D-410B-B16B-94B2BB5B0D7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8T15:12:04Z</dcterms:modified>
  <cp:revision>407</cp:revision>
  <dc:subject/>
  <dc:title>PowerPoint Presentation</dc:title>
</cp:coreProperties>
</file>