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0E1-6431-48A3-AEEE-F475FC61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08C-3DDF-4E4C-882C-85F5FCA9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6B3-3E84-454D-8922-58BDFC48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BCF-D5C3-4C80-BDA6-429C05B4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197E2-1258-477B-9B98-D7CD36E0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53932-A3BD-4243-868A-BE220BAF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3F992-32A9-4F0A-902D-7E4DE80A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0B332-B1F7-458B-A7B2-FB9F19C8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7C2BA-4BF6-4C32-9836-1EA9F3CA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CC9CC-A87D-42B1-BB1D-06905970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42131-2083-4B69-B295-3B536F2B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22B-71BE-47E5-A9DB-A4D4DCD1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E2A4F-7B3B-4330-9063-D051EBCA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0C9E7-7FE8-49B5-B228-C81437C4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4F894-B851-4514-BC5B-B061A4E9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F6299-F1FC-4713-AF3D-38B74393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F9024-4125-4B98-B9DC-70701B8E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533-BFF1-4D80-B27F-CAD50A7C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73E-1F2D-4F90-9D89-688C94E3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1AA-713B-4103-9DEF-1CEBF2CC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079-3C1C-46C8-BC27-B8EA3916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9E2-0C95-45E1-A2A3-10A78CF4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9E4-F20B-4DA3-9314-9600D561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E1A-6635-4053-83F2-17498B3D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95E7-BC00-4B3A-9B8B-2DE23AEBE49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F30A-F39B-45FC-BD67-3966CA0B24A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mly Lab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 Sanitiz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rgonomic inform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234-D4DB-42CF-A487-F9DB961400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lowercase string using a key, preserving spaces in # the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a lowercase string to be encoded (toEncode) and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integer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A2A-3F77-4F30-A975-38FC60B4DB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ll-named parameters make documentation easi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’m not strict on the pre/post format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ust need to be clear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the function does (at high leve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s of 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 of th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caller knows what to pass to the function and if they should assign the output to a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D28-E367-4D7D-AD06-5819885791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al or No Deal Over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ave 26 cases with various amounts of mone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mounts are know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selects a case (hope has the big jackpot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 each round, player opens up cas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veals amounts that are not in the case they cho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anker makes an offer to buy the ca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decides if want to take the de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Is the offer more than what is in the ca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ake decision based on amounts that haven’t been opened yet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ames ends when only one more case to open or player takes the deal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2BA-A7ED-47F1-A5AC-8DE9AC3D38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: Deal or No De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lay the game, written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: partial solution in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r job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, understand given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l in the functions for a complete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C2F-CBCF-4030-8EDE-BF3A8CD265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6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arm up problems us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al or No Dea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1E7-FFB7-4DA2-A63F-902D5AD1A8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 functions at top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statements at top of program (outside of any function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/algorithm improv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through the string as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ather than iterating through positions in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encode a letter if it’s not a spa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66680" y="5288040"/>
            <a:ext cx="46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h != “ “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# convert to ASCII, etc.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35F-B54E-4852-B325-9DCE3BD6F3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gic Numb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lot of you used 97, 122, 26 explicitly in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times not documented (commented) wh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ASCII values changed or used different representa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to use constants and lookup valu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65320" y="4640400"/>
            <a:ext cx="6835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WER_BOUND = ord(‘a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PPER_BOUND = ord(‘z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GE = UPPER_BOUND-LOWER_BOUND +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53B-A8F8-4438-92A2-EB6F85AF84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ability/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ed translate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d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lightly decreased efficiency because adds another function ca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yoff in readability domina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4B5-F841-40D5-91AF-C0F84D6821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functions, programs/modules at high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inside functions at low-level (implementation de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derived from students’ submissions)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365720"/>
            <a:ext cx="8305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C85-ADEA-4BB1-B9A4-01898CEC19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is This a Good Commen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s the input parameters’ types and implies the type of the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ys that if you give it negative numbers, you could get a goofy answer 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include implementation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ells caller how to us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066680"/>
            <a:ext cx="8305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31A-EB2F-4E39-944B-B72D6180F3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5680" y="373392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2E3-D92F-47B6-A35A-CB41422A84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66880"/>
            <a:ext cx="8077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single character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eters are a single,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 lowercas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tring (char) and an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nteger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943-E6E4-4814-A96F-687A0F6FCE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666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C65-CAC3-4F2D-A605-69DDA29D9F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3T16:58:19Z</cp:lastPrinted>
  <dcterms:modified xsi:type="dcterms:W3CDTF">2007-10-23T18:50:03Z</dcterms:modified>
  <cp:revision>2297</cp:revision>
  <dc:subject/>
  <dc:title>PowerPoint Presentation</dc:title>
</cp:coreProperties>
</file>