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CA88-9C41-4A2B-A2AF-E67E259FE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4C3-9A8C-4997-A35D-06AE3C79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A350C-9208-4FC1-85A0-D349688AF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2E89-309A-4770-96AB-A59B2DD74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A2F4AD-FCC8-4FDC-9429-5343D41DE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D385F4-A447-433F-A726-BABC2FCAA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694AAD-26DB-416F-87E3-05A590C5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B505FE-C226-4F3E-86C2-B53D906F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61CC58-798A-4FA9-AAD4-BCCF3A9DD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5E79CD-9B6D-455F-A705-D3FEFB87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62F8C4-729E-4C55-9E2F-DA9A8B17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5B0-CC63-4CD0-B6CD-C957CA99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D6D37F-10AD-4B67-834B-7E627405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76FA8-E11C-4EB2-8BFA-1D0A2F58D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4AF35-F6CE-44D5-BB00-6F291C80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A83271-9283-4B7B-8F33-79356F45F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E7099-52D7-4F39-83B8-A37A5E233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97C85-160C-4959-AEAB-4AA71CBE8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1B95-F488-4C30-9948-8EECD327F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42BB-DBE2-450D-AD5F-7FBA7D46F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F3BB-773A-4F10-8969-CB1302E0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483-1AA6-4E61-981F-3003744DD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FD01-1174-4D93-A2DC-0BBBCECA1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120A-267E-418E-96AE-2031171B1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90A1-A034-437D-85D0-24A1DB32158B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95D9-5CFA-4854-8358-9057886CB1C1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definite for loops, xran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ut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 Puzzles From Cyberspac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756C-7909-4342-97A9-B3023A50C8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blem with 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default, 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uts spaces around numbers when they get printed o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439000" y="2666880"/>
            <a:ext cx="426060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13.54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, x, “.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5E9E7-6962-44A2-80B6-334E6CDF3B2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olution: using str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call: str() is constructor/converter function to convert other data types to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(33) </a:t>
            </a:r>
            <a:r>
              <a:rPr b="0" lang="en-US" sz="2800" spc="-1" strike="noStrike">
                <a:solidFill>
                  <a:srgbClr val="010199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‘33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constructor with th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+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i.e., concatenation) operator when printing output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owe $” + str(x)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39FF-00BA-47AA-8EEF-F415A5C918D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nother problem with prin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146520" y="1522440"/>
            <a:ext cx="8776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SALES_TAX=.05 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# the sales tax in V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value = input("How much does your item cost?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tax = value * (1+SALES_TAX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value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)"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, tax,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with tax"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43040" y="6172200"/>
            <a:ext cx="18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ales_tax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11768-9FAC-47D3-BA82-1BF43EC9F4D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5228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ormat specifiers give control over how output is displayed to us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ight, left justificatio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ber of decimals to display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3560" y="2328840"/>
            <a:ext cx="822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Your item that cost (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)”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value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print 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"costs $</a:t>
            </a:r>
            <a:r>
              <a:rPr b="0" lang="en-US" sz="2400" spc="-1" strike="noStrike">
                <a:solidFill>
                  <a:srgbClr val="ff8ef4"/>
                </a:solidFill>
                <a:latin typeface="Courier New"/>
              </a:rPr>
              <a:t>%.2f</a:t>
            </a:r>
            <a:r>
              <a:rPr b="0" lang="en-US" sz="2400" spc="-1" strike="noStrike">
                <a:solidFill>
                  <a:srgbClr val="2017b8"/>
                </a:solidFill>
                <a:latin typeface="Courier New"/>
              </a:rPr>
              <a:t> with tax” </a:t>
            </a:r>
            <a:r>
              <a:rPr b="0" lang="en-US" sz="2400" spc="-1" strike="noStrike">
                <a:solidFill>
                  <a:srgbClr val="33cccc"/>
                </a:solidFill>
                <a:latin typeface="Courier New"/>
              </a:rPr>
              <a:t>%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 t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934320" y="1566720"/>
            <a:ext cx="0" cy="76212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5400000">
            <a:off x="6095880" y="278604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608800" y="35020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rot="5400000">
            <a:off x="7467480" y="2481120"/>
            <a:ext cx="457200" cy="914400"/>
          </a:xfrm>
          <a:custGeom>
            <a:avLst/>
            <a:gdLst>
              <a:gd name="textAreaLeft" fmla="*/ 0 w 457200"/>
              <a:gd name="textAreaRight" fmla="*/ 164880 w 4572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V="1" rot="16200000">
            <a:off x="5790600" y="1828440"/>
            <a:ext cx="457200" cy="762120"/>
          </a:xfrm>
          <a:custGeom>
            <a:avLst/>
            <a:gdLst>
              <a:gd name="textAreaLeft" fmla="*/ 0 w 457200"/>
              <a:gd name="textAreaRight" fmla="*/ 164880 w 4572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8e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127760" y="15969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8ef4"/>
                </a:solidFill>
                <a:latin typeface="Tahoma"/>
              </a:rPr>
              <a:t>Format specifi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4011A-F023-4CDF-80D5-27555D8862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lags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0: zero fil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+: adds a + sign before positive valu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-: left-justification (default is right-justification)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Minimum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number of character spaces reserved to display the entire valu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cludes decimal point, digits before and after the decimal point and the sign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838080"/>
            <a:ext cx="242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he 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[]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mean “</a:t>
            </a:r>
            <a:r>
              <a:rPr b="0" lang="en-US" sz="2800" spc="-1" strike="noStrike">
                <a:solidFill>
                  <a:srgbClr val="010199"/>
                </a:solidFill>
                <a:latin typeface="Tahoma"/>
              </a:rPr>
              <a:t>optional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”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6999-3673-4D9E-BAF5-53F71E8D3A6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eneral format: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%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[flags][width][.precision]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cod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cision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75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Number of digits after the decimal point for </a:t>
            </a:r>
            <a:r>
              <a:rPr b="1" lang="en-US" sz="27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2700" spc="-1" strike="noStrike">
                <a:solidFill>
                  <a:srgbClr val="020202"/>
                </a:solidFill>
                <a:latin typeface="Arial"/>
              </a:rPr>
              <a:t> values</a:t>
            </a:r>
            <a:endParaRPr b="0" lang="en-US" sz="27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d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Indicates the value’s </a:t>
            </a: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type/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ay to forma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 -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d (or i) - integer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f - floating poi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lnSpc>
                <a:spcPct val="90000"/>
              </a:lnSpc>
              <a:spcBef>
                <a:spcPts val="64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 - floating point with exponen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9F8C-F44B-4144-9956-AA9568B328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ic format i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&lt;templatestring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%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(&lt;value1&gt;, &lt;value2&gt;, …, &lt;valuen&gt;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templatestr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template for the print statement with format specifiers instead of the valu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ach format specifier in templatestring, should have a </a:t>
            </a:r>
            <a:r>
              <a:rPr b="1" lang="en-US" sz="2800" spc="-1" strike="noStrike">
                <a:solidFill>
                  <a:srgbClr val="00c600"/>
                </a:solidFill>
                <a:latin typeface="Arial"/>
              </a:rPr>
              <a:t>replacement val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rows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TypeErr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f not enough replacements for specifiers in template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If only one replacement value, don’t need ()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77280" y="114300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Arial"/>
              </a:rPr>
              <a:t>Formatting operat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>
            <a:off x="4876920" y="1371600"/>
            <a:ext cx="9144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862880" y="228600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placement valu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5400000">
            <a:off x="6629400" y="685440"/>
            <a:ext cx="380880" cy="3124080"/>
          </a:xfrm>
          <a:custGeom>
            <a:avLst/>
            <a:gdLst>
              <a:gd name="textAreaLeft" fmla="*/ 0 w 380880"/>
              <a:gd name="textAreaRight" fmla="*/ 137520 w 380880"/>
              <a:gd name="textAreaTop" fmla="*/ 81360 h 3124080"/>
              <a:gd name="textAreaBottom" fmla="*/ 30427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B504-B1C3-4453-A91E-E5C695CA6B0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228600" y="426672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0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1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A4E6-490D-45EF-A270-DB2C1CA378A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 Specifi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228600" y="4114800"/>
            <a:ext cx="86868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precision is bigger than the decimal places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Fills decimal with 0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hat if field width is smaller than the length of the value?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ints entire valu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16040" y="26640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304920" y="1676520"/>
          <a:ext cx="2971800" cy="517320"/>
        </p:xfrm>
        <a:graphic>
          <a:graphicData uri="http://schemas.openxmlformats.org/drawingml/2006/table">
            <a:tbl>
              <a:tblPr/>
              <a:tblGrid>
                <a:gridCol w="593640"/>
                <a:gridCol w="595440"/>
                <a:gridCol w="593640"/>
                <a:gridCol w="595080"/>
                <a:gridCol w="594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4" name=""/>
          <p:cNvSpPr/>
          <p:nvPr/>
        </p:nvSpPr>
        <p:spPr>
          <a:xfrm rot="16200000">
            <a:off x="1562040" y="1104840"/>
            <a:ext cx="457200" cy="2819520"/>
          </a:xfrm>
          <a:custGeom>
            <a:avLst/>
            <a:gdLst>
              <a:gd name="textAreaLeft" fmla="*/ 292320 w 457200"/>
              <a:gd name="textAreaRight" fmla="*/ 457560 w 45720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3657600" y="1523880"/>
          <a:ext cx="5181480" cy="517680"/>
        </p:xfrm>
        <a:graphic>
          <a:graphicData uri="http://schemas.openxmlformats.org/drawingml/2006/table">
            <a:tbl>
              <a:tblPr/>
              <a:tblGrid>
                <a:gridCol w="576360"/>
                <a:gridCol w="574560"/>
                <a:gridCol w="576360"/>
                <a:gridCol w="576360"/>
                <a:gridCol w="574560"/>
                <a:gridCol w="576360"/>
                <a:gridCol w="576000"/>
                <a:gridCol w="574920"/>
                <a:gridCol w="576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6" name=""/>
          <p:cNvSpPr/>
          <p:nvPr/>
        </p:nvSpPr>
        <p:spPr>
          <a:xfrm>
            <a:off x="245520" y="1063800"/>
            <a:ext cx="31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5d” % mon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565880" y="990720"/>
            <a:ext cx="357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%9.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” % expen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 rot="16200000">
            <a:off x="8115120" y="1714320"/>
            <a:ext cx="304560" cy="1143000"/>
          </a:xfrm>
          <a:custGeom>
            <a:avLst/>
            <a:gdLst>
              <a:gd name="textAreaLeft" fmla="*/ 194760 w 304560"/>
              <a:gd name="textAreaRight" fmla="*/ 304920 w 3045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6095880" y="377640"/>
            <a:ext cx="457200" cy="5181480"/>
          </a:xfrm>
          <a:custGeom>
            <a:avLst/>
            <a:gdLst>
              <a:gd name="textAreaLeft" fmla="*/ 292320 w 457200"/>
              <a:gd name="textAreaRight" fmla="*/ 457560 w 457200"/>
              <a:gd name="textAreaTop" fmla="*/ 135000 h 5181480"/>
              <a:gd name="textAreaBottom" fmla="*/ 5046480 h 5181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83120" y="3121200"/>
            <a:ext cx="22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ield width is 9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999480" y="2362320"/>
            <a:ext cx="204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ecision is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527920" y="33526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Right-justifi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78E5-D821-4A99-9189-57E45EC7062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 output from xrange_analysis.py nic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79B-51AD-4FC7-9797-17121EF7E2D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ming Building Block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655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type of statement is a building blo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itialization/Assign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Arithmetic, string concatenation, input/raw_inpu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loop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257800" y="1981080"/>
            <a:ext cx="1523880" cy="60984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7238880" y="1981080"/>
            <a:ext cx="1524240" cy="60984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086600" y="2971800"/>
            <a:ext cx="1752480" cy="609480"/>
          </a:xfrm>
          <a:prstGeom prst="cube">
            <a:avLst>
              <a:gd name="adj" fmla="val 25000"/>
            </a:avLst>
          </a:prstGeom>
          <a:solidFill>
            <a:srgbClr val="00c600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o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324480" y="1143000"/>
            <a:ext cx="1752840" cy="609480"/>
          </a:xfrm>
          <a:prstGeom prst="cube">
            <a:avLst>
              <a:gd name="adj" fmla="val 25000"/>
            </a:avLst>
          </a:prstGeom>
          <a:solidFill>
            <a:srgbClr val="ff8ef4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mpor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DC1A-84AC-4A8A-B0FA-84C884FEBD9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he Exciting Conclusion of Four Puzzles in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text: Book </a:t>
            </a: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Code v2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y Lawrence Lessi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You read Chapter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esents the problems, not the author’s proposed solu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65BC-A78B-440B-AAAE-945F1561DDA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uzzles in Cyberspace 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main themes/puzzles of the book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ch is the most important puzzle to solv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CS information would you need to know to be able to propose 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A26F-0DC6-451A-A611-345FFD798D2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876920" y="4267080"/>
            <a:ext cx="1752480" cy="685800"/>
          </a:xfrm>
          <a:prstGeom prst="cube">
            <a:avLst>
              <a:gd name="adj" fmla="val 25000"/>
            </a:avLst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esign Patter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al, repeatable solution to a commonly occurring problem in software desig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for sol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(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Standard Algorithm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et input from us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some compu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out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76920" y="38862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76920" y="3429000"/>
            <a:ext cx="1752480" cy="609480"/>
          </a:xfrm>
          <a:prstGeom prst="cube">
            <a:avLst>
              <a:gd name="adj" fmla="val 25000"/>
            </a:avLst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Assign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3497400"/>
            <a:ext cx="2209680" cy="14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 = input(“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ns = 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an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7582-A1D3-498C-9E49-D342CE9EE83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</a:t>
            </a: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 </a:t>
            </a:r>
            <a:r>
              <a:rPr b="1" lang="en-US" sz="4000" spc="-1" strike="noStrike">
                <a:solidFill>
                  <a:srgbClr val="2017b8"/>
                </a:solidFill>
                <a:latin typeface="Courier New"/>
              </a:rPr>
              <a:t>For </a:t>
            </a: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for when know how many times loop will execut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peat N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for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coun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 xrange(10)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…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atement_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14800" y="3809880"/>
            <a:ext cx="838080" cy="1981440"/>
          </a:xfrm>
          <a:custGeom>
            <a:avLst/>
            <a:gdLst>
              <a:gd name="textAreaLeft" fmla="*/ 0 w 838080"/>
              <a:gd name="textAreaRight" fmla="*/ 302760 w 83808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14440" y="4343400"/>
            <a:ext cx="28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 “Body” of for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Gets repea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c6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e indenta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055E-9C05-4111-8719-4C902C058A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Courier New"/>
              </a:rPr>
              <a:t>xrang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a built-in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 argument: xrange(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2 arguments: xrange(start, sto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3 arguments: xrange(start, stop, step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4920" y="419112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02080" y="4568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029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14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657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9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86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15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257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00400" y="449568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14840" y="4495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2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400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65424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315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7724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00100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5438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767360" y="44956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2296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45820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050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64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478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51928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290680" y="38098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058840" y="44956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0574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288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03560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143000" y="380700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39520" y="44928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9097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1120" y="40384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2160" y="586440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[start, stop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19720" y="40384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705720" y="40384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559320" y="5211720"/>
            <a:ext cx="197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xrange(0,10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9B09-708F-4DD9-B187-DC027F592F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Courier New"/>
              </a:rPr>
              <a:t>xrange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449568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402080" y="487368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343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114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57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15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57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572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200400" y="480060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514840" y="48006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43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172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629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00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65424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086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315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7724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00100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438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767360" y="480060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296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50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9764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78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1928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90680" y="411480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58840" y="480060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0574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288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371600" y="434016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411156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9520" y="479736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97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1120" y="434340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50200" y="3657600"/>
            <a:ext cx="26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5, -15, -5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562720" y="434016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33720" y="434340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04920" y="2057400"/>
            <a:ext cx="8534160" cy="0"/>
          </a:xfrm>
          <a:prstGeom prst="line">
            <a:avLst/>
          </a:prstGeom>
          <a:ln w="38160">
            <a:solidFill>
              <a:srgbClr val="020202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402080" y="243540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029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43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14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886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657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29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715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200400" y="2362320"/>
            <a:ext cx="4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514840" y="236232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43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172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629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858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00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5424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86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15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0100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5438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67360" y="23623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296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50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9764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27478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1928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90680" y="1676520"/>
            <a:ext cx="0" cy="7617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058840" y="236232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0574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1901880"/>
            <a:ext cx="0" cy="3049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143000" y="1673280"/>
            <a:ext cx="0" cy="76212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9520" y="2359080"/>
            <a:ext cx="62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-1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9097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1905120"/>
            <a:ext cx="0" cy="304560"/>
          </a:xfrm>
          <a:prstGeom prst="line">
            <a:avLst/>
          </a:prstGeom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36520" y="1219320"/>
            <a:ext cx="24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range(1, 15, 3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6483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190188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3341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199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7057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520" y="1901880"/>
            <a:ext cx="304560" cy="304920"/>
          </a:xfrm>
          <a:prstGeom prst="ellipse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990720" y="4343400"/>
            <a:ext cx="304560" cy="304920"/>
          </a:xfrm>
          <a:prstGeom prst="ellipse">
            <a:avLst/>
          </a:prstGeom>
          <a:noFill/>
          <a:ln w="381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895480"/>
            <a:ext cx="30481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294920" y="5562720"/>
            <a:ext cx="4419720" cy="0"/>
          </a:xfrm>
          <a:prstGeom prst="line">
            <a:avLst/>
          </a:prstGeom>
          <a:ln w="3816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72600" y="61722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ew_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C6E4-AC71-4C22-B3D3-ACD76D4220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ccumulator Design Patte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accumulator vari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p until do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pdate the value of the accumul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play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4C9A-51B8-4553-BFE1-5BCD0F4B839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dd 5 numbers, inputted by the us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ep through in memo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D2A9-85CE-4640-8400-37FCAA5204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rmat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the output from the program easy for user to read, understan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tting Option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str() construc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mat specifi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2A300-647E-45F4-AC21-AC628F9792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4T17:57:21Z</dcterms:modified>
  <cp:revision>341</cp:revision>
  <dc:subject/>
  <dc:title>PowerPoint Presentation</dc:title>
</cp:coreProperties>
</file>