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D803-3A00-4E6D-9052-629BC9083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4CE25-C7D9-410C-B851-9E9F3642D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B14FA-22E2-4261-A59B-93A5AD54BA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3A82F-4BF6-4573-B20D-86D0CF39B8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D55F90-94C3-4580-B1EE-A038B42D8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1BB5D-C39B-454C-8DCB-05BEE9AAE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3A18C3-D8A4-430E-BA76-714216089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D573781-D965-409C-A620-44E3079DF1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EBD17D2-A687-4FCE-B687-10774BA57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BBF0367-D24B-460C-88C6-338B977BA1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7B9674A-C96B-440D-BF1A-1C13AC431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EA2B7-699B-408E-B39C-E695DB4CCC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7B0B04-BE50-4CF3-9386-116D7059C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5603058-2408-4FC5-BBCA-62E07B1CC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1341C7-2B97-450E-AD99-5F585D490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DE237C-B470-42E3-86D9-87BEEB7DC2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4264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3889080"/>
            <a:ext cx="279684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4BF07B9-FA6A-4264-AD49-D7DAFC706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0E38A-1F36-4BB5-B006-343FF468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9FA2-A4D5-41B8-A91C-20E0D5F2A8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2B314-1F82-4E78-A1F6-B8B503966B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68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FF292-84A1-477C-922B-8D2B81DAAC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261AF-DED3-4632-A9D9-A8D312A9C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80000" y="388908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544D2-01BD-4622-A2A3-23DB9EF717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80000" y="1142640"/>
            <a:ext cx="42390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9080"/>
            <a:ext cx="8686800" cy="2507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B705-73FF-432C-9B07-C9F58D5C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3" marL="1598760" indent="-289080"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4" marL="2006640" indent="-29196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5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6" marL="2006640" indent="-291960">
              <a:spcBef>
                <a:spcPts val="799"/>
              </a:spcBef>
              <a:buClr>
                <a:srgbClr val="020202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Oct 5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29B2D1-1E2B-4AF2-8683-0CEE7FBC3CD0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B19CE-F33A-41A6-9ABA-3F81FA2FFF85}" type="slidenum">
              <a:rPr b="0" lang="en-US" sz="1400" spc="-1" strike="noStrike">
                <a:solidFill>
                  <a:srgbClr val="02020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20202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20202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view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representation: ASCII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tring method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Broader Issue: Environmental Monito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812880" y="6827760"/>
            <a:ext cx="183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3C406-F0AD-4400-B0C2-95D89909DE83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Representa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 string is a sequence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ach character is stored as a binary number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SCII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(American Standard Code for Information Interchange) is one standard encoding for characters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problem with ASCII is that it is based on the English languag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not represent other types of character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Unicode is a new standar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andout: fix second ‘Q’ and ‘R’ to lowercas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0080" y="6245280"/>
            <a:ext cx="31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 Table Handou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E7EF4-B286-41C8-BAAE-0E09A4CD9C5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41B5-E757-4F16-B7BA-3C3CF3603A7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SCII Ques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w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97--12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ppercase letters are represented by what range of number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65--90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is the difference between the decimal encoding of ‘M’ and ‘N’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etween ‘m’ and ‘n’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E7502-427D-432E-99AD-08B5A89B61C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Translating to/from ASCII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 character into its ASCII numeric code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or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rd('a') ==&gt; 97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ranslate an ASCII numeric code into its character using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ch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hr(97) ==&gt; 'a'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501520" y="5952960"/>
            <a:ext cx="2082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_tabl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scii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4C92-4104-4282-8FD7-CB9C3F9901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Encrypt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cess of encoding information to keep it secu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One technique: Substitution Ciph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ach character in message is replaced by a new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esar Cip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Replace with a character X places away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Julius Caesar used it to communicate with his generals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ap around”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lnSpc>
                <a:spcPct val="90000"/>
              </a:lnSpc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Write program(s) to do this in lab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C1871-E89F-41BF-B5B2-76C8038CD6C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Comparis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ame operations as with numbers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==, !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, &l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gt;, &gt;=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in conditions for if statements and while loo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49800" y="2514600"/>
            <a:ext cx="372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phabetical compariso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09680" y="2286000"/>
            <a:ext cx="228600" cy="990720"/>
          </a:xfrm>
          <a:custGeom>
            <a:avLst/>
            <a:gdLst>
              <a:gd name="textAreaLeft" fmla="*/ 0 w 228600"/>
              <a:gd name="textAreaRight" fmla="*/ 8244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c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308200" y="6245280"/>
            <a:ext cx="285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compare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4185B-7C77-46CA-8BAF-54BB254765C7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</a:t>
            </a:r>
            <a:r>
              <a:rPr b="1" lang="en-US" sz="4000" spc="-1" strike="noStrike">
                <a:solidFill>
                  <a:srgbClr val="2017b8"/>
                </a:solidFill>
                <a:latin typeface="Tahoma"/>
              </a:rPr>
              <a:t>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Methods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: available operations to perform on string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lightly different than function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 method: find(substring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Finds the index where substring is in str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turns -1 if substring isn’t fou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o call a method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tring&gt;.methodname([arguments]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filename.find(“.py”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408320" y="6126120"/>
            <a:ext cx="346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Executed on this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3048120" y="5866920"/>
            <a:ext cx="304560" cy="30492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EDAB0-55C3-4EF0-A6AC-FADD2B1CEDC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mmon String Method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graphicFrame>
        <p:nvGraphicFramePr>
          <p:cNvPr id="144" name=""/>
          <p:cNvGraphicFramePr/>
          <p:nvPr/>
        </p:nvGraphicFramePr>
        <p:xfrm>
          <a:off x="304920" y="1143000"/>
          <a:ext cx="8610480" cy="4959360"/>
        </p:xfrm>
        <a:graphic>
          <a:graphicData uri="http://schemas.openxmlformats.org/drawingml/2006/table">
            <a:tbl>
              <a:tblPr/>
              <a:tblGrid>
                <a:gridCol w="3581280"/>
                <a:gridCol w="50292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Method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Operation</a:t>
                      </a:r>
                      <a:endParaRPr b="0" lang="en-US" sz="28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enter(width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a copy of string centered within the given number of columns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count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# of non-overlapping occurrences of substring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n the string.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ndswith(sub), startswith(sub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ends with/starts with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sub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find(sub[, start [, end]]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first index where substring 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Courier New"/>
                        </a:rPr>
                        <a:t>sub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s found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isalpha(), isdigit(), isspace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s </a:t>
                      </a:r>
                      <a:r>
                        <a:rPr b="0" lang="en-US" sz="2000" spc="-1" strike="noStrike">
                          <a:solidFill>
                            <a:srgbClr val="010199"/>
                          </a:solidFill>
                          <a:latin typeface="Courier New"/>
                        </a:rPr>
                        <a:t>True</a:t>
                      </a: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 iff string contains letters/digits/whitespace only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ower(), upper()</a:t>
                      </a: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Return a copy of string converted to lowercase/lowercase</a:t>
                      </a:r>
                      <a:endParaRPr b="0" lang="en-US" sz="20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5" name=""/>
          <p:cNvSpPr/>
          <p:nvPr/>
        </p:nvSpPr>
        <p:spPr>
          <a:xfrm>
            <a:off x="5312160" y="6324480"/>
            <a:ext cx="285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string_methods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5A6AD-CE05-45DA-B1EA-AEF0FA385E4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 Methods vs. Function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unctions: all “input” as arguments/parame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len is a built-in func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lled as len(str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ethods: “input” are argument/parameters </a:t>
            </a:r>
            <a:r>
              <a:rPr b="1" lang="en-US" sz="3200" spc="-1" strike="noStrike">
                <a:solidFill>
                  <a:srgbClr val="010199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the string the method was called o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 str.upper(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5DD6F-C8BB-4CDD-9D1F-5251377AACD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ractice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Modify binaryToDecimal.py to verify that the entered string contains only numb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could we make sure that it contains only 0s and 1s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45E09-6E2E-433B-9916-3BEBCFE31F5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ctually a </a:t>
            </a:r>
            <a:r>
              <a:rPr b="0" i="1" lang="en-US" sz="3200" spc="-1" strike="noStrike">
                <a:solidFill>
                  <a:srgbClr val="010199"/>
                </a:solidFill>
                <a:latin typeface="Arial"/>
              </a:rPr>
              <a:t>sequence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of character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Example: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tr = “The Beatles”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1752480" y="3432240"/>
          <a:ext cx="7010640" cy="1200240"/>
        </p:xfrm>
        <a:graphic>
          <a:graphicData uri="http://schemas.openxmlformats.org/drawingml/2006/table">
            <a:tbl>
              <a:tblPr/>
              <a:tblGrid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  <a:gridCol w="637920"/>
                <a:gridCol w="638280"/>
                <a:gridCol w="635040"/>
                <a:gridCol w="638280"/>
              </a:tblGrid>
              <a:tr h="581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h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B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a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t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l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e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20202"/>
                          </a:solidFill>
                          <a:latin typeface="Arial"/>
                        </a:rPr>
                        <a:t>s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13680">
                      <a:solidFill>
                        <a:srgbClr val="020202"/>
                      </a:solidFill>
                    </a:lnT>
                    <a:lnB w="5760">
                      <a:solidFill>
                        <a:srgbClr val="020202"/>
                      </a:solidFill>
                    </a:lnB>
                    <a:noFill/>
                  </a:tcPr>
                </a:tc>
              </a:tr>
              <a:tr h="6188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2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3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4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5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6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7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8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9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576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200" spc="-1" strike="noStrike">
                          <a:solidFill>
                            <a:srgbClr val="010199"/>
                          </a:solidFill>
                          <a:latin typeface="Arial"/>
                        </a:rPr>
                        <a:t>10</a:t>
                      </a:r>
                      <a:endParaRPr b="0" lang="en-US" sz="3200" spc="-1" strike="noStrike">
                        <a:solidFill>
                          <a:srgbClr val="02020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20202"/>
                      </a:solidFill>
                    </a:lnL>
                    <a:lnR w="13680">
                      <a:solidFill>
                        <a:srgbClr val="020202"/>
                      </a:solidFill>
                    </a:lnR>
                    <a:lnT w="5760">
                      <a:solidFill>
                        <a:srgbClr val="020202"/>
                      </a:solidFill>
                    </a:lnT>
                    <a:lnB w="13680">
                      <a:solidFill>
                        <a:srgbClr val="020202"/>
                      </a:solidFill>
                    </a:lnB>
                    <a:solidFill>
                      <a:srgbClr val="d5d5d5"/>
                    </a:solidFill>
                  </a:tcPr>
                </a:tc>
              </a:tr>
            </a:tbl>
          </a:graphicData>
        </a:graphic>
      </p:graphicFrame>
      <p:sp>
        <p:nvSpPr>
          <p:cNvPr id="88" name=""/>
          <p:cNvSpPr/>
          <p:nvPr/>
        </p:nvSpPr>
        <p:spPr>
          <a:xfrm>
            <a:off x="81720" y="4148280"/>
            <a:ext cx="1684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index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f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066680" y="4346640"/>
            <a:ext cx="60984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81720" y="3051000"/>
            <a:ext cx="168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haracters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38080" y="3432240"/>
            <a:ext cx="762120" cy="30456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05520" y="4829040"/>
            <a:ext cx="4038480" cy="22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c600"/>
                </a:solidFill>
                <a:latin typeface="Tahoma"/>
              </a:rPr>
              <a:t>Length of the string: 11</a:t>
            </a:r>
            <a:endParaRPr b="0" lang="en-US" sz="28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Built-in function:</a:t>
            </a: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c600"/>
                </a:solidFill>
                <a:latin typeface="Courier New"/>
              </a:rPr>
              <a:t>len(str)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20202"/>
                </a:solidFill>
                <a:latin typeface="Tahoma"/>
              </a:rPr>
              <a:t>to find length of a string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1128960" y="5367240"/>
            <a:ext cx="147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Start at 0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1981080" y="4727160"/>
            <a:ext cx="76320" cy="68580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713280" y="2362320"/>
            <a:ext cx="213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99ff"/>
                </a:solidFill>
                <a:latin typeface="Tahoma"/>
              </a:rPr>
              <a:t>End at len() -1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924680" y="2898720"/>
            <a:ext cx="304920" cy="1219320"/>
          </a:xfrm>
          <a:prstGeom prst="line">
            <a:avLst/>
          </a:prstGeom>
          <a:ln w="381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BCB48-C5F1-4019-BFA5-B9E28EE53F93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Broader Issues: Environmental Monito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228600" y="15235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terdisciplinary projects involving sensor network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Important new-ish CS research are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sclaimer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 a seismologist or a biologis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Group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089720" y="4800600"/>
            <a:ext cx="12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Jennif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Olive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R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3458160" y="4830840"/>
            <a:ext cx="11181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Keith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ya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Alysen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132960" y="4822920"/>
            <a:ext cx="997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Cath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ill L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Matt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1A6AC-A8F4-4FD5-8CE3-5F7B46D5039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Discussion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at are the CS challenges to both project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ny challenges only applicable to one project?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oes the environment impact the CS research problems/solution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How did the researchers address these challenges?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How would </a:t>
            </a:r>
            <a:r>
              <a:rPr b="1" i="1" lang="en-US" sz="2800" spc="-1" strike="noStrike">
                <a:solidFill>
                  <a:srgbClr val="010199"/>
                </a:solidFill>
                <a:latin typeface="Arial"/>
              </a:rPr>
              <a:t>you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 address the challenges? 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C8C95-D2BC-4A8A-84E5-2B9D04A20B7E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228600" y="1218960"/>
            <a:ext cx="86868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ome CSists thought that efficiency didn’t matter anymore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GB of memory, terabytes of storage on machin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w: small and embedded devic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eed to be efficient!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2873D-CDC3-4B1B-9773-A16DC99FC129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Missing data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onnectivity (good signal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uplicate data (different sources?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Dead sensor node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Calibration of data (time synchronization)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Withstand extreme weather, conditions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Battery lif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Robustness: recover from software failure/malfunction or bad data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E30F-1B35-4DAB-9DEB-94A97B8642D1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Challeng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Test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ccurately simulate conditions (which will vary widely over long periods of time)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ifferent goals from domain scientist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S: push boundaries of sensor network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Example: Improve reliability of data to 95%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Seismologists: need 100% reliable data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C4A-EBB2-4D38-885D-23AABA6749BE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Efficienc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228600" y="114300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nergy in battery powered 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olar-powered batteries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Amount of data stored (when to delete?)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Notify all when data gets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When, amount of data transferr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ZebraNet: only transmit if new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2" marL="1195560" indent="-287640">
              <a:spcBef>
                <a:spcPts val="64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20202"/>
                </a:solidFill>
                <a:latin typeface="Arial"/>
              </a:rPr>
              <a:t>Only transmit if zebra gives data to base</a:t>
            </a:r>
            <a:endParaRPr b="0" lang="en-US" sz="26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Volcano: only when “interesting” data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67B18-60DF-410E-8572-423FD34011D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Reliabilit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Data deliver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ndancy of data -- verify/validate it is correc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Only send to zebras with history of reporting back to base station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d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Weather proofing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Batteries: solar-panels to recharge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60E14-2DF9-46E4-8DAF-687BE835F23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verview of Solutions: Test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86868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Novel simulations!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environment/scenarios on comput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mulate zebras with horses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ush software to make sure it “recovers” appropriately from errors or bad information  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B7DB5-47AF-46FB-B417-74E7F2DECAE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Iterating Through a String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Use a </a:t>
            </a:r>
            <a:r>
              <a:rPr b="1" lang="en-US" sz="3200" spc="-1" strike="noStrike">
                <a:solidFill>
                  <a:srgbClr val="010199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 loop to iterate through characters in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as “</a:t>
            </a:r>
            <a:r>
              <a:rPr b="0" lang="en-US" sz="3200" spc="-1" strike="noStrike">
                <a:solidFill>
                  <a:srgbClr val="010199"/>
                </a:solidFill>
                <a:latin typeface="Arial"/>
              </a:rPr>
              <a:t>for each character in the string str</a:t>
            </a: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”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286280" y="2406600"/>
            <a:ext cx="40820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for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 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in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str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: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020202"/>
                </a:solidFill>
                <a:latin typeface="Courier New"/>
              </a:rPr>
              <a:t>print</a:t>
            </a:r>
            <a:r>
              <a:rPr b="0" lang="en-US" sz="3200" spc="-1" strike="noStrike">
                <a:solidFill>
                  <a:srgbClr val="00c600"/>
                </a:solidFill>
                <a:latin typeface="Courier New"/>
              </a:rPr>
              <a:t> char</a:t>
            </a:r>
            <a:endParaRPr b="0" lang="en-US" sz="32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9685B-AF24-48DB-98F4-338BB92D91E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ook at a particular character in the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Syntax: 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string[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integer expression&gt;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]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Posi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index of charact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[</a:t>
            </a:r>
            <a:r>
              <a:rPr b="0" lang="en-US" sz="2800" spc="-1" strike="noStrike">
                <a:solidFill>
                  <a:srgbClr val="00c600"/>
                </a:solidFill>
                <a:latin typeface="Arial"/>
              </a:rPr>
              <a:t>Negative values</a:t>
            </a: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]: count backwards from end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Examples: 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0]  returns the fir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&lt;sequence&gt;[-1] returns the last element/cha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3520" y="5572080"/>
            <a:ext cx="4038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We will deal with sequences beyond strings later.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 flipH="1" flipV="1">
            <a:off x="2209680" y="4780080"/>
            <a:ext cx="152640" cy="838080"/>
          </a:xfrm>
          <a:prstGeom prst="line">
            <a:avLst/>
          </a:prstGeom>
          <a:ln w="38160">
            <a:solidFill>
              <a:srgbClr val="00c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3352320" y="301680"/>
            <a:ext cx="5005800" cy="1450800"/>
            <a:chOff x="3352320" y="301680"/>
            <a:chExt cx="5005800" cy="1450800"/>
          </a:xfrm>
        </p:grpSpPr>
        <p:sp>
          <p:nvSpPr>
            <p:cNvPr id="105" name=""/>
            <p:cNvSpPr/>
            <p:nvPr/>
          </p:nvSpPr>
          <p:spPr>
            <a:xfrm flipH="1">
              <a:off x="3352320" y="762120"/>
              <a:ext cx="25909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172200" y="762120"/>
              <a:ext cx="533520" cy="990360"/>
            </a:xfrm>
            <a:prstGeom prst="line">
              <a:avLst/>
            </a:prstGeom>
            <a:ln w="38160">
              <a:solidFill>
                <a:srgbClr val="6699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099040" y="301680"/>
              <a:ext cx="3259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Literally, </a:t>
              </a:r>
              <a:r>
                <a:rPr b="1" lang="en-US" sz="2400" spc="-1" strike="noStrike">
                  <a:solidFill>
                    <a:srgbClr val="6699ff"/>
                  </a:solidFill>
                  <a:latin typeface="Tahoma"/>
                </a:rPr>
                <a:t>not</a:t>
              </a:r>
              <a:r>
                <a:rPr b="0" lang="en-US" sz="2400" spc="-1" strike="noStrike">
                  <a:solidFill>
                    <a:srgbClr val="6699ff"/>
                  </a:solidFill>
                  <a:latin typeface="Tahoma"/>
                </a:rPr>
                <a:t> optional</a:t>
              </a:r>
              <a:endParaRPr b="0" lang="en-US" sz="2400" spc="-1" strike="noStrike">
                <a:solidFill>
                  <a:srgbClr val="020202"/>
                </a:solidFill>
                <a:latin typeface="Times New Roman"/>
              </a:endParaRPr>
            </a:p>
          </p:txBody>
        </p:sp>
      </p:grpSp>
      <p:sp>
        <p:nvSpPr>
          <p:cNvPr id="108" name=""/>
          <p:cNvSpPr/>
          <p:nvPr/>
        </p:nvSpPr>
        <p:spPr>
          <a:xfrm>
            <a:off x="6086160" y="6324480"/>
            <a:ext cx="188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600"/>
                </a:solidFill>
                <a:latin typeface="Tahoma"/>
              </a:rPr>
              <a:t>whilestr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5AC5-EF1A-4E43-BF36-08E401DAE70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Substrings Operato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You can select a substring (zero or more characters) using the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[ ]</a:t>
            </a: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199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&lt;start&gt;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start</a:t>
            </a: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 to the end of th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&lt;end&gt;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the subsequence from the first element up to and not including </a:t>
            </a:r>
            <a:r>
              <a:rPr b="1" lang="en-US" sz="2400" spc="-1" strike="noStrike">
                <a:solidFill>
                  <a:srgbClr val="010199"/>
                </a:solidFill>
                <a:latin typeface="Arial"/>
              </a:rPr>
              <a:t>end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Arial"/>
              </a:rPr>
              <a:t>&lt;sequence&gt;[:] </a:t>
            </a:r>
            <a:endParaRPr b="0" lang="en-US" sz="2800" spc="-1" strike="noStrike">
              <a:solidFill>
                <a:srgbClr val="020202"/>
              </a:solidFill>
              <a:latin typeface="Arial"/>
            </a:endParaRPr>
          </a:p>
          <a:p>
            <a:pPr lvl="1" marL="777600" indent="-329760">
              <a:lnSpc>
                <a:spcPct val="90000"/>
              </a:lnSpc>
              <a:spcBef>
                <a:spcPts val="601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199"/>
                </a:solidFill>
                <a:latin typeface="Arial"/>
              </a:rPr>
              <a:t>returns a copy of the entire sequence</a:t>
            </a:r>
            <a:endParaRPr b="0" lang="en-US" sz="2400" spc="-1" strike="noStrike">
              <a:solidFill>
                <a:srgbClr val="010199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3BFB4-17F8-4B0E-8C40-E49C63BE392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hecking for substring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search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0EF7E-D1B6-44E6-BF7F-504E62A74588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Binary to Decimal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c600"/>
                </a:solidFill>
                <a:latin typeface="Arial"/>
              </a:rPr>
              <a:t>Accumulator design pattern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binary number as a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The starting exponent will be the length of the string-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zero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For each bit in the binary numb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Multiply the bit by the appropriate power of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Add this to the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duce the exponent by 1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315760" y="6245280"/>
            <a:ext cx="30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binaryToDecimal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13E5D-56D2-4992-9BEB-FF4AA5C532D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Alternative Solution by Cath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ogram: binaryToDecimal2.py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Lessons learned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Can iterate through string using an integer as the index and the substring([]) operato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veloping solutions: if iterating (through whatever) in one direction doesn’t work, try the other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6BF-4A97-4E53-86DB-AB9EC2B9549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68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onverting Decimal to Binary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ad in the decimal as an integer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Initialize the result to the empty string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Repeat until the decimal is 0: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result = str(decimal % 2) + result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lvl="1" marL="793800" indent="-336600"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199"/>
                </a:solidFill>
                <a:latin typeface="Arial"/>
              </a:rPr>
              <a:t>decimal = decimal / 2</a:t>
            </a:r>
            <a:endParaRPr b="0" lang="en-US" sz="2800" spc="-1" strike="noStrike">
              <a:solidFill>
                <a:srgbClr val="010199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12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Arial"/>
              </a:rPr>
              <a:t>Print the result</a:t>
            </a: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160600" y="5562720"/>
            <a:ext cx="3807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Try out algorithm with 22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mplement algorithm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decimalToBinary.py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98520" y="5592600"/>
            <a:ext cx="1546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c600"/>
                </a:solidFill>
                <a:latin typeface="Tahoma"/>
              </a:rPr>
              <a:t>Intuition?</a:t>
            </a:r>
            <a:endParaRPr b="0" lang="en-US" sz="2400" spc="-1" strike="noStrike">
              <a:solidFill>
                <a:srgbClr val="020202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E5D9F-23F3-4BC3-B061-C4113F491C82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7T01:49:46Z</dcterms:created>
  <dc:creator>Sara Sprenkle</dc:creator>
  <dc:description/>
  <dc:language>en-US</dc:language>
  <cp:lastModifiedBy>Sara Sprenkle</cp:lastModifiedBy>
  <cp:lastPrinted>2007-10-05T20:18:44Z</cp:lastPrinted>
  <dcterms:modified xsi:type="dcterms:W3CDTF">2007-10-05T20:22:41Z</dcterms:modified>
  <cp:revision>1264</cp:revision>
  <dc:subject/>
  <dc:title>PowerPoint Presentation</dc:title>
</cp:coreProperties>
</file>