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3182-E84A-41FC-8998-EF87C38CF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3AD7-48E8-44B6-9D32-454D4769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B422-45D5-496A-B38B-2D49C1612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84B9-7FA5-45A2-9CEB-AC45FBBAC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039934-DF47-4B63-B94F-81C97B9AF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9138D9-0700-48B8-B1D4-6FB835A76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2C01D-563A-4F01-8C23-78418F252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B5F63F-3E50-47F6-B9A7-1CECCC22A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17C68-4B61-41E8-A889-36AAC6B0A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C1E8B-F18E-4828-8F93-3F83F9BA4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A60EF2-A6AC-41A3-BE0C-98CD4FB19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353-7F74-4161-A523-10F48B716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7ABA8B-C572-45EE-A2F3-B856526AB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A8C0E6-F225-41D4-B1E7-5762D4555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98E130-27EB-4690-B505-C432C11D0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7FC19A-57F3-4340-9C22-804285DD6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07661A-2236-4685-B36C-DF6719EB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2CB91-573F-4C13-A297-99D15795F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D0A-D285-492E-B74E-2E65251E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F3DD-A385-4621-B6D8-D3523B79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5A5-5D71-43A6-AA5A-CE25DA8B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52EC-7E04-43A2-B92D-7B5AE450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25F-E2BC-47B2-9C68-E3270F155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539D-ED86-4368-8960-E26CE00CF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1A982-B49C-49C0-A64C-77561C6450C9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BBE30-4A67-4F93-820D-D95A79B1C28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puter’s representations of data typ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1C57-A5CB-40B0-8459-942C55AE98C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E57-DC38-4429-9FBA-512B9A22D6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with str = “The Beatle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1143000" y="2946240"/>
          <a:ext cx="6858000" cy="337824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0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3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 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Err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len(str)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[-1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”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6" name=""/>
          <p:cNvSpPr/>
          <p:nvPr/>
        </p:nvSpPr>
        <p:spPr>
          <a:xfrm>
            <a:off x="6027120" y="639756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8226-5706-482D-B66B-19AC29FAEB4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E3700-7EFE-498F-8A51-C383C4A9636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034-A817-43C9-87E5-ED11A8475C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can select a substring (one or more characters) using the [ ] and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file = “program.py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1658880" y="2819520"/>
          <a:ext cx="5275440" cy="911160"/>
        </p:xfrm>
        <a:graphic>
          <a:graphicData uri="http://schemas.openxmlformats.org/drawingml/2006/table">
            <a:tbl>
              <a:tblPr/>
              <a:tblGrid>
                <a:gridCol w="527040"/>
                <a:gridCol w="528840"/>
                <a:gridCol w="527040"/>
                <a:gridCol w="527040"/>
                <a:gridCol w="528480"/>
                <a:gridCol w="527040"/>
                <a:gridCol w="527040"/>
                <a:gridCol w="527040"/>
                <a:gridCol w="528840"/>
                <a:gridCol w="5270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1219320" y="3909960"/>
          <a:ext cx="6858000" cy="279576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ress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gram.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0:2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:3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ro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8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le[-2:]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y”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fbfa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B05-D9E6-4087-BD0F-5CEB2019FEF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d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efore in for loo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aluates to True or Fal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509480" y="2832120"/>
            <a:ext cx="40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ubstr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string</a:t>
            </a:r>
            <a:r>
              <a:rPr b="1" lang="en-US" sz="28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525320" y="4689360"/>
            <a:ext cx="673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“.py”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filename, “is a Python script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78D64-2019-4A5C-8F95-610F0E38714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 are Immutab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: You cannot change the value of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you </a:t>
            </a:r>
            <a:r>
              <a:rPr b="0" lang="en-US" sz="3200" spc="-1" strike="noStrike">
                <a:solidFill>
                  <a:srgbClr val="f40000"/>
                </a:solidFill>
                <a:latin typeface="Arial"/>
              </a:rPr>
              <a:t>canno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change a character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[0] = ‘S’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33520" y="3733560"/>
            <a:ext cx="2209680" cy="114300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3733920"/>
            <a:ext cx="1905120" cy="1066680"/>
          </a:xfrm>
          <a:prstGeom prst="line">
            <a:avLst/>
          </a:prstGeom>
          <a:ln w="38160">
            <a:solidFill>
              <a:srgbClr val="f4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18CA5-4473-4ECE-8A17-5A1214D42B3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umber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briefly discussed that numbers are stored on the computer in bi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inary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: two values (zero, one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ke a light switch (eith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ff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Bi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each number in a number in binary repres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quivalent of a “digit” in decimal repres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1667-1FFE-45E8-B132-3E7ADDC7452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EC74-CFF4-4E09-ADBF-43DC3C8A76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cimal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mal is base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, 2, 3, 4, 5, 6, 7, 8, 9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decimal number represents a power of 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54,08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4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8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7*10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5*10,000+ 4*1000+ 0*100+ 8*10+ 7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1143000" y="403848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EC2A8-386E-4EF2-8428-6F32A7B269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2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7560" y="1828800"/>
            <a:ext cx="528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828800"/>
            <a:ext cx="762120" cy="4419720"/>
          </a:xfrm>
          <a:custGeom>
            <a:avLst/>
            <a:gdLst>
              <a:gd name="textAreaLeft" fmla="*/ 487080 w 762120"/>
              <a:gd name="textAreaRight" fmla="*/ 762480 w 762120"/>
              <a:gd name="textAreaTop" fmla="*/ 115200 h 4419720"/>
              <a:gd name="textAreaBottom" fmla="*/ 4304520 h 441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0  9  8  7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0  1  2  3  4 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1 11 11 11 11 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3320" y="3840120"/>
            <a:ext cx="2533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1 (N-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N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58B3-1AA8-4A28-8EE9-23F0ED2A53A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is base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gits: 0,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position in a binary number represents a power of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77F3-4936-4EED-B421-CB1E8CC55D7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10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8+ 1*4+ 0*2+ 1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143000" y="1676520"/>
          <a:ext cx="4572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32A-DFC2-4CF6-9EBA-E04D9D93150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inary Repres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1011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1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+ 0*2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= 1*16+0*8+ 1*4+ 1*2+ 0*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143000" y="1676520"/>
          <a:ext cx="5715000" cy="1035000"/>
        </p:xfrm>
        <a:graphic>
          <a:graphicData uri="http://schemas.openxmlformats.org/drawingml/2006/table">
            <a:tbl>
              <a:tblPr/>
              <a:tblGrid>
                <a:gridCol w="1143000"/>
                <a:gridCol w="1143000"/>
                <a:gridCol w="1143000"/>
                <a:gridCol w="1143000"/>
                <a:gridCol w="1143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9E2E-30F5-4510-A08E-8F7C095079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85520" y="5791320"/>
            <a:ext cx="325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DEE6-9BFD-4682-B208-28E5AC341F8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160600" y="541008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E31E-492C-4494-ACEE-7B1749556AB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shak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=13 alumn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07560" y="1828800"/>
            <a:ext cx="528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8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66680" y="1828800"/>
            <a:ext cx="762120" cy="4800600"/>
          </a:xfrm>
          <a:custGeom>
            <a:avLst/>
            <a:gdLst>
              <a:gd name="textAreaLeft" fmla="*/ 487080 w 762120"/>
              <a:gd name="textAreaRight" fmla="*/ 762480 w 762120"/>
              <a:gd name="textAreaTop" fmla="*/ 124920 h 4800600"/>
              <a:gd name="textAreaBottom" fmla="*/ 4675680 h 4800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5280" y="3657600"/>
            <a:ext cx="97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e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336120" y="19638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2 11 10  9  8  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  2  3  4  5  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13 13 13 13 13 1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00400" y="2743200"/>
            <a:ext cx="3505320" cy="0"/>
          </a:xfrm>
          <a:prstGeom prst="line">
            <a:avLst/>
          </a:prstGeom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270320" y="3840120"/>
            <a:ext cx="246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s to 13 (N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6 times ((N-1)/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= N*(N-1)/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3A79-507C-49F1-9FAA-DF7681D0B42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ffcc00"/>
              </a:buClr>
              <a:buSzPct val="120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Lucida Grande"/>
              </a:rPr>
              <a:t>Write a program that reads in two numbers. Then use only if statements (no elses) to print "Player 1 wins" if the first number is bigger, "Player 2 wins" if the second number is bigger, and "You tied!" if the numbers are equal.</a:t>
            </a:r>
            <a:endParaRPr b="0" lang="en-US" sz="25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575D0-A278-4BFD-9D6F-67BE785F08B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for Next Wed’s Midter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 the control flow diagram for your Craps solu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o analyze efficiency: are there any execution paths through the control flow diagram that aren’t possib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f so, revisit your solution to see if some other building blocks may be more appropriate (or see me to discuss!)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6921-C009-4648-B65C-1E6FEB4A0EE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xt Process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ly focused on number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an manipulate strings to do useful wor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the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type and what you can do with the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hapter 4 of boo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6EFE-85B4-4671-84F5-9B6ADDCF411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109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15A0-8BCB-4762-939F-800AEB9D483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 “for each character in the string str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652720" y="6248520"/>
            <a:ext cx="193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ython shel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BD12-4728-4134-947A-87546F90365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27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07B8-4F00-4D2F-B4BB-79DB2B3EFC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3T22:08:51Z</dcterms:modified>
  <cp:revision>1054</cp:revision>
  <dc:subject/>
  <dc:title>PowerPoint Presentation</dc:title>
</cp:coreProperties>
</file>