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333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5190A-9489-47A4-A2D3-8F7A9C5CCC8A}" type="slidenum">
              <a:rPr b="0" lang="en-US" sz="1200" spc="-1" strike="noStrike">
                <a:solidFill>
                  <a:srgbClr val="33339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78A07-AA67-4AD0-8F02-95C145CB83A3}" type="slidenum">
              <a:rPr b="0" lang="en-US" sz="1200" spc="-1" strike="noStrike">
                <a:solidFill>
                  <a:srgbClr val="3333c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31840" y="674640"/>
            <a:ext cx="4606920" cy="345456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96400" y="4352760"/>
            <a:ext cx="5077080" cy="41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44F7-550F-44CA-A0B4-B31BA0A3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095-28A1-4438-9BA1-9F353ABAD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CEF5-3944-4698-8E67-5C01C508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42AE-ED38-4F31-83AA-D8D03299A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54228-4190-4A87-B392-ABEA2108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2A44E4-845D-40A7-8C04-B34A79B09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A1E71-A1E5-4EDF-9661-B5692767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AE8F80-218E-411C-BCAA-C5ED8E2DB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40394-5E8A-400F-BDD8-8B460A5F9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1C2CBC-D4BD-48E7-80EC-45C65F5CF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AB0249-C78E-46C7-B3C9-FD751422E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0716-2670-4B04-B5EB-2879E866C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48CDC3-78BA-4C5F-A258-5B6D3714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3BD107-289C-4B57-83A5-4049C6F1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B14DE6-8B45-4058-8FD4-9D4C761C1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643CA6-E6B0-4C8E-B634-59D67F766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615B14-8FC4-4428-B6FD-97B1F5C35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9CDD-0259-4550-A561-0147B46DE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16BE2-3E9A-4782-A4EE-3AD75AF67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E43F-9737-4036-A2F2-2E6A8474F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9D61-3CEF-4D52-8532-708F073E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44D-EE77-4EDB-AC4F-8DB263923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D7E-3DFF-46C9-88A4-58B30D671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A811-6CB5-4059-AEA5-C6D31A937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E2B38-369C-4804-BDB3-ABC36B5AC29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6779D-BBA1-42DA-B0C6-9A1164572C1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format specifiers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sted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de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66800-BA4C-4C41-B481-E093E135A667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311120" y="228600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6220E-007F-4F77-9A99-2C07BFD8577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ing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following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11120" y="2286000"/>
            <a:ext cx="136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 2 3 4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CFA-FFC0-4FB4-B500-4CF97CC5982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affect Python’s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rt with a ‘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’ sig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ange one value (at top of program) to change value everywhere in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exible program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s rid of “magic number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Give a clear name/purpose to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ADF1-B598-4AAD-97AE-2EDDAC44D97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Variable Name Conven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95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Variables start with lowercase 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Constants (values that won’t change) are in all capit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0">
              <a:spcBef>
                <a:spcPts val="799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 Variable for the current ye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 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CURRENT_YE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43000" y="4952880"/>
            <a:ext cx="1752480" cy="53352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219320" y="5105520"/>
            <a:ext cx="1600200" cy="457200"/>
          </a:xfrm>
          <a:prstGeom prst="line">
            <a:avLst/>
          </a:prstGeom>
          <a:ln w="31680">
            <a:solidFill>
              <a:srgbClr val="dc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015A-1F94-428C-9A45-29A49AEC2F6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mproving Code Readability/Us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is program do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figure it o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ould you do to improve the program’s readability and usabilit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11800" y="5715000"/>
            <a:ext cx="29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befo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ogram_afte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C91A-9359-4EF4-A6C9-7CC712E577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ence Post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some posts and some beams to connect the posts, build a fence that is X fenceposts lo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806440" y="624852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ence_po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281-F559-40A3-BC7F-7C91768F1F7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signing Students to Gro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a for loop and the modulo (%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A76E-1A96-496B-9FFC-0E713A9F31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ODO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“Why You Can’t Cite Wikipedia in My Class” for Frida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8971-E7C9-401D-9B2F-2737B6E4310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-like Review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want to use functions or constants that are defined in a module, what type of statement do you u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odule_example.py, when we computed e</a:t>
            </a:r>
            <a:r>
              <a:rPr b="0" lang="en-US" sz="3200" spc="-1" strike="noStrike" baseline="30000">
                <a:solidFill>
                  <a:srgbClr val="020202"/>
                </a:solidFill>
                <a:latin typeface="Arial"/>
              </a:rPr>
              <a:t>i</a:t>
            </a:r>
            <a:r>
              <a:rPr b="0" lang="en-US" sz="3200" spc="-1" strike="noStrike" baseline="30000">
                <a:solidFill>
                  <a:srgbClr val="020202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+ 1, the answer wasn’t 0.  Why?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1FF9-C981-42CF-8C89-574B7E27F46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ing str() construc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specifi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formatting options for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 over how output is displayed to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ight, center, left 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1046D-27CA-4E1B-A188-7530E8AB8E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nstructor/conver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when printing output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7F9-7678-459D-8385-CFD63D1142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+: include a sign before positive integ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47B1-B737-446F-9BF5-DA583279C9F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or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9E47-4600-4630-9C9C-2F129012D8C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62880" y="22096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5400000">
            <a:off x="6629040" y="609480"/>
            <a:ext cx="381240" cy="3124080"/>
          </a:xfrm>
          <a:custGeom>
            <a:avLst/>
            <a:gdLst>
              <a:gd name="textAreaLeft" fmla="*/ 0 w 381240"/>
              <a:gd name="textAreaRight" fmla="*/ 137520 w 38124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7E47-7408-4600-9CAF-C97ADD908B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3885840"/>
            <a:ext cx="8686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For more info: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http://docs.python.org/lib/typesseq-strings.html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2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0" y="6245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mat_specifier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9F9E-ABFA-4791-BB7C-EF689A34BD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D199-1DC3-4D8B-915D-98A4B57246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02:42:01Z</dcterms:modified>
  <cp:revision>312</cp:revision>
  <dc:subject/>
  <dc:title>PowerPoint Presentation</dc:title>
</cp:coreProperties>
</file>