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E900-316B-4C33-A07F-221ED9818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86A7-9D88-40C7-AF64-4574067BE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A745-2318-4B2A-98FC-F270C23F4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0FB8-561C-4606-A988-672685103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42604-FA53-4F97-97C6-0527732CD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9C71B7-F0F3-42C0-B80A-034C8583E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2D661A-4CEF-4C46-9D63-3139DEB8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7A5669-D202-445B-ACD1-A0F4BEE9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EE6C55-1851-4493-BEB4-1CBD4C2C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12A16-9392-4F71-8873-7875AC54D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9DD85B-6748-490A-A51F-408F699E5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8C64-055A-4495-AECF-E8F4C0B72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136D79-A490-46FE-8135-AA09A724C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916CD1-CC97-4735-AC0D-4F5084C0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F149EF-09D4-4FDE-965D-B9B6C899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0B8C8E-EB74-4A08-9EA5-0988B1A8B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E914F-4595-41BD-BBD5-96CF608DA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C95D1-88BE-4EE5-81EC-7FC62CA3A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36A0-2C76-4CFF-9DA3-EAAC92D98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5CF-3801-4274-BBC8-F2F8DF190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8EC4-CD42-4AC7-9209-1F1A5E3A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ACCD8-C460-431F-A1A3-D66B937E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C636D-D82A-468E-A4EA-9434460DF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54F9-497C-446B-882B-D2550893C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22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2C252-9C1D-40B5-AC51-A47DB052610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8A41-3346-4597-B0E0-D3EA82F77B4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i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ctionar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EBD6-B2F3-4010-B179-E23BDAA5A1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12880" y="312408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range(15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s a list of size 15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0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1] = 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[x] = newfib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num in fibs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each num on sep lin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75120" y="6321600"/>
            <a:ext cx="12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2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31320" y="1914480"/>
            <a:ext cx="391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milar to xrang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n use same parame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352680" y="2286000"/>
            <a:ext cx="137160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C3AA-7A5E-4677-AA3A-DE38EADD96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Arra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iefly, lists are similar to arrays in other languag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imilar to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Vector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C++ and </a:t>
            </a:r>
            <a:r>
              <a:rPr b="0" i="1" lang="en-US" sz="2800" spc="-1" strike="noStrike">
                <a:solidFill>
                  <a:srgbClr val="010199"/>
                </a:solidFill>
                <a:latin typeface="Arial"/>
              </a:rPr>
              <a:t>ArrayLis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n Jav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, arrays hav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static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ength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insert and remove elements from arrays so that the length of the array chan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make the array as big as you’ll think you’ll ne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E2FB-C91B-4705-88E3-DEDC63AE14E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vs. 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s are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immu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be mutated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r, can’t be modified/chang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ists can be chang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table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18680" y="3962520"/>
            <a:ext cx="81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=[“milk”, “eggs”, “bread”, “Doritos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34080" y="4471920"/>
            <a:ext cx="406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0] = “skim milk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ceryList[3] = “popcorn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5462640"/>
            <a:ext cx="7977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groceryList is now [“skim milk”, “eggs”, “bread”, “popcorn”, “OJ”, “sugar”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3535-3834-46C1-9D03-2AFC296F57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pie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does the following code output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[1, 2, 3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[0] = 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02D0-7266-48E9-8C49-47B19A18997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Identifiers are Poin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28600" y="3352320"/>
            <a:ext cx="86868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 is not a copy of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ints to what x points t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to make a copy of y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 = x +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: y= [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y.extend(x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3200400" y="1806480"/>
          <a:ext cx="3505320" cy="517320"/>
        </p:xfrm>
        <a:graphic>
          <a:graphicData uri="http://schemas.openxmlformats.org/drawingml/2006/table">
            <a:tbl>
              <a:tblPr/>
              <a:tblGrid>
                <a:gridCol w="1168200"/>
                <a:gridCol w="1168560"/>
                <a:gridCol w="116856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8" name=""/>
          <p:cNvSpPr/>
          <p:nvPr/>
        </p:nvSpPr>
        <p:spPr>
          <a:xfrm>
            <a:off x="818280" y="16002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x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82720" y="2471760"/>
            <a:ext cx="3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1806480"/>
            <a:ext cx="1828800" cy="2286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2263680"/>
            <a:ext cx="1676520" cy="6098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10F1-B153-42C8-86E2-6D0DA91AA5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 as Parameters to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f modify a list passed as a parameter into a function, the list is modified outside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s a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passed-by-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fferent from immutable types (e.g., numbers, string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arameter is actually a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pointe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the list in memory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770-0DFE-45EE-89EE-295B0004DE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Sort a list of 3 numbers, in descending ord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ith list method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we do this using only three comparison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2400" y="3222720"/>
            <a:ext cx="6694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# order list such that list[0] &gt;= list[1] &gt;= list[2]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Tahoma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descendSort3Nums( list3 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625720" y="6278400"/>
            <a:ext cx="23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460224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lled as: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5211720"/>
            <a:ext cx="359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scendSort3Nums(list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FDC1E-29C2-49D9-9F88-86D7B27177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How Does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in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 Work for List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 x in groceries, where groceries is a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element in list, checks if element equals (==)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the worst case, how many elements does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to chec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improve the search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D0E5C-201D-4E68-B212-0A721D6F2D5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earch Improv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rt the Lis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helps search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763960" y="6245280"/>
            <a:ext cx="206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Hi-Low g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B8B-0550-42A2-B248-180E512FCEB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aster Looku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f I wanted to know the Registrar’s phone number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ould I search through an alphabetized list of phone number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, I would look up the Registrar and find the phone number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ssociate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with the Registr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s type of data structure is known as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dictionar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s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key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a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1D92-393E-4BDF-84E7-D53C72530A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Sequences of Dat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commonly group a sequence of data together and refer to them by one na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 of the week: Sunday, Monday, Tuesday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nths of the year: January, February, March,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pping l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represent this data as a </a:t>
            </a:r>
            <a:r>
              <a:rPr b="1" lang="en-US" sz="3200" spc="-1" strike="noStrike">
                <a:solidFill>
                  <a:srgbClr val="6699ff"/>
                </a:solidFill>
                <a:latin typeface="Arial"/>
              </a:rPr>
              <a:t>li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</a:t>
            </a:r>
            <a:r>
              <a:rPr b="1" lang="en-US" sz="2800" spc="-1" strike="noStrike">
                <a:solidFill>
                  <a:srgbClr val="6699ff"/>
                </a:solidFill>
                <a:latin typeface="Arial"/>
              </a:rPr>
              <a:t>arrays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 other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DAD7-CDF1-4BC0-B4B4-E367C8C9D34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CLASS ANSWERS: variable names --&gt; values, function names --&gt; function definitions, ascii value --&gt; character, character --&gt; ascii value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983E-59A9-40F7-BB62-1E31EFD60C5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s of Dictionari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keys and values for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ction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xtbook’s index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okboo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RL (Uniform Resource Locato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other things we’ve done/used in clas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Keys are not necessarily alphabetiz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ppings are from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n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key to one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or mor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Keys are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unique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, Values are not necessarily uniq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6439-1658-4A85-92EA-3E5E14CB6E7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Dictionaries in 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{&lt;key&gt;:&lt;value&gt;, …, &lt;key&gt;:&lt;value&gt;}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7280" y="3313080"/>
            <a:ext cx="71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empty =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{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 =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 {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 ‘a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7, ‘b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8, ‘c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99, …, ‘z’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: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122 </a:t>
            </a:r>
            <a:r>
              <a:rPr b="1" lang="en-US" sz="3200" spc="-1" strike="noStrike">
                <a:solidFill>
                  <a:srgbClr val="010199"/>
                </a:solidFill>
                <a:latin typeface="Tahoma"/>
              </a:rPr>
              <a:t>}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A29D-2444-4B8E-9ACF-F7937F4106E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essing Values using Key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45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KeyError</a:t>
            </a:r>
            <a:r>
              <a:rPr b="0" lang="en-US" sz="32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f key is not in dictiona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868760" y="2779560"/>
            <a:ext cx="3966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ascii[‘z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directory[‘registrar’]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BBA0-1DA7-448D-8C3D-0F7CD6BC54C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serting Key-Value Pai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dictionary&gt;[&lt;key&gt;] = &lt;valu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scii[‘a’] = 97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39160" y="6248520"/>
            <a:ext cx="279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dictio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7F46-7F36-4D39-A2F1-E51C7725ACC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6320"/>
            <a:ext cx="8686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56383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cience &amp; Engineering: near 5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1143000" y="126684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6684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C4BB-98CE-49BD-B853-17ECEC75E0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: Music Fi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 have an album file that has the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rtist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lbum name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1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name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85520" indent="-3330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ong length n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iven an album file, print out the number of songs and the total length of the albu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486400" y="4495680"/>
            <a:ext cx="335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ength has the format min:seco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84E37-45E7-4043-BE36-2F39FB4B8DE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Diversity in Computer Science 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2001, S&amp;E: 11% full, 22% assoc, 36% ass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S: 8%, 13%, 14%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914400" y="1143000"/>
          <a:ext cx="7238880" cy="44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143000"/>
                    <a:ext cx="7238880" cy="44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6C64-F179-4089-9AEC-3DD8030B258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L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 related items toget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ame with a single variable name instead of creating many separate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.g., sunday = “Sun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ist has an </a:t>
            </a:r>
            <a:r>
              <a:rPr b="0" i="1" lang="en-US" sz="2800" spc="-1" strike="noStrike">
                <a:solidFill>
                  <a:srgbClr val="00c600"/>
                </a:solidFill>
                <a:latin typeface="Arial"/>
              </a:rPr>
              <a:t>ord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venient for dealing with large amounts of dat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could keep all the temperature data in a list if needed to reuse la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and methods for handling, manipulating l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1941-CC11-4AAC-8C53-1BCFFBEB852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s: A Closer Loo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4191120"/>
            <a:ext cx="8686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&lt;listname&gt;[&lt;int_expr&gt;]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ilar to accessing characters in a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-1] is “Sat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ysInWeek[0] is “Sun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1143000" y="1803240"/>
          <a:ext cx="7620120" cy="1015920"/>
        </p:xfrm>
        <a:graphic>
          <a:graphicData uri="http://schemas.openxmlformats.org/drawingml/2006/table">
            <a:tbl>
              <a:tblPr/>
              <a:tblGrid>
                <a:gridCol w="1089000"/>
                <a:gridCol w="1087560"/>
                <a:gridCol w="1089000"/>
                <a:gridCol w="1154160"/>
                <a:gridCol w="1023840"/>
                <a:gridCol w="1087560"/>
                <a:gridCol w="1089000"/>
              </a:tblGrid>
              <a:tr h="525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u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on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ue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d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hu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ri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“</a:t>
                      </a: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”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4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5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</a:t>
                      </a:r>
                      <a:endParaRPr b="0" lang="en-US" sz="26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87480" y="1139760"/>
            <a:ext cx="136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l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320" y="2905200"/>
            <a:ext cx="220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osition/index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47920" y="1371600"/>
            <a:ext cx="53316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057400" y="2895120"/>
            <a:ext cx="914400" cy="38124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813280" y="3200400"/>
            <a:ext cx="31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en(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InWeek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) is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307680" y="121932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aysInWee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7214-30BC-4269-A2F5-FA3FF906164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Oper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43000" y="1397160"/>
          <a:ext cx="6858000" cy="406368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ncaten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+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peti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 * &lt;int-expr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dex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&lt;int-expr&gt;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g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n(&lt;seq&gt;)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lic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seq&gt;[:]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t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or &lt;var&gt; in &lt;seq&gt;: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mbership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expr&gt; in &lt;seq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187560" y="5770440"/>
            <a:ext cx="547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Similar to operations for strings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063-AEA4-4138-AA6A-536E56CDA83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Lis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very element in the list 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quivalent t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56000" y="3317760"/>
            <a:ext cx="2742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tem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ist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item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939960" y="2316240"/>
            <a:ext cx="29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 item in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38200" y="22860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ist objec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962520" y="2666880"/>
            <a:ext cx="761760" cy="7621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51080" y="2895480"/>
            <a:ext cx="457200" cy="5335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751760" y="5146560"/>
            <a:ext cx="4195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xrange(len(list))</a:t>
            </a:r>
            <a:r>
              <a:rPr b="1" lang="en-US" sz="28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nt list[x]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324480" y="511488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position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2819520"/>
            <a:ext cx="259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terates through </a:t>
            </a:r>
            <a:r>
              <a:rPr b="0" i="1" lang="en-US" sz="2400" spc="-1" strike="noStrike">
                <a:solidFill>
                  <a:srgbClr val="00c600"/>
                </a:solidFill>
                <a:latin typeface="Tahoma"/>
              </a:rPr>
              <a:t>items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in list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83000" y="627840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aysOfWeek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8300-3043-4DBC-9A1D-FECFD3D4D97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embershi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heck if a list contains an elem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Example problem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rolledstudents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is a list of students who are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ant to check if a student who attends the class is enrolled in the clas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oblem: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If have a list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attendingstudents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, check if each attending student is an enrolled studen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71080" y="3962520"/>
            <a:ext cx="540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f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not student </a:t>
            </a: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n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enrolledstudents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udent, “is not enrolled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B3588-E4A1-4EB3-9FBF-1452CC068C8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ist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380880" y="1417680"/>
          <a:ext cx="8305920" cy="4865760"/>
        </p:xfrm>
        <a:graphic>
          <a:graphicData uri="http://schemas.openxmlformats.org/drawingml/2006/table">
            <a:tbl>
              <a:tblPr/>
              <a:tblGrid>
                <a:gridCol w="2819520"/>
                <a:gridCol w="548640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thod Nam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unctionality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append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d elemen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the end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sort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ort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vers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verse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dex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index of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Error i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not in the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inser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,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sert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to list at index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count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the number of occurrences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remove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first occurrence of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x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list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2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list&gt;.pop(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letes the </a:t>
                      </a:r>
                      <a:r>
                        <a:rPr b="0" i="1" lang="en-US" sz="24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i</a:t>
                      </a:r>
                      <a:r>
                        <a:rPr b="0" lang="en-US" sz="2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h element of the list and returns its value</a:t>
                      </a:r>
                      <a:endParaRPr b="0" lang="en-US" sz="2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DAFA-B82C-4296-96EB-3A3A6FBAEB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ibonacci Sequ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int the first 15 Fibonacci number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1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-2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10480" y="3200400"/>
            <a:ext cx="7980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 = []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reate an empty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append the first two Fib numb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1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or x in xrange(2,16):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compute the next 13 nu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ewfib = fibs[x-1]+fibs[x-2]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bs.append(newfib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fib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# print out the lis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31000" y="6324480"/>
            <a:ext cx="112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ib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83F-4DE4-402D-96F1-3EAA69995C0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22T19:41:06Z</cp:lastPrinted>
  <dcterms:modified xsi:type="dcterms:W3CDTF">2007-10-22T19:51:30Z</dcterms:modified>
  <cp:revision>2147</cp:revision>
  <dc:subject/>
  <dc:title>PowerPoint Presentation</dc:title>
</cp:coreProperties>
</file>