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A19A5-6EA9-4F8C-A78F-71596CF9D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EF38-C018-40FF-9A52-09335167D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C1106-5CAD-4FCA-8F88-142BAF7A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7D5FC-F4C8-478A-BC52-BD11A3BC1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0FAD1B-3410-4CB7-B457-09EB510762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44EDA7-EB98-4D05-A0C5-304F01216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DE67A2-1D9F-4CCC-AF19-592D7EB4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2FFBB3-004F-43DB-BD3A-EAA5C1C3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859764-B7C8-4150-A1F4-ED739047F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29B3D9-D4ED-4D5D-A054-0EBCAC0C4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FEC5BB-6C79-45C9-8C98-0AC4F42B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FB07-0DF1-474D-9BC5-31836011F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AD73F-9F5C-403A-B9F6-F92C9DB2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5CB405F-58EE-426D-9B31-A96EF6B7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A4733D-A266-4D57-AC95-317F1CD7B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7EC2A7-20EF-440D-93B1-9D9138F19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7D6DDB-6D11-4DE0-A142-D5EA9FA0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80B2-6517-4D0E-BD6A-D0807850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0BE-F985-4992-854E-6FA084481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3789-37D2-4A84-84F1-9393C41A0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698-ABBB-43AA-9261-59458B496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0CA8-1FF0-4131-8642-B958C8ACD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4FCC-1398-49AB-8804-2A8E5AA83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11F4-35CB-45D0-8EB9-3F991E9B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4934-47D4-4602-A528-890F881E2E7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9FDE-DEAE-4A82-BD09-5C9A98D389C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se end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/improving documen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parameter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45C3-C1F6-48A3-9257-F398F683A08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pecial Value: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Non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ecial value we can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.g., Return value from function when there is an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nul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Jav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you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= list.sort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77600" indent="-32976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s None because list.sort() doe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return any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7F57-1CB1-4A45-92E3-EACF1D5E26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 file of the fo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lastname&gt; &lt;major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mapping between the last names and maj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232960" y="62485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D200-CB62-4E16-B734-880CE0D8C20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the previous program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uld we solve this using a lis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149800" y="6324480"/>
            <a:ext cx="33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jors_dictionary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B791-96C3-45C9-A01A-C36ECF8EBFF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Docu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di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function that returns a list of methods and attributes in an objec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help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get document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Python shel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typ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&lt;module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elp(&lt;modulenam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D0D4-2992-43EB-99FB-DF541841D7B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is Documentation Coming From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es from the code itself in “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doc string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“documentation string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 strings are simply string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af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ypically use triple-quoted strings because documentation goes across several l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4800600"/>
            <a:ext cx="7086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verse(animal, sound)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“””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s a verse of Old MacDonald, filling in the strings for animal and sound “””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876C-099F-4A46-80ED-B89E900205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faults for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w with the xrang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have to specify start or increment when calling the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start to 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ault increment to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assign a default value to a parame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general, default parameter should come after all the parameters that need to be defin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4CB-B0BA-425D-9AB9-9FF5D6FBC7A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Default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 the rollDie function could assume that a die has 6 si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68160" y="3201840"/>
            <a:ext cx="519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rollDie(sides</a:t>
            </a: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=6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random.randint(1,side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200040" y="2789280"/>
            <a:ext cx="76212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46680" y="2286000"/>
            <a:ext cx="435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signs a valu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NLY 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passed a paramet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4240" y="4648320"/>
            <a:ext cx="483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Examples of calling the function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58800" y="5105520"/>
            <a:ext cx="165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6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ollDie(12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84680" y="6248520"/>
            <a:ext cx="173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am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B0AD-24A7-4DA7-ACF3-F9079DC9190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keep track of the number of majors of each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wist: Not every student has a major (don’t declare until sophomore yea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79FF-B38F-47E3-B5CE-1CC5139CA8C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tudent Majors, revise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ents can have more than one majo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uld count these separatel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odify the previous program to do tha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2011-12F7-4AE6-ABEF-E3A0BBAD04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E169-4204-4832-B8F2-7F518612909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key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not necessarily alphabet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s are from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n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key to one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or mor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valu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are </a:t>
            </a:r>
            <a:r>
              <a:rPr b="1" i="1" lang="en-US" sz="2600" spc="-1" strike="noStrike">
                <a:solidFill>
                  <a:srgbClr val="020202"/>
                </a:solidFill>
                <a:latin typeface="Arial"/>
              </a:rPr>
              <a:t>uniqu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, Values are not necessarily uniqu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xample: student ids --&gt; last nam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ys must be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mmutable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(numbers, strings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ilar to Hashtables/Hashmap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52280" y="5788080"/>
            <a:ext cx="882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ow would we handle if there is more than one value for a ke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484-F499-4C67-B412-EDA1481EB8F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ictionari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ful for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a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k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okup by keywo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n’t need to look through entire list or sort list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615-C432-49FE-A349-21765F46950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from cla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unction name --&gt; function defin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 name --&gt;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CII value --&gt;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01EB5-509A-49EA-9C89-7564A0D1E69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E52D-BB64-4FC7-92BC-1F85E483049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55C0-1388-4031-84E1-3955642D42D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ng/Modify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9625-56B3-4792-A76A-3AA0BAB6986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143000" y="1397160"/>
          <a:ext cx="6858000" cy="29034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dict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key&gt; in &lt;dict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key&gt; in &lt;dict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 &lt;dict&gt;[&lt;key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"/>
          <p:cNvSpPr/>
          <p:nvPr/>
        </p:nvSpPr>
        <p:spPr>
          <a:xfrm>
            <a:off x="380880" y="4932360"/>
            <a:ext cx="8305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Unlike strings and lists, doesn’t make sense to do slicing, concatenation, repetition for dictionarie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AA1F-E47D-4A30-A131-1A2B985F52D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ctionary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04920" y="1397160"/>
          <a:ext cx="8458200" cy="3263760"/>
        </p:xfrm>
        <a:graphic>
          <a:graphicData uri="http://schemas.openxmlformats.org/drawingml/2006/table">
            <a:tbl>
              <a:tblPr/>
              <a:tblGrid>
                <a:gridCol w="3124080"/>
                <a:gridCol w="5334120"/>
              </a:tblGrid>
              <a:tr h="57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clea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move all items from dictionar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key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keys 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values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dictionary’s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values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dict&gt;.get(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</a:t>
                      </a:r>
                      <a:r>
                        <a:rPr b="0" i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fault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&lt;dict&gt;[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] if </a:t>
                      </a:r>
                      <a:r>
                        <a:rPr b="0" i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a key; Otherwise, returns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ne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(or default value)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2F46-EB7D-44D2-9693-B5EA62F3C75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5:41Z</cp:lastPrinted>
  <dcterms:modified xsi:type="dcterms:W3CDTF">2007-10-24T01:38:19Z</dcterms:modified>
  <cp:revision>2268</cp:revision>
  <dc:subject/>
  <dc:title>PowerPoint Presentation</dc:title>
</cp:coreProperties>
</file>