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B4A-7B83-4187-BCF4-6B7BF228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DDCF-0D0A-47E0-9DD2-8B7A9610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0CD-A1B4-4C42-869D-C8F8C413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8B6-6DAC-4E1D-8C01-AA47AF8C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53FBD-234C-4F7D-B268-8A3B7DBF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64B26-88DD-4499-A431-4BB14CE8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1D335-4C82-4305-B51A-1DF5A23A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6B0F3-C662-4D81-966B-71E2A906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02294-F3D4-4F2E-89F9-95ABA959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BB326-7BFB-4595-909A-8905CD9F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90387-61B3-4058-84D6-0D9708DA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D3B-26FB-44F9-B91A-8E3EE220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0F517-8BFD-467D-BAF8-25AECBA4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A0AAF-380A-4FD3-B999-C00E3980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D59CD-3D7E-4F64-BF71-68DD45D7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3DE0A-E00B-49E4-BA24-54DCA016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795FF-8976-4C82-8A79-3DA1DF33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114-63C0-4A5D-957E-5FF24E42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E92-D7E6-4359-B91E-5E307175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36B-8BFF-4BB3-9339-5C25E10A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50B-FC2D-4F04-86CD-D4DD5C9B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3A5-6216-4CE6-A07D-F7CC3785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454-05D4-4708-8870-6E3EA73C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524-253F-4B63-B8ED-79312CDF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4C27-FCD1-48D4-9CA1-89A24946189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E5A8-2071-4AA4-81AA-6CEEA5E6241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efinite for loops, xran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 Puzzles From Cyberspa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029C-A6CF-4D6A-8945-7AEB41FCDB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 with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uts spaces around numbers when they get printed o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39000" y="2666880"/>
            <a:ext cx="4260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13.54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, x, “.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F73-C166-4DE3-8346-724D7FF983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constructor/converter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constructor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 when printing output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915-472E-4314-A14C-28EAC9A6D7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other problem with 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46520" y="1522440"/>
            <a:ext cx="877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SALES_TAX=.05 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# the sales tax in V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value = input("How much does your item cost?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tax = value * (1+SALES_TAX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value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)"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tax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with tax"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43040" y="61722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ales_tax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F1B-FA16-4367-B9C3-082605EA4F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28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ormat specifiers give control over how output is displayed to us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ight, left justificatio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3560" y="232884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)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value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 with tax”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t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1566720"/>
            <a:ext cx="0" cy="7621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6095880" y="278604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8800" y="35020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7467480" y="248112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 rot="16200000">
            <a:off x="5790600" y="1828440"/>
            <a:ext cx="457200" cy="762120"/>
          </a:xfrm>
          <a:custGeom>
            <a:avLst/>
            <a:gdLst>
              <a:gd name="textAreaLeft" fmla="*/ 0 w 457200"/>
              <a:gd name="textAreaRight" fmla="*/ 164880 w 4572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8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27760" y="15969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Format specifi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3C2-24A7-4632-9343-0AC123ADC3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+: adds a + sign before positive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 (default is right-justification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7D7-4D8B-4645-8647-1B159C8ABE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dicates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/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ay to forma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722-5905-4463-ADC9-C51059B817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62880" y="22860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6629400" y="685440"/>
            <a:ext cx="380880" cy="3124080"/>
          </a:xfrm>
          <a:custGeom>
            <a:avLst/>
            <a:gdLst>
              <a:gd name="textAreaLeft" fmla="*/ 0 w 380880"/>
              <a:gd name="textAreaRight" fmla="*/ 137520 w 3808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682-6A97-4835-9B1C-106B4EE941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BE5-22CF-4855-9C7D-06DFAD9762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6BB-CFEA-454E-BF5F-DBA1AF6FC7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229-BD44-4163-BEAA-98B85F9996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00c600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5D3-2FF5-4F3F-89D0-14F7B67EA4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Exciting Conclusion of Four Puzzles in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text: Book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ode v2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Lawrence Lessi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read Chapter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sents the problems, not the author’s proposed solu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7CA-B587-4395-8A12-B00533AE40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uzzles in Cyberspace 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main themes/puzzles of the boo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ch is the most important puzzle to solv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CS information would you need to know to be able to propose 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1E8-AB1B-4F48-A3F1-8075550885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876920" y="42670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38862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349740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F1C-DC29-496F-9DEA-08B6A5F2DC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coun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17A-4A79-4D77-8EDB-305C536F9F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 argument: xrange(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arguments: xrange(start, 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3 arguments: xrange(start, stop, ste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19112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02080" y="4568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4495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14840" y="4495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424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72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6736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58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50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64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78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92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9068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8840" y="44956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80700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9520" y="44928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97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1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2160" y="58644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[start, stop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40384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40384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59320" y="521172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0,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94C-D208-4397-89E6-F65546EFB2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49568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02080" y="4873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4800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14840" y="480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5424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6736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58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50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64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78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92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068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8840" y="48006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411156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520" y="47973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97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11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200" y="365760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5, -15, -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34016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05740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02080" y="2435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236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1484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5424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01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6736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50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64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478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92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9068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8840" y="23623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16732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9520" y="23590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097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11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520" y="121932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1, 15, 3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19018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434340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895480"/>
            <a:ext cx="3048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294920" y="5562720"/>
            <a:ext cx="44197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72600" y="61722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ew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27D-19B3-498C-B8F3-C1B77018EB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01B8-675C-4976-BA21-08C934BDF8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ep through in mem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6C4-D08B-4DB6-A916-3C71319FAE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p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str() 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mat specifi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616-5D25-4C85-AADF-A4E238BF8E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4T17:57:21Z</dcterms:modified>
  <cp:revision>341</cp:revision>
  <dc:subject/>
  <dc:title>PowerPoint Presentation</dc:title>
</cp:coreProperties>
</file>