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B9C-0BF0-4517-AFC5-8517B2FA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1D6-D170-417E-9809-37C91A2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20F-D2D7-44AE-B009-239FADBA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F19-1B71-4FCD-A4D3-C1F886FA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6CFAF-93F0-41AA-85CD-3012D657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F2DAB-A687-4BAB-BE97-50A0A4B5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AF084-982D-4C1C-841C-77309B55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92E3D-C0A6-4FB1-AD35-BF182523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E3CA1-57D2-40B5-8909-B3874B16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11773-B587-4B5B-A32B-99EBF5B6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A940E-36F6-4924-9101-4142E0B8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A50-2CA4-4D91-A87C-A01696E5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1FF9A-BA2B-4FA5-B646-91892902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743D2-4B6E-40B6-924F-B6DB7D94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1342F-3599-4BDC-A3E3-17B64D79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1F97F-FF77-4F25-8117-9DA5CED6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D0DB4-F2BA-439B-AA68-5989BC50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544-E444-4687-BE5D-A97F82B3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543-3CB9-464A-BFE1-01BDC826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225-5719-4BF8-B1C0-D2D54E4B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6ED-F5F8-411B-82CA-BA51F287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390-45FB-40C9-A095-C24A5AF1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5B9-52CC-4DB0-9923-E4551F34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900-FA63-434F-8673-0616D694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B19F-5BF3-4A87-8A55-7B1AACC9EB9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353E-7D7C-4925-8B06-7D86A8AB2D9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Linux, documentation,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programming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ftware development pract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ebugg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dit the program, re-execute/test until everything 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 error is often called a “bug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iagnosing and fixing it is called </a:t>
            </a: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7800"/>
            <a:ext cx="2057400" cy="9907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181480"/>
            <a:ext cx="175248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257800"/>
            <a:ext cx="18288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58" idx="1"/>
          </p:cNvCxnSpPr>
          <p:nvPr/>
        </p:nvCxnSpPr>
        <p:spPr>
          <a:xfrm>
            <a:off x="2514600" y="5752800"/>
            <a:ext cx="9151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3"/>
            <a:endCxn id="160" idx="1"/>
          </p:cNvCxnSpPr>
          <p:nvPr/>
        </p:nvCxnSpPr>
        <p:spPr>
          <a:xfrm>
            <a:off x="5486400" y="5752800"/>
            <a:ext cx="13723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609480" y="3505320"/>
            <a:ext cx="2057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(jEdit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9" idx="0"/>
          </p:cNvCxnSpPr>
          <p:nvPr/>
        </p:nvCxnSpPr>
        <p:spPr>
          <a:xfrm>
            <a:off x="1638000" y="4495320"/>
            <a:ext cx="1080" cy="6865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0"/>
            <a:endCxn id="163" idx="3"/>
          </p:cNvCxnSpPr>
          <p:nvPr/>
        </p:nvCxnSpPr>
        <p:spPr>
          <a:xfrm flipV="1" rot="16200000">
            <a:off x="2933280" y="3733200"/>
            <a:ext cx="1257840" cy="17917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091120" y="3581280"/>
            <a:ext cx="2431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ERROR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Identify bug, fi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0"/>
            <a:endCxn id="163" idx="3"/>
          </p:cNvCxnSpPr>
          <p:nvPr/>
        </p:nvCxnSpPr>
        <p:spPr>
          <a:xfrm flipV="1" rot="16200000">
            <a:off x="4590720" y="2075760"/>
            <a:ext cx="1257840" cy="510624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5567040" y="63244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bug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1A4-51B8-4459-8311-BB93973D25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Finishing Up Wednesday’s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63244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vera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939-D68A-4E2C-B7CF-723B48BA780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65A-6350-4D51-9B9D-A04D42C4E96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1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d for tex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In general, I’ll use double quo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mpty string: “” or ‘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 triple quotes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for strings that go across multiple lin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48320" y="4800600"/>
            <a:ext cx="27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“““</a:t>
            </a: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s long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ike, really long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B16-CC92-416D-8E13-314A3462585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imple state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_not_ a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Displays the result of expression(s) to the termina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438280" y="3284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1040" y="45403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Tahoma"/>
                <a:ea typeface="Luxi Sans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78144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4162320"/>
            <a:ext cx="838080" cy="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57600" y="5381280"/>
            <a:ext cx="838080" cy="68580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44212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1040" y="45435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Unless ends with 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7680" y="62485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mo_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854-489D-4138-A9F1-FA702E78BB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scape Sequen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scape Sequen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newline character (carriage return)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ab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quote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ackslash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\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print “To print a \\, you must use \”\\\\\”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9BC-788A-41A8-A4E1-A2A05276249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To print a tab, you must use ‘\t’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I said, ”How are you?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0840" y="5983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escape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039-EFDC-43AD-99DD-0ADC915072B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the files in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 into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reate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out 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syntax for the copy command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“abbreviation” for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pa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ummarie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English, complete senten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chanics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st as </a:t>
            </a: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com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keep the blog a bit more organ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llow instructions on “CS Issues” about what summary should contai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edit your own pos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want to write in a word processor and then copy over to blo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knew about MMOGs before reading this artic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may of you participated in this or something similar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read onlin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my PDF vers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the Web pag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ill L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72200" y="4723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ur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ill R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t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724280"/>
            <a:ext cx="1905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Jennifer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Keith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ath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219320"/>
            <a:ext cx="8458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main points (so far)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ery advancement in technology has positive and negative impacts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the positive and negative impacts of email?  Of IM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65160"/>
            <a:ext cx="99072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52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8280" y="1523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4840" y="1523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7120" y="15238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5360" y="2438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12960" y="243828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ublic_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868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596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00" y="458784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is a shortname for your home directory, i.e.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hort for 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/home/students/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06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 directory (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05160" y="1905120"/>
            <a:ext cx="99036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905120"/>
            <a:ext cx="99072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160" y="2895480"/>
            <a:ext cx="99036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95480"/>
            <a:ext cx="99072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5706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w would you copy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triangle.py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your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public_htm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director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8320" y="3925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riang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28640" y="3809880"/>
            <a:ext cx="304920" cy="1526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3680" y="217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6280" y="3328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3"/>
            <a:endCxn id="115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20" idx="1"/>
            <a:endCxn id="117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16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0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4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9" idx="0"/>
            <a:endCxn id="124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25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4" idx="3"/>
            <a:endCxn id="129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2"/>
            <a:endCxn id="126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080" y="990720"/>
            <a:ext cx="2891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Purely Interpret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’s Imple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ation of compiled and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active mode: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lidate, execute each li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“interpreter” in script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iles Python script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byte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uns Python Virtual Machine that interprets the bytecode and execu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n to Use 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ument the author, high-level description of the program at the top of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vide an outline of an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parates the steps of the algorith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 difficult-to-understand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rr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Sometimes the program doesn’t work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ypes of programming erro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yntax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Interpreter shows where the problem i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Logic/semantic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+3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dc0202"/>
                </a:solidFill>
                <a:latin typeface="Arial"/>
              </a:rPr>
              <a:t>anser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 is “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xceptions/Runtime erro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/0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Undefined variable nam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Expose when </a:t>
            </a: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F71-94DE-4636-831C-7807727658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1752840" cy="762120"/>
          </a:xfrm>
          <a:prstGeom prst="rect">
            <a:avLst/>
          </a:prstGeom>
          <a:solidFill>
            <a:srgbClr val="fedc0f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143000"/>
            <a:ext cx="1676520" cy="762120"/>
          </a:xfrm>
          <a:prstGeom prst="rect">
            <a:avLst/>
          </a:prstGeom>
          <a:solidFill>
            <a:srgbClr val="33cccc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30800" y="1152360"/>
            <a:ext cx="1946520" cy="752760"/>
          </a:xfrm>
          <a:prstGeom prst="rect">
            <a:avLst/>
          </a:prstGeom>
          <a:solidFill>
            <a:srgbClr val="de6c70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920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Arial"/>
              </a:rPr>
              <a:t>Test Ca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146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case: input used to test the program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rify if </a:t>
            </a:r>
            <a:r>
              <a:rPr b="0" lang="en-US" sz="3200" spc="-1" strike="noStrike">
                <a:solidFill>
                  <a:srgbClr val="d7556d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what you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expected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</a:t>
            </a:r>
            <a:r>
              <a:rPr b="1" i="1" lang="en-US" sz="3200" spc="-1" strike="noStrike">
                <a:solidFill>
                  <a:srgbClr val="00b000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test cas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help determine if program is correc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er plays devil’s advocat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ant to expos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gs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before customer/professor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5T16:08:20Z</dcterms:modified>
  <cp:revision>313</cp:revision>
  <dc:subject/>
  <dc:title>PowerPoint Presentation</dc:title>
</cp:coreProperties>
</file>