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pct" ContentType="image/x-pict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3F75-A07F-42BB-B6CC-380D401F9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C32C-A208-4414-BB72-B9BEABBE7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2F84-3C3D-4304-9190-CDC4C77D0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B302F-38C5-48A9-9F42-2DA2A3462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2B4D70-E912-4135-9793-D01201633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7B20D4-9E2E-4BCD-A111-DB852EA88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074167-A072-45ED-8ECC-82F27FD98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C24FC9-D658-4043-992B-E5FE48DCF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C8817A-0779-4A89-BE50-F2D3A75F1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782CA5-51D9-42C5-B988-0A6A08D12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C95259-A531-4FF7-9230-68EAB499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8D787-EAC5-4D69-800A-EB99319CB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8D41C3-D805-4D68-BDC9-01E88D95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EE5A21-BE50-4177-B1A3-E81EFDE1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D66E38-0F4E-43EA-A060-B2359C1F2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87457D-F81E-4DCF-AA32-FFEAF091D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A9C859-22E4-42DC-827B-9FE10E779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2ACD6-2149-4744-9003-7EFC3C73F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54C1-D890-4872-9004-49C5AB26E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6F2E-417F-411A-8F61-1817335C3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2E5D-F3B6-4CBF-8426-21F920A86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7649B-C500-417E-9D16-B8D5F5353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6158-6626-4FAA-BD77-06A228E29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C442A-77E7-4C42-83CE-E3224352E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Apr 4, 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71471-DF27-4023-8CFE-8C5910A875F7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02382-0486-4CAD-A170-4F536C93B3E8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14.xm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nal Exam Questions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ncluding CS111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ther programming languag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hat is computer science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8B62-06FA-4F0B-964B-F193A5F12B6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paring Programming Languag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ow is the syntax/semantics of these languages different from Python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is easier or harder to do in these other programming languages than in Python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A0E3-CE96-488F-9C9C-E3CA7DB918B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paring Programming Languag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enefits of Python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impler syntax (e.g., fewer {} and ()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an cover some content with less overhea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rawback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ata types aren’t explicit (static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Can be harder for you to remember and keep straight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Not compiled explicitly beforehan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Keep executing to find all the syntax bugs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llows you to do some crazy stuff that won’t work in other programming languag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4A2A-2438-4094-A8FB-7469BC77FCF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o Uses Python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Google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Backends of Gmail and Google Maps and search-engine internals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NASA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Collaborative engineering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Yahoo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Groups: Maintain discussion groups; Maps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RedHat Linux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System infrastructur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Original BitTorrent client; Youtube; Civilization IV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689CD-C6D6-4878-A706-B1827C21877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puter Science != Programming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6019920" y="2895480"/>
            <a:ext cx="1600200" cy="1533600"/>
          </a:xfrm>
          <a:prstGeom prst="ellipse">
            <a:avLst/>
          </a:prstGeom>
          <a:solidFill>
            <a:srgbClr val="120df3"/>
          </a:solidFill>
          <a:ln w="28440">
            <a:solidFill>
              <a:srgbClr val="120d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0" name="">
            <a:hlinkClick r:id="rId1" action="ppaction://hlinksldjump"/>
          </p:cNvPr>
          <p:cNvSpPr/>
          <p:nvPr/>
        </p:nvSpPr>
        <p:spPr>
          <a:xfrm>
            <a:off x="381600" y="1752480"/>
            <a:ext cx="291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0df3"/>
                </a:solidFill>
                <a:latin typeface="Arial"/>
                <a:ea typeface="ＭＳ Ｐゴシック"/>
              </a:rPr>
              <a:t>programming : CS :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26892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  <a:ea typeface="ＭＳ Ｐゴシック"/>
              </a:rPr>
              <a:t>machining : engineering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447920" y="332424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  <a:ea typeface="ＭＳ Ｐゴシック"/>
              </a:rPr>
              <a:t>grammar : literatur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7920" y="395928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  <a:ea typeface="ＭＳ Ｐゴシック"/>
              </a:rPr>
              <a:t>equations : mathematic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4" name="">
            <a:hlinkClick r:id="rId2" action="ppaction://hlinksldjump"/>
          </p:cNvPr>
          <p:cNvSpPr/>
          <p:nvPr/>
        </p:nvSpPr>
        <p:spPr>
          <a:xfrm>
            <a:off x="2109240" y="5440320"/>
            <a:ext cx="498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20df3"/>
                </a:solidFill>
                <a:latin typeface="Arial"/>
                <a:ea typeface="ＭＳ Ｐゴシック"/>
              </a:rPr>
              <a:t>a vehicle, not a destination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705720" y="2819520"/>
            <a:ext cx="1828800" cy="1752480"/>
          </a:xfrm>
          <a:prstGeom prst="ellipse">
            <a:avLst/>
          </a:prstGeom>
          <a:solidFill>
            <a:srgbClr val="008000"/>
          </a:solidFill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19920" y="2895480"/>
            <a:ext cx="1600200" cy="1533600"/>
          </a:xfrm>
          <a:prstGeom prst="ellipse">
            <a:avLst/>
          </a:prstGeom>
          <a:noFill/>
          <a:ln w="28440">
            <a:solidFill>
              <a:srgbClr val="120d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1200" y="3378240"/>
            <a:ext cx="152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bfa"/>
                </a:solidFill>
                <a:latin typeface="Arial"/>
              </a:rPr>
              <a:t>Programming</a:t>
            </a:r>
            <a:endParaRPr b="0" lang="en-US" sz="16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018200" y="3660840"/>
            <a:ext cx="1363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bfa"/>
                </a:solidFill>
                <a:latin typeface="Arial"/>
              </a:rPr>
              <a:t>Computer Science</a:t>
            </a:r>
            <a:endParaRPr b="0" lang="en-US" sz="16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50080" y="464832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walking : W&amp;L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2E09-F0AC-4E3E-90A9-0C04AC48DC1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puter Science Field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4952520"/>
            <a:ext cx="8686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Often research involves combinations of these field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Not just programming!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4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But programming is a tool to do much, much more!</a:t>
            </a:r>
            <a:endParaRPr b="0" lang="en-US" sz="20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847760" y="1143000"/>
            <a:ext cx="117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Theor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897240" y="1143000"/>
            <a:ext cx="101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Oth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52280" y="1192320"/>
            <a:ext cx="2743200" cy="2609280"/>
            <a:chOff x="152280" y="1192320"/>
            <a:chExt cx="2743200" cy="2609280"/>
          </a:xfrm>
        </p:grpSpPr>
        <p:sp>
          <p:nvSpPr>
            <p:cNvPr id="125" name=""/>
            <p:cNvSpPr/>
            <p:nvPr/>
          </p:nvSpPr>
          <p:spPr>
            <a:xfrm>
              <a:off x="347760" y="1192320"/>
              <a:ext cx="136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199"/>
                  </a:solidFill>
                  <a:latin typeface="Tahoma"/>
                </a:rPr>
                <a:t>Systems</a:t>
              </a:r>
              <a:endParaRPr b="0" lang="en-US" sz="24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2280" y="1573200"/>
              <a:ext cx="2743200" cy="22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4320" indent="-18432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Architecture</a:t>
              </a:r>
              <a:endParaRPr b="0" lang="en-US" sz="2000" spc="-1" strike="noStrike">
                <a:solidFill>
                  <a:srgbClr val="020202"/>
                </a:solidFill>
                <a:latin typeface="Times New Roman"/>
              </a:endParaRPr>
            </a:p>
            <a:p>
              <a:pPr marL="184320" indent="-18432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Operating systems</a:t>
              </a:r>
              <a:endParaRPr b="0" lang="en-US" sz="2000" spc="-1" strike="noStrike">
                <a:solidFill>
                  <a:srgbClr val="020202"/>
                </a:solidFill>
                <a:latin typeface="Times New Roman"/>
              </a:endParaRPr>
            </a:p>
            <a:p>
              <a:pPr marL="184320" indent="-18432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Networks</a:t>
              </a:r>
              <a:endParaRPr b="0" lang="en-US" sz="2000" spc="-1" strike="noStrike">
                <a:solidFill>
                  <a:srgbClr val="020202"/>
                </a:solidFill>
                <a:latin typeface="Times New Roman"/>
              </a:endParaRPr>
            </a:p>
            <a:p>
              <a:pPr marL="184320" indent="-18432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Distributed and parallel systems</a:t>
              </a:r>
              <a:endParaRPr b="0" lang="en-US" sz="2000" spc="-1" strike="noStrike">
                <a:solidFill>
                  <a:srgbClr val="020202"/>
                </a:solidFill>
                <a:latin typeface="Times New Roman"/>
              </a:endParaRPr>
            </a:p>
            <a:p>
              <a:pPr marL="184320" indent="-18432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Databases</a:t>
              </a:r>
              <a:endParaRPr b="0" lang="en-US" sz="2000" spc="-1" strike="noStrike">
                <a:solidFill>
                  <a:srgbClr val="020202"/>
                </a:solidFill>
                <a:latin typeface="Times New Roman"/>
              </a:endParaRPr>
            </a:p>
            <a:p>
              <a:pPr marL="184320" indent="-18432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…</a:t>
              </a:r>
              <a:endParaRPr b="0" lang="en-US" sz="20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4952880" y="1579680"/>
            <a:ext cx="2362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0680" indent="-220680">
              <a:lnSpc>
                <a:spcPct val="100000"/>
              </a:lnSpc>
              <a:buClr>
                <a:srgbClr val="00c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Algorithm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 marL="220680" indent="-220680">
              <a:lnSpc>
                <a:spcPct val="100000"/>
              </a:lnSpc>
              <a:buClr>
                <a:srgbClr val="00c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Theory of computation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 marL="220680" indent="-220680">
              <a:lnSpc>
                <a:spcPct val="100000"/>
              </a:lnSpc>
              <a:buClr>
                <a:srgbClr val="00c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2819520" y="1173240"/>
            <a:ext cx="2133360" cy="2931840"/>
            <a:chOff x="2819520" y="1173240"/>
            <a:chExt cx="2133360" cy="2931840"/>
          </a:xfrm>
        </p:grpSpPr>
        <p:sp>
          <p:nvSpPr>
            <p:cNvPr id="129" name=""/>
            <p:cNvSpPr/>
            <p:nvPr/>
          </p:nvSpPr>
          <p:spPr>
            <a:xfrm>
              <a:off x="2854440" y="1173240"/>
              <a:ext cx="145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199"/>
                  </a:solidFill>
                  <a:latin typeface="Tahoma"/>
                </a:rPr>
                <a:t>Software</a:t>
              </a:r>
              <a:endParaRPr b="0" lang="en-US" sz="24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819520" y="1571760"/>
              <a:ext cx="2133360" cy="25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5240" indent="-16524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Compilers</a:t>
              </a:r>
              <a:endParaRPr b="0" lang="en-US" sz="2000" spc="-1" strike="noStrike">
                <a:solidFill>
                  <a:srgbClr val="020202"/>
                </a:solidFill>
                <a:latin typeface="Times New Roman"/>
              </a:endParaRPr>
            </a:p>
            <a:p>
              <a:pPr marL="165240" indent="-16524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Graphics</a:t>
              </a:r>
              <a:endParaRPr b="0" lang="en-US" sz="2000" spc="-1" strike="noStrike">
                <a:solidFill>
                  <a:srgbClr val="020202"/>
                </a:solidFill>
                <a:latin typeface="Times New Roman"/>
              </a:endParaRPr>
            </a:p>
            <a:p>
              <a:pPr marL="165240" indent="-16524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Software engineering</a:t>
              </a:r>
              <a:endParaRPr b="0" lang="en-US" sz="2000" spc="-1" strike="noStrike">
                <a:solidFill>
                  <a:srgbClr val="020202"/>
                </a:solidFill>
                <a:latin typeface="Times New Roman"/>
              </a:endParaRPr>
            </a:p>
            <a:p>
              <a:pPr marL="165240" indent="-16524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Software testing and verification,</a:t>
              </a:r>
              <a:endParaRPr b="0" lang="en-US" sz="2000" spc="-1" strike="noStrike">
                <a:solidFill>
                  <a:srgbClr val="020202"/>
                </a:solidFill>
                <a:latin typeface="Times New Roman"/>
              </a:endParaRPr>
            </a:p>
            <a:p>
              <a:pPr marL="165240" indent="-16524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…</a:t>
              </a:r>
              <a:endParaRPr b="0" lang="en-US" sz="20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858000" y="1600200"/>
            <a:ext cx="2133720" cy="33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Artificial intelligence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Robotic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atural language processing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Bioinformatic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Visualization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umerical analysi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AD20-942F-4291-AA31-6228953DD24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puter Science Field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62120" y="5257800"/>
            <a:ext cx="815328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 = field we discussed or did a problem in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Some are a stretch :)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847760" y="1143000"/>
            <a:ext cx="117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Theor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97240" y="1143000"/>
            <a:ext cx="101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Oth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152280" y="1192320"/>
            <a:ext cx="2743200" cy="3401280"/>
            <a:chOff x="152280" y="1192320"/>
            <a:chExt cx="2743200" cy="3401280"/>
          </a:xfrm>
        </p:grpSpPr>
        <p:sp>
          <p:nvSpPr>
            <p:cNvPr id="137" name=""/>
            <p:cNvSpPr/>
            <p:nvPr/>
          </p:nvSpPr>
          <p:spPr>
            <a:xfrm>
              <a:off x="347760" y="1192320"/>
              <a:ext cx="1363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199"/>
                  </a:solidFill>
                  <a:latin typeface="Tahoma"/>
                </a:rPr>
                <a:t>Systems</a:t>
              </a:r>
              <a:endParaRPr b="0" lang="en-US" sz="24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52280" y="1573560"/>
              <a:ext cx="274320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4320" indent="-18432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Architecture </a:t>
              </a:r>
              <a:r>
                <a:rPr b="1" lang="en-US" sz="2800" spc="-1" strike="noStrike">
                  <a:solidFill>
                    <a:srgbClr val="ffcc00"/>
                  </a:solidFill>
                  <a:latin typeface="Arial"/>
                </a:rPr>
                <a:t>*</a:t>
              </a:r>
              <a:r>
                <a:rPr b="0" lang="en-US" sz="2800" spc="-1" strike="noStrike">
                  <a:solidFill>
                    <a:srgbClr val="020202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20202"/>
                </a:solidFill>
                <a:latin typeface="Times New Roman"/>
              </a:endParaRPr>
            </a:p>
            <a:p>
              <a:pPr marL="184320" indent="-18432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Operating systems </a:t>
              </a:r>
              <a:r>
                <a:rPr b="1" lang="en-US" sz="2800" spc="-1" strike="noStrike">
                  <a:solidFill>
                    <a:srgbClr val="ffcc00"/>
                  </a:solidFill>
                  <a:latin typeface="Arial"/>
                </a:rPr>
                <a:t>*</a:t>
              </a:r>
              <a:r>
                <a:rPr b="0" lang="en-US" sz="2800" spc="-1" strike="noStrike">
                  <a:solidFill>
                    <a:srgbClr val="020202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20202"/>
                </a:solidFill>
                <a:latin typeface="Times New Roman"/>
              </a:endParaRPr>
            </a:p>
            <a:p>
              <a:pPr marL="184320" indent="-18432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Networks </a:t>
              </a:r>
              <a:r>
                <a:rPr b="1" lang="en-US" sz="2800" spc="-1" strike="noStrike">
                  <a:solidFill>
                    <a:srgbClr val="ffcc00"/>
                  </a:solidFill>
                  <a:latin typeface="Arial"/>
                </a:rPr>
                <a:t>*</a:t>
              </a:r>
              <a:r>
                <a:rPr b="0" lang="en-US" sz="2800" spc="-1" strike="noStrike">
                  <a:solidFill>
                    <a:srgbClr val="020202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20202"/>
                </a:solidFill>
                <a:latin typeface="Times New Roman"/>
              </a:endParaRPr>
            </a:p>
            <a:p>
              <a:pPr marL="184320" indent="-18432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Distributed </a:t>
              </a:r>
              <a:r>
                <a:rPr b="1" lang="en-US" sz="2800" spc="-1" strike="noStrike">
                  <a:solidFill>
                    <a:srgbClr val="ffcc00"/>
                  </a:solidFill>
                  <a:latin typeface="Arial"/>
                </a:rPr>
                <a:t>*</a:t>
              </a: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 and parallel systems</a:t>
              </a:r>
              <a:endParaRPr b="0" lang="en-US" sz="2000" spc="-1" strike="noStrike">
                <a:solidFill>
                  <a:srgbClr val="020202"/>
                </a:solidFill>
                <a:latin typeface="Times New Roman"/>
              </a:endParaRPr>
            </a:p>
            <a:p>
              <a:pPr marL="184320" indent="-18432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Databases</a:t>
              </a:r>
              <a:endParaRPr b="0" lang="en-US" sz="2000" spc="-1" strike="noStrike">
                <a:solidFill>
                  <a:srgbClr val="020202"/>
                </a:solidFill>
                <a:latin typeface="Times New Roman"/>
              </a:endParaRPr>
            </a:p>
            <a:p>
              <a:pPr marL="184320" indent="-18432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…</a:t>
              </a:r>
              <a:endParaRPr b="0" lang="en-US" sz="20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4952880" y="1579680"/>
            <a:ext cx="2362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0680" indent="-220680">
              <a:lnSpc>
                <a:spcPct val="100000"/>
              </a:lnSpc>
              <a:buClr>
                <a:srgbClr val="00c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Algorithms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 marL="220680" indent="-220680">
              <a:lnSpc>
                <a:spcPct val="100000"/>
              </a:lnSpc>
              <a:buClr>
                <a:srgbClr val="00c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Theory of computation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 marL="220680" indent="-220680">
              <a:lnSpc>
                <a:spcPct val="100000"/>
              </a:lnSpc>
              <a:buClr>
                <a:srgbClr val="00c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2819520" y="1173240"/>
            <a:ext cx="2133360" cy="3418560"/>
            <a:chOff x="2819520" y="1173240"/>
            <a:chExt cx="2133360" cy="3418560"/>
          </a:xfrm>
        </p:grpSpPr>
        <p:sp>
          <p:nvSpPr>
            <p:cNvPr id="141" name=""/>
            <p:cNvSpPr/>
            <p:nvPr/>
          </p:nvSpPr>
          <p:spPr>
            <a:xfrm>
              <a:off x="2854440" y="1173240"/>
              <a:ext cx="145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10199"/>
                  </a:solidFill>
                  <a:latin typeface="Tahoma"/>
                </a:rPr>
                <a:t>Software</a:t>
              </a:r>
              <a:endParaRPr b="0" lang="en-US" sz="24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819520" y="1571760"/>
              <a:ext cx="213336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65240" indent="-16524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Compilers </a:t>
              </a:r>
              <a:r>
                <a:rPr b="1" lang="en-US" sz="2800" spc="-1" strike="noStrike">
                  <a:solidFill>
                    <a:srgbClr val="ffcc00"/>
                  </a:solidFill>
                  <a:latin typeface="Arial"/>
                </a:rPr>
                <a:t>*</a:t>
              </a:r>
              <a:r>
                <a:rPr b="0" lang="en-US" sz="2800" spc="-1" strike="noStrike">
                  <a:solidFill>
                    <a:srgbClr val="020202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20202"/>
                </a:solidFill>
                <a:latin typeface="Times New Roman"/>
              </a:endParaRPr>
            </a:p>
            <a:p>
              <a:pPr marL="165240" indent="-16524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Graphics </a:t>
              </a:r>
              <a:r>
                <a:rPr b="1" lang="en-US" sz="2800" spc="-1" strike="noStrike">
                  <a:solidFill>
                    <a:srgbClr val="ffcc00"/>
                  </a:solidFill>
                  <a:latin typeface="Arial"/>
                </a:rPr>
                <a:t>*</a:t>
              </a:r>
              <a:r>
                <a:rPr b="0" lang="en-US" sz="2800" spc="-1" strike="noStrike">
                  <a:solidFill>
                    <a:srgbClr val="020202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20202"/>
                </a:solidFill>
                <a:latin typeface="Times New Roman"/>
              </a:endParaRPr>
            </a:p>
            <a:p>
              <a:pPr marL="165240" indent="-16524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Software engineering </a:t>
              </a:r>
              <a:r>
                <a:rPr b="1" lang="en-US" sz="2800" spc="-1" strike="noStrike">
                  <a:solidFill>
                    <a:srgbClr val="ffcc00"/>
                  </a:solidFill>
                  <a:latin typeface="Arial"/>
                </a:rPr>
                <a:t>*</a:t>
              </a:r>
              <a:r>
                <a:rPr b="0" lang="en-US" sz="2800" spc="-1" strike="noStrike">
                  <a:solidFill>
                    <a:srgbClr val="020202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20202"/>
                </a:solidFill>
                <a:latin typeface="Times New Roman"/>
              </a:endParaRPr>
            </a:p>
            <a:p>
              <a:pPr marL="165240" indent="-16524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Software testing </a:t>
              </a:r>
              <a:r>
                <a:rPr b="1" lang="en-US" sz="2800" spc="-1" strike="noStrike">
                  <a:solidFill>
                    <a:srgbClr val="ffcc00"/>
                  </a:solidFill>
                  <a:latin typeface="Arial"/>
                </a:rPr>
                <a:t>*</a:t>
              </a: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 and verification,</a:t>
              </a:r>
              <a:endParaRPr b="0" lang="en-US" sz="2000" spc="-1" strike="noStrike">
                <a:solidFill>
                  <a:srgbClr val="020202"/>
                </a:solidFill>
                <a:latin typeface="Times New Roman"/>
              </a:endParaRPr>
            </a:p>
            <a:p>
              <a:pPr marL="165240" indent="-165240">
                <a:lnSpc>
                  <a:spcPct val="100000"/>
                </a:lnSpc>
                <a:buClr>
                  <a:srgbClr val="00c600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20202"/>
                  </a:solidFill>
                  <a:latin typeface="Tahoma"/>
                </a:rPr>
                <a:t>…</a:t>
              </a:r>
              <a:endParaRPr b="0" lang="en-US" sz="20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6858000" y="1600200"/>
            <a:ext cx="2133720" cy="36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01680" indent="-187200">
              <a:lnSpc>
                <a:spcPct val="80000"/>
              </a:lnSpc>
              <a:spcBef>
                <a:spcPts val="700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Artificial intelligence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 lvl="1" marL="301680" indent="-187200">
              <a:lnSpc>
                <a:spcPct val="80000"/>
              </a:lnSpc>
              <a:spcBef>
                <a:spcPts val="700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Robotics </a:t>
            </a: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*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atural language processing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Bioinformatic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Visualization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umerical analysis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 lvl="1" marL="301680" indent="-187200">
              <a:lnSpc>
                <a:spcPct val="80000"/>
              </a:lnSpc>
              <a:spcBef>
                <a:spcPts val="499"/>
              </a:spcBef>
              <a:buClr>
                <a:srgbClr val="00c6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2C87-7847-43C5-8F6A-529A333D870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S == Complexity Scien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tudy of Complexit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can it be done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Based on </a:t>
            </a:r>
            <a:r>
              <a:rPr b="1" lang="en-US" sz="2600" spc="-1" strike="noStrike">
                <a:solidFill>
                  <a:srgbClr val="020202"/>
                </a:solidFill>
                <a:latin typeface="Arial"/>
              </a:rPr>
              <a:t>information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Managing, manipulating data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Possible algorithms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well can it be done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Most </a:t>
            </a:r>
            <a:r>
              <a:rPr b="1" lang="en-US" sz="2600" spc="-1" strike="noStrike">
                <a:solidFill>
                  <a:srgbClr val="020202"/>
                </a:solidFill>
                <a:latin typeface="Arial"/>
              </a:rPr>
              <a:t>efficient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 algorithm in terms of time and/or space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an it be done at all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Often, proof is a program--an implementation of the above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1857-8129-4472-A3FF-236F9BE1483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iversity in Computer Scien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556236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&amp;E around 50%, CS &lt; 20%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143000" y="1066680"/>
          <a:ext cx="6324480" cy="42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066680"/>
                    <a:ext cx="6324480" cy="42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68B88-B5FB-49D4-9505-CBBDBEEBAC0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Graduate Enrollmen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914400" y="1517760"/>
            <a:ext cx="7331040" cy="47307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635480" y="1066680"/>
            <a:ext cx="597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hare of S&amp;E Graduate Students by Field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9811-ACAF-45B3-A096-21E08D4DCB5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ttracting Computer Scientist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mand for software engineers is high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Create new software, applications --&gt; improve productivity</a:t>
            </a:r>
            <a:endParaRPr b="0" lang="en-US" sz="20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Good starting salaries, esp. compared to other college graduates</a:t>
            </a:r>
            <a:endParaRPr b="0" lang="en-US" sz="20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Computer science majors are decreasing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Dropped with dot-com bust</a:t>
            </a:r>
            <a:endParaRPr b="0" lang="en-US" sz="20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Losing “normal” people of all genders, ethnicities</a:t>
            </a:r>
            <a:endParaRPr b="0" lang="en-US" sz="20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Need to attract and retain more major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Maintain technical innovation, diversity of ideas</a:t>
            </a:r>
            <a:endParaRPr b="0" lang="en-US" sz="20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Arial"/>
              </a:rPr>
              <a:t>Computing’s effect on other fields</a:t>
            </a:r>
            <a:endParaRPr b="0" lang="en-US" sz="20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oes attracting new majors compromise/weaken the discipline?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0DBB-91BB-4BDF-B4C8-A6648C0F49B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pplying What You Know To Other Languag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t the beginning of the semester, some of you aske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hy Python?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ill I be able to read/write programs in other programming languages?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e’ll answer the first by showing that you can do the secon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3ED0-7902-4D1A-A3F1-56691139731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iscuss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228600" y="2255760"/>
          <a:ext cx="8610480" cy="2697120"/>
        </p:xfrm>
        <a:graphic>
          <a:graphicData uri="http://schemas.openxmlformats.org/drawingml/2006/table">
            <a:tbl>
              <a:tblPr/>
              <a:tblGrid>
                <a:gridCol w="2001960"/>
                <a:gridCol w="1579320"/>
                <a:gridCol w="2425680"/>
                <a:gridCol w="26035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Stereotype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% Truth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Perception changed?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How to Address?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8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8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8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"/>
          <p:cNvSpPr/>
          <p:nvPr/>
        </p:nvSpPr>
        <p:spPr>
          <a:xfrm>
            <a:off x="457200" y="5029200"/>
            <a:ext cx="2606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ome stereotypes have some truth to them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1905120" y="4191120"/>
            <a:ext cx="761760" cy="91440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70360" y="4906800"/>
            <a:ext cx="184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ince W&amp;L or since CS11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4343400" y="4038480"/>
            <a:ext cx="457200" cy="99072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843160" y="5105520"/>
            <a:ext cx="286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In classroom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s a profession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Recruitment tools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7162920" y="4114800"/>
            <a:ext cx="75960" cy="99072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9880" y="304920"/>
            <a:ext cx="5334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Group1: Julie, Lucy, Vasil, Coli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Group2: Greg, Dave, Joe, Alex, Na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Group3: Ty, Clay, Arturo, Joa, Stuar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4B52F-6163-4E79-AF25-157D0814041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iscuss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y do we need women and minorities and others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versity of perspective, idea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Robot: makers of Roomba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Male and Female co-founders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ames: Missing 50% of marke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Sims - most popular game in history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roader: need applications for all peop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50B4-AF7D-4BA3-82EF-2B978AB5E29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nclus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e impact of computer science on your lif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nderstand some of the computing issues bett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aking out some of the myster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ecurity, testing, debugging, efficienc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lgorithms are everywher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ocess for solving problem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apping human intuition to systematic/automatic proces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F077-1F74-4AA1-807C-6D6DE926BD6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pplying What You Know To Other Languag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6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Syntax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: symbols use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Semantic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: what the symbols </a:t>
            </a:r>
            <a:r>
              <a:rPr b="0" i="1" lang="en-US" sz="3200" spc="-1" strike="noStrike">
                <a:solidFill>
                  <a:srgbClr val="020202"/>
                </a:solidFill>
                <a:latin typeface="Arial"/>
              </a:rPr>
              <a:t>mea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4CAB-7062-4D46-A731-36A3877D187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at is the Python Program Doing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CA34-19CE-4BE1-9BF8-EB7E55C10F4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at is the Python Program Doing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etting a line of input from “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standard in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” (from the user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plitting the input into intege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alculating the result to a formula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ciding if a student is admitted, based on the result of the formula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9E6F-0817-4762-93EB-953E7D34494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dmissions Proble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inary University decides to admit students based on a formula that weighs various facto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cores of 70 or better are admitte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put: single line, 4 integers, in order below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80880" y="3657600"/>
          <a:ext cx="8305920" cy="2643120"/>
        </p:xfrm>
        <a:graphic>
          <a:graphicData uri="http://schemas.openxmlformats.org/drawingml/2006/table">
            <a:tbl>
              <a:tblPr/>
              <a:tblGrid>
                <a:gridCol w="2768760"/>
                <a:gridCol w="2768400"/>
                <a:gridCol w="27687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Category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ange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Weight Factor (Multiplier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High School GPA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0 - 10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0.25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AT score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600-2400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.01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AP Courses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0-10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Intangibles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-10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8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64D36-F5B4-418F-8DBE-1181BC77EC9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Example Input/Expected Outpu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57200" y="1371600"/>
          <a:ext cx="7620120" cy="4800600"/>
        </p:xfrm>
        <a:graphic>
          <a:graphicData uri="http://schemas.openxmlformats.org/drawingml/2006/table">
            <a:tbl>
              <a:tblPr/>
              <a:tblGrid>
                <a:gridCol w="3809880"/>
                <a:gridCol w="381024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Inpu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xpected Outpu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0 1 0 30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DENY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68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6 10 99 239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ADMI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0 7 82 150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ADMI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68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 5 0 99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DENY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 5 0 100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ADMI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 5 0 101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ADMI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219B-A493-45FE-A15D-7FA85B97410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at is the Python Program Doing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etting a line of input from “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standard in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” (from the user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plitting the input into intege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alculating the result to a formula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ciding if a student is admitted, based on the result of the formula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113480" y="4834080"/>
            <a:ext cx="679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Identify these pieces in the other program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5D2E-0D55-40BC-9BA3-1FB10226AD8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Example Program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intLab.sh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Bash scrip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Java, C++, C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ogramming content problem: determining if someone should be admitted to colleg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490C-59F2-477A-8284-AB3C51C80BA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cp:lastPrinted>2007-12-03T20:55:52Z</cp:lastPrinted>
  <dcterms:modified xsi:type="dcterms:W3CDTF">2008-04-04T19:40:22Z</dcterms:modified>
  <cp:revision>4174</cp:revision>
  <dc:subject/>
  <dc:title>PowerPoint Presentation</dc:title>
</cp:coreProperties>
</file>