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pct" ContentType="image/x-pict"/>
  <Override PartName="/ppt/media/image2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CB92-CE7C-41A0-BF99-5A16030A0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A286-2F5C-4686-84F8-1C1B2FFE9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270D-FA02-47B2-A56F-046A902E4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5647-0B9D-4EC5-9E27-85C50D263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D08B01-3BEE-45D8-ACAF-514374D93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44885D-A63C-490C-86B6-FBA852EEB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7750DB-C679-4485-8C3B-7C78AB2C8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0D6F26-330A-41C4-947B-D6874CC48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1C5427-BEB2-4ADC-848E-1951DB778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2AAD99-1EE8-451D-A79B-CDB94EE72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29545C-1EDE-419A-9270-66F55601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DB23-2D22-49F6-BA9D-6B726BF52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1822EE-7F5B-4BCA-96C8-9AD7FD6B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AC696C-77A8-45FE-99D9-B15BED85D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0E30D0-1A09-4FA8-AA8E-83AE27889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24A431-2CB5-459D-B2AD-98F52AC60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A85579-A31D-484C-B6C2-A080984F4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B75B-E5A2-48E8-A491-BF4F01097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7422-BFDC-4AD4-8995-A56B02313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98AF-771E-422F-BDFC-B606F30DE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69D0-E671-47D8-B03E-53C030F17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7518-BE77-4C6A-B6EB-F20FD5F2D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7FCD-71BC-452A-BD08-26F2792FD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C815-C305-48B1-8FE6-93460EA9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Oct 22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78A72-0D00-47E9-890C-023BF6DA698B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45DA9-42C0-4514-A2B1-AFFE0CFEDAD9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ore on Lis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sing in function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ictionari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E13D-62C7-4F31-8C0E-C91B50D315E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ibonacci Sequen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nt the first 15 Fibonacci numbers</a:t>
            </a:r>
            <a:endParaRPr b="0" lang="en-US" sz="3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-2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12880" y="3124080"/>
            <a:ext cx="7027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ibs = range(15)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# creates a list of size 15 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ibs[0] = 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ibs[1] = 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or x in xrange(2,15)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newfib = fibs[x-1]+fibs[x-2]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ibs[x] = newfib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or num in fibs: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# print each num on sep lin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 num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75120" y="6321600"/>
            <a:ext cx="12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fibs2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31320" y="1914480"/>
            <a:ext cx="391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imilar to xrang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Can use same parameter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352680" y="2286000"/>
            <a:ext cx="1371600" cy="91440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E423-5CE9-4CEE-99D9-2CEC22366F1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ists vs. Array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riefly, lists are similar to arrays in other languag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ore similar to </a:t>
            </a:r>
            <a:r>
              <a:rPr b="0" i="1" lang="en-US" sz="2800" spc="-1" strike="noStrike">
                <a:solidFill>
                  <a:srgbClr val="010199"/>
                </a:solidFill>
                <a:latin typeface="Arial"/>
              </a:rPr>
              <a:t>Vectors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in C++ and </a:t>
            </a:r>
            <a:r>
              <a:rPr b="0" i="1" lang="en-US" sz="2800" spc="-1" strike="noStrike">
                <a:solidFill>
                  <a:srgbClr val="010199"/>
                </a:solidFill>
                <a:latin typeface="Arial"/>
              </a:rPr>
              <a:t>ArrayLists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in Java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ypically, arrays have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static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length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an’t insert and remove elements from arrays so that the length of the array chang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Need to make the array as big as you’ll think you’ll nee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5FAA-9E8F-4225-AC1B-C944555C37A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ists vs. String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trings are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immutab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an’t be mutated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r, can’t be modified/change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ists can be change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utable!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18680" y="3962520"/>
            <a:ext cx="819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groceryList=[“milk”, “eggs”, “bread”, “Doritos”, “OJ”, “sugar”]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4080" y="4471920"/>
            <a:ext cx="406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groceryList[0] = “skim milk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groceryList[3] = “popcorn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5462640"/>
            <a:ext cx="797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groceryList is now [“skim milk”, “eggs”, “bread”, “popcorn”, “OJ”, “sugar”]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276A-C40C-4D53-8EFD-31239AD4CC3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pies of List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does the following code output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x = [1, 2, 3]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y = x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y[0] = -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int x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int 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B765-5F7D-4892-88CF-4BD39C24EFC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ist Identifiers are Point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600" y="3352320"/>
            <a:ext cx="86868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y is not a copy of x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oints to what x points to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ow to make a copy of y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y = x + []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R: y= []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y.extend(x)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3200400" y="1806480"/>
          <a:ext cx="3505320" cy="517320"/>
        </p:xfrm>
        <a:graphic>
          <a:graphicData uri="http://schemas.openxmlformats.org/drawingml/2006/table">
            <a:tbl>
              <a:tblPr/>
              <a:tblGrid>
                <a:gridCol w="1168200"/>
                <a:gridCol w="1168560"/>
                <a:gridCol w="116856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818280" y="1600200"/>
            <a:ext cx="36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x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82720" y="2471760"/>
            <a:ext cx="3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y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19320" y="1806480"/>
            <a:ext cx="1828800" cy="22860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1371600" y="2263680"/>
            <a:ext cx="1676520" cy="60984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80F6-D73A-461A-A725-454BA97AAC7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ists as Parameters to Func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f modify a list passed as a parameter into a function, the list is modified outside the func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Lists are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passed-by-valu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fferent from immutable types (e.g., numbers, strings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arameter is actually a </a:t>
            </a: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pointer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to the list in memory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D53B-20DE-4BCF-9F30-D170895CD75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blem: Sort a list of 3 numbers, in descending orde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with list methods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an we do this using only three comparisons?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52400" y="3222720"/>
            <a:ext cx="669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# order list such that list[0] &gt;= list[1] &gt;= list[2] 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202"/>
                </a:solidFill>
                <a:latin typeface="Tahoma"/>
              </a:rPr>
              <a:t>def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descendSort3Nums( list3 )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25720" y="6278400"/>
            <a:ext cx="239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descendSort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08200" y="460224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Called as: 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73240" y="5211720"/>
            <a:ext cx="359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list = …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descendSort3Nums(list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76DE-DD9C-4B95-A74D-E5ED9C72F40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How Does </a:t>
            </a:r>
            <a:r>
              <a:rPr b="1" lang="en-US" sz="4000" spc="-1" strike="noStrike">
                <a:solidFill>
                  <a:srgbClr val="2017b8"/>
                </a:solidFill>
                <a:latin typeface="Tahoma"/>
              </a:rPr>
              <a:t>in</a:t>
            </a: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 Work for Lists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: x in groceries, where groceries is a lis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 each element in list, checks if element equals (==) x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 the worst case, how many elements does </a:t>
            </a: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in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have to check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could we improve the search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03D1-7A2B-4EA4-B3E8-B4558834DA1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earch Improvement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ort the Lis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helps search?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763960" y="6245280"/>
            <a:ext cx="20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Hi-Low gam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8E48-5A9D-4E93-960B-874AE641915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aster Lookup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if I wanted to know the Registrar’s phone number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ould I search through an alphabetized list of phone numbers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No, I would look up the Registrar and find the phone number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associated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with the Registra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s type of data structure is known as a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dictionary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in Pyth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aps a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key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to a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valu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B49E-0A62-4D5D-87D5-CE438C78062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ther Sequences of Data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e commonly group a sequence of data together and refer to them by one nam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ays of the week: Sunday, Monday, Tuesday, …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onths of the year: January, February, March, …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hopping lis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an represent this data as a </a:t>
            </a:r>
            <a:r>
              <a:rPr b="1" lang="en-US" sz="3200" spc="-1" strike="noStrike">
                <a:solidFill>
                  <a:srgbClr val="6699ff"/>
                </a:solidFill>
                <a:latin typeface="Arial"/>
              </a:rPr>
              <a:t>lis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in Pyth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imilar to </a:t>
            </a:r>
            <a:r>
              <a:rPr b="1" lang="en-US" sz="2800" spc="-1" strike="noStrike">
                <a:solidFill>
                  <a:srgbClr val="6699ff"/>
                </a:solidFill>
                <a:latin typeface="Arial"/>
              </a:rPr>
              <a:t>arrays 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n other languag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0803-AEEB-4829-A219-05551C0B14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Examples of Dictionari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are the keys and values for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ctionar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extbook’s index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okbook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RL (Uniform Resource Locator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ny other things we’ve done/used in class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IN CLASS ANSWERS: variable names --&gt; values, function names --&gt; function definitions, ascii value --&gt; character, character --&gt; ascii value 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3FF8-A106-41F1-8A90-64C2D2F3A63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Examples of Dictionari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are the keys and values for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85520" indent="-3330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ctionar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extbook’s index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okbook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RL (Uniform Resource Locator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ny other things we’ve done/used in class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Keys are not necessarily alphabetize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appings are from </a:t>
            </a:r>
            <a:r>
              <a:rPr b="0" i="1" lang="en-US" sz="3200" spc="-1" strike="noStrike">
                <a:solidFill>
                  <a:srgbClr val="020202"/>
                </a:solidFill>
                <a:latin typeface="Arial"/>
              </a:rPr>
              <a:t>on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key to one </a:t>
            </a:r>
            <a:r>
              <a:rPr b="0" i="1" lang="en-US" sz="3200" spc="-1" strike="noStrike">
                <a:solidFill>
                  <a:srgbClr val="020202"/>
                </a:solidFill>
                <a:latin typeface="Arial"/>
              </a:rPr>
              <a:t>or mor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valu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85520" indent="-3330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Keys are </a:t>
            </a:r>
            <a:r>
              <a:rPr b="1" i="1" lang="en-US" sz="2800" spc="-1" strike="noStrike">
                <a:solidFill>
                  <a:srgbClr val="010199"/>
                </a:solidFill>
                <a:latin typeface="Arial"/>
              </a:rPr>
              <a:t>unique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, Values are not necessarily uniqu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6DC1-0593-41C1-8161-B1908EC2DE1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reating Dictionaries in Pyth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yntax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{&lt;key&gt;:&lt;value&gt;, …, &lt;key&gt;:&lt;value&gt;}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7280" y="3313080"/>
            <a:ext cx="71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empty = </a:t>
            </a:r>
            <a:r>
              <a:rPr b="1" lang="en-US" sz="3200" spc="-1" strike="noStrike">
                <a:solidFill>
                  <a:srgbClr val="010199"/>
                </a:solidFill>
                <a:latin typeface="Tahoma"/>
              </a:rPr>
              <a:t>{}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ascii =</a:t>
            </a:r>
            <a:r>
              <a:rPr b="1" lang="en-US" sz="3200" spc="-1" strike="noStrike">
                <a:solidFill>
                  <a:srgbClr val="010199"/>
                </a:solidFill>
                <a:latin typeface="Tahoma"/>
              </a:rPr>
              <a:t> {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 ‘a’</a:t>
            </a:r>
            <a:r>
              <a:rPr b="1" lang="en-US" sz="32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97, ‘b’</a:t>
            </a:r>
            <a:r>
              <a:rPr b="1" lang="en-US" sz="32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98, ‘c’</a:t>
            </a:r>
            <a:r>
              <a:rPr b="1" lang="en-US" sz="32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99, …, ‘z’</a:t>
            </a:r>
            <a:r>
              <a:rPr b="1" lang="en-US" sz="32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122 </a:t>
            </a:r>
            <a:r>
              <a:rPr b="1" lang="en-US" sz="3200" spc="-1" strike="noStrike">
                <a:solidFill>
                  <a:srgbClr val="010199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8051-99C6-4EF9-889B-4FFC5C1CCB7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ccessing Values using Key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yntax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45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dictionary&gt;[&lt;key&gt;]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600"/>
                </a:solidFill>
                <a:latin typeface="Tahoma"/>
              </a:rPr>
              <a:t>KeyError</a:t>
            </a:r>
            <a:r>
              <a:rPr b="0" lang="en-US" sz="32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if key is not in dictionar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68760" y="2779560"/>
            <a:ext cx="3966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ascii[‘z’]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directory[‘registrar’]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C5F6-59A8-4417-9009-47BA461323D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nserting Key-Value Pai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yntax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dictionary&gt;[&lt;key&gt;] = &lt;value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scii[‘a’] = 97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39160" y="6248520"/>
            <a:ext cx="27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scii_dictionary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CDB5-EAA8-42D0-ABE5-4FDB1C09D9C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86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Broader Issues: Diversity in Computer Scien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56383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cience &amp; Engineering: near 50%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143000" y="1266840"/>
          <a:ext cx="6324480" cy="42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266840"/>
                    <a:ext cx="6324480" cy="42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1AEE-1B5F-4C00-940B-2582D03CFEB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blem: Music Fi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e have an album file that has the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Artist name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Album name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Song name 1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Song length 1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Song name n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Song length n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iven an album file, print out the number of songs and the total length of the albu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486400" y="449568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Length has the format min:second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22A9-948E-4FF3-AAF8-8624F6DB1FF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Broader Issues: Diversity in Computer Science 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55623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2001, S&amp;E: 11% full, 22% assoc, 36% asst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CS: 8%, 13%, 14%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914400" y="1143000"/>
          <a:ext cx="7238880" cy="4424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143000"/>
                    <a:ext cx="7238880" cy="442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4F7F-8A50-4224-AEF4-0AAB2AE4CF4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Benefits of List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roup related items togeth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Name with a single variable name instead of creating many separate variabl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E.g., sunday = “Sun”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List has an </a:t>
            </a:r>
            <a:r>
              <a:rPr b="0" i="1" lang="en-US" sz="2800" spc="-1" strike="noStrike">
                <a:solidFill>
                  <a:srgbClr val="00c600"/>
                </a:solidFill>
                <a:latin typeface="Arial"/>
              </a:rPr>
              <a:t>ord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nvenient for dealing with large amounts of data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could keep all the temperature data in a list if needed to reuse lat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unctions and methods for handling, manipulating lis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0A09-565C-4695-9BCA-D05F181E2FF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ists: A Closer Look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4191120"/>
            <a:ext cx="8686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&lt;listname&gt;[&lt;int_expr&gt;]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imilar to accessing characters in a str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aysInWeek[-1] is “Sat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aysInWeek[0] is “Sun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143000" y="1803240"/>
          <a:ext cx="7620120" cy="1015920"/>
        </p:xfrm>
        <a:graphic>
          <a:graphicData uri="http://schemas.openxmlformats.org/drawingml/2006/table">
            <a:tbl>
              <a:tblPr/>
              <a:tblGrid>
                <a:gridCol w="1089000"/>
                <a:gridCol w="1087560"/>
                <a:gridCol w="1089000"/>
                <a:gridCol w="1154160"/>
                <a:gridCol w="1023840"/>
                <a:gridCol w="1087560"/>
                <a:gridCol w="1089000"/>
              </a:tblGrid>
              <a:tr h="525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un”</a:t>
                      </a:r>
                      <a:endParaRPr b="0" lang="en-US" sz="26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Mon”</a:t>
                      </a:r>
                      <a:endParaRPr b="0" lang="en-US" sz="26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ue”</a:t>
                      </a:r>
                      <a:endParaRPr b="0" lang="en-US" sz="26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Wed”</a:t>
                      </a:r>
                      <a:endParaRPr b="0" lang="en-US" sz="26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hu”</a:t>
                      </a:r>
                      <a:endParaRPr b="0" lang="en-US" sz="26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ri”</a:t>
                      </a:r>
                      <a:endParaRPr b="0" lang="en-US" sz="26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at”</a:t>
                      </a:r>
                      <a:endParaRPr b="0" lang="en-US" sz="26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4</a:t>
                      </a:r>
                      <a:endParaRPr b="0" lang="en-US" sz="26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5</a:t>
                      </a:r>
                      <a:endParaRPr b="0" lang="en-US" sz="26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6</a:t>
                      </a:r>
                      <a:endParaRPr b="0" lang="en-US" sz="26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</a:tr>
            </a:tbl>
          </a:graphicData>
        </a:graphic>
      </p:graphicFrame>
      <p:sp>
        <p:nvSpPr>
          <p:cNvPr id="91" name=""/>
          <p:cNvSpPr/>
          <p:nvPr/>
        </p:nvSpPr>
        <p:spPr>
          <a:xfrm>
            <a:off x="87480" y="113976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elemen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320" y="290520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osition/index in the lis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47920" y="1371600"/>
            <a:ext cx="533160" cy="38088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057400" y="2895120"/>
            <a:ext cx="914400" cy="38124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813280" y="3200400"/>
            <a:ext cx="31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len(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daysInWeek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) is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7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307680" y="121932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daysInWeek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FA7A-0680-402F-B101-D373D40033C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ist Opera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143000" y="1397160"/>
          <a:ext cx="6858000" cy="406368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Concatenation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seq&gt; + &lt;seq&gt;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petition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seq&gt; * &lt;int-expr&gt;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Indexing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seq&gt;[&lt;int-expr&gt;]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ength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en(&lt;seq&gt;)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licing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seq&gt;[:]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Iteration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or &lt;var&gt; in &lt;seq&gt;: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Membership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expr&gt; in &lt;seq&gt;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187560" y="5770440"/>
            <a:ext cx="54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Similar to operations for strings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7889-58C6-4593-838E-8EFA83DCA4E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terating through a Lis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ad a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or every element in the list …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quivalent to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56000" y="3317760"/>
            <a:ext cx="274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Tahoma"/>
              </a:rPr>
              <a:t>for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item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10199"/>
                </a:solidFill>
                <a:latin typeface="Tahoma"/>
              </a:rPr>
              <a:t>in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list</a:t>
            </a:r>
            <a:r>
              <a:rPr b="1" lang="en-US" sz="2800" spc="-1" strike="noStrike">
                <a:solidFill>
                  <a:srgbClr val="010199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print item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39960" y="2316240"/>
            <a:ext cx="29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n item in the lis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38200" y="2286000"/>
            <a:ext cx="15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list objec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962520" y="2666880"/>
            <a:ext cx="761760" cy="76212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51080" y="2895480"/>
            <a:ext cx="457200" cy="53352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1760" y="5146560"/>
            <a:ext cx="419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Tahoma"/>
              </a:rPr>
              <a:t>for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10199"/>
                </a:solidFill>
                <a:latin typeface="Tahoma"/>
              </a:rPr>
              <a:t>in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xrange(len(list))</a:t>
            </a:r>
            <a:r>
              <a:rPr b="1" lang="en-US" sz="2800" spc="-1" strike="noStrike">
                <a:solidFill>
                  <a:srgbClr val="010199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print list[x]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324480" y="511488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Iterates through </a:t>
            </a:r>
            <a:r>
              <a:rPr b="0" i="1" lang="en-US" sz="2400" spc="-1" strike="noStrike">
                <a:solidFill>
                  <a:srgbClr val="00c600"/>
                </a:solidFill>
                <a:latin typeface="Tahoma"/>
              </a:rPr>
              <a:t>positions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in list 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281952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Iterates through </a:t>
            </a:r>
            <a:r>
              <a:rPr b="0" i="1" lang="en-US" sz="2400" spc="-1" strike="noStrike">
                <a:solidFill>
                  <a:srgbClr val="00c600"/>
                </a:solidFill>
                <a:latin typeface="Tahoma"/>
              </a:rPr>
              <a:t>items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in list 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83000" y="6278400"/>
            <a:ext cx="239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daysOfWeek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C589-4C25-4D17-A4BB-8876C102455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Membership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Check if a list contains an element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Example problem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enrolledstudents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is a list of students who are enrolled in the class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Want to check if a student who attends the class is enrolled in the class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0202"/>
                </a:solidFill>
                <a:latin typeface="Arial"/>
              </a:rPr>
              <a:t>Problem: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 If have a list </a:t>
            </a:r>
            <a:r>
              <a:rPr b="1" lang="en-US" sz="2800" spc="-1" strike="noStrike">
                <a:solidFill>
                  <a:srgbClr val="020202"/>
                </a:solidFill>
                <a:latin typeface="Arial"/>
              </a:rPr>
              <a:t>attendingstudents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, check if each attending student is an enrolled student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71080" y="3962520"/>
            <a:ext cx="540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Tahoma"/>
              </a:rPr>
              <a:t>if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not student </a:t>
            </a:r>
            <a:r>
              <a:rPr b="1" lang="en-US" sz="2400" spc="-1" strike="noStrike">
                <a:solidFill>
                  <a:srgbClr val="010199"/>
                </a:solidFill>
                <a:latin typeface="Tahoma"/>
              </a:rPr>
              <a:t>in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enrolledstudents</a:t>
            </a: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int student, “is not enrolled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0B33-8E5F-4990-B7AD-FEA8C1AAF6B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ist Method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80880" y="1417680"/>
          <a:ext cx="8305920" cy="4865760"/>
        </p:xfrm>
        <a:graphic>
          <a:graphicData uri="http://schemas.openxmlformats.org/drawingml/2006/table">
            <a:tbl>
              <a:tblPr/>
              <a:tblGrid>
                <a:gridCol w="2819520"/>
                <a:gridCol w="548640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Method Name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Functionality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list&gt;.append(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Add element 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to the end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list&gt;.sort(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ort the list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list&gt;.reverse(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verse the list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2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list&gt;.index(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s the index of the first occurrence of 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, Error if 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is not in the list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list&gt;.insert(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i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, 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Insert 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into list at index 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i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2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list&gt;.count(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s the number of occurrences of 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in list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list&gt;.remove(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Deletes the first occurrence of 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in list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2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list&gt;.pop(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i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Deletes the 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i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th element of the list and returns its value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C9A1-B51A-4261-8841-1700AA56D2E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ibonacci Sequen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nt the first 15 Fibonacci numbers</a:t>
            </a:r>
            <a:endParaRPr b="0" lang="en-US" sz="3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-2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10480" y="3200400"/>
            <a:ext cx="7980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ibs = []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# create an empty lis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ibs.append(1)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# append the first two Fib number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ibs.append(1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or x in xrange(2,16):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# compute the next 13 num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newfib = fibs[x-1]+fibs[x-2]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ibs.append(newfib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 fibs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# print out the lis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31000" y="6324480"/>
            <a:ext cx="11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fibs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B642-F485-4B47-AEC9-A5688855475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cp:lastPrinted>2007-10-22T19:41:06Z</cp:lastPrinted>
  <dcterms:modified xsi:type="dcterms:W3CDTF">2007-10-22T19:51:30Z</dcterms:modified>
  <cp:revision>2147</cp:revision>
  <dc:subject/>
  <dc:title>PowerPoint Presentation</dc:title>
</cp:coreProperties>
</file>