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0B97-306D-438F-9B36-A5E2860C56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53CA-69A1-45FF-8CE3-406E1AB72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14A7-DEAA-428E-9B14-205C50833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FF03-5077-4B1E-8580-DAA735D1E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A8149-896C-4B70-834A-3DB2A162A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C9B3D-AEB0-4706-827E-E1E778E5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07BF62-84A9-47A6-9FA3-DB6CC2E0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F983B2-2754-46FE-B0D9-E195A8CBC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C9951-0CCD-42B0-9542-0C092A06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2220BDA-A60A-482F-BA0F-BCDA62458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1D199C-6B38-437A-991B-9F0A79C1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E06D-5671-4B8A-867B-DF110E0B0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90A765-AA29-4F75-80FE-064D6030D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0A1847-7752-49F4-8B86-6E4056F8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B7ABA1-7937-4526-9ECF-077437F6E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28A556-6802-4276-9AAC-877835A03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C6A5A-9FC3-44D9-87C0-62107BBA3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D020-921C-423B-828E-EB20C5AB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8562D-4C28-4372-9E35-20DF0B9D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F1C2A-523D-4E52-936F-C1626C91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B38B-CEDE-4DE2-BAB5-9874E7100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5BE-3FA5-48C2-9594-70748944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92BA-F1EA-4C5B-B236-D7B0333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071-166C-4004-9719-F9A100FA5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1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B81B9-B172-42AA-A4BE-746EEC67760F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E15ED-8AA8-4985-B7F1-AFF7EF68F6E3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reating your own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0866-41B3-482D-BDC9-BE07F30B09A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4876920"/>
            <a:ext cx="4343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The max is”, z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3886200"/>
            <a:ext cx="220968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z=max(x, y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6" idx="2"/>
            <a:endCxn id="125" idx="0"/>
          </p:cNvCxnSpPr>
          <p:nvPr/>
        </p:nvCxnSpPr>
        <p:spPr>
          <a:xfrm>
            <a:off x="2323800" y="43578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endCxn id="126" idx="0"/>
          </p:cNvCxnSpPr>
          <p:nvPr/>
        </p:nvCxnSpPr>
        <p:spPr>
          <a:xfrm>
            <a:off x="2323800" y="34434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9" name=""/>
          <p:cNvCxnSpPr>
            <a:stCxn id="126" idx="3"/>
            <a:endCxn id="130" idx="1"/>
          </p:cNvCxnSpPr>
          <p:nvPr/>
        </p:nvCxnSpPr>
        <p:spPr>
          <a:xfrm flipV="1">
            <a:off x="3443040" y="1371240"/>
            <a:ext cx="1267560" cy="274392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32" idx="1"/>
            <a:endCxn id="126" idx="3"/>
          </p:cNvCxnSpPr>
          <p:nvPr/>
        </p:nvCxnSpPr>
        <p:spPr>
          <a:xfrm rot="10800000">
            <a:off x="3443400" y="4114080"/>
            <a:ext cx="1953000" cy="1448640"/>
          </a:xfrm>
          <a:prstGeom prst="bentConnector3">
            <a:avLst>
              <a:gd name="adj1" fmla="val 50000"/>
            </a:avLst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33" name=""/>
          <p:cNvSpPr/>
          <p:nvPr/>
        </p:nvSpPr>
        <p:spPr>
          <a:xfrm flipV="1">
            <a:off x="1828800" y="3962520"/>
            <a:ext cx="1219320" cy="304560"/>
          </a:xfrm>
          <a:prstGeom prst="line">
            <a:avLst/>
          </a:prstGeom>
          <a:ln w="633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3352680"/>
            <a:ext cx="32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Arial"/>
              </a:rPr>
              <a:t>Gets replaced with function’s output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95280" y="213372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2971800"/>
            <a:ext cx="28195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y = input(“Enter …”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5" idx="2"/>
            <a:endCxn id="136" idx="0"/>
          </p:cNvCxnSpPr>
          <p:nvPr/>
        </p:nvCxnSpPr>
        <p:spPr>
          <a:xfrm>
            <a:off x="2323800" y="2604600"/>
            <a:ext cx="1080" cy="35316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8" name=""/>
          <p:cNvSpPr/>
          <p:nvPr/>
        </p:nvSpPr>
        <p:spPr>
          <a:xfrm flipH="1" flipV="1">
            <a:off x="761760" y="2437920"/>
            <a:ext cx="152280" cy="68580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1371600"/>
            <a:ext cx="1219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To </a:t>
            </a:r>
            <a:r>
              <a:rPr b="1" lang="en-US" sz="2200" spc="-1" strike="noStrike">
                <a:solidFill>
                  <a:srgbClr val="010199"/>
                </a:solidFill>
                <a:latin typeface="Tahoma"/>
              </a:rPr>
              <a:t>input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 function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39" idx="2"/>
            <a:endCxn id="136" idx="1"/>
          </p:cNvCxnSpPr>
          <p:nvPr/>
        </p:nvCxnSpPr>
        <p:spPr>
          <a:xfrm flipH="1" rot="16200000">
            <a:off x="390240" y="2691360"/>
            <a:ext cx="727560" cy="29124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41" name=""/>
          <p:cNvSpPr/>
          <p:nvPr/>
        </p:nvSpPr>
        <p:spPr>
          <a:xfrm>
            <a:off x="4648320" y="4114800"/>
            <a:ext cx="22096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86400" y="304812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3" name=""/>
          <p:cNvCxnSpPr>
            <a:stCxn id="144" idx="2"/>
            <a:endCxn id="142" idx="0"/>
          </p:cNvCxnSpPr>
          <p:nvPr/>
        </p:nvCxnSpPr>
        <p:spPr>
          <a:xfrm>
            <a:off x="6667200" y="2529000"/>
            <a:ext cx="1080" cy="5054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5715000" y="2057400"/>
            <a:ext cx="19051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26440" y="3517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34680" y="35812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10280" y="411480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sult=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41" idx="2"/>
            <a:endCxn id="132" idx="0"/>
          </p:cNvCxnSpPr>
          <p:nvPr/>
        </p:nvCxnSpPr>
        <p:spPr>
          <a:xfrm>
            <a:off x="5752800" y="4586040"/>
            <a:ext cx="110556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5410080" y="5334120"/>
            <a:ext cx="28958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49" name=""/>
          <p:cNvCxnSpPr>
            <a:stCxn id="142" idx="2"/>
            <a:endCxn id="141" idx="0"/>
          </p:cNvCxnSpPr>
          <p:nvPr/>
        </p:nvCxnSpPr>
        <p:spPr>
          <a:xfrm flipH="1">
            <a:off x="5752800" y="3519360"/>
            <a:ext cx="9151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0" idx="2"/>
            <a:endCxn id="144" idx="0"/>
          </p:cNvCxnSpPr>
          <p:nvPr/>
        </p:nvCxnSpPr>
        <p:spPr>
          <a:xfrm>
            <a:off x="6667200" y="1614600"/>
            <a:ext cx="1080" cy="4291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4724280" y="1143000"/>
            <a:ext cx="38862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max(num1, num2) </a:t>
            </a:r>
            <a:r>
              <a:rPr b="1" lang="en-US" sz="24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42" idx="2"/>
            <a:endCxn id="147" idx="0"/>
          </p:cNvCxnSpPr>
          <p:nvPr/>
        </p:nvCxnSpPr>
        <p:spPr>
          <a:xfrm>
            <a:off x="6667560" y="3519360"/>
            <a:ext cx="137232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7" idx="2"/>
            <a:endCxn id="132" idx="0"/>
          </p:cNvCxnSpPr>
          <p:nvPr/>
        </p:nvCxnSpPr>
        <p:spPr>
          <a:xfrm flipH="1">
            <a:off x="6857280" y="4586040"/>
            <a:ext cx="1181880" cy="73404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3" name=""/>
          <p:cNvSpPr/>
          <p:nvPr/>
        </p:nvSpPr>
        <p:spPr>
          <a:xfrm>
            <a:off x="4867920" y="258840"/>
            <a:ext cx="3718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 gets the value of 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 gets the value of 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76B8-7FF9-4A79-AD46-7BD2D8ABDB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low of Control: 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if num1 &gt;= num2 :</a:t>
            </a:r>
            <a:br>
              <a:rPr sz="2200"/>
            </a:b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1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return num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z = max( x, y )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4267080"/>
            <a:ext cx="221004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029200" y="3200400"/>
            <a:ext cx="236232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num1 &gt;=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58" name=""/>
          <p:cNvCxnSpPr>
            <a:stCxn id="159" idx="2"/>
            <a:endCxn id="157" idx="0"/>
          </p:cNvCxnSpPr>
          <p:nvPr/>
        </p:nvCxnSpPr>
        <p:spPr>
          <a:xfrm flipH="1">
            <a:off x="6210000" y="2528640"/>
            <a:ext cx="38880" cy="65772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4864320" y="37339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5715000"/>
            <a:ext cx="205740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return num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2" name=""/>
          <p:cNvCxnSpPr>
            <a:stCxn id="157" idx="2"/>
            <a:endCxn id="156" idx="0"/>
          </p:cNvCxnSpPr>
          <p:nvPr/>
        </p:nvCxnSpPr>
        <p:spPr>
          <a:xfrm flipH="1">
            <a:off x="5142960" y="3672000"/>
            <a:ext cx="1067400" cy="581400"/>
          </a:xfrm>
          <a:prstGeom prst="straightConnector1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4114800" y="2057400"/>
            <a:ext cx="4267080" cy="457200"/>
          </a:xfrm>
          <a:prstGeom prst="rect">
            <a:avLst/>
          </a:prstGeom>
          <a:solidFill>
            <a:srgbClr val="ffff99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1" idx="2"/>
          </p:cNvCxnSpPr>
          <p:nvPr/>
        </p:nvCxnSpPr>
        <p:spPr>
          <a:xfrm rot="5400000">
            <a:off x="5054760" y="5626800"/>
            <a:ext cx="44352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2441160" y="5715000"/>
            <a:ext cx="232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return to call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5" name=""/>
          <p:cNvCxnSpPr/>
          <p:nvPr/>
        </p:nvCxnSpPr>
        <p:spPr>
          <a:xfrm rot="5400000">
            <a:off x="4140360" y="4164480"/>
            <a:ext cx="443880" cy="1563120"/>
          </a:xfrm>
          <a:prstGeom prst="bentConnector2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7" idx="2"/>
            <a:endCxn id="161" idx="0"/>
          </p:cNvCxnSpPr>
          <p:nvPr/>
        </p:nvCxnSpPr>
        <p:spPr>
          <a:xfrm rot="5400000">
            <a:off x="5119200" y="4609800"/>
            <a:ext cx="2029320" cy="153000"/>
          </a:xfrm>
          <a:prstGeom prst="curvedConnector5">
            <a:avLst>
              <a:gd name="adj1" fmla="val 71504"/>
              <a:gd name="adj2" fmla="val 50000"/>
              <a:gd name="adj3" fmla="val 71504"/>
            </a:avLst>
          </a:prstGeom>
          <a:ln w="31680">
            <a:solidFill>
              <a:srgbClr val="f40000"/>
            </a:solidFill>
            <a:miter/>
            <a:tailEnd len="med" type="triangle" w="med"/>
          </a:ln>
        </p:spPr>
      </p:cxnSp>
      <p:sp>
        <p:nvSpPr>
          <p:cNvPr id="167" name=""/>
          <p:cNvSpPr/>
          <p:nvPr/>
        </p:nvSpPr>
        <p:spPr>
          <a:xfrm>
            <a:off x="6311880" y="4657680"/>
            <a:ext cx="283212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Tahoma"/>
              </a:rPr>
              <a:t>Implicit false branch</a:t>
            </a: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: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199"/>
                </a:solidFill>
                <a:latin typeface="Tahoma"/>
              </a:rPr>
              <a:t>Only way got here is if the condition was not true</a:t>
            </a:r>
            <a:endParaRPr b="0" lang="en-US" sz="2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72FD2-6967-41DD-8313-2378C2CD4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retur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return to “shortcut”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 output as soon as know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are efficiency of two functions in binaryToDecimal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E92A0-B49D-4EB8-8DA6-3E7F70964C2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ssing 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copi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the actual parameters are given to the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actu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parameters in the calling code do not change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howed example with swap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EC201-69F4-47B6-9E80-561E7CA7FF2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ogram Organiz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of program scrip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d before u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 can go inside a separate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s code in ma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to reuse by importing from a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tains the “black box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EE36-E374-4A3F-A7AB-DC528CC51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many languages, you put the “driver” for your program in a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You can (and should) do this in Python as wel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ethods go at the top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aders can quickly see what program do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usually takes no 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891520" y="4876920"/>
            <a:ext cx="196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def main():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4404-F7F3-479A-A613-5EA3356553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a main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ll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() at the bottom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de-effect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o not need to define functions befor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can “see”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e that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function that calls other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20202"/>
                </a:solidFill>
                <a:latin typeface="Arial"/>
              </a:rPr>
              <a:t>Any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unction can call other functions 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869440" y="6186600"/>
            <a:ext cx="180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oldmac.p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D85C-8E10-47BE-92AF-0054D6853AF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xample program with a main()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ldmac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E1CD-D48A-4959-A1B7-C712BA80F8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886200" y="1219320"/>
            <a:ext cx="480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Why can we name two variables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3200" spc="-1" strike="noStrike">
                <a:solidFill>
                  <a:srgbClr val="010199"/>
                </a:solidFill>
                <a:latin typeface="Tahoma"/>
              </a:rPr>
              <a:t>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C862-59C4-4B81-A812-08CC7DF0DE6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396320" y="4267080"/>
            <a:ext cx="152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57680" y="6019920"/>
            <a:ext cx="521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Function names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are like last name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981080" y="5486040"/>
            <a:ext cx="182880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4232160"/>
            <a:ext cx="27432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Tahoma"/>
              </a:rPr>
              <a:t>Variable names</a:t>
            </a:r>
            <a:r>
              <a:rPr b="0" lang="en-US" sz="2300" spc="-1" strike="noStrike">
                <a:solidFill>
                  <a:srgbClr val="010199"/>
                </a:solidFill>
                <a:latin typeface="Tahoma"/>
              </a:rPr>
              <a:t> are like first names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6324120" y="5029200"/>
            <a:ext cx="1143000" cy="30492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967-B85A-489B-9ADB-76BBBDFEE3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write function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llows you to break up a hard problem into smaller, more manageable part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your code easier to understan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Hides implementation details (</a:t>
            </a:r>
            <a:r>
              <a:rPr b="0" i="1" lang="en-US" sz="2800" spc="-1" strike="noStrike">
                <a:solidFill>
                  <a:srgbClr val="020202"/>
                </a:solidFill>
                <a:latin typeface="Arial"/>
              </a:rPr>
              <a:t>abstrac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rovides interface (input, output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kes part of the code reusable so that you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nly have to type it ou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debug it all at o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solates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n make changes in one function (maintainability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B702-97BF-4B18-A249-92803119911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(num1, num2)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2520" y="3733920"/>
            <a:ext cx="99036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952880" y="3733920"/>
            <a:ext cx="1295640" cy="99036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581280" y="28288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alled the 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, so need to add its parameters to the st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66E-939C-4AD8-8385-1A5A4DD7E81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6348-BD54-4F82-87A8-C633D681AD1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--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62520" y="3352680"/>
            <a:ext cx="99036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3352680"/>
            <a:ext cx="1295640" cy="1371600"/>
          </a:xfrm>
          <a:prstGeom prst="rect">
            <a:avLst/>
          </a:prstGeom>
          <a:solidFill>
            <a:srgbClr val="ffcc00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1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num2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9763-EA63-427A-A95B-932C48EED03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Vari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x=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y=6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ff"/>
                </a:solidFill>
                <a:latin typeface="Arial"/>
              </a:rPr>
              <a:t>max = max( x, y );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x(num1, num2) 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num2 &gt;= num1 : </a:t>
            </a:r>
            <a:br>
              <a:rPr sz="2400"/>
            </a:b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x = num2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max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62520" y="4724280"/>
            <a:ext cx="99036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i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4724280"/>
            <a:ext cx="1295640" cy="1371600"/>
          </a:xfrm>
          <a:prstGeom prst="rect">
            <a:avLst/>
          </a:prstGeom>
          <a:solidFill>
            <a:srgbClr val="cc99ff"/>
          </a:solidFill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6200" y="2057400"/>
            <a:ext cx="48769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Functio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max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returned, so we no longer have to keep track of its variables on the stack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e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lifetim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those variables is ov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03B-C6A4-49BE-9D9B-6CA6134DF05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Variable Scop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Functions can have the same parameter and variable names as other function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Need to look at the variable’s </a:t>
            </a: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scope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determine which one you’re looking a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Use the stack to figure out which variable you’re using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Scope level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Loc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unction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Can only be seen within the function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scope (also called file scope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Whole program can access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20202"/>
                </a:solidFill>
                <a:latin typeface="Arial"/>
              </a:rPr>
              <a:t>More on these later</a:t>
            </a:r>
            <a:endParaRPr b="0" lang="en-US" sz="2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592320" y="6095880"/>
            <a:ext cx="14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cop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255E-5DD6-4B64-9F8F-F09FB72358B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output of this program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user enters 4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78720" y="2489040"/>
            <a:ext cx="67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square(n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return n * 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def main(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num = input("Enter a number to be squared: "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quare(num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e square is: ", nu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in(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C0F7-B358-4E21-BC66-4E058078EC2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an “intuitive chunk”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Doesn’t do too much or too little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Should be reusable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20202"/>
                </a:solidFill>
                <a:latin typeface="Arial"/>
              </a:rPr>
              <a:t>Always have comment that tells what the function does</a:t>
            </a:r>
            <a:endParaRPr b="0" lang="en-US" sz="3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FD547-AE41-4EC8-88D4-7282A69328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a “good” func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re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must be true in order for the function to work correctl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num must be even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0202"/>
                </a:solidFill>
                <a:latin typeface="Arial"/>
              </a:rPr>
              <a:t>Postcondition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: Things that will be true when function finishes (if precondition is true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E.g., the returned value is the max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0D2B-91C1-434B-AB78-E334B007AB3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riting good comments for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tyle: Each function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have a comme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ten at a high-leve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nclude the precondition, postcondi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scribe the parameters (their types) and the result (precondition and postcondition may cover thi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9A83-851C-45D9-BD0B-C297F2FC6B4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nlike functions, no special keyword to define a 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dules are named by the filenam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, oldmac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In Python shell: import oldmac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plain what happene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00E-380F-4181-BF76-B4FD2FC9E81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280" y="1142640"/>
            <a:ext cx="8686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 is a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black bo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lementation doesn’t mat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care that function generates appropriate output, given appropriate input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dn’t care how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function was implemen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673360" y="4648320"/>
            <a:ext cx="2971800" cy="1371600"/>
          </a:xfrm>
          <a:prstGeom prst="rect">
            <a:avLst/>
          </a:prstGeom>
          <a:solidFill>
            <a:srgbClr val="020202"/>
          </a:solidFill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ahoma"/>
              </a:rPr>
              <a:t>raw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378080" y="5334120"/>
            <a:ext cx="12952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645160" y="5334120"/>
            <a:ext cx="1752480" cy="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040" y="5102280"/>
            <a:ext cx="99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464960" y="5029200"/>
            <a:ext cx="122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17240" y="4800600"/>
            <a:ext cx="12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promp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89720" y="480060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user_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791320" y="571500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e saved output in a variabl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A7A6-D4F4-4EE4-BCDF-1B4E5E96808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 that our program doesn’t execute when it is </a:t>
            </a:r>
            <a:r>
              <a:rPr b="0" lang="en-US" sz="3200" spc="-1" strike="noStrike">
                <a:solidFill>
                  <a:srgbClr val="6699ff"/>
                </a:solidFill>
                <a:latin typeface="Arial"/>
              </a:rPr>
              <a:t>importe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n a program, at bottom, ad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__name__ == '__main__’ 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te the files now listed in the directo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410080" y="25369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Not important how this works; just know when to u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H="1" flipV="1">
            <a:off x="4038480" y="2765520"/>
            <a:ext cx="1371600" cy="3808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5D4AB-4D5F-4049-9803-F53D0116F23D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reating Modu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n, to call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ai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main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would you want to do thi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main function as driver to test functions in modu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access one of the defined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ldmac.EIEIO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3793-C749-4595-8D30-E135302E83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 Read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icrosoft Excel 2007 bu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D57A9-3638-4378-9348-D49CD71978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yntax of Function Defini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527040" y="1600200"/>
            <a:ext cx="83883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def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ftpsToMPH(ftps) </a:t>
            </a:r>
            <a:r>
              <a:rPr b="1" lang="en-US" sz="2600" spc="-1" strike="noStrike">
                <a:solidFill>
                  <a:srgbClr val="00c6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SECOND_TO_HOUR = 3600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FEET_TO_MILE = (1.0/5280)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result = ftps * SECOND_TO_HOUR * FEET_TO_MILE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  <a:p>
            <a:pPr marL="112680" indent="-1126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2300" spc="-1" strike="noStrike">
                <a:solidFill>
                  <a:srgbClr val="00c600"/>
                </a:solidFill>
                <a:latin typeface="Arial"/>
              </a:rPr>
              <a:t>return</a:t>
            </a:r>
            <a:r>
              <a:rPr b="0" lang="en-US" sz="2300" spc="-1" strike="noStrike">
                <a:solidFill>
                  <a:srgbClr val="020202"/>
                </a:solidFill>
                <a:latin typeface="Arial"/>
              </a:rPr>
              <a:t> result</a:t>
            </a:r>
            <a:endParaRPr b="0" lang="en-US" sz="23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40080" y="128412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012400" y="1270080"/>
            <a:ext cx="1255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Function</a:t>
            </a:r>
            <a:br>
              <a:rPr sz="2000"/>
            </a:b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Na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75160" y="1143000"/>
            <a:ext cx="163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Input Name/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Parameter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6200000">
            <a:off x="-368640" y="2673360"/>
            <a:ext cx="2203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Body (or function definition)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08040" y="5105520"/>
            <a:ext cx="247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Keyword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10199"/>
                </a:solidFill>
                <a:latin typeface="Arial"/>
              </a:rPr>
              <a:t>How to give outpu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96920" y="1676520"/>
            <a:ext cx="0" cy="8380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68520" y="1905120"/>
            <a:ext cx="0" cy="5331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3882600" y="1752480"/>
            <a:ext cx="338040" cy="6652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1554120" y="4419720"/>
            <a:ext cx="351000" cy="76176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419720" y="2438280"/>
            <a:ext cx="441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Arial"/>
              </a:rPr>
              <a:t>Function head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2E6E-2E8C-4B0A-BA6A-8479A21E205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re are functions in the code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an be defined in script before use (calling it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ld be in separate </a:t>
            </a: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modu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 to use in scrip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menu.p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fine in modules when functions are reusable for many different program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Benefits: shorter code (no function defns), isolate testing of function, write “test driver” scripts to test functions separately from use in scrip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3293E-3FA4-4D49-9A23-252BC3B66CD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e inputs to a function are called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r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argu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calling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/using functions, parameters must appear in same order as in the function head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round(x, n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x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float to round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n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 is integer of decimal places to round to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C52F-69F7-4307-8F5D-7BEA1CC30EF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arame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Form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named in the the function definition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600"/>
                </a:solidFill>
                <a:latin typeface="Arial"/>
              </a:rPr>
              <a:t>Actual Parameter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the variables or literals that really get used when the function is called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def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round(x, n) :</a:t>
            </a:r>
            <a:br>
              <a:rPr sz="3200"/>
            </a:b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oundCelc = round(celc,2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mal &amp; actual parameters must match in order, number, and type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3392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Form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672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10199"/>
                </a:solidFill>
                <a:latin typeface="Arial"/>
              </a:rPr>
              <a:t>Actu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4648320" y="3429000"/>
            <a:ext cx="12189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H="1">
            <a:off x="5105520" y="3429000"/>
            <a:ext cx="761760" cy="6094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2590920" y="3276720"/>
            <a:ext cx="12189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3048120" y="3276720"/>
            <a:ext cx="761760" cy="380880"/>
          </a:xfrm>
          <a:prstGeom prst="line">
            <a:avLst/>
          </a:prstGeom>
          <a:ln w="255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A064-8D06-4944-967E-7695B2E9F1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Old McDonald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A verse of the song go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on that farm he had a dog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 a ruff, ruff 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nd a ruff, ruff ther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ere a ruff, there a ruff, everywhere a ruff, ruff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Old McDonald had a farm, E-I-E-I-O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rite a function to print a verse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y does it make sense to write a function for the verse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in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hat is output?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8E6E-8B53-4C93-9B76-09785767343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unction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 the code reaches a statement lik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return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x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x is the output returned to the place where function called and the function st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functions that don’t have explicit output, return does not have a value with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20202"/>
                </a:solidFill>
                <a:latin typeface="Arial"/>
              </a:rPr>
              <a:t>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ptional: don’t need to have output/retur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B470-A95C-4729-818B-1DA2C6EFC0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15T20:49:48Z</cp:lastPrinted>
  <dcterms:modified xsi:type="dcterms:W3CDTF">2007-10-15T20:53:54Z</dcterms:modified>
  <cp:revision>1444</cp:revision>
  <dc:subject/>
  <dc:title>PowerPoint Presentation</dc:title>
</cp:coreProperties>
</file>