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F11-044A-40EF-86F5-D26C30F4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965-C25C-42B8-BDC1-516F3FE4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D20-7545-4755-96D5-E5915399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528-1576-45DD-9ABB-AEDABE5B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ED1-1057-42D7-9970-9ACADC07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179-1224-4B37-ACF9-0E6F5A7B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C84-BB42-429D-BD76-5E5EF88A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4C0-36FD-4EF1-976E-5FE65D62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711-7C6C-4286-9FD7-0D916566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EEF-CB9C-4729-876E-5E6A7D7E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DDB-3346-4868-B54B-CF6BFB20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05E-98A7-4FFF-8549-64845E49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2, 2007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8F2A04-5EA3-4B8B-B82D-4C4EEA4F2FA9}" type="slidenum">
              <a:rPr b="0" lang="en-GB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inux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hy programming languages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mpiled vs. Interpreted Languag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gramming in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ata typ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xpress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rithmet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A25-3D2E-44B3-B215-0EB743E1D9B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3"/>
            <a:endCxn id="141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6" idx="1"/>
            <a:endCxn id="143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3"/>
            <a:endCxn id="142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1" idx="3"/>
            <a:endCxn id="146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1" idx="3"/>
            <a:endCxn id="150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55" idx="0"/>
            <a:endCxn id="150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1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0" idx="3"/>
            <a:endCxn id="155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52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0" y="990720"/>
            <a:ext cx="1875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137-558C-43E5-9BEA-F21BF9C5BEE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ype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the kind of thing a variable can ho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roadly, the categories of primitive types 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umer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oolea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BA4-7A37-44BD-A6DD-38FB1472DB8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280" y="1143000"/>
          <a:ext cx="8686800" cy="498780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169320" y="6434280"/>
            <a:ext cx="167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Copy on board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506-577D-448E-8E2C-D823F64FBFC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big (or small or precise) can we ge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e cannot represent all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blem: Computer has a finite capac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computer only has so much memory that it can devote to one valu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ventually, reach a cutoff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size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precision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5181480"/>
            <a:ext cx="5791320" cy="53352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240" y="5867280"/>
            <a:ext cx="81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n reality, computers represent data in 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nary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, using only 0s and 1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69800" y="5181480"/>
            <a:ext cx="530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Tahoma"/>
              </a:rPr>
              <a:t>0  0  0  0  0  3  .  1  4  1  5  9  2  6  5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1148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I 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has more decimals, but we’re out of space!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084800" y="4876920"/>
            <a:ext cx="384120" cy="533160"/>
          </a:xfrm>
          <a:prstGeom prst="line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4F8-2387-4371-AF7F-0DD5065786F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reat what is in the “” or ‘’ literall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nown as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tring litera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ello, world!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at is Sara’s cat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8FC-E8A9-47DE-BC7B-61491F87B62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ooleans: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o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2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on these later…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value’s typ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90720" y="1422360"/>
          <a:ext cx="6858000" cy="42163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.0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+6j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”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047583648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‘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’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4E2-ECA8-488F-92E4-E0613FA5795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troduction to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s have names, calle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dentifi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variable name (identifier) can be any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word that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sists of letters, numbers, or _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start with a numb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be a Python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served wor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ike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etc.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ython is case-sensitiv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n’t the same as </a:t>
            </a: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777-01D1-4783-B984-B6471150405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 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185-24B7-4A21-8C89-95ADFA68B1D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earn more about a Linux command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ist the files in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nge your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ke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nd out 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e shortcut for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pa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emantic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2743200"/>
            <a:ext cx="1676520" cy="28195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69800" y="1981080"/>
            <a:ext cx="1518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3200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343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48006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51814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96252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5812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7360" y="3352680"/>
            <a:ext cx="1352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 = 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 = x + 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9400" y="295596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3200400"/>
            <a:ext cx="1828800" cy="6094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5400" y="358128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75240" y="419112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4419720"/>
            <a:ext cx="1904760" cy="1522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5400" y="434340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can be given any value using the “=“ sig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lled an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assignment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yntax: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&lt;variable&gt; = &lt;expression&gt;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fter a variable is given a value, the variable is said to be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initializ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These aren’t equations! Read “=” as “get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 = 2007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y_num = 3.4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ption = ‘q’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A21-7245-415E-ABF4-6C21FFAC903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s: The R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nly the variable(s) to the left of the = chan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should initialize a variable before using it on the righthand side (rhs) of a rule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can only have one variable with any given name in a particular block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DB1-3C6D-4958-9550-09BF5037E0E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tera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ieces of data that are not variables are called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literals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.2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q’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ooks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71A-7448-40A6-A30A-7AE5196D7D6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71600" y="1398600"/>
          <a:ext cx="6095880" cy="3584520"/>
        </p:xfrm>
        <a:graphic>
          <a:graphicData uri="http://schemas.openxmlformats.org/drawingml/2006/table">
            <a:tbl>
              <a:tblPr/>
              <a:tblGrid>
                <a:gridCol w="2322360"/>
                <a:gridCol w="37735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7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You can use the assignment operator (=) and arithmetic operators to do calculations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member your order of operations! (PEMDAS)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thing on the left gets changed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= 4+3*1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y = 3.0/2.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z = x+y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411480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The right-hand sides are </a:t>
            </a: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, just like in math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714-2B34-4D56-B730-479FABCCE96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is a func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unction: A command to do someth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isplays the result of expression(s) to the termi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2438280" y="2779200"/>
            <a:ext cx="381240" cy="2210040"/>
          </a:xfrm>
          <a:custGeom>
            <a:avLst/>
            <a:gdLst>
              <a:gd name="textAreaLeft" fmla="*/ 243720 w 381240"/>
              <a:gd name="textAreaRight" fmla="*/ 381600 w 38124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61040" y="403560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342900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86200" y="3657600"/>
            <a:ext cx="838080" cy="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657600" y="5028840"/>
            <a:ext cx="838080" cy="68580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508968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F20-51AF-489E-83AC-1554D83B1A8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mpts user for input, gets the user’s inpu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put: for numb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aw_input for 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idth = input(“Enter the width: “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nter the width: 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ssigns width the value the user ent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lor = raw_input(“What is your favorite color? 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4305240" y="2324160"/>
            <a:ext cx="609840" cy="838080"/>
          </a:xfrm>
          <a:custGeom>
            <a:avLst/>
            <a:gdLst>
              <a:gd name="textAreaLeft" fmla="*/ 389520 w 609840"/>
              <a:gd name="textAreaRight" fmla="*/ 610200 w 6098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96720" y="4564080"/>
            <a:ext cx="4735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that inpu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Use English to describe what your program is doing in </a:t>
            </a: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erything after a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#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 a com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ython does not execute 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Use 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ocument the author, high-level description of the program at the top of the progra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vide an outline of an algorith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Identifies the steps of the algorithm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cribe difficult-to-understand cod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tru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290960" y="2117880"/>
            <a:ext cx="604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16520" y="2133720"/>
            <a:ext cx="58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8080" y="213372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238280" y="-723600"/>
            <a:ext cx="304920" cy="5410080"/>
          </a:xfrm>
          <a:custGeom>
            <a:avLst/>
            <a:gdLst>
              <a:gd name="textAreaLeft" fmla="*/ 89640 w 304920"/>
              <a:gd name="textAreaRight" fmla="*/ 305280 w 304920"/>
              <a:gd name="textAreaTop" fmla="*/ 225360 h 5410080"/>
              <a:gd name="textAreaBottom" fmla="*/ 51847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8200" y="16002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3360" y="1092240"/>
            <a:ext cx="266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48200" y="2590920"/>
            <a:ext cx="0" cy="990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200480" y="-380880"/>
            <a:ext cx="380880" cy="7238880"/>
          </a:xfrm>
          <a:custGeom>
            <a:avLst/>
            <a:gdLst>
              <a:gd name="textAreaLeft" fmla="*/ 111960 w 380880"/>
              <a:gd name="textAreaRight" fmla="*/ 381240 w 380880"/>
              <a:gd name="textAreaTop" fmla="*/ 301320 h 7238880"/>
              <a:gd name="textAreaBottom" fmla="*/ 6937560 h 723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8472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urs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188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5800" y="3565440"/>
            <a:ext cx="839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2928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1940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1040" y="3581280"/>
            <a:ext cx="689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mp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0400" y="3606840"/>
            <a:ext cx="1061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facult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80960" y="4419720"/>
            <a:ext cx="1600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directori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194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7560" y="4444920"/>
            <a:ext cx="992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s11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5560" y="5511960"/>
            <a:ext cx="738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5560" y="6197760"/>
            <a:ext cx="755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9400" y="5105520"/>
            <a:ext cx="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19400" y="586728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482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080" y="5207040"/>
            <a:ext cx="1433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96640" y="520704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urni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14880" y="4267080"/>
            <a:ext cx="184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web pag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96252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1280" y="4800600"/>
            <a:ext cx="53352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4800600"/>
            <a:ext cx="106668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4400" y="5943600"/>
            <a:ext cx="2689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ths through tre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ive path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295280"/>
            <a:ext cx="861048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= raw_input("What is your favorite color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My favorite color is _light_", color, 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= input("On a scale of 1 to 10, how much do you like Matt Damon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I like him ", scale*1.8, 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comments, variables, functions, expressions, assignments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1295280"/>
            <a:ext cx="891540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aw_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What is your favorite color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My favorite color is _light_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color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On a scale of 1 to 10, how much do you like Matt Damon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I like him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fff4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.8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mment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functions, </a:t>
            </a: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de67b4"/>
                </a:solidFill>
                <a:latin typeface="Arial"/>
              </a:rPr>
              <a:t>assignments,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23120" y="4114800"/>
            <a:ext cx="1652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429000" y="350496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c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CF4-54A6-43BE-BF5D-FBE5A359C427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84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87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1" idx="3"/>
            <a:endCxn id="100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5" idx="0"/>
            <a:endCxn id="100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0" idx="3"/>
            <a:endCxn id="105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102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419360" y="2311560"/>
            <a:ext cx="4648680" cy="433800"/>
            <a:chOff x="4419360" y="2311560"/>
            <a:chExt cx="4648680" cy="433800"/>
          </a:xfrm>
        </p:grpSpPr>
        <p:sp>
          <p:nvSpPr>
            <p:cNvPr id="109" name=""/>
            <p:cNvSpPr/>
            <p:nvPr/>
          </p:nvSpPr>
          <p:spPr>
            <a:xfrm>
              <a:off x="50911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193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8600" y="4724280"/>
            <a:ext cx="29876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you were doing in the “shell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5" idx="3"/>
            <a:endCxn id="114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0"/>
            <a:endCxn id="114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3"/>
            <a:endCxn id="115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4" idx="3"/>
            <a:endCxn id="119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4" idx="2"/>
            <a:endCxn id="116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C45-A95E-4A69-B3E4-09D1E8880FC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 Java, C++, C, etc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ile whole program into bytecode/executable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n, execute the bytecode/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49320"/>
            <a:ext cx="86868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de67b4"/>
                </a:solidFill>
                <a:latin typeface="Tahoma"/>
              </a:rPr>
              <a:t>Compil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compiles program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Validate program, report syntax errors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Creates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executable</a:t>
            </a: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 (bytecode or machine code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Execute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executable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73392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1" idx="3"/>
            <a:endCxn id="130" idx="1"/>
          </p:cNvCxnSpPr>
          <p:nvPr/>
        </p:nvCxnSpPr>
        <p:spPr>
          <a:xfrm>
            <a:off x="4952520" y="419076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5" idx="1"/>
            <a:endCxn id="132" idx="3"/>
          </p:cNvCxnSpPr>
          <p:nvPr/>
        </p:nvCxnSpPr>
        <p:spPr>
          <a:xfrm flipH="1">
            <a:off x="5409360" y="5829120"/>
            <a:ext cx="12200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0492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3"/>
            <a:endCxn id="131" idx="1"/>
          </p:cNvCxnSpPr>
          <p:nvPr/>
        </p:nvCxnSpPr>
        <p:spPr>
          <a:xfrm>
            <a:off x="2361960" y="419076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6629400" y="5334120"/>
            <a:ext cx="17524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0" idx="3"/>
            <a:endCxn id="135" idx="3"/>
          </p:cNvCxnSpPr>
          <p:nvPr/>
        </p:nvCxnSpPr>
        <p:spPr>
          <a:xfrm>
            <a:off x="8152920" y="419076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560560" y="342900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3E0-D3C3-4BDF-A3F7-163D6C27C99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3T00:58:36Z</dcterms:modified>
  <cp:revision>458</cp:revision>
  <dc:subject/>
  <dc:title>Intro to Java</dc:title>
</cp:coreProperties>
</file>