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C1ED3-28E4-41B5-904A-E8BCA42C40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D0ABA-BEDE-4BE1-BC13-72FB165CB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26845-A623-4943-BD90-24AC37D647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9E45C-52D0-451A-9810-7536A73574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58441F-3CA4-4F1E-80C0-9A811589EB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329B52-7979-4AAA-B865-6FDAD2AFC3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C3A312-B419-47E9-9BD8-0B3166A40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7CCA48-6752-4FE8-AF4A-3B0CC0D87C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1A2BD87-2F4C-42E5-BDF9-0A76200CE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849486-27F8-43F7-A13B-AE22036D5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5D1246-ECCE-4F50-9964-0566DD7CE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B4075-3887-413C-9A92-17342C14E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055A6F-AE96-4922-825F-4093ECBBF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643B6C-E98C-4EF8-BEBF-773ADDDEE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64B06-3EF0-4B9A-AD73-6C8CF3176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4C3171-E8CD-4F2E-B31E-3D5937F15F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E8B638-C495-48B5-9948-30DA49F4D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545C7-4A83-470E-8223-2317D2B75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7734E-6D14-46D8-BD2A-961578C9BA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E7294-48F3-462A-A48A-544754EE4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61DA8-888C-42D3-877C-2C37B70BC3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43020-AA03-4AE5-B9B1-6E12F2FF7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4669-CD3C-4673-9F76-5CD34B5AB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07EC2-ADAA-468E-AC61-4FBDA5A93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ept 28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3E7F41-32AC-42AA-A6D2-CAC9DD0B337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28E3C-1994-4894-8474-D9E7B52C5496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re on conditional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ikipedia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4795A-5FAA-4ACA-A06B-D228438711E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re Complex Condi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4920" y="1142640"/>
            <a:ext cx="853416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Two logical values: True and False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Combine conditions with </a:t>
            </a:r>
            <a:r>
              <a:rPr b="0" lang="en-US" sz="3000" spc="-1" strike="noStrike">
                <a:solidFill>
                  <a:srgbClr val="2017b8"/>
                </a:solidFill>
                <a:latin typeface="Arial"/>
              </a:rPr>
              <a:t>Boolean operator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and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only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both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perands are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75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or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</a:t>
            </a:r>
            <a:r>
              <a:rPr b="1" lang="en-US" sz="3000" spc="-1" strike="noStrike">
                <a:solidFill>
                  <a:srgbClr val="010199"/>
                </a:solidFill>
                <a:latin typeface="Arial"/>
              </a:rPr>
              <a:t>at leas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one operand is True</a:t>
            </a:r>
            <a:endParaRPr b="0" lang="en-US" sz="30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100000"/>
              </a:lnSpc>
              <a:spcBef>
                <a:spcPts val="64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199"/>
                </a:solidFill>
                <a:latin typeface="Courier New"/>
              </a:rPr>
              <a:t>not</a:t>
            </a:r>
            <a:r>
              <a:rPr b="0" lang="en-US" sz="3000" spc="-1" strike="noStrike">
                <a:solidFill>
                  <a:srgbClr val="010199"/>
                </a:solidFill>
                <a:latin typeface="Arial"/>
              </a:rPr>
              <a:t> – True if the operand is not True</a:t>
            </a:r>
            <a:r>
              <a:rPr b="0" lang="en-US" sz="2600" spc="-1" strike="noStrike">
                <a:solidFill>
                  <a:srgbClr val="010199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English example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raining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col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it is Saturday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or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it is Sunday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CCD6A-B7AE-42E7-9097-0B59D7B56A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1" name=""/>
          <p:cNvSpPr/>
          <p:nvPr/>
        </p:nvSpPr>
        <p:spPr>
          <a:xfrm>
            <a:off x="167400" y="137196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16323-FB8A-40FE-AB02-9A4BB1DE328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uth Tabl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152280" y="1863720"/>
          <a:ext cx="8793360" cy="326232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1523880"/>
                <a:gridCol w="1173240"/>
                <a:gridCol w="876240"/>
                <a:gridCol w="876240"/>
                <a:gridCol w="1433520"/>
                <a:gridCol w="13860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nd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A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or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not</a:t>
                      </a: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 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ababab"/>
                    </a:solidFill>
                  </a:tcPr>
                </a:tc>
              </a:tr>
              <a:tr h="577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78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"/>
          <p:cNvSpPr/>
          <p:nvPr/>
        </p:nvSpPr>
        <p:spPr>
          <a:xfrm>
            <a:off x="167400" y="1368720"/>
            <a:ext cx="1544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operand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A20F8-09EB-44E6-8F6B-7F3EB6E29AC0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is the output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x = 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 = 3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z = 4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b = x==2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c = not b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and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(y&lt;4) or (z&lt;3)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 = not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print b, c, d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6058440" y="6248520"/>
            <a:ext cx="2026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val_cond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9D2C6-7415-4905-8765-4988E8E77A77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Grade Input Rang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force that user must input a numeric grade between 0 and 100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a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ing </a:t>
            </a:r>
            <a:r>
              <a:rPr b="1" lang="en-US" sz="2800" spc="-1" strike="noStrike">
                <a:solidFill>
                  <a:srgbClr val="010199"/>
                </a:solidFill>
                <a:latin typeface="Courier New"/>
              </a:rPr>
              <a:t>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016ED-159F-4AEA-835E-5B0EC8BBD70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hort-circuit Evalua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on’t necessarily need to evaluate all expressions in a compound expressi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and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false, compound expression is fals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A or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f A is true, compound expression is tru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 need to evaluate B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ut more important/limiting expression fir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87320" y="5516640"/>
            <a:ext cx="4817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f count &gt; 0 </a:t>
            </a: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and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sum/count &gt; 10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o someth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855B-8ABB-4431-BAA4-65A9466153A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definite Loop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loops are </a:t>
            </a:r>
            <a:r>
              <a:rPr b="1" i="1" lang="en-US" sz="3200" spc="-1" strike="noStrike">
                <a:solidFill>
                  <a:srgbClr val="010199"/>
                </a:solidFill>
                <a:latin typeface="Arial"/>
              </a:rPr>
              <a:t>definit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ecute a fixed number of tim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definite loops: keeps iterating until certain conditions are me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pending on condition, no guarantee in advance of how many times the loop body will be execute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3FB8-3678-42D2-B2A2-7B9B16551FB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 Syntax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938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20202"/>
                </a:solidFill>
                <a:latin typeface="Arial"/>
              </a:rPr>
              <a:t>while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2017b8"/>
                </a:solidFill>
                <a:latin typeface="Arial"/>
              </a:rPr>
              <a:t>condition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 :</a:t>
            </a:r>
            <a:endParaRPr b="0" lang="en-US" sz="32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0">
              <a:spcBef>
                <a:spcPts val="7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20202"/>
                </a:solidFill>
                <a:latin typeface="Arial"/>
              </a:rPr>
              <a:t>statements</a:t>
            </a:r>
            <a:endParaRPr b="0" lang="en-US" sz="3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28600" y="3048120"/>
            <a:ext cx="8915400" cy="148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ffcc00"/>
              </a:buClr>
              <a:buSzPct val="12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ke a looped </a:t>
            </a:r>
            <a:r>
              <a:rPr b="1" lang="en-US" sz="3200" spc="-1" strike="noStrike">
                <a:solidFill>
                  <a:srgbClr val="00c600"/>
                </a:solidFill>
                <a:latin typeface="Tahoma"/>
              </a:rPr>
              <a:t>if</a:t>
            </a: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 statement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Execute statements only when condition is true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170320" y="1600560"/>
            <a:ext cx="281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ody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of while loop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 flipH="1">
            <a:off x="3276360" y="1828800"/>
            <a:ext cx="1981080" cy="152280"/>
          </a:xfrm>
          <a:prstGeom prst="line">
            <a:avLst/>
          </a:prstGeom>
          <a:ln w="3816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4985-8186-4387-B247-2D1253D8798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71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3" name=""/>
          <p:cNvCxnSpPr>
            <a:stCxn id="172" idx="2"/>
            <a:endCxn id="171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74" name=""/>
          <p:cNvCxnSpPr>
            <a:stCxn id="175" idx="2"/>
            <a:endCxn id="172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76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79" name=""/>
          <p:cNvCxnSpPr>
            <a:stCxn id="171" idx="2"/>
            <a:endCxn id="175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80" name=""/>
          <p:cNvCxnSpPr>
            <a:stCxn id="176" idx="2"/>
            <a:endCxn id="172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0037-AFCD-4360-B2A7-29C34D154E9B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il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87" name=""/>
          <p:cNvSpPr/>
          <p:nvPr/>
        </p:nvSpPr>
        <p:spPr>
          <a:xfrm>
            <a:off x="4494240" y="2971800"/>
            <a:ext cx="35812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i equals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4572000" y="1981080"/>
            <a:ext cx="3429000" cy="457200"/>
          </a:xfrm>
          <a:prstGeom prst="rect">
            <a:avLst/>
          </a:prstGeom>
          <a:solidFill>
            <a:srgbClr val="ff99cc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&lt; 1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89" name=""/>
          <p:cNvCxnSpPr>
            <a:stCxn id="188" idx="2"/>
            <a:endCxn id="187" idx="0"/>
          </p:cNvCxnSpPr>
          <p:nvPr/>
        </p:nvCxnSpPr>
        <p:spPr>
          <a:xfrm flipH="1">
            <a:off x="6284160" y="2452680"/>
            <a:ext cx="2520" cy="5054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0" name=""/>
          <p:cNvCxnSpPr>
            <a:stCxn id="191" idx="2"/>
            <a:endCxn id="188" idx="1"/>
          </p:cNvCxnSpPr>
          <p:nvPr/>
        </p:nvCxnSpPr>
        <p:spPr>
          <a:xfrm flipV="1" rot="16200000">
            <a:off x="4270680" y="2495880"/>
            <a:ext cx="2300760" cy="1728000"/>
          </a:xfrm>
          <a:prstGeom prst="bentConnector4">
            <a:avLst>
              <a:gd name="adj1" fmla="val -20845"/>
              <a:gd name="adj2" fmla="val 124255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2" name=""/>
          <p:cNvSpPr/>
          <p:nvPr/>
        </p:nvSpPr>
        <p:spPr>
          <a:xfrm>
            <a:off x="4646520" y="990720"/>
            <a:ext cx="327672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120" y="2435400"/>
            <a:ext cx="83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982280" y="1701720"/>
            <a:ext cx="907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5256360" y="4038480"/>
            <a:ext cx="205740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87" idx="2"/>
            <a:endCxn id="191" idx="0"/>
          </p:cNvCxnSpPr>
          <p:nvPr/>
        </p:nvCxnSpPr>
        <p:spPr>
          <a:xfrm>
            <a:off x="6284520" y="3443400"/>
            <a:ext cx="1080" cy="5814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96" name=""/>
          <p:cNvCxnSpPr>
            <a:stCxn id="192" idx="2"/>
            <a:endCxn id="188" idx="0"/>
          </p:cNvCxnSpPr>
          <p:nvPr/>
        </p:nvCxnSpPr>
        <p:spPr>
          <a:xfrm>
            <a:off x="6284520" y="1461600"/>
            <a:ext cx="2520" cy="5058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7" name=""/>
          <p:cNvSpPr/>
          <p:nvPr/>
        </p:nvSpPr>
        <p:spPr>
          <a:xfrm>
            <a:off x="4722840" y="5486400"/>
            <a:ext cx="2895480" cy="457200"/>
          </a:xfrm>
          <a:prstGeom prst="rect">
            <a:avLst/>
          </a:prstGeom>
          <a:solidFill>
            <a:srgbClr val="99ccff"/>
          </a:solidFill>
          <a:ln w="2844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98" name=""/>
          <p:cNvCxnSpPr/>
          <p:nvPr/>
        </p:nvCxnSpPr>
        <p:spPr>
          <a:xfrm flipH="1">
            <a:off x="6170400" y="2209680"/>
            <a:ext cx="1845360" cy="3263040"/>
          </a:xfrm>
          <a:prstGeom prst="bentConnector4">
            <a:avLst>
              <a:gd name="adj1" fmla="val -24351"/>
              <a:gd name="adj2" fmla="val 92596"/>
            </a:avLst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99" name=""/>
          <p:cNvSpPr/>
          <p:nvPr/>
        </p:nvSpPr>
        <p:spPr>
          <a:xfrm>
            <a:off x="76320" y="1447920"/>
            <a:ext cx="41148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 =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while i &lt; 10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i equals 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+=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print “Done”, i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0" y="3809880"/>
            <a:ext cx="411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Questions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will “i” get printed out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How many times is the condition evaluated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2020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What is the value of i after the loop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677920" y="6321600"/>
            <a:ext cx="2082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hilevsfo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752480" y="915840"/>
            <a:ext cx="297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nitialize i before using in conditi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>
            <a:off x="838080" y="1143000"/>
            <a:ext cx="914400" cy="380880"/>
          </a:xfrm>
          <a:prstGeom prst="line">
            <a:avLst/>
          </a:prstGeom>
          <a:ln w="28440">
            <a:solidFill>
              <a:srgbClr val="02020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232B2-12F1-47DF-952A-0DC34FD072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Quick Trick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ing the same string repeatedl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se the * operator for string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Quick way to draw the line in the multiplication tabl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801800" y="3962520"/>
            <a:ext cx="314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for x in xrange(0,14)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 += “-”*5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print st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569E5-1394-4201-934C-E5FE14267D9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at Will This Loop Do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ile count &gt;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coun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unt += 1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AF05-A691-439C-A62E-19FDB446621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nfinite Loop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ndition will never be false so keeps execu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stop an executing program in Linux u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ontrol-C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130E-C32E-4E22-B632-B4A90C03C1A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S Issue: Citing Wikipedia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were the major issues that the article brought up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is article relate to this course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0200" y="4525920"/>
            <a:ext cx="1297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661120" y="4530600"/>
            <a:ext cx="10310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237640" y="4518000"/>
            <a:ext cx="1118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Laur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035B-BE95-428C-B5A9-C184AD1BC37F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Algorithm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oogle founders: Larry Page and Sergey Bri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anford CS graduate studen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ttp://infolab.stanford.edu/~backrub/google.html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ased on PageRank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a href=“webpage”&gt;description&lt;/a&gt;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Pages linked with same description most get higher rank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ank pages linked from highly-ranked pages hig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79430-4C4B-48C4-81D1-B0807737521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ikiScann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Virgil Griffith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rad student, trouble maker :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lso discovered vulnerabilities in Blackbo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ombines information from two databa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of anonymous edit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P addresses belong to what compan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510160" y="6324480"/>
            <a:ext cx="21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resolve_ips.s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B3A5-CE50-4797-91BC-A72705A1364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Google uses Linux Cluste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eed high-performance cluster, high up-tim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erform various function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Load balanc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b serv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ata-gathering (spidering the Web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…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7A628-B6BB-4E88-9152-118135DA82D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Relational Operator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yntax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75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10199"/>
                </a:solidFill>
                <a:latin typeface="Arial"/>
              </a:rPr>
              <a:t>&lt;expression&gt; &lt;relational_operator&gt;&lt;expression&gt;</a:t>
            </a:r>
            <a:endParaRPr b="0" lang="en-US" sz="27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9" name=""/>
          <p:cNvGraphicFramePr/>
          <p:nvPr/>
        </p:nvGraphicFramePr>
        <p:xfrm>
          <a:off x="1219320" y="2362320"/>
          <a:ext cx="6858000" cy="4049640"/>
        </p:xfrm>
        <a:graphic>
          <a:graphicData uri="http://schemas.openxmlformats.org/drawingml/2006/table">
            <a:tbl>
              <a:tblPr/>
              <a:tblGrid>
                <a:gridCol w="2133360"/>
                <a:gridCol w="472464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Relational Operator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Meaning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l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ss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&gt;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Greater than or equal to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=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!=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ot equals?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0" name=""/>
          <p:cNvSpPr/>
          <p:nvPr/>
        </p:nvSpPr>
        <p:spPr>
          <a:xfrm rot="16200000">
            <a:off x="-632880" y="4582080"/>
            <a:ext cx="2640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Low precedenc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B3624-912E-4B9D-996F-2203D1E7D42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f-Else-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2" name=""/>
          <p:cNvSpPr/>
          <p:nvPr/>
        </p:nvSpPr>
        <p:spPr>
          <a:xfrm>
            <a:off x="838080" y="1676520"/>
            <a:ext cx="198144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52280" y="289548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4" name=""/>
          <p:cNvCxnSpPr>
            <a:stCxn id="92" idx="2"/>
            <a:endCxn id="93" idx="0"/>
          </p:cNvCxnSpPr>
          <p:nvPr/>
        </p:nvCxnSpPr>
        <p:spPr>
          <a:xfrm flipH="1">
            <a:off x="952200" y="2146320"/>
            <a:ext cx="87696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2057400" y="289548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6" name=""/>
          <p:cNvCxnSpPr>
            <a:stCxn id="92" idx="2"/>
            <a:endCxn id="95" idx="0"/>
          </p:cNvCxnSpPr>
          <p:nvPr/>
        </p:nvCxnSpPr>
        <p:spPr>
          <a:xfrm>
            <a:off x="1828440" y="2146320"/>
            <a:ext cx="1143720" cy="7372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228600" y="5715000"/>
            <a:ext cx="198108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98" name=""/>
          <p:cNvCxnSpPr>
            <a:stCxn id="93" idx="2"/>
            <a:endCxn id="97" idx="0"/>
          </p:cNvCxnSpPr>
          <p:nvPr/>
        </p:nvCxnSpPr>
        <p:spPr>
          <a:xfrm>
            <a:off x="952200" y="3365280"/>
            <a:ext cx="267120" cy="2337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99" name=""/>
          <p:cNvCxnSpPr>
            <a:stCxn id="95" idx="2"/>
            <a:endCxn id="100" idx="0"/>
          </p:cNvCxnSpPr>
          <p:nvPr/>
        </p:nvCxnSpPr>
        <p:spPr>
          <a:xfrm flipH="1">
            <a:off x="2552400" y="336564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1" name=""/>
          <p:cNvSpPr/>
          <p:nvPr/>
        </p:nvSpPr>
        <p:spPr>
          <a:xfrm>
            <a:off x="635040" y="2298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00560" y="22860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419720" y="990720"/>
            <a:ext cx="4572000" cy="22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if x %2 == 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a multiple of 2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if x%3==0 :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     </a:t>
            </a: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 is a multiple of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else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lvl="2" marL="395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199"/>
                </a:solidFill>
                <a:latin typeface="Tahoma"/>
              </a:rPr>
              <a:t>print x, “is not a multiple of 2 or 3”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4038480"/>
            <a:ext cx="236232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21120" y="344160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038480" y="3886200"/>
            <a:ext cx="221004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95" idx="2"/>
            <a:endCxn id="105" idx="0"/>
          </p:cNvCxnSpPr>
          <p:nvPr/>
        </p:nvCxnSpPr>
        <p:spPr>
          <a:xfrm>
            <a:off x="2971440" y="3365280"/>
            <a:ext cx="217260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0" idx="2"/>
            <a:endCxn id="97" idx="0"/>
          </p:cNvCxnSpPr>
          <p:nvPr/>
        </p:nvCxnSpPr>
        <p:spPr>
          <a:xfrm flipH="1">
            <a:off x="1218960" y="4508640"/>
            <a:ext cx="1334160" cy="11944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2"/>
            <a:endCxn id="97" idx="0"/>
          </p:cNvCxnSpPr>
          <p:nvPr/>
        </p:nvCxnSpPr>
        <p:spPr>
          <a:xfrm flipH="1">
            <a:off x="1218600" y="4660560"/>
            <a:ext cx="3925080" cy="10422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405792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D3EED-F62A-49F4-A31D-5ABF5439896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319320" y="1298520"/>
            <a:ext cx="3620520" cy="311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886200" y="1752480"/>
            <a:ext cx="304920" cy="1905120"/>
          </a:xfrm>
          <a:custGeom>
            <a:avLst/>
            <a:gdLst>
              <a:gd name="textAreaLeft" fmla="*/ 0 w 304920"/>
              <a:gd name="textAreaRight" fmla="*/ 110160 w 304920"/>
              <a:gd name="textAreaTop" fmla="*/ 49680 h 1905120"/>
              <a:gd name="textAreaBottom" fmla="*/ 1855440 h 1905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267080" y="2362320"/>
            <a:ext cx="4038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i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CB691-11EF-4EC9-B3C0-4EC81AC1FF8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Using the building blocks: nesting if-else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319320" y="1298520"/>
            <a:ext cx="3620520" cy="35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 </a:t>
            </a:r>
            <a:r>
              <a:rPr b="0" lang="en-US" sz="2400" spc="-1" strike="noStrike">
                <a:solidFill>
                  <a:srgbClr val="2017b8"/>
                </a:solidFill>
                <a:latin typeface="Tahoma"/>
              </a:rPr>
              <a:t>condition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else :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statement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86200" y="2590920"/>
            <a:ext cx="380880" cy="2057400"/>
          </a:xfrm>
          <a:custGeom>
            <a:avLst/>
            <a:gdLst>
              <a:gd name="textAreaLeft" fmla="*/ 0 w 380880"/>
              <a:gd name="textAreaRight" fmla="*/ 137520 w 380880"/>
              <a:gd name="textAreaTop" fmla="*/ 53640 h 2057400"/>
              <a:gd name="textAreaBottom" fmla="*/ 2003760 h 20574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19720" y="3286080"/>
            <a:ext cx="403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if-else statement is </a:t>
            </a:r>
            <a:r>
              <a:rPr b="1" lang="en-US" sz="2400" spc="-1" strike="noStrike">
                <a:solidFill>
                  <a:srgbClr val="6699ff"/>
                </a:solidFill>
                <a:latin typeface="Tahoma"/>
              </a:rPr>
              <a:t>nested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inside the else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809880" y="4933800"/>
            <a:ext cx="4724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This structure can be rewritten as an </a:t>
            </a: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if-elif-else</a:t>
            </a:r>
            <a:r>
              <a:rPr b="0" lang="en-US" sz="2400" spc="-1" strike="noStrike">
                <a:solidFill>
                  <a:srgbClr val="010199"/>
                </a:solidFill>
                <a:latin typeface="Tahoma"/>
              </a:rPr>
              <a:t> statemen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B9E8B-5E37-41CE-9FAB-E13489A3E97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Modify: Check for Other Bad Inpu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This program determines your birth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given your age and current year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age = input("Enter your age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if age &gt; 110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Don't be ridiculous, you can't be that old."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else: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currentYear = input("Enter the current year &gt;&gt; ")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birthyear = currentYear - age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        </a:t>
            </a:r>
            <a:r>
              <a:rPr b="0" lang="en-US" sz="2400" spc="-1" strike="noStrike">
                <a:solidFill>
                  <a:srgbClr val="020202"/>
                </a:solidFill>
                <a:latin typeface="Arial"/>
              </a:rPr>
              <a:t>print "You were either born in", birthyear, "or", birthyear-1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DDF9B-43A5-4002-999D-4171E79210F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: Numeric to Letter Grad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etermine if a numeric grade is a letter grade  (A, B, C, D, or F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1066680" y="2685960"/>
          <a:ext cx="6858000" cy="3105000"/>
        </p:xfrm>
        <a:graphic>
          <a:graphicData uri="http://schemas.openxmlformats.org/drawingml/2006/table">
            <a:tbl>
              <a:tblPr/>
              <a:tblGrid>
                <a:gridCol w="3429000"/>
                <a:gridCol w="34290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Numeric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etter Grad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solidFill>
                      <a:srgbClr val="6699f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90 and above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80 to below 90 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70 to below 8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60 to below 7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elow 60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43DCC-F981-461F-9D16-2DAF27648A6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esting with If Statement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ake sure have test cases that execute each branch in control flow diagram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.e., Each execution path is “covered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8800" y="2666880"/>
            <a:ext cx="198108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2 == 0 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143000" y="3733920"/>
            <a:ext cx="160020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even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28" name=""/>
          <p:cNvCxnSpPr>
            <a:stCxn id="126" idx="2"/>
            <a:endCxn id="127" idx="0"/>
          </p:cNvCxnSpPr>
          <p:nvPr/>
        </p:nvCxnSpPr>
        <p:spPr>
          <a:xfrm flipH="1">
            <a:off x="1942920" y="3137040"/>
            <a:ext cx="87696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3048120" y="3733920"/>
            <a:ext cx="1828800" cy="457200"/>
          </a:xfrm>
          <a:prstGeom prst="rect">
            <a:avLst/>
          </a:prstGeom>
          <a:solidFill>
            <a:srgbClr val="ff99cc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if x % 3 == 0: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0" name=""/>
          <p:cNvCxnSpPr>
            <a:stCxn id="126" idx="2"/>
            <a:endCxn id="129" idx="0"/>
          </p:cNvCxnSpPr>
          <p:nvPr/>
        </p:nvCxnSpPr>
        <p:spPr>
          <a:xfrm>
            <a:off x="2819160" y="3137040"/>
            <a:ext cx="1143720" cy="58464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295280" y="5943600"/>
            <a:ext cx="198144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Next statement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2" name=""/>
          <p:cNvCxnSpPr>
            <a:stCxn id="127" idx="2"/>
            <a:endCxn id="131" idx="0"/>
          </p:cNvCxnSpPr>
          <p:nvPr/>
        </p:nvCxnSpPr>
        <p:spPr>
          <a:xfrm>
            <a:off x="1943280" y="4203720"/>
            <a:ext cx="343440" cy="1728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2"/>
            <a:endCxn id="134" idx="0"/>
          </p:cNvCxnSpPr>
          <p:nvPr/>
        </p:nvCxnSpPr>
        <p:spPr>
          <a:xfrm flipH="1">
            <a:off x="3543120" y="4203720"/>
            <a:ext cx="419760" cy="6606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5" name=""/>
          <p:cNvSpPr/>
          <p:nvPr/>
        </p:nvSpPr>
        <p:spPr>
          <a:xfrm>
            <a:off x="1625760" y="328932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491280" y="327672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62320" y="4876920"/>
            <a:ext cx="2361960" cy="45720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a multiple of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111840" y="4280040"/>
            <a:ext cx="67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c600"/>
                </a:solidFill>
                <a:latin typeface="Tahoma"/>
              </a:rPr>
              <a:t>Tru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4724280"/>
            <a:ext cx="2209680" cy="762120"/>
          </a:xfrm>
          <a:prstGeom prst="rect">
            <a:avLst/>
          </a:prstGeom>
          <a:solidFill>
            <a:srgbClr val="99ccff"/>
          </a:solidFill>
          <a:ln w="255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x is not a 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20202"/>
                </a:solidFill>
                <a:latin typeface="Tahoma"/>
              </a:rPr>
              <a:t>multiple of 2 or 3</a:t>
            </a:r>
            <a:endParaRPr b="0" lang="en-US" sz="2000" spc="-1" strike="noStrike">
              <a:solidFill>
                <a:srgbClr val="020202"/>
              </a:solidFill>
              <a:latin typeface="Times New Roman"/>
            </a:endParaRPr>
          </a:p>
        </p:txBody>
      </p:sp>
      <p:cxnSp>
        <p:nvCxnSpPr>
          <p:cNvPr id="139" name=""/>
          <p:cNvCxnSpPr>
            <a:stCxn id="129" idx="2"/>
            <a:endCxn id="138" idx="0"/>
          </p:cNvCxnSpPr>
          <p:nvPr/>
        </p:nvCxnSpPr>
        <p:spPr>
          <a:xfrm>
            <a:off x="3962520" y="4203360"/>
            <a:ext cx="2171880" cy="50868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0" name=""/>
          <p:cNvCxnSpPr>
            <a:stCxn id="134" idx="2"/>
            <a:endCxn id="131" idx="0"/>
          </p:cNvCxnSpPr>
          <p:nvPr/>
        </p:nvCxnSpPr>
        <p:spPr>
          <a:xfrm flipH="1">
            <a:off x="2285280" y="5346360"/>
            <a:ext cx="1258200" cy="58500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41" name=""/>
          <p:cNvCxnSpPr>
            <a:stCxn id="138" idx="2"/>
            <a:endCxn id="131" idx="0"/>
          </p:cNvCxnSpPr>
          <p:nvPr/>
        </p:nvCxnSpPr>
        <p:spPr>
          <a:xfrm flipH="1">
            <a:off x="2285280" y="5499000"/>
            <a:ext cx="3848760" cy="432720"/>
          </a:xfrm>
          <a:prstGeom prst="straightConnector1">
            <a:avLst/>
          </a:prstGeom>
          <a:ln w="3168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42" name=""/>
          <p:cNvSpPr/>
          <p:nvPr/>
        </p:nvSpPr>
        <p:spPr>
          <a:xfrm>
            <a:off x="5048640" y="4114800"/>
            <a:ext cx="72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False</a:t>
            </a:r>
            <a:endParaRPr b="0" lang="en-US" sz="18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359000" y="3048120"/>
            <a:ext cx="1307880" cy="2895480"/>
          </a:xfrm>
          <a:custGeom>
            <a:avLst/>
            <a:gdLst/>
            <a:ahLst/>
            <a:rect l="l" t="t" r="r" b="b"/>
            <a:pathLst>
              <a:path w="824" h="1824">
                <a:moveTo>
                  <a:pt x="824" y="0"/>
                </a:moveTo>
                <a:cubicBezTo>
                  <a:pt x="516" y="64"/>
                  <a:pt x="208" y="128"/>
                  <a:pt x="104" y="432"/>
                </a:cubicBezTo>
                <a:cubicBezTo>
                  <a:pt x="0" y="736"/>
                  <a:pt x="184" y="1592"/>
                  <a:pt x="20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209680" y="3048120"/>
            <a:ext cx="1511280" cy="2895480"/>
          </a:xfrm>
          <a:custGeom>
            <a:avLst/>
            <a:gdLst/>
            <a:ahLst/>
            <a:rect l="l" t="t" r="r" b="b"/>
            <a:pathLst>
              <a:path w="952" h="1824">
                <a:moveTo>
                  <a:pt x="384" y="0"/>
                </a:moveTo>
                <a:cubicBezTo>
                  <a:pt x="628" y="132"/>
                  <a:pt x="872" y="264"/>
                  <a:pt x="912" y="480"/>
                </a:cubicBezTo>
                <a:cubicBezTo>
                  <a:pt x="952" y="696"/>
                  <a:pt x="776" y="1072"/>
                  <a:pt x="624" y="1296"/>
                </a:cubicBezTo>
                <a:cubicBezTo>
                  <a:pt x="472" y="1520"/>
                  <a:pt x="236" y="1672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048120" y="3048120"/>
            <a:ext cx="2717640" cy="2895480"/>
          </a:xfrm>
          <a:custGeom>
            <a:avLst/>
            <a:gdLst/>
            <a:ahLst/>
            <a:rect l="l" t="t" r="r" b="b"/>
            <a:pathLst>
              <a:path w="1712" h="1824">
                <a:moveTo>
                  <a:pt x="144" y="0"/>
                </a:moveTo>
                <a:cubicBezTo>
                  <a:pt x="336" y="188"/>
                  <a:pt x="528" y="376"/>
                  <a:pt x="768" y="576"/>
                </a:cubicBezTo>
                <a:cubicBezTo>
                  <a:pt x="1008" y="776"/>
                  <a:pt x="1712" y="992"/>
                  <a:pt x="1584" y="1200"/>
                </a:cubicBezTo>
                <a:cubicBezTo>
                  <a:pt x="1456" y="1408"/>
                  <a:pt x="728" y="1616"/>
                  <a:pt x="0" y="1824"/>
                </a:cubicBezTo>
              </a:path>
            </a:pathLst>
          </a:custGeom>
          <a:noFill/>
          <a:ln w="38160">
            <a:solidFill>
              <a:srgbClr val="00c6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5693040" y="3124080"/>
            <a:ext cx="337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hree execution path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8CCA2-98EA-4776-BA40-6E68F2AB98A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dcterms:modified xsi:type="dcterms:W3CDTF">2007-10-04T19:07:35Z</dcterms:modified>
  <cp:revision>667</cp:revision>
  <dc:subject/>
  <dc:title>PowerPoint Presentation</dc:title>
</cp:coreProperties>
</file>