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CFC-C713-4EE5-83D4-56B24937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F7B-6B4D-4E0A-8893-B14B8647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1E0-E313-42D3-9423-9C8BA29B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345-CA3A-48B7-8A8E-CE670393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9B37A-DE00-4FB9-A379-32CF0F9E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EA701-5C27-47DB-AEF9-1DD78E91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8B9AD-5B68-4E0F-8BD7-D258CF5F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561D4-566D-4418-84B2-8513DB3F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39D68-250D-45CB-92BF-0BDD687C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82A0B-2069-46F2-8C41-B8A08D92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B589D-343C-4534-A176-019A6DEE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FF91-9AC5-4359-ACCC-CAF04588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4E08F-1949-4EFB-9585-E47FF323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19A17-68DC-49DA-9FBC-5B936153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6C782-E407-41A1-AD00-75206B57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D9230-9EA6-4BBD-BA56-505F2171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97CB2-2B04-437C-BDE3-715C9EB3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F14-1A74-4825-9D94-B08FA9F9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4EB-4882-4689-A35B-8B282BF5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7DF-752E-4E13-90E6-3C9CC953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E87-BD3A-4DF8-846F-20CB31E1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388-2236-4D6A-867F-EF62B9A4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7E1-C1ED-4622-9128-D215B4C6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941-B3B9-46B1-9985-E63F7AB9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B3B6-7242-4A2E-B85A-9EB409D6470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E49F-A430-4637-A4DE-FA6C1381058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representation: ASCI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oader Issue: Environmental Monito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2880" y="682776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E84-F8D8-43C2-87E8-15F03E7100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 string is a sequence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character is stored as a binary number 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SCII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American Standard Code for Information Interchange) is one standard encoding for characters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e problem with ASCII is that it is based on the English languag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not represent other types of charac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nicode is a new stand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ndout: fix second ‘Q’ and ‘R’ to lowerca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0080" y="624528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 Table Hando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203-A0AF-44B5-BEEF-771EDAD1B4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CII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w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pp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difference between the decimal encoding of ‘M’ and ‘N’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ween ‘m’ and ‘n’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473-1D46-411F-857F-BAD73C6A1E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CII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w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97--12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pp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65--9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difference between the decimal encoding of ‘M’ and ‘N’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ween ‘m’ and ‘n’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03F-4A8E-4296-8FDC-1D0A942E94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anslating to/from ASCII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ranslate a character into its ASCII numeric code using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or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rd('a') ==&gt; 97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ranslate an ASCII numeric code into its character using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ch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hr(97) ==&gt; 'a'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1520" y="5952960"/>
            <a:ext cx="20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tab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80B-94DF-4E25-900A-D0A07FE9E4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ncryp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cess of encoding information to keep it secu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e technique: Substitution Cip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ch character in message is replaced by a new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esar Cip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eplace with a character X places awa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Julius Caesar used it to communicate with his genera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Wrap around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Write program(s) to do this in lab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2FC-0297-44DD-B748-7355B10318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Comparis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me operations as with numb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==, !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, &lt;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gt;, &gt;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in conditions for if statements and whil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49800" y="251460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phabetical comparis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2286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08200" y="624528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compar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C8C-4117-48F2-9221-4B2B0EF2AD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available operations to perform on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ightly different tha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method: find(substring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s the index where substring is in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-1 if substring isn’t fou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call a method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tring&gt;.methodname([argument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ilename.find(“.py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8320" y="6126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xecuted on 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048120" y="5866920"/>
            <a:ext cx="304560" cy="3049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B45-E127-4296-A01D-C07649DCDC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143000"/>
          <a:ext cx="8610480" cy="4959360"/>
        </p:xfrm>
        <a:graphic>
          <a:graphicData uri="http://schemas.openxmlformats.org/drawingml/2006/table">
            <a:tbl>
              <a:tblPr/>
              <a:tblGrid>
                <a:gridCol w="3581280"/>
                <a:gridCol w="5029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enter(width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string centered within the given number of column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unt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# of non-overlapping occurrences of substring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the string.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ndswith(sub), startswith(sub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ends with/starts with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first index where substring 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salpha(), isdigit(), isspac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contains letters/digits/whitespace only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wer(), uppe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string converted to lowercase/lowercase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5312160" y="63244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metho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1BE-5B8C-4B1A-9039-C9F70B0E6D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Methods vs.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: all “input” as arguments/parame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len is a built-i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lled as len(st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: “input” are argument/parameter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string the method was called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.upper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E76-6FDC-4F72-9965-145E5FF32B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binaryToDecimal.py to verify that the entered string contains only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make sure that it contains only 0s and 1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B78-4BD2-4A43-B093-9D3A266EDE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ctually a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The Beatle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52480" y="3432240"/>
          <a:ext cx="7010640" cy="1200240"/>
        </p:xfrm>
        <a:graphic>
          <a:graphicData uri="http://schemas.openxmlformats.org/drawingml/2006/table">
            <a:tbl>
              <a:tblPr/>
              <a:tblGrid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81720" y="414828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066680" y="4346640"/>
            <a:ext cx="60984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720" y="30510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432240"/>
            <a:ext cx="76212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829040"/>
            <a:ext cx="40384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Length of the string: 1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uilt-in function: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len(str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o find length of a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8960" y="5367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rt at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81080" y="4727160"/>
            <a:ext cx="76320" cy="6858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13280" y="2362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 at len() -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24680" y="2898720"/>
            <a:ext cx="304920" cy="12193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35C-CADA-4F97-B962-9366D3E72B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Environmental Monito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erdisciplinary projects involving sensor net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ant new-ish CS research are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claimer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a seismologist or a biolog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9720" y="4800600"/>
            <a:ext cx="12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ennif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8160" y="4830840"/>
            <a:ext cx="111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32960" y="4822920"/>
            <a:ext cx="99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th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t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AC96-5202-47CE-835B-5B2F13FA73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CS challenges to both project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challenges only applicable to one projec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es the environment impact the CS research problems/solu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id the researchers address these challenge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</a:t>
            </a:r>
            <a:r>
              <a:rPr b="1" i="1" lang="en-US" sz="2800" spc="-1" strike="noStrike">
                <a:solidFill>
                  <a:srgbClr val="010199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ddress the challenge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373-F0CF-4CBA-8186-5FCB54BB76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: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me CSists thought that efficiency didn’t matter anymo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B of memory, terabytes of storage on mach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w: small and embedded devi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be efficient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ergy in battery powered 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mount of data stored (when to delete?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, amount of data transferr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149-8101-4B90-927B-3E5739B882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: Reli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ata deliver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Missing data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onnectivity (good signal?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Duplicate data (different sources?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Dead sensor node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libration of data (time synchronization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ithstand extreme weather, condition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attery lif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Robustness: recover from software failure/malfunction or bad dat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F48E-B47A-4B3A-9FDA-F9D7AAFA16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ccurately simulate conditions (which will vary widely over long periods of tim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fferent goals from domain scient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S: push boundaries of sensor network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ample: Improve reliability of data to 95%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eismologists: need 100% reliable data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861E-A016-4705-BA54-A1CB3384B4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ergy in battery powered 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lar-powered batter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transmit if new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mount of data stored (when to delete?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ify all when data gets to base s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, amount of data transferr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ZebraNet: only transmit if new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nly transmit if zebra gives data to bas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olcano: only when “interesting”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294-E269-46B4-87C2-CA7971B5F3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Reli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ata delive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ndancy of data -- verify/validate it is correc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send to zebras with history of reporting back to base s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ather proof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atteries: solar-panels to rechar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D0C-E79F-4666-AA30-F99438D4D5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Test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vel simula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mulate environment/scenarios on compu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mulate zebras with hors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ush software to make sure it “recovers” appropriately from errors or bad information  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77F-6B59-4B55-BE67-D609DCCC2C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St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characters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as “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or each character in the string st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6280" y="24066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 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str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D577-DC3B-4895-9CF2-3CC909ED36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osi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index of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ega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count backwards from e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0]  returns the fir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-1] returns the la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572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e will deal with sequences beyond strings lat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209680" y="4780080"/>
            <a:ext cx="15264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52320" y="301680"/>
            <a:ext cx="5005800" cy="1450800"/>
            <a:chOff x="3352320" y="301680"/>
            <a:chExt cx="5005800" cy="1450800"/>
          </a:xfrm>
        </p:grpSpPr>
        <p:sp>
          <p:nvSpPr>
            <p:cNvPr id="105" name=""/>
            <p:cNvSpPr/>
            <p:nvPr/>
          </p:nvSpPr>
          <p:spPr>
            <a:xfrm flipH="1">
              <a:off x="3352320" y="762120"/>
              <a:ext cx="25909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762120"/>
              <a:ext cx="5335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99040" y="301680"/>
              <a:ext cx="32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Literally, </a:t>
              </a:r>
              <a:r>
                <a:rPr b="1" lang="en-US" sz="2400" spc="-1" strike="noStrike">
                  <a:solidFill>
                    <a:srgbClr val="6699ff"/>
                  </a:solidFill>
                  <a:latin typeface="Tahoma"/>
                </a:rPr>
                <a:t>not</a:t>
              </a: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 optional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086160" y="632448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while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FBB-0FC0-47C4-8582-95C5B5A384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ou can select a substring (zero or more characters) using th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[ ]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the end of th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the first element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a copy of the entir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5F5-A623-42DE-B240-7419672312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hecking for sub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arch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ED6-3B5F-4847-9EFF-7D4FA099FE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Binary to Decim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Accumulator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binary number as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starting exponent will be the length of the string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zer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bit in the binary numb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ltiply the bit by the appropriate power of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dd this to the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the exponent by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15760" y="62452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inaryToDecimal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B47-C7CE-456C-8661-253ADE1F21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lternative Solution by Cath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: binaryToDecimal2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terate through string using an integer as the index and the substring([]) oper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veloping solutions: if iterating (through whatever) in one direction doesn’t work, try the ot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AED-F544-4A9A-B259-2C8ECEA752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Decimal to Bin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decimal as an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the empty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peat until the decimal is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ult = str(decimal % 2) +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cimal = decimal /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60600" y="5562720"/>
            <a:ext cx="380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y out algorithm with 2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cimalToBi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520" y="55926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ntuition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D07-BD50-4D11-8880-2C30349710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05T20:18:44Z</cp:lastPrinted>
  <dcterms:modified xsi:type="dcterms:W3CDTF">2007-10-05T20:22:41Z</dcterms:modified>
  <cp:revision>1264</cp:revision>
  <dc:subject/>
  <dc:title>PowerPoint Presentation</dc:title>
</cp:coreProperties>
</file>