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CC2-86B0-4D51-8A75-D83D4604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5F3-1C8A-4B86-9025-CA90FDE8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C9EB-FF2E-4D46-BF39-52B227AF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571-DA9E-4A9D-B8D7-147238EE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4428E-49D3-48C9-A21B-57B1320B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82785-38FF-4BF8-8A4E-06ABAC7F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34E0B-D708-47F5-B71F-E415BA5B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27816-368C-4813-BC1D-09A5AA55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1BB00-CB69-4E30-AD91-87E593D1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BDDE8-ADAD-41C7-9B8C-79638BE3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A773D-BA68-4A1C-A0DE-A6400F3A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1B3-8FF6-4651-BEE5-92BC3DF2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849A8-65D8-42AC-83C3-4147D1C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FA455-C5E0-402F-81BA-96230BCB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C7D48-E889-4AA8-BF14-CAD15523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D4E05-ADEB-4629-BFA9-22325A66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9A92D-3523-48E6-A7F1-A31E04AF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E4E-4A47-45CF-97FC-EC7AB682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98B-055F-456D-A2E7-1610CB43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0B3-C4D5-4DCE-9423-E6B1B8FF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E4D-0882-4FB7-BD9E-06AED2D7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7B2-5338-47F8-8E5E-9491A4D1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FAF-2AE6-4BB8-9072-2CCA6FC8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B50-C665-4EA5-9422-2F5DE2EC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1F27-A43E-4F64-8794-E72708C5616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F81F-B33F-4E69-84BE-C64830130FC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5B7-8D4B-46CE-B6B4-E0D1137199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2"/>
            <a:endCxn id="125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endCxn id="126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3"/>
            <a:endCxn id="130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1"/>
            <a:endCxn id="126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2"/>
            <a:endCxn id="136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2"/>
            <a:endCxn id="142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2644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2"/>
            <a:endCxn id="132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  <a:endCxn id="141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0" idx="2"/>
            <a:endCxn id="144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2" idx="2"/>
            <a:endCxn id="147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7" idx="2"/>
            <a:endCxn id="132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81E-0733-459C-8AA9-5AE2CC8B51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9" idx="2"/>
            <a:endCxn id="157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7" idx="2"/>
            <a:endCxn id="156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7" idx="2"/>
            <a:endCxn id="161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3168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F70-7C0E-4EB0-B5AB-E5506431C0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return to “shortcut”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output as soon as know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are efficiency of two functions in binaryToDecimal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B54-497C-4A18-9CFB-DFFFC14CAD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actu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ed example with swap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1E0-73D5-405E-908F-D575054936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of program scrip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d before u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a separat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s code in ma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to reuse by importing from a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tains the “black box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27B-241E-493A-8189-8B7C4DA3A1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any languages, you put the “driver” for your program in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ou can (and should) do this in Python as wel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thods go at the top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ers can quickly see what program do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usually takes no 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1520" y="48769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def main()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979-9130-4FB2-A39C-6F6934E18A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l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 at the bottom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de-effect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not need to define functions befo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an “see”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 tha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function that calls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20202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unction can call other functions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440" y="618660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ldmac.p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F2B-690B-4959-87FC-29A7B61A13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 with a main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ldmac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8B8-16AB-4E8F-987C-FC3BE42CC0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hy can we name two variables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76F-6E1E-40F6-B5DA-B88AE57060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6320" y="426708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7680" y="60199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unction name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are like last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1080" y="5486040"/>
            <a:ext cx="182880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232160"/>
            <a:ext cx="27432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Tahoma"/>
              </a:rPr>
              <a:t>Variable names</a:t>
            </a:r>
            <a:r>
              <a:rPr b="0" lang="en-US" sz="2300" spc="-1" strike="noStrike">
                <a:solidFill>
                  <a:srgbClr val="010199"/>
                </a:solidFill>
                <a:latin typeface="Tahoma"/>
              </a:rPr>
              <a:t> are like first names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24120" y="5029200"/>
            <a:ext cx="1143000" cy="3049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492-23AA-4942-9E0E-D698BD39F9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it ou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6E3-C937-4B64-A2C4-527C0C235A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(num1, num2)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733920"/>
            <a:ext cx="99036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3733920"/>
            <a:ext cx="129564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828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alled the 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, so need to add its parameters to 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1AA-F72F-4C72-B010-930E93149D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CC3-B3DE-4F0F-982A-E9DC797792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879-723A-43B7-9746-4CC837404A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0574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returned, so we no longer have to keep track of its variables on the stack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ifetim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those variables is ov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985-CDC7-48DF-8B31-1EB7C135F6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unctions can have the same parameter and variable names as other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ed to look at the variable’s </a:t>
            </a: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scop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determine which one you’re looking a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the stack to figure out which variable you’re us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Scope level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Loc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unction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Can only be seen within the function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Glob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ile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Whole program can acces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More on these later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92320" y="60958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cop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3AE-A9C9-4C81-A005-07207C8E2A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output of this program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user enters 4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8720" y="2489040"/>
            <a:ext cx="67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square(n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n * 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 = input("Enter a number to be squared: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quare(num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e square is: ",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969-044D-4598-85C8-578921AC56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an “intuitive chunk”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oesn’t do too much or too little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reusable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Always have comment that tells what the function doe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862-0FF5-47EF-A614-3E6D3E1748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e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must be true in order for the function to work correctl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num must be eve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ost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will be true when function finishes (if precondition is true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the returned value is the max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9B5-3047-45DB-8513-A4C53C7707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good comments for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tyle: Each function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a com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ten at a high-leve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clude the precondition, postcond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be the parameters (their types) and the result (precondition and postcondition may cover thi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E8D-9984-4CC3-B97B-06FEC51791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like functions, no special keyword to define a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dules are named by the file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, oldma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Python shell: import oldmac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plain what happen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91A-94DB-4D5A-B8FC-7D678BA850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434-E0FE-4208-A995-10D20DE25A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 that our program doesn’t execute when it is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import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a program, at bottom, ad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__name__ == '__main__’ 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e files now listed in the direct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536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 important how this works; just know when to u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038480" y="2765520"/>
            <a:ext cx="13716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AB0-2B41-48D7-89AF-CF187708F6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would you want to do thi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main function as driver to test functions in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access one of the defined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EIEI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524-B31C-4368-A8B1-91B32A9C71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 Read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icrosoft Excel 2007 bu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14B-095C-4459-A615-DF9CD2AC50E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368640" y="267336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B75-4F1F-4C5A-A5C8-A9B8BADFFD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B77-B6DA-4306-A7BE-29F698E6B8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1F2-82B5-44E8-8B11-D9222D1AF9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CFF-0FF3-425D-940A-D93CB771DC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Old McDonal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 verse of the song go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on that farm he had a dog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 a ruff, ruff 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a ruff, ruff t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ere a ruff, there a ruff, everywhere a ruff, ruff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rite a function to print a ver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y does it make sense to write a function for the ver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in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out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E64-4D2D-4E3F-8E5A-3D737A09EB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output/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6FF-DDDD-4879-B355-A184DB279F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5T20:49:48Z</cp:lastPrinted>
  <dcterms:modified xsi:type="dcterms:W3CDTF">2007-10-15T20:53:54Z</dcterms:modified>
  <cp:revision>1444</cp:revision>
  <dc:subject/>
  <dc:title>PowerPoint Presentation</dc:title>
</cp:coreProperties>
</file>