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999120" cy="9285120"/>
          </a:xfrm>
          <a:custGeom>
            <a:avLst/>
            <a:gdLst>
              <a:gd name="textAreaLeft" fmla="*/ 360 w 6999120"/>
              <a:gd name="textAreaRight" fmla="*/ 6998760 w 6999120"/>
              <a:gd name="textAreaTop" fmla="*/ 360 h 9285120"/>
              <a:gd name="textAreaBottom" fmla="*/ 9284760 h 9285120"/>
            </a:gdLst>
            <a:ahLst/>
            <a:rect l="textAreaLeft" t="textAreaTop" r="textAreaRight" b="textAreaBottom"/>
            <a:pathLst>
              <a:path w="21600" h="28654">
                <a:moveTo>
                  <a:pt x="4" y="0"/>
                </a:moveTo>
                <a:arcTo wR="4" hR="4" stAng="16200000" swAng="-5400000"/>
                <a:lnTo>
                  <a:pt x="0" y="28650"/>
                </a:lnTo>
                <a:arcTo wR="4" hR="4" stAng="10800000" swAng="-5400000"/>
                <a:lnTo>
                  <a:pt x="21596" y="2865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6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520" y="0"/>
            <a:ext cx="3046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68200" y="685440"/>
            <a:ext cx="46717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0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39080"/>
            <a:ext cx="3046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520" y="8839080"/>
            <a:ext cx="3046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8B7DC-B76E-4E6E-ABC6-089F7583046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6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040" y="4419720"/>
            <a:ext cx="51814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written and used algorithms even if you did not realize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cess of doing long division, for example, is an algorith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ipes are another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205D-F61F-425A-A08F-F0F100185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D88A-9FAC-442A-AB52-133296F3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51D9-ED88-478D-BE3E-3E6FE824C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12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0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12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0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D3B9-CBE5-4B08-B333-7BD3E5C89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9EAF5-F81A-45A6-B031-217E21928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7A556-9ED9-443E-97E2-8B6FD0C8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F35E8-6B3B-4715-AE1C-44D8125F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B1C29-622B-45DC-93A0-580532CC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CEE91-D160-42AA-8473-5ED6E801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5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E30F9-3B48-46A2-BFC5-45FEFFA9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FB5DD-EA28-418F-9297-8B61C1E2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A065-3CBF-4920-8B0F-00619773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FD989-953B-4B75-A786-17788F5F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576B5-5850-444C-B067-56BB712B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E10B9-D24D-445B-98D1-7EB2709A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AA872-34C0-4D14-90EB-95EDF6E43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512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20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512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20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186BE-247A-466C-A9BC-141F104EE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9A6E-16F8-45C7-81DF-0E1B9FDF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5C51-35FD-47E0-BADF-E718901E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DBFF-8491-4AB8-A04D-71041922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5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115F-AFDB-48A2-9914-4E55119E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DF11-12F1-45CC-AE85-5D276910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306A-C4D8-4B93-B336-D80CFC79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3CD7-4BFC-4604-9A8A-64126DDA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6960" indent="-28728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4840" indent="-29016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p 10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16FB94-54EB-4919-A8A6-33C227932A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C7745-A371-4CFF-A6FE-FC971B557F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6960" indent="-28728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4840" indent="-29016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01916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2017b8"/>
                </a:solidFill>
                <a:latin typeface="Tahoma"/>
              </a:rPr>
              <a:t>Introduction to Programming</a:t>
            </a:r>
            <a:endParaRPr b="0" lang="en-US" sz="48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6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Professor Sprenkl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Tahoma"/>
              </a:rPr>
              <a:t>sprenkles@wlu.edu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September 10, 2007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ther Lessons To Rememb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 cowboy’s wisdom: Good judgment comes from experienc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How can you get experience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Bad judgment works every tim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gram errors can have </a:t>
            </a: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bad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effect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event the bad effects--especially before you turn in your assignment!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C530-FF67-4E1B-82C7-B152B09BF07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-47160"/>
            <a:ext cx="8686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ational Problem Solving 101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ational Probl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 problem that can be solved by logic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o solve the problem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rea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model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of the proble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esign an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algorith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for solving the problem using the model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125000"/>
              <a:buFont typeface="Wingdings" charset="2"/>
              <a:buChar char="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ri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progra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that implements the algorith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E3E8-8C43-46F0-8B80-CBEAC25C8AD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ming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686800" cy="49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gramming language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pecific rules for what is and isn’t allowed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ust be exact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mputer carries out commands as they are give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Syntax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: the symbols give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Semantics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: what it mean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Example:  III * IV = 3 x 4 = 12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gramming languages are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unambiguou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31F5-4F8B-4BD2-BF00-964E3D5AEE5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A common </a:t>
            </a:r>
            <a:r>
              <a:rPr b="0" i="1" lang="en-GB" sz="3200" spc="-1" strike="noStrike">
                <a:solidFill>
                  <a:srgbClr val="3333cc"/>
                </a:solidFill>
                <a:latin typeface="Tahoma"/>
              </a:rPr>
              <a:t>interpreted</a:t>
            </a: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 programming langua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First released by Guido van Rossum in 1991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Named after </a:t>
            </a:r>
            <a:r>
              <a:rPr b="0" i="1" lang="en-GB" sz="3200" spc="-1" strike="noStrike">
                <a:solidFill>
                  <a:srgbClr val="020202"/>
                </a:solidFill>
                <a:latin typeface="Tahoma"/>
              </a:rPr>
              <a:t>Monty Python’s Flying Circu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Minimalist syntax, emphasizes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readabilit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Flexible, fast, useful langua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Used by scientists, engineers, systems programmer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F9B8-9BCD-4802-8F4A-6A1498EC59B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Interpret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53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Simulates a computer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20760" indent="-32076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Gives user immediate feedback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01640" indent="-26676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.g., if program contains error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Behind the scenes: </a:t>
            </a:r>
            <a:r>
              <a:rPr b="0" lang="en-GB" sz="2600" spc="-1" strike="noStrike">
                <a:solidFill>
                  <a:srgbClr val="ff00ff"/>
                </a:solidFill>
                <a:latin typeface="Tahoma"/>
              </a:rPr>
              <a:t>interpreter</a:t>
            </a: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 (a program itself) turns each expression into </a:t>
            </a:r>
            <a:r>
              <a:rPr b="0" lang="en-GB" sz="2600" spc="-1" strike="noStrike">
                <a:solidFill>
                  <a:srgbClr val="cb98fe"/>
                </a:solidFill>
                <a:latin typeface="Tahoma"/>
              </a:rPr>
              <a:t>bytecode</a:t>
            </a: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 and then executes the expression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marL="3207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365760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358128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yth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expressi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43400" y="5181480"/>
            <a:ext cx="137160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8" idx="3"/>
            <a:endCxn id="127" idx="1"/>
          </p:cNvCxnSpPr>
          <p:nvPr/>
        </p:nvCxnSpPr>
        <p:spPr>
          <a:xfrm>
            <a:off x="4723920" y="415260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32" idx="0"/>
            <a:endCxn id="127" idx="2"/>
          </p:cNvCxnSpPr>
          <p:nvPr/>
        </p:nvCxnSpPr>
        <p:spPr>
          <a:xfrm flipH="1" flipV="1">
            <a:off x="6895440" y="4647600"/>
            <a:ext cx="572040" cy="5338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6705720" y="5181480"/>
            <a:ext cx="15238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27" idx="3"/>
            <a:endCxn id="132" idx="3"/>
          </p:cNvCxnSpPr>
          <p:nvPr/>
        </p:nvCxnSpPr>
        <p:spPr>
          <a:xfrm>
            <a:off x="7924320" y="4152600"/>
            <a:ext cx="305640" cy="1524600"/>
          </a:xfrm>
          <a:prstGeom prst="bentConnector3">
            <a:avLst>
              <a:gd name="adj1" fmla="val 231721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7" idx="2"/>
            <a:endCxn id="129" idx="0"/>
          </p:cNvCxnSpPr>
          <p:nvPr/>
        </p:nvCxnSpPr>
        <p:spPr>
          <a:xfrm flipH="1">
            <a:off x="5028840" y="4647960"/>
            <a:ext cx="1867680" cy="5338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he Programm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Programmer types a </a:t>
            </a:r>
            <a:r>
              <a:rPr b="0" lang="en-GB" sz="3000" spc="-1" strike="noStrike">
                <a:solidFill>
                  <a:srgbClr val="66ccff"/>
                </a:solidFill>
                <a:latin typeface="Tahoma"/>
              </a:rPr>
              <a:t>program/script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into a </a:t>
            </a:r>
            <a:r>
              <a:rPr b="1" lang="en-GB" sz="3000" spc="-1" strike="noStrike">
                <a:solidFill>
                  <a:srgbClr val="010199"/>
                </a:solidFill>
                <a:latin typeface="Tahoma"/>
              </a:rPr>
              <a:t>text editor</a:t>
            </a:r>
            <a:r>
              <a:rPr b="1" lang="en-GB" sz="30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(jEdit or IDLE).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An </a:t>
            </a:r>
            <a:r>
              <a:rPr b="0" lang="en-GB" sz="3000" spc="-1" strike="noStrike">
                <a:solidFill>
                  <a:srgbClr val="ff00ff"/>
                </a:solidFill>
                <a:latin typeface="Tahoma"/>
              </a:rPr>
              <a:t>interpreter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(a program itself) turns each expression into </a:t>
            </a:r>
            <a:r>
              <a:rPr b="0" lang="en-GB" sz="3000" spc="-1" strike="noStrike">
                <a:solidFill>
                  <a:srgbClr val="cb98fe"/>
                </a:solidFill>
                <a:latin typeface="Tahoma"/>
              </a:rPr>
              <a:t>bytecode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and then executes each expression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380988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52680" y="373392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.py  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5334120"/>
            <a:ext cx="137160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8" idx="3"/>
            <a:endCxn id="137" idx="1"/>
          </p:cNvCxnSpPr>
          <p:nvPr/>
        </p:nvCxnSpPr>
        <p:spPr>
          <a:xfrm>
            <a:off x="4952520" y="430488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42" idx="0"/>
            <a:endCxn id="137" idx="2"/>
          </p:cNvCxnSpPr>
          <p:nvPr/>
        </p:nvCxnSpPr>
        <p:spPr>
          <a:xfrm flipH="1" flipV="1">
            <a:off x="7124040" y="4800240"/>
            <a:ext cx="57204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304920" y="380988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(jEdit or IDLE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3" idx="3"/>
            <a:endCxn id="138" idx="1"/>
          </p:cNvCxnSpPr>
          <p:nvPr/>
        </p:nvCxnSpPr>
        <p:spPr>
          <a:xfrm>
            <a:off x="2361960" y="430488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6934320" y="5334120"/>
            <a:ext cx="152388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37" idx="3"/>
            <a:endCxn id="142" idx="3"/>
          </p:cNvCxnSpPr>
          <p:nvPr/>
        </p:nvCxnSpPr>
        <p:spPr>
          <a:xfrm>
            <a:off x="8152920" y="4305240"/>
            <a:ext cx="305640" cy="1524960"/>
          </a:xfrm>
          <a:prstGeom prst="bentConnector3">
            <a:avLst>
              <a:gd name="adj1" fmla="val 231721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7" idx="2"/>
            <a:endCxn id="139" idx="0"/>
          </p:cNvCxnSpPr>
          <p:nvPr/>
        </p:nvCxnSpPr>
        <p:spPr>
          <a:xfrm flipH="1">
            <a:off x="5257440" y="4800600"/>
            <a:ext cx="186768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FDDB-9A07-41F8-8416-E5A1ECA86BA4}" type="slidenum">
              <a:t>1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NIX/Linux operating syst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Operating syst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Manages the computer’s resources, e.g., CPU, memory, disk spac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Examples: UNIX, Windows XP, Windows 2000, Mac OSX, Linux, etc.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UNIX/Linux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Command-line interface (not a GUI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Type commands into terminal window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Example commands: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cp file1.c file1copy.c       (copy a file)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mkdir cisc105                 (make a directory)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6840-2730-4DC6-B9BF-AEBF040B50D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he Programm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4038480"/>
            <a:ext cx="4952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In a Linux terminal: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jedit &amp;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  <a:ea typeface="Luxi Sans"/>
              </a:rPr>
              <a:t>or idle &amp;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python &lt;nameofscript&gt;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  <a:ea typeface="Luxi Sans"/>
              </a:rPr>
              <a:t>E.g., python hello.py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19920" y="152388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44792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.py  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3048120"/>
            <a:ext cx="137160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2" idx="3"/>
            <a:endCxn id="151" idx="1"/>
          </p:cNvCxnSpPr>
          <p:nvPr/>
        </p:nvCxnSpPr>
        <p:spPr>
          <a:xfrm>
            <a:off x="4876560" y="201888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56" idx="0"/>
            <a:endCxn id="151" idx="2"/>
          </p:cNvCxnSpPr>
          <p:nvPr/>
        </p:nvCxnSpPr>
        <p:spPr>
          <a:xfrm flipH="1" flipV="1">
            <a:off x="7048080" y="2514240"/>
            <a:ext cx="57240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228600" y="152388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(jEdit or IDLE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57" idx="3"/>
            <a:endCxn id="152" idx="1"/>
          </p:cNvCxnSpPr>
          <p:nvPr/>
        </p:nvCxnSpPr>
        <p:spPr>
          <a:xfrm>
            <a:off x="2286000" y="2018880"/>
            <a:ext cx="99144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6858000" y="3048120"/>
            <a:ext cx="152388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1" idx="3"/>
            <a:endCxn id="156" idx="3"/>
          </p:cNvCxnSpPr>
          <p:nvPr/>
        </p:nvCxnSpPr>
        <p:spPr>
          <a:xfrm>
            <a:off x="8077320" y="2019240"/>
            <a:ext cx="305280" cy="1524960"/>
          </a:xfrm>
          <a:prstGeom prst="bentConnector3">
            <a:avLst>
              <a:gd name="adj1" fmla="val 231759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1" idx="2"/>
            <a:endCxn id="153" idx="0"/>
          </p:cNvCxnSpPr>
          <p:nvPr/>
        </p:nvCxnSpPr>
        <p:spPr>
          <a:xfrm flipH="1">
            <a:off x="5181120" y="2514600"/>
            <a:ext cx="186768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9367-AE41-46A7-A587-66BFCA57C453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troduction to problem solving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troduction to Pytho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troduction to Linux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97E9-B47A-4406-8BB5-213BB5971A3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-47160"/>
            <a:ext cx="8686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ational Problem Solving 101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0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ational Probl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 problem that can be solved by logic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o solve the problem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rea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model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of the proble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esign an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algorith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for solving the problem using the model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ri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progra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that implements the algorith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2AA4-AF1D-4050-B009-16A0EC74599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47160"/>
            <a:ext cx="8686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ational Problem Solving 101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lgorithm: a well-defined recipe for solving a probl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Has a finite number of steps 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mpletes in a finite amount of tim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n algorithm written in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programming languag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lso called cod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pplicatio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arge programs, solving many problem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BF71-4F4A-4FED-8846-964C82CE94C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ore on Algorithm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lgorithms often have a defined type of </a:t>
            </a: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inpu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outpu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orrec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algorithms give the intended output for a set of input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Example: Multiply by 10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/O for a correct algorithm: 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5,50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.32, 3.2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x, 10x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More examples: Long division, recip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321000" y="4389480"/>
            <a:ext cx="1066680" cy="685800"/>
          </a:xfrm>
          <a:prstGeom prst="rect">
            <a:avLst/>
          </a:prstGeom>
          <a:solidFill>
            <a:srgbClr val="33cccc">
              <a:alpha val="72000"/>
            </a:srgbClr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input 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30840" y="4191120"/>
            <a:ext cx="1981080" cy="1044360"/>
          </a:xfrm>
          <a:prstGeom prst="parallelogram">
            <a:avLst>
              <a:gd name="adj" fmla="val 47423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algorithm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91520" y="4352760"/>
            <a:ext cx="1066680" cy="685800"/>
          </a:xfrm>
          <a:prstGeom prst="rect">
            <a:avLst/>
          </a:prstGeom>
          <a:solidFill>
            <a:srgbClr val="33cc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1" idx="3"/>
            <a:endCxn id="102" idx="1"/>
          </p:cNvCxnSpPr>
          <p:nvPr/>
        </p:nvCxnSpPr>
        <p:spPr>
          <a:xfrm flipV="1">
            <a:off x="4387320" y="4712400"/>
            <a:ext cx="691560" cy="19800"/>
          </a:xfrm>
          <a:prstGeom prst="straightConnector1">
            <a:avLst/>
          </a:prstGeom>
          <a:ln w="640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2" idx="3"/>
            <a:endCxn id="103" idx="1"/>
          </p:cNvCxnSpPr>
          <p:nvPr/>
        </p:nvCxnSpPr>
        <p:spPr>
          <a:xfrm flipV="1">
            <a:off x="6564240" y="4695480"/>
            <a:ext cx="828000" cy="18000"/>
          </a:xfrm>
          <a:prstGeom prst="straightConnector1">
            <a:avLst/>
          </a:prstGeom>
          <a:ln w="640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3711600" y="50799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768800" y="50799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068F-14CA-4110-B645-192F21722DF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-46440"/>
            <a:ext cx="8686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aking a Peanut Butter &amp; Jelly Sandwich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ow do you make a peanut butter and jelly sandwich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rite down the steps so that someone else can follow your instruction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ake no assumptions about the person’s knowledge of PB&amp;J sandwich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he person has the following materials: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Loaf of bread, Jar of PB, Jelly, 2 Knives, paper plates, napkins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65A7-04D2-4FA4-B8E3-88F11E113B2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scussion of PB&amp;J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e computer: a blessing and a curs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cognize and meet the challenge!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Be unambiguous, descriptiv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ust be clear for the computer to understand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o what I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meant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!  Not what I said!”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reating/Implementing an algorith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Break down piec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ry it out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vis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8983-D870-4462-9ABE-D725E825C44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scussion of PB&amp;J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35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Be prepared for special cas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ren’t necessarily spares in real lif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Need to write correct algorithms!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using similar techniqu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o the same thing with a little twist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Looping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For repeating the same actio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2BC1-E1DF-45E7-B16F-87C88A691A7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ts of an Algorith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mitive operation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hat data you have, what you can do to the data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Naming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dentify things we’re using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equence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of operation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nditional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andle special case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petition/Loop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ubroutin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Call, reuse similar technique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 rot="2493000">
            <a:off x="5218920" y="3566880"/>
            <a:ext cx="346068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An overview for the semester!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E634-5E41-4D82-BA04-BD6F699F472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on University</dc:creator>
  <dc:description/>
  <dc:language>en-US</dc:language>
  <cp:lastModifiedBy>Sara Sprenkle</cp:lastModifiedBy>
  <dcterms:modified xsi:type="dcterms:W3CDTF">2007-09-19T01:21:11Z</dcterms:modified>
  <cp:revision>121</cp:revision>
  <dc:subject/>
  <dc:title>Intro to Java</dc:title>
</cp:coreProperties>
</file>