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0A56-1F2E-4382-B249-5654F71E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FA8E-76D1-4CE1-9802-3AA6AA62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9DD8-705B-4E95-A9E7-507A74FC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E978-C1E1-4FDC-9C12-D279978E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31888-CEDB-480C-8186-81C86D3E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2241E-4D50-47DC-A2A1-7139D5AD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9192F-37BB-4B97-8864-3DF0B361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E533B-85FC-464D-90D5-CAB6B255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7FEF6-FECA-4F2A-8B38-CF9D4F05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72A1F-B83F-4322-9043-71B471F5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D8A34-65E5-4CAE-B0C6-FE81CC43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8C4C-11EC-4716-A678-BF95D774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8C12E-407E-4B2F-8FD3-BE4AEBD2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4D904-B233-4148-9456-AC75163A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886EA-C906-418D-A49C-ED96E9C4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10FDA-03E8-4744-96D2-FBBBD06D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B9DBB-DF27-4A60-B134-8A8DCB13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3FF9-58C6-4AF4-9EE3-E076C2F7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1C85-77AE-42DB-9DC6-42648E6D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BEEE-B7E7-4509-8369-D02313DC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FE5A-BCA2-42A6-B6C6-9AB827C3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EDA0-984C-447B-B052-49D530B3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BD14-011A-44FF-AAD9-A111057B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6949-58E0-44FE-A6E2-E754B3FF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4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A649-A69E-422C-A57C-919B9D371B29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62C0-C92F-4C39-B7DA-9F244A6B33E7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Dictionari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se end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/improving docum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ault parameter valu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D962-2EEC-435B-B9AF-6EDBD5287D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pecial Value: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Non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pecial value we can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.g., Return value from function when there is an err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milar to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nul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Jav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you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st = list.sort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77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l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s None because list.sort() doe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return anyth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0099-304A-46E1-BD01-CBAA010EDB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a file of the for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lastname&gt; &lt;major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e a mapping between the last names and majo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32960" y="62485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jors_dictio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2F14-A842-4CF4-BA8C-421F8ABA3C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dify the previous program to keep track of the number of majors of each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uld we solve this using a lis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49800" y="632448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jors_dictionary2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D94D-1141-4F29-B398-13FC3D0A8C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Docum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di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function that returns a list of methods and attributes in an objec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r(&lt;typ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help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get document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the Python shel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elp(&lt;typ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&lt;module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elp(&lt;modulenam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B27A-9D0C-4DD6-9C97-61923AE013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re is Documentation Coming From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es from the code itself in “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doc string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.e., “documentation string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c strings are simply strings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function head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ically use triple-quoted strings because documentation goes across several lin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800600"/>
            <a:ext cx="7086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de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verse(animal, sound)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“””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s a verse of Old MacDonald, filling in the strings for animal and sound “””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4685-4F88-424F-8E5D-A544711591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faults for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aw with the xrang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dn’t have to specify start or increment when calling the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ault start to 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ault increment to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assign a default value to a parame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 general, default parameter should come after all the parameters that need to be defin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34DF-0708-4946-A275-A1ECB9CA2E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Default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y default the rollDie function could assume that a die has 6 si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8160" y="3201840"/>
            <a:ext cx="51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rollDie(sides</a:t>
            </a: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=6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random.randint(1,sides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200040" y="2789280"/>
            <a:ext cx="762120" cy="8380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46680" y="2286000"/>
            <a:ext cx="435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signs a valu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NLY I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not passed a paramet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4240" y="4648320"/>
            <a:ext cx="48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Examples of calling the function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58800" y="5105520"/>
            <a:ext cx="165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ollDie(6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ollDie(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ollDie(1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84680" y="624852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am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2AE7-4C97-40DD-BF45-3723FC9F37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tudent Majo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want to keep track of the number of majors of each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wist: Not every student has a major (don’t declare until sophomore yea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999B-1091-43EF-9E1E-BAB5503201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tudent Majors, revised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udents can have more than one maj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uld count these separatel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modify the previous program to do that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A543-7978-412A-9F35-1FB0AC35F7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Music 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have an album file that has the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rtist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lbum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an album file, print out the number of songs and the total length of the albu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44956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ength has the format min:seco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F369-D436-4A54-A66F-C13FD8A506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ctionaries in 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p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key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Keys are not necessarily alphabetiz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ppings are from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one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key to one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or more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valu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Keys are </a:t>
            </a:r>
            <a:r>
              <a:rPr b="1" i="1" lang="en-US" sz="2600" spc="-1" strike="noStrike">
                <a:solidFill>
                  <a:srgbClr val="020202"/>
                </a:solidFill>
                <a:latin typeface="Arial"/>
              </a:rPr>
              <a:t>unique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, Values are not necessarily uniqu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Example: student ids --&gt; last nam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Keys must be </a:t>
            </a: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immutable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(numbers, strings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milar to Hashtables/Hashmaps in other languag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5788080"/>
            <a:ext cx="882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How would we handle if there is more than one value for a key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4343-EF5F-4E1B-84F5-CA4CC8A16D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ictionari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ful for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fas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ku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okup by keywo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n’t need to look through entire list or sort list fir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B99-88A3-40A3-8D49-B3CF369DAD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s of Diction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keys and values fo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xtbook’s inde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okboo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RL (Uniform Resource Locato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from cla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unction name --&gt; function defini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ariable name --&gt;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SCII value --&gt;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D10C-974B-424E-BD8B-F715756422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Dictionaries in 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{&lt;key&gt;:&lt;value&gt;, …, &lt;key&gt;:&lt;value&gt;}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7280" y="3313080"/>
            <a:ext cx="71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empty =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{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 =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 {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‘a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7, ‘b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8, ‘c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9, …, ‘z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122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8555-018E-4DA1-A4C4-569C86CBFD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essing Values using Key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45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Tahoma"/>
              </a:rPr>
              <a:t>KeyError</a:t>
            </a:r>
            <a:r>
              <a:rPr b="0" lang="en-US" sz="3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f key is not in dictiona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68760" y="2779560"/>
            <a:ext cx="396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[‘z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irectory[‘registrar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5E62-A4D0-4781-BA6E-8525969CCD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dding/Modifying Key-Value Pai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 = &lt;valu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scii[‘a’] = 97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9160" y="624852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_dictio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FE31-1256-498D-806F-D7CD4F845F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ctionary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43000" y="1397160"/>
          <a:ext cx="6858000" cy="29034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dex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[&lt;key&gt;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(&lt;dict&gt;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t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or &lt;key&gt; in &lt;dict&gt;: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mbership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key&gt; in &lt;dict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e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 &lt;dict&gt;[&lt;key&gt;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380880" y="493236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Unlike strings and lists, doesn’t make sense to do slicing, concatenation, repetition for dictionaries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0058-6319-405C-9A3B-587647E03B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ctionary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1397160"/>
          <a:ext cx="8458200" cy="3263760"/>
        </p:xfrm>
        <a:graphic>
          <a:graphicData uri="http://schemas.openxmlformats.org/drawingml/2006/table">
            <a:tbl>
              <a:tblPr/>
              <a:tblGrid>
                <a:gridCol w="3124080"/>
                <a:gridCol w="5334120"/>
              </a:tblGrid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clear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move all items from dictionary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keys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dictionary’s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keys 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values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dictionary’s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values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get(</a:t>
                      </a:r>
                      <a:r>
                        <a:rPr b="0" i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[,</a:t>
                      </a:r>
                      <a:r>
                        <a:rPr b="0" i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fault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&lt;dict&gt;[</a:t>
                      </a:r>
                      <a:r>
                        <a:rPr b="0" i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] if </a:t>
                      </a:r>
                      <a:r>
                        <a:rPr b="0" i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a key; Otherwise, returns </a:t>
                      </a:r>
                      <a:r>
                        <a:rPr b="0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ne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(or default value)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4AD7-59AC-4284-B4A1-B08BBCB7E0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22T19:45:41Z</cp:lastPrinted>
  <dcterms:modified xsi:type="dcterms:W3CDTF">2007-10-24T01:38:19Z</dcterms:modified>
  <cp:revision>2268</cp:revision>
  <dc:subject/>
  <dc:title>PowerPoint Presentation</dc:title>
</cp:coreProperties>
</file>