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710-5B13-4E68-84D6-85AE694D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778-081F-45A6-A37C-F426E206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897-0F0B-41D1-B740-7CA09351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805-21B6-48D6-8481-9D322DF5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2D71A-E3CC-4C8C-81C6-9914DA4A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4D6DD-C82E-49A7-B829-5BB7D4B0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17F12-22C0-48F0-B3B4-19778462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E6889-E1F2-4D5D-87F2-F5338CF6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AB458-81FE-4344-9720-7B46138D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37969-4701-4199-84BD-B61EF76A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6AD54-4161-475B-A878-B469159F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22B-21B0-419F-9A79-AA94B785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7F3C7-0DE4-404D-BC3E-7F5D1D49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AB622-750F-42F2-8B11-E9F97F2E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2EF8E-7D83-4C85-A93D-ED126301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F5821-38BD-4934-A83B-49F4E5FD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9471A-0E9B-48DB-A779-2BF3AB25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2F33-3896-4483-A8BF-A1A6EED7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B4A5-8BB1-4371-ABF6-217AF8A2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9C5-06FA-4871-8FBF-957D455C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2AA-8D5C-4648-9353-1F9F28DB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154-04F2-4D55-8294-9F20CC58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8098-9EF2-4F78-A831-57B1CF5B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577-1888-471E-8D42-5ED9559F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C7A0-4A58-490D-9F62-8752C7DFF4E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DCD2-5225-487B-9659-F4A118EE64E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Dictionar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se end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/improving docum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parameter valu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055-8601-4C82-BBD4-1B4907DF8A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pecial Value: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Non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ecial value we can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.g., Return value from function when there is an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ilar to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nul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Jav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you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 = list.sort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7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s None because list.sort() doe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return any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CA5-550E-4137-943D-472882AC98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 file of the for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lastname&gt; &lt;major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a mapping between the last names and majo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32960" y="6248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jors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34E-EA4E-45B2-93DE-49AEE7B28A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the previous program to keep track of the number of majors of each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uld we solve this using a lis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9800" y="632448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jors_dictionary2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CBC-CBF7-44E6-A1F6-FD0B2B8A21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Docum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di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function that returns a list of methods and attributes in an objec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r(&lt;typ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help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get document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the Python shel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elp(&lt;typ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&lt;module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elp(&lt;modulenam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6778-7931-4443-BC43-1A78BE72BD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is Documentation Coming From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es from the code itself in “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doc string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.e., “documentation string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c strings are simply strings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ically use triple-quoted strings because documentation goes across several l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80060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de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verse(animal, sound)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“””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s a verse of Old MacDonald, filling in the strings for animal and sound “””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4AD-19A8-4E50-A8CA-F80CEA8D44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faults for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w with the xrang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have to specify start or increment when calling the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start to 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increment to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assign a default value to a parame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general, default parameter should come after all the parameters that need to be defin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EB3-F6FD-4F17-B7A1-6E5587F8FC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Default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default the rollDie function could assume that a die has 6 si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8160" y="3201840"/>
            <a:ext cx="51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rollDie(sides</a:t>
            </a: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=6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random.randint(1,sides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00040" y="2789280"/>
            <a:ext cx="76212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46680" y="228600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signs a valu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NLY 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not passed a paramet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240" y="4648320"/>
            <a:ext cx="48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Examples of calling the function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58800" y="5105520"/>
            <a:ext cx="16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6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1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84680" y="624852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am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63E-75B5-4EC7-8364-7A223ACCB8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tudent Maj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want to keep track of the number of majors of each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wist: Not every student has a major (don’t declare until sophomore yea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1640-A195-4BEB-8A3D-66EB4A94C6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tudent Majors, revised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udents can have more than one maj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uld count these separatel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odify the previous program to do that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1EA-6DC3-4701-8568-BF651AF017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Music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an album file that has the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rtist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lbum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n album file, print out the number of songs and the total length of the albu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ength has the format min:seco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F32-1F19-48F2-837D-829D901AB8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p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key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eys are not necessarily alphabetiz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pings are from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key to one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or mor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valu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ys are </a:t>
            </a:r>
            <a:r>
              <a:rPr b="1" i="1" lang="en-US" sz="2600" spc="-1" strike="noStrike">
                <a:solidFill>
                  <a:srgbClr val="020202"/>
                </a:solidFill>
                <a:latin typeface="Arial"/>
              </a:rPr>
              <a:t>unique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, Values are not necessarily uniqu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Example: student ids --&gt; last nam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ys must be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immutable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(numbers, strings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ilar to Hashtables/Hashmaps in other languag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5788080"/>
            <a:ext cx="882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How would we handle if there is more than one value for a key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909F-7B6E-4494-AFA4-CDE815B175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ictionari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ful for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a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ku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okup by keywo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need to look through entire list or sort list fir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48B-53EE-4AA5-947F-620F2D7193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from cla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unction name --&gt; function defini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riable name --&gt;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CII value --&gt;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430-7E05-4EFF-A2CB-DC9A22DA7E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{&lt;key&gt;:&lt;value&gt;, …, &lt;key&gt;:&lt;value&gt;}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7280" y="3313080"/>
            <a:ext cx="71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empty =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{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 =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 {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‘a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7, ‘b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8, ‘c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9, …, ‘z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122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EE5-E2F4-4C19-A544-AEF97C644A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essing Values using Ke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4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KeyError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f key is not in dictio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68760" y="2779560"/>
            <a:ext cx="396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[‘z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irectory[‘registrar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AE6-C7F2-41E2-B8EB-315646E088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ding/Modifying Key-Value Pai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 = &lt;valu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scii[‘a’] = 9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9160" y="62485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47E-2088-4007-A3E3-1BE4D409DD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y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43000" y="1397160"/>
          <a:ext cx="6858000" cy="29034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[&lt;key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(&lt;dict&gt;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or &lt;key&gt; in &lt;dict&gt;: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mbership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key&gt; in &lt;dict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 &lt;dict&gt;[&lt;key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80880" y="49323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Unlike strings and lists, doesn’t make sense to do slicing, concatenation, repetition for dictionaries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CAD-BF43-46EF-8802-BC1273D046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y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1397160"/>
          <a:ext cx="8458200" cy="3263760"/>
        </p:xfrm>
        <a:graphic>
          <a:graphicData uri="http://schemas.openxmlformats.org/drawingml/2006/table">
            <a:tbl>
              <a:tblPr/>
              <a:tblGrid>
                <a:gridCol w="3124080"/>
                <a:gridCol w="5334120"/>
              </a:tblGrid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clea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move all items from dictionary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keys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dictionary’s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keys 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values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dictionary’s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values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get(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[,</a:t>
                      </a:r>
                      <a:r>
                        <a:rPr b="0" i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fault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&lt;dict&gt;[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] if 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a key; Otherwise, returns </a:t>
                      </a:r>
                      <a:r>
                        <a:rPr b="0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ne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(or default value)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756E-9E29-4D93-941A-2D424DC9C1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2T19:45:41Z</cp:lastPrinted>
  <dcterms:modified xsi:type="dcterms:W3CDTF">2007-10-24T01:38:19Z</dcterms:modified>
  <cp:revision>2268</cp:revision>
  <dc:subject/>
  <dc:title>PowerPoint Presentation</dc:title>
</cp:coreProperties>
</file>