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A615-4370-4C7C-9119-A6FFE363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F218-FC51-4772-897C-2CADF114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67F-795D-43C1-9110-AD77BF2B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7D42-D44F-46C7-A286-0D522B01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3054D-2C17-4F89-8982-9A05B770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247AC-2D96-4FD4-A3A7-8D5F2990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9B773-DDF2-44F0-94EC-4F00C90F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57AFD-952F-427C-A379-F4E33897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5F429-76DD-4C48-98A4-CB78871C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99CD3-ACB4-4513-AE4A-CD740FD2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4FA53-7404-4C57-BBF5-32FBB585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D2F-65E3-4B1D-B271-5DA0EB0B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241BB-0D62-490F-89D2-BA3A5F23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FA3E3-CF49-4B7C-B851-A20C9AE0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A52AD-CAD3-41C7-A508-C767A562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7FC5A-7EF1-4107-A6DC-A73F0835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E2389-8357-41CB-BA43-BF29390E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9CC-1BC3-4B40-8784-BC1D7006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958F-0D46-455E-968B-EE946D02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EC8-7211-4C84-8EF9-79B853D4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41CC-14BA-49B4-8547-856517A4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D8A9-A3D6-490A-9479-4F4E727F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89BE-3D77-4442-95B3-89A3D553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96E-5332-4AD5-A6D0-46A2681A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3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E2D7-8B95-4534-B42D-DC5E6ACFB26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DC41-3DB0-421B-8360-DFAC71CF97D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puter’s representations of data typ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8FA1-F459-40BA-878D-5DF07B67E2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with str = “The Beatle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143000" y="2946240"/>
          <a:ext cx="6858000" cy="33782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0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3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D5DA-8CE7-4F38-832A-22DFCBB3FF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with str = “The Beatle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43000" y="2946240"/>
          <a:ext cx="6858000" cy="33782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0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3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 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Error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6027120" y="639756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2186-A5E9-44FE-95B7-E8F0A15CDC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ou can select a substring (zero or more characters) using th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[ ]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the end of th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the first element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a copy of the entir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F59-B53D-489F-A483-92CF58D489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can select a substring (one or more characters) using the [ ] and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file = “program.py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58880" y="2819520"/>
          <a:ext cx="5275440" cy="911160"/>
        </p:xfrm>
        <a:graphic>
          <a:graphicData uri="http://schemas.openxmlformats.org/drawingml/2006/table">
            <a:tbl>
              <a:tblPr/>
              <a:tblGrid>
                <a:gridCol w="527040"/>
                <a:gridCol w="528840"/>
                <a:gridCol w="527040"/>
                <a:gridCol w="527040"/>
                <a:gridCol w="528480"/>
                <a:gridCol w="527040"/>
                <a:gridCol w="527040"/>
                <a:gridCol w="527040"/>
                <a:gridCol w="528840"/>
                <a:gridCol w="52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219320" y="3909960"/>
          <a:ext cx="6858000" cy="27957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2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:3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8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-2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0A6-A682-4325-AD31-60A8FDED8E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can select a substring (one or more characters) using the [ ] and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file = “program.py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58880" y="2819520"/>
          <a:ext cx="5275440" cy="911160"/>
        </p:xfrm>
        <a:graphic>
          <a:graphicData uri="http://schemas.openxmlformats.org/drawingml/2006/table">
            <a:tbl>
              <a:tblPr/>
              <a:tblGrid>
                <a:gridCol w="527040"/>
                <a:gridCol w="528840"/>
                <a:gridCol w="527040"/>
                <a:gridCol w="527040"/>
                <a:gridCol w="528480"/>
                <a:gridCol w="527040"/>
                <a:gridCol w="527040"/>
                <a:gridCol w="527040"/>
                <a:gridCol w="528840"/>
                <a:gridCol w="52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219320" y="3909960"/>
          <a:ext cx="6858000" cy="27957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ogram.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2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:3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o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8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-2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A1D-972B-4167-B657-C05A9B1BC9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for Sub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the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d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efore in for loop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valuates to True or Fal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09480" y="2832120"/>
            <a:ext cx="40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substr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string</a:t>
            </a:r>
            <a:r>
              <a:rPr b="1" lang="en-US" sz="28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5320" y="4689360"/>
            <a:ext cx="67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“.py”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filenam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filename, “is a Python script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A656-097C-423E-B2CA-11C91054DC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 are Immutab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: You cannot change the value of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you </a:t>
            </a:r>
            <a:r>
              <a:rPr b="0" lang="en-US" sz="3200" spc="-1" strike="noStrike">
                <a:solidFill>
                  <a:srgbClr val="f40000"/>
                </a:solidFill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change a character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[0] = ‘S’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33520" y="3733560"/>
            <a:ext cx="2209680" cy="1143000"/>
          </a:xfrm>
          <a:prstGeom prst="line">
            <a:avLst/>
          </a:prstGeom>
          <a:ln w="3816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733920"/>
            <a:ext cx="1905120" cy="1066680"/>
          </a:xfrm>
          <a:prstGeom prst="line">
            <a:avLst/>
          </a:prstGeom>
          <a:ln w="3816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8279-D547-45E4-9029-E73023C789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umber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briefly discussed that numbers are stored on the computer in bi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inary repres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inary: two values (zero, one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ke a light switch (eithe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ff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Bi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each number in a number in binary represent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quivalent of a “digit” in decimal repres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6C4C-D5CE-4C3F-8121-56DAC477EF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cimal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mal is base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, 2, 3, 4, 5, 6, 7, 8, 9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decimal number represents a power of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97A7-E470-4081-9E38-89B8CE033C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cimal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mal is base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, 2, 3, 4, 5, 6, 7, 8, 9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decimal number represents a power of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54,08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5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4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8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7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5*10,000+ 4*1000+ 0*100+ 8*10+ 7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43000" y="4038480"/>
          <a:ext cx="5715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0220-F093-4534-8D99-2F6EF2224A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=12 alumn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7560" y="1828800"/>
            <a:ext cx="52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828800"/>
            <a:ext cx="762120" cy="4419720"/>
          </a:xfrm>
          <a:custGeom>
            <a:avLst/>
            <a:gdLst>
              <a:gd name="textAreaLeft" fmla="*/ 487080 w 762120"/>
              <a:gd name="textAreaRight" fmla="*/ 762480 w 7621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5280" y="3657600"/>
            <a:ext cx="9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e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36120" y="196380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1 10  9  8  7  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0  1  2  3  4 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1 11 11 11 11 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2743200"/>
            <a:ext cx="3505320" cy="0"/>
          </a:xfrm>
          <a:prstGeom prst="line">
            <a:avLst/>
          </a:prstGeom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3320" y="3840120"/>
            <a:ext cx="253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s to 11 (N-1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 times (N/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= N*(N-1)/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32C8-9F8E-45DD-9E91-BFEA146700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inary is base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binary number represents a power of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E87-2BB0-41B5-A0EC-077CFF7158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110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8+ 1*4+ 0*2+ 1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: 101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3000" y="1676520"/>
          <a:ext cx="4572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5FB6-30BB-4EDA-A257-6CCC195DF0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101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16+0*8+ 1*4+ 1*2+ 0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43000" y="1676520"/>
          <a:ext cx="5715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E38C-E468-46F3-9C40-B25D7F7A71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Binary to Decim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Accumulator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binary number as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starting exponent will be the length of the string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zer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bit in the binary numb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ltiply the bit by the appropriate power of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dd this to the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the exponent by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85520" y="5791320"/>
            <a:ext cx="325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inaryToDecimal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F06-E906-4DAA-88B5-7337F81CF0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Decimal to Bin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decimal as an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the empty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peat until the decimal is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ult = str(decimal % 2) +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cimal = decimal /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60600" y="5410080"/>
            <a:ext cx="380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y out algorithm with 2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cimalToBi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5F96-DCA3-4507-971E-6C25ABF9B1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=13 alumn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07560" y="1828800"/>
            <a:ext cx="52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1828800"/>
            <a:ext cx="762120" cy="48006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5280" y="3657600"/>
            <a:ext cx="9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e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36120" y="196380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2 11 10  9  8  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  2  3  4  5  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3 13 13 13 13 1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2743200"/>
            <a:ext cx="3505320" cy="0"/>
          </a:xfrm>
          <a:prstGeom prst="line">
            <a:avLst/>
          </a:prstGeom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70320" y="3840120"/>
            <a:ext cx="246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s to 13 (N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 times ((N-1)/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= N*(N-1)/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C4C7-E5E0-4ED3-A2D5-9CE8B376D8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for Next Wed’s Midte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Write a program that reads in two numbers. Then use only if statements (no elses) to print "Player 1 wins" if the first number is bigger, "Player 2 wins" if the second number is bigger, and "You tied!" if the numbers are equal.</a:t>
            </a:r>
            <a:endParaRPr b="0" lang="en-US" sz="25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13C9-5656-45AD-8078-A4C1B636D6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for Next Wed’s Midte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raw the control flow diagram for your Craps solu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o analyze efficiency: are there any execution paths through the control flow diagram that aren’t possibl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f so, revisit your solution to see if some other building blocks may be more appropriate (or see me to discuss!) 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885B-1907-446A-B531-684AC309D7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xt Process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ly focused on numbers so f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an manipulate strings to do useful wor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cus: the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st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ata type and what you can do with the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hapter 4 of boo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6E63-F632-40D6-9F1D-486FA2C7E7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ctually a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The Beatle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3432240"/>
          <a:ext cx="7010640" cy="1200240"/>
        </p:xfrm>
        <a:graphic>
          <a:graphicData uri="http://schemas.openxmlformats.org/drawingml/2006/table">
            <a:tbl>
              <a:tblPr/>
              <a:tblGrid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81720" y="414828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066680" y="4346640"/>
            <a:ext cx="60984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720" y="305100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432240"/>
            <a:ext cx="76212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4829040"/>
            <a:ext cx="40384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Length of the string: 1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uilt-in function: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len(str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o find length of a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8960" y="53672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tart at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981080" y="4727160"/>
            <a:ext cx="76320" cy="68580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13280" y="23623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End at len() -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2898720"/>
            <a:ext cx="304920" cy="12193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3A10-2C3C-4C14-9C47-75D37DAF3D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St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a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characters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 “for each character in the string str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6280" y="240660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 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str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2720" y="624852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ython shel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04CD-55F9-4FE2-84EE-83E5E37C09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osi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index of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ega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count backwards from e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0]  returns the fir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-1] returns the la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572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e will deal with sequences beyond strings lat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209680" y="4780080"/>
            <a:ext cx="15264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352320" y="301680"/>
            <a:ext cx="5005800" cy="1450800"/>
            <a:chOff x="3352320" y="301680"/>
            <a:chExt cx="5005800" cy="1450800"/>
          </a:xfrm>
        </p:grpSpPr>
        <p:sp>
          <p:nvSpPr>
            <p:cNvPr id="127" name=""/>
            <p:cNvSpPr/>
            <p:nvPr/>
          </p:nvSpPr>
          <p:spPr>
            <a:xfrm flipH="1">
              <a:off x="3352320" y="762120"/>
              <a:ext cx="25909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762120"/>
              <a:ext cx="5335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99040" y="301680"/>
              <a:ext cx="32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Literally, </a:t>
              </a:r>
              <a:r>
                <a:rPr b="1" lang="en-US" sz="2400" spc="-1" strike="noStrike">
                  <a:solidFill>
                    <a:srgbClr val="6699ff"/>
                  </a:solidFill>
                  <a:latin typeface="Tahoma"/>
                </a:rPr>
                <a:t>not</a:t>
              </a: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 optional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3683-F838-4209-8DFA-FB980CB561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3T22:08:51Z</dcterms:modified>
  <cp:revision>1054</cp:revision>
  <dc:subject/>
  <dc:title>PowerPoint Presentation</dc:title>
</cp:coreProperties>
</file>