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545-F993-462D-9F65-4C562B60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C98-6707-4023-BD33-9A5F62C8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1D2-018D-492C-A7BD-3852B087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5FE-EFAA-4099-A079-8EE07862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7EE03-81CC-437E-9D2C-C755ECE6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EE337-D820-45A6-BD79-85EC69BC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0BDC8-5695-47BC-9869-CFDB344E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1F579-8B7E-4E27-9466-1E9BA24A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0B08B-D930-4A2B-BA8F-E3782AAB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029F3-1124-4AA1-BAAE-A7DA5949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22CCE-7221-41EE-9277-A80084C7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A72-F0E4-477D-9A36-BA2B6937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C3038-D900-444B-9CEC-18B3EEAD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8C9B8-0DF8-4849-9D2F-0E3D0EBA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FBE0C-1F39-4166-9F29-7A4BC93B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34A44-7CB0-4BAA-AF58-A8D975CE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082C8-AD4C-488C-9929-8052EC73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040-A983-418A-8247-D212DE4A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883-1EE8-41FA-855F-AFC26619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CE2-24CB-4FCD-8C8D-D5A2178F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CB8-47EE-483A-8903-FFF8FB6C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008-8F3A-400A-91F2-B40E3DB6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BE5-33D7-4C04-A482-34DFAB75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4B17-9E4C-4B49-A5A4-88232AB5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1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53D157-A15D-4116-B7A5-2B6D10B6DB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A6805-212C-4F83-BAF0-4924469D8C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492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Lab 0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eptember 11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0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tart on paper --&gt; Web, after log i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inux workshee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ogi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pen browse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vigate to Lab 0, from “Schedule” p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ntinue on Web-based Lab 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Why programming language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tart lab #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UNIX/Linux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ortal account (Blog for “Broader CS Issues”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Web p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Text Edito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B6C-D000-4A75-8EA8-4EC1283C700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5638680"/>
            <a:ext cx="5943600" cy="38124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70040" y="6102360"/>
            <a:ext cx="48628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000000 00001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00010 00110 00000 100000</a:t>
            </a:r>
            <a:endParaRPr b="0" lang="en-US" sz="19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3200400"/>
            <a:ext cx="2819520" cy="1523880"/>
            <a:chOff x="0" y="3200400"/>
            <a:chExt cx="2819520" cy="1523880"/>
          </a:xfrm>
        </p:grpSpPr>
        <p:sp>
          <p:nvSpPr>
            <p:cNvPr id="100" name=""/>
            <p:cNvSpPr/>
            <p:nvPr/>
          </p:nvSpPr>
          <p:spPr>
            <a:xfrm>
              <a:off x="2666880" y="3352680"/>
              <a:ext cx="152640" cy="13716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3200400"/>
              <a:ext cx="25909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grammer (YOU!)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lates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from problem to algorithm (solution) to program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0" y="4846680"/>
            <a:ext cx="2819520" cy="943920"/>
            <a:chOff x="0" y="4846680"/>
            <a:chExt cx="2819520" cy="943920"/>
          </a:xfrm>
        </p:grpSpPr>
        <p:sp>
          <p:nvSpPr>
            <p:cNvPr id="103" name=""/>
            <p:cNvSpPr/>
            <p:nvPr/>
          </p:nvSpPr>
          <p:spPr>
            <a:xfrm>
              <a:off x="2666880" y="4923000"/>
              <a:ext cx="152640" cy="6094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846680"/>
              <a:ext cx="25909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ython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nterpreter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translates into bytecod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48640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5257800"/>
            <a:ext cx="2590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prete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ecutes the bytecode in a “virtual machine”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programming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n interpreter (a program)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-24444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-24444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6576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5812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51814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3"/>
            <a:endCxn id="118" idx="1"/>
          </p:cNvCxnSpPr>
          <p:nvPr/>
        </p:nvCxnSpPr>
        <p:spPr>
          <a:xfrm>
            <a:off x="3123720" y="4152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23" idx="0"/>
            <a:endCxn id="118" idx="2"/>
          </p:cNvCxnSpPr>
          <p:nvPr/>
        </p:nvCxnSpPr>
        <p:spPr>
          <a:xfrm flipH="1" flipV="1">
            <a:off x="5295240" y="4647600"/>
            <a:ext cx="57204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105520" y="51814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8" idx="3"/>
            <a:endCxn id="123" idx="3"/>
          </p:cNvCxnSpPr>
          <p:nvPr/>
        </p:nvCxnSpPr>
        <p:spPr>
          <a:xfrm>
            <a:off x="6324120" y="4152600"/>
            <a:ext cx="305640" cy="152460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8" idx="2"/>
            <a:endCxn id="120" idx="0"/>
          </p:cNvCxnSpPr>
          <p:nvPr/>
        </p:nvCxnSpPr>
        <p:spPr>
          <a:xfrm flipH="1">
            <a:off x="3428640" y="4647960"/>
            <a:ext cx="186768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26" name=""/>
          <p:cNvGrpSpPr/>
          <p:nvPr/>
        </p:nvGrpSpPr>
        <p:grpSpPr>
          <a:xfrm>
            <a:off x="4190760" y="2311560"/>
            <a:ext cx="4648680" cy="433800"/>
            <a:chOff x="4190760" y="2311560"/>
            <a:chExt cx="4648680" cy="433800"/>
          </a:xfrm>
        </p:grpSpPr>
        <p:sp>
          <p:nvSpPr>
            <p:cNvPr id="127" name=""/>
            <p:cNvSpPr/>
            <p:nvPr/>
          </p:nvSpPr>
          <p:spPr>
            <a:xfrm>
              <a:off x="486252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19076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086600" y="4267080"/>
            <a:ext cx="19051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ly if no syntax err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untime errors (e.g., divide by 0)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Semantic errors (not what you </a:t>
            </a:r>
            <a:r>
              <a:rPr b="0" i="1" lang="en-GB" sz="2400" spc="-1" strike="noStrike">
                <a:solidFill>
                  <a:srgbClr val="020202"/>
                </a:solidFill>
                <a:latin typeface="Tahoma"/>
              </a:rPr>
              <a:t>meant</a:t>
            </a: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662880" y="4427640"/>
            <a:ext cx="1566720" cy="753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386240"/>
            <a:ext cx="1219320" cy="871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75200" y="5951520"/>
            <a:ext cx="104472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3" idx="3"/>
            <a:endCxn id="132" idx="1"/>
          </p:cNvCxnSpPr>
          <p:nvPr/>
        </p:nvCxnSpPr>
        <p:spPr>
          <a:xfrm flipV="1">
            <a:off x="5029200" y="4804560"/>
            <a:ext cx="1634400" cy="183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7" idx="0"/>
            <a:endCxn id="132" idx="2"/>
          </p:cNvCxnSpPr>
          <p:nvPr/>
        </p:nvCxnSpPr>
        <p:spPr>
          <a:xfrm flipH="1" flipV="1">
            <a:off x="7446600" y="5180760"/>
            <a:ext cx="40248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7162920" y="5951520"/>
            <a:ext cx="137160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2" idx="3"/>
            <a:endCxn id="137" idx="3"/>
          </p:cNvCxnSpPr>
          <p:nvPr/>
        </p:nvCxnSpPr>
        <p:spPr>
          <a:xfrm>
            <a:off x="8229240" y="4805280"/>
            <a:ext cx="305640" cy="152496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2" idx="2"/>
            <a:endCxn id="134" idx="0"/>
          </p:cNvCxnSpPr>
          <p:nvPr/>
        </p:nvCxnSpPr>
        <p:spPr>
          <a:xfrm flipH="1">
            <a:off x="5496840" y="5181120"/>
            <a:ext cx="195012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40" name=""/>
          <p:cNvGrpSpPr/>
          <p:nvPr/>
        </p:nvGrpSpPr>
        <p:grpSpPr>
          <a:xfrm>
            <a:off x="4495320" y="2311560"/>
            <a:ext cx="4648680" cy="433800"/>
            <a:chOff x="4495320" y="2311560"/>
            <a:chExt cx="4648680" cy="433800"/>
          </a:xfrm>
        </p:grpSpPr>
        <p:sp>
          <p:nvSpPr>
            <p:cNvPr id="141" name=""/>
            <p:cNvSpPr/>
            <p:nvPr/>
          </p:nvSpPr>
          <p:spPr>
            <a:xfrm>
              <a:off x="516708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49532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12760" y="5248440"/>
            <a:ext cx="2987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way to test expression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ur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5020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51022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7" idx="3"/>
            <a:endCxn id="146" idx="1"/>
          </p:cNvCxnSpPr>
          <p:nvPr/>
        </p:nvCxnSpPr>
        <p:spPr>
          <a:xfrm>
            <a:off x="4952520" y="407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51" idx="0"/>
            <a:endCxn id="146" idx="2"/>
          </p:cNvCxnSpPr>
          <p:nvPr/>
        </p:nvCxnSpPr>
        <p:spPr>
          <a:xfrm flipH="1" flipV="1">
            <a:off x="7124040" y="456840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30492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3"/>
            <a:endCxn id="147" idx="1"/>
          </p:cNvCxnSpPr>
          <p:nvPr/>
        </p:nvCxnSpPr>
        <p:spPr>
          <a:xfrm>
            <a:off x="2361960" y="407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6934320" y="51022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46" idx="3"/>
            <a:endCxn id="151" idx="3"/>
          </p:cNvCxnSpPr>
          <p:nvPr/>
        </p:nvCxnSpPr>
        <p:spPr>
          <a:xfrm>
            <a:off x="8152920" y="407340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6" idx="2"/>
            <a:endCxn id="148" idx="0"/>
          </p:cNvCxnSpPr>
          <p:nvPr/>
        </p:nvCxnSpPr>
        <p:spPr>
          <a:xfrm flipH="1">
            <a:off x="5257440" y="456876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5029200" y="426420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4797360"/>
            <a:ext cx="4419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t feedback about which line caused the problem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er stops validating/executing lin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E3A-C9F7-49D7-A5F5-E5F9655ECA37}" type="slidenum">
              <a:t>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cp:lastPrinted>2007-09-10T23:03:20Z</cp:lastPrinted>
  <dcterms:modified xsi:type="dcterms:W3CDTF">2007-09-11T17:22:27Z</dcterms:modified>
  <cp:revision>241</cp:revision>
  <dc:subject/>
  <dc:title>Intro to Java</dc:title>
</cp:coreProperties>
</file>