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E585-C34D-4309-8800-74C50F27C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0CE1-CF2D-47AA-91F8-112788BD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DE5B-B09E-4267-B5DE-AA795368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12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0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12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0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E525-EB5C-4A43-B1AC-C289D42C0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C8A0-65C8-4875-9126-5B50A6D2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8EB2-C964-44A2-8583-836FFC01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EA9B-A259-437E-9F1B-02C08B45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ACE5-36B9-46A9-8E7A-854F027E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5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A2E0-49B8-4474-B524-93F392D2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A0C1-DEC7-44C7-8212-2AB26A3D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B616-A0A3-4E0B-8ACC-A09D33D8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A76B-304E-4BAF-93B2-41A29FCD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6960" indent="-28728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4840" indent="-29016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 12, 2007</a:t>
            </a:r>
            <a:endParaRPr b="0" lang="en-US" sz="1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7064EB-C4E0-4454-899B-7F53A54F8AEB}" type="slidenum">
              <a:rPr b="0" lang="en-GB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Review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Linux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Why programming languages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Compiled vs. Interpreted Languag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Programming in Pytho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Data typ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Express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Variab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ommen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Arithmetic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DD23-164B-4432-9940-12D5B2F9674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iled vs. Interpreted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6095880" y="4038480"/>
            <a:ext cx="2057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Compil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52680" y="3886200"/>
            <a:ext cx="1600200" cy="9144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5562720"/>
            <a:ext cx="1371600" cy="83808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2" idx="3"/>
            <a:endCxn id="141" idx="1"/>
          </p:cNvCxnSpPr>
          <p:nvPr/>
        </p:nvCxnSpPr>
        <p:spPr>
          <a:xfrm>
            <a:off x="4952520" y="434304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6" idx="1"/>
            <a:endCxn id="143" idx="3"/>
          </p:cNvCxnSpPr>
          <p:nvPr/>
        </p:nvCxnSpPr>
        <p:spPr>
          <a:xfrm flipH="1">
            <a:off x="5638320" y="5981400"/>
            <a:ext cx="99144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304920" y="3962520"/>
            <a:ext cx="2057400" cy="7617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7" idx="3"/>
            <a:endCxn id="142" idx="1"/>
          </p:cNvCxnSpPr>
          <p:nvPr/>
        </p:nvCxnSpPr>
        <p:spPr>
          <a:xfrm>
            <a:off x="2361960" y="434304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6629400" y="5486400"/>
            <a:ext cx="17524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 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Machine 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41" idx="3"/>
            <a:endCxn id="146" idx="3"/>
          </p:cNvCxnSpPr>
          <p:nvPr/>
        </p:nvCxnSpPr>
        <p:spPr>
          <a:xfrm>
            <a:off x="8152920" y="4343040"/>
            <a:ext cx="229320" cy="1639080"/>
          </a:xfrm>
          <a:prstGeom prst="bentConnector3">
            <a:avLst>
              <a:gd name="adj1" fmla="val 200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6095880" y="152388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1371600"/>
            <a:ext cx="1600200" cy="99072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2892600"/>
            <a:ext cx="1371600" cy="7650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1" idx="3"/>
            <a:endCxn id="150" idx="1"/>
          </p:cNvCxnSpPr>
          <p:nvPr/>
        </p:nvCxnSpPr>
        <p:spPr>
          <a:xfrm>
            <a:off x="4952520" y="186660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55" idx="0"/>
            <a:endCxn id="150" idx="2"/>
          </p:cNvCxnSpPr>
          <p:nvPr/>
        </p:nvCxnSpPr>
        <p:spPr>
          <a:xfrm flipH="1" flipV="1">
            <a:off x="7124040" y="2208960"/>
            <a:ext cx="572040" cy="6836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304920" y="144792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6" idx="3"/>
            <a:endCxn id="151" idx="1"/>
          </p:cNvCxnSpPr>
          <p:nvPr/>
        </p:nvCxnSpPr>
        <p:spPr>
          <a:xfrm>
            <a:off x="2361960" y="186660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6934320" y="2892600"/>
            <a:ext cx="1523880" cy="7650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0" idx="3"/>
            <a:endCxn id="155" idx="3"/>
          </p:cNvCxnSpPr>
          <p:nvPr/>
        </p:nvCxnSpPr>
        <p:spPr>
          <a:xfrm>
            <a:off x="8152920" y="1866600"/>
            <a:ext cx="305640" cy="1408680"/>
          </a:xfrm>
          <a:prstGeom prst="bentConnector3">
            <a:avLst>
              <a:gd name="adj1" fmla="val 175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50" idx="2"/>
            <a:endCxn id="152" idx="0"/>
          </p:cNvCxnSpPr>
          <p:nvPr/>
        </p:nvCxnSpPr>
        <p:spPr>
          <a:xfrm flipH="1">
            <a:off x="5257440" y="2209320"/>
            <a:ext cx="1867680" cy="6836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4952880" y="1981080"/>
            <a:ext cx="12193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 “line” at a tim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0280" y="3505320"/>
            <a:ext cx="1671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d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0" y="990720"/>
            <a:ext cx="18752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preted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60560" y="4724280"/>
            <a:ext cx="30380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lidates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whole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program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2360" y="2692440"/>
            <a:ext cx="3170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+ immediate feedback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9040" y="5257800"/>
            <a:ext cx="2661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+ execution speed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ts of an Algorith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mitive operation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hat data you have, what you can do to the data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Naming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dentify things we’re using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equence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of operation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nditional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ndle special cas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petition/Loop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ubroutin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all, reuse similar techniqu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 rot="2493000">
            <a:off x="5218920" y="3566880"/>
            <a:ext cx="346068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An overview for the semester!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AF11-C250-43A4-B157-CC4F53AAC6B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imitive Typ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36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Variable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ypes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are the kind of thing a variable can hold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Broadly, the categories of primitive types ar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056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umeric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056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oolea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056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tring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CDCD-E416-4A60-BDC2-4A6D5695040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Numeric Primitive Typ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52280" y="1143000"/>
          <a:ext cx="8686800" cy="4987800"/>
        </p:xfrm>
        <a:graphic>
          <a:graphicData uri="http://schemas.openxmlformats.org/drawingml/2006/table">
            <a:tbl>
              <a:tblPr/>
              <a:tblGrid>
                <a:gridCol w="1828800"/>
                <a:gridCol w="2362320"/>
                <a:gridCol w="449568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Typ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4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in integers (32-bit precision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4, -2, 0, 2, 10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ge: -2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o 2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loa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l numbers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01, -1.234, 1000.1, 0.00, 2.4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gger integers (neg or pos, precision limited by computer memory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47483648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mplex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aginary numbers (have real and imaginary part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* 1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-&gt; (-1+0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6169320" y="6434280"/>
            <a:ext cx="1675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Copy on board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E85E-5396-4137-BD44-3B3CD9A8358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-4644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ow big (or small or precise) can we get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We cannot represent all valu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Problem: Computer has a finite capacit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The computer only has so much memory that it can devote to one value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Eventually, reach a cutoff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93760" indent="-2858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Limits size of value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Limits precision of value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5181480"/>
            <a:ext cx="5791320" cy="533520"/>
          </a:xfrm>
          <a:prstGeom prst="rect">
            <a:avLst/>
          </a:prstGeom>
          <a:noFill/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240" y="5867280"/>
            <a:ext cx="815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In reality, computers represent data in </a:t>
            </a: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binary</a:t>
            </a: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, using only 0s and 1s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5181480"/>
            <a:ext cx="180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911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52880" y="5181480"/>
            <a:ext cx="180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69800" y="5181480"/>
            <a:ext cx="530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Tahoma"/>
              </a:rPr>
              <a:t>0  0  0  0  0  3  .  1  4  1  5  9  2  6  5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180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623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81080" y="5181480"/>
            <a:ext cx="180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41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95880" y="5181480"/>
            <a:ext cx="180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4771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343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3600" y="411480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PI 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has more decimals, but we’re out of space! 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7084800" y="4876920"/>
            <a:ext cx="384120" cy="533160"/>
          </a:xfrm>
          <a:prstGeom prst="line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AD85-A5AF-4DE2-8A91-2536BDA8B0E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Strings: </a:t>
            </a:r>
            <a:r>
              <a:rPr b="1" lang="en-GB" sz="4000" spc="-1" strike="noStrike">
                <a:solidFill>
                  <a:srgbClr val="2017b8"/>
                </a:solidFill>
                <a:latin typeface="Courier New"/>
              </a:rPr>
              <a:t>st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dicated by double quotes “” or single quotes ‘’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reat what is in the “” or ‘’ literall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Known as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tring litera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Examples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ello, world!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at is Sara’s cat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8D57-7B91-4E95-B15D-E99739E955F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ooleans: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boo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2 valu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Tru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Fals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More on these later… 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s the value’s type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990720" y="1422360"/>
          <a:ext cx="6858000" cy="421632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u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2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.01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+6j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“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”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047583648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‘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’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F565-5558-47A3-A590-DA1E81B18C4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troduction to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Variables have names, called </a:t>
            </a: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identifier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 variable name (identifier) can be any </a:t>
            </a: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one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word that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nsists of letters, numbers, or _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annot start with a numb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annot be a Python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eserved wor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93760" indent="-2858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like </a:t>
            </a:r>
            <a:r>
              <a:rPr b="0" lang="en-US" sz="26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, </a:t>
            </a:r>
            <a:r>
              <a:rPr b="0" lang="en-US" sz="2600" spc="-1" strike="noStrike">
                <a:solidFill>
                  <a:srgbClr val="3333cc"/>
                </a:solidFill>
                <a:latin typeface="Courier New"/>
              </a:rPr>
              <a:t>while</a:t>
            </a: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, </a:t>
            </a:r>
            <a:r>
              <a:rPr b="0" lang="en-US" sz="2600" spc="-1" strike="noStrike">
                <a:solidFill>
                  <a:srgbClr val="3333cc"/>
                </a:solidFill>
                <a:latin typeface="Courier New"/>
              </a:rPr>
              <a:t>def</a:t>
            </a: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, etc.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ython is case-sensitive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chang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isn’t the same as </a:t>
            </a: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Chang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2F41-78FF-4225-8AF3-00B80D1F7B6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Variable Name Conven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7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Variables start with lowercase letter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Constants (values that won’t change) are in all capital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Example: Variable for the current year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urrentYea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urrent_yea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urrent yea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URRENT_YEA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4952880"/>
            <a:ext cx="1752480" cy="533520"/>
          </a:xfrm>
          <a:prstGeom prst="line">
            <a:avLst/>
          </a:prstGeom>
          <a:ln w="31680">
            <a:solidFill>
              <a:srgbClr val="dc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219320" y="5105520"/>
            <a:ext cx="1600200" cy="457200"/>
          </a:xfrm>
          <a:prstGeom prst="line">
            <a:avLst/>
          </a:prstGeom>
          <a:ln w="31680">
            <a:solidFill>
              <a:srgbClr val="dc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408D-A9FF-4F55-B2BD-D8F67C539AA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: Linux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ow do you …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earn more about a Linux command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ist the files in a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hange your current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ke a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ind out the current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hat is the shortcut for …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urrent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parent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Variable Semantic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5867280" y="2743200"/>
            <a:ext cx="1676520" cy="281952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869800" y="1981080"/>
            <a:ext cx="15188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mputer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320040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867280" y="434340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480060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867280" y="518148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96252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358128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37360" y="3352680"/>
            <a:ext cx="13525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x = 5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y = x + 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59400" y="2955960"/>
            <a:ext cx="333000" cy="4338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038480" y="3200400"/>
            <a:ext cx="1828800" cy="609480"/>
          </a:xfrm>
          <a:prstGeom prst="line">
            <a:avLst/>
          </a:prstGeom>
          <a:ln w="316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45400" y="3581280"/>
            <a:ext cx="3499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75240" y="4191120"/>
            <a:ext cx="333000" cy="4338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62520" y="4419720"/>
            <a:ext cx="1904760" cy="152280"/>
          </a:xfrm>
          <a:prstGeom prst="line">
            <a:avLst/>
          </a:prstGeom>
          <a:ln w="316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45400" y="4343400"/>
            <a:ext cx="3499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ssign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Variables can be given any value using the “=“ sig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alled an </a:t>
            </a: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assignment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statem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Syntax: 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&lt;variable&gt; = &lt;expression&gt;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After a variable is given a value, the variable is said to be </a:t>
            </a:r>
            <a:r>
              <a:rPr b="1" lang="en-GB" sz="3200" spc="-1" strike="noStrike">
                <a:solidFill>
                  <a:srgbClr val="020202"/>
                </a:solidFill>
                <a:latin typeface="Tahoma"/>
              </a:rPr>
              <a:t>initialized</a:t>
            </a: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These aren’t equations! Read “=” as “gets”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urrent_year = 2007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my_num = 3.4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option = ‘q’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AF31-265B-4C6F-9DCD-F4310CAEAA8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Variables: The R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36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Only the variable(s) to the left of the = chan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You should initialize a variable before using it on the righthand side (rhs) of a rule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You can only have one variable with any given name in a particular block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4532-F0E8-4AE5-A726-0423AC82862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teral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Pieces of data that are not variables are called </a:t>
            </a:r>
            <a:r>
              <a:rPr b="1" lang="en-GB" sz="3200" spc="-1" strike="noStrike">
                <a:solidFill>
                  <a:srgbClr val="020202"/>
                </a:solidFill>
                <a:latin typeface="Tahoma"/>
              </a:rPr>
              <a:t>literals</a:t>
            </a: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Ex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3.2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‘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q’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books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AAAF-EDB9-4E0A-BFE1-529C56EE402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rithmetic Op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371600" y="1398600"/>
          <a:ext cx="6095880" cy="3584520"/>
        </p:xfrm>
        <a:graphic>
          <a:graphicData uri="http://schemas.openxmlformats.org/drawingml/2006/table">
            <a:tbl>
              <a:tblPr/>
              <a:tblGrid>
                <a:gridCol w="2322360"/>
                <a:gridCol w="377352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mbo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i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trac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plica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is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mainder (“mod”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*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onentiation (power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rithmetic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7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You can use the assignment operator (=) and arithmetic operators to do calculations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member your order of operations! (PEMDAS) 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e thing on the left gets changed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84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x = 4+3*10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84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y = 3.0/2.0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84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z = x+y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411480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The right-hand sides are </a:t>
            </a:r>
            <a:r>
              <a:rPr b="1" lang="en-US" sz="2400" spc="-1" strike="noStrike">
                <a:solidFill>
                  <a:srgbClr val="020202"/>
                </a:solidFill>
                <a:latin typeface="Arial"/>
              </a:rPr>
              <a:t>expressions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, just like in math.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2FC6-75C1-4AE0-8740-D801801A656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inting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38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prin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is a functio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unction: A command to do something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isplays the result of expression(s) to the termi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int “Hello, class”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int “Your answer is”, answer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 rot="16200000">
            <a:off x="2438280" y="2779200"/>
            <a:ext cx="381240" cy="2210040"/>
          </a:xfrm>
          <a:custGeom>
            <a:avLst/>
            <a:gdLst>
              <a:gd name="textAreaLeft" fmla="*/ 243720 w 381240"/>
              <a:gd name="textAreaRight" fmla="*/ 381600 w 38124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61040" y="4035600"/>
            <a:ext cx="19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string literal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0" y="3429000"/>
            <a:ext cx="45720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print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 automatically adds a ‘\n’ (carriage return) after it’s printed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886200" y="3657600"/>
            <a:ext cx="838080" cy="0"/>
          </a:xfrm>
          <a:prstGeom prst="line">
            <a:avLst/>
          </a:prstGeom>
          <a:ln w="316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657600" y="5028840"/>
            <a:ext cx="838080" cy="685800"/>
          </a:xfrm>
          <a:prstGeom prst="line">
            <a:avLst/>
          </a:prstGeom>
          <a:ln w="316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5089680"/>
            <a:ext cx="2895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Use commas to print multiple “things” in one line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B14D-E77F-49BF-AEEB-225D49A2B48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inpu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raw_inpu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are function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mpts user for input, gets the user’s inpu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put: for number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aw_input for string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ypically used in assignment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idth = input(“Enter the width: “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 execution, terminal display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nter the width: 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ssigns width the value the user enter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lor = raw_input(“What is your favorite color? ”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383760" y="2590920"/>
            <a:ext cx="5415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python input_demo.py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your favorite color?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blue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l!  My favorite color is _light_ blue !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2514600"/>
            <a:ext cx="6476760" cy="1371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1680" y="1981080"/>
            <a:ext cx="1553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Terminal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5400000">
            <a:off x="4305240" y="2324160"/>
            <a:ext cx="609840" cy="838080"/>
          </a:xfrm>
          <a:custGeom>
            <a:avLst/>
            <a:gdLst>
              <a:gd name="textAreaLeft" fmla="*/ 389520 w 609840"/>
              <a:gd name="textAreaRight" fmla="*/ 610200 w 6098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31"/>
                </a:lnTo>
                <a:cubicBezTo>
                  <a:pt x="10800" y="9531"/>
                  <a:pt x="5400" y="10431"/>
                  <a:pt x="0" y="10431"/>
                </a:cubicBezTo>
                <a:cubicBezTo>
                  <a:pt x="5400" y="10431"/>
                  <a:pt x="10800" y="11331"/>
                  <a:pt x="10800" y="1223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03880" y="1752480"/>
            <a:ext cx="40543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Grabs every character up to the user presses “enter”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96720" y="4564080"/>
            <a:ext cx="47358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Assigns variable </a:t>
            </a:r>
            <a:r>
              <a:rPr b="1" lang="en-US" sz="2400" spc="-1" strike="noStrike">
                <a:solidFill>
                  <a:srgbClr val="00cc99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 that input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ocumenting Your Co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Use English to describe what your program is doing in </a:t>
            </a:r>
            <a:r>
              <a:rPr b="0" lang="en-US" sz="3200" spc="-1" strike="noStrike">
                <a:solidFill>
                  <a:srgbClr val="00cc99"/>
                </a:solidFill>
                <a:latin typeface="Tahoma"/>
              </a:rPr>
              <a:t>comment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verything after a 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#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is a comm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93760" indent="-285840">
              <a:lnSpc>
                <a:spcPct val="92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Color-coded in IDLE, jEdit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ython does not execute commen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Use Comment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ocument the author, high-level description of the program at the top of the progra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vide an outline of an algorith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93760" indent="-285840">
              <a:lnSpc>
                <a:spcPct val="92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Identifies the steps of the algorithm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cribe difficult-to-understand cod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: Linux File Structur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1290960" y="2117880"/>
            <a:ext cx="6044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usr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16520" y="2133720"/>
            <a:ext cx="58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etc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8080" y="2133720"/>
            <a:ext cx="942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4238280" y="-723600"/>
            <a:ext cx="304920" cy="5410080"/>
          </a:xfrm>
          <a:custGeom>
            <a:avLst/>
            <a:gdLst>
              <a:gd name="textAreaLeft" fmla="*/ 89640 w 304920"/>
              <a:gd name="textAreaRight" fmla="*/ 305280 w 304920"/>
              <a:gd name="textAreaTop" fmla="*/ 225360 h 5410080"/>
              <a:gd name="textAreaBottom" fmla="*/ 5184720 h 541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48200" y="1600200"/>
            <a:ext cx="0" cy="533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33360" y="1092240"/>
            <a:ext cx="2660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48200" y="2590920"/>
            <a:ext cx="0" cy="9903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4200480" y="-380880"/>
            <a:ext cx="380880" cy="7238880"/>
          </a:xfrm>
          <a:custGeom>
            <a:avLst/>
            <a:gdLst>
              <a:gd name="textAreaLeft" fmla="*/ 111960 w 380880"/>
              <a:gd name="textAreaRight" fmla="*/ 381240 w 380880"/>
              <a:gd name="textAreaTop" fmla="*/ 301320 h 7238880"/>
              <a:gd name="textAreaBottom" fmla="*/ 6937560 h 723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84720" y="3581280"/>
            <a:ext cx="1349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cours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31880" y="3581280"/>
            <a:ext cx="1349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student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35800" y="3565440"/>
            <a:ext cx="8391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www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29280" y="3048120"/>
            <a:ext cx="0" cy="533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19400" y="3048120"/>
            <a:ext cx="0" cy="533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91040" y="3581280"/>
            <a:ext cx="689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tmp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0400" y="3606840"/>
            <a:ext cx="1061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faculty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80960" y="4419720"/>
            <a:ext cx="16002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Your directori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19400" y="3962520"/>
            <a:ext cx="0" cy="533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17560" y="4444920"/>
            <a:ext cx="992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cs11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5560" y="5511960"/>
            <a:ext cx="7383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lab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25560" y="6197760"/>
            <a:ext cx="755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lab0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9400" y="5105520"/>
            <a:ext cx="0" cy="457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19400" y="5867280"/>
            <a:ext cx="0" cy="381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48200" y="3962520"/>
            <a:ext cx="0" cy="533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08080" y="5207040"/>
            <a:ext cx="1433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handout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96640" y="5207040"/>
            <a:ext cx="942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turnin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14880" y="4267080"/>
            <a:ext cx="18446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Your web pag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9920" y="3962520"/>
            <a:ext cx="0" cy="38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581280" y="4800600"/>
            <a:ext cx="533520" cy="457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4800600"/>
            <a:ext cx="1066680" cy="457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24400" y="5943600"/>
            <a:ext cx="26892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aths through tree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lative path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dentify the Pieces of a Progra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1295280"/>
            <a:ext cx="861048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Demonstrate numeric and string input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by Sara Sprenkle for CS111 on 9/12/07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color = raw_input("What is your favorite color? "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print "Cool!  My favorite color is _light_", color, "!"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scale = input("On a scale of 1 to 10, how much do you like Matt Damon? "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print "Cool!  I like him ", scale*1.8, " much!"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4791240"/>
            <a:ext cx="815328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dentify the comments, variables, functions, expressions, assignments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dentify the Pieces of a Progra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1295280"/>
            <a:ext cx="891540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# Demonstrate numeric and string input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# by Sara Sprenkle for CS111 on 9/12/07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#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color </a:t>
            </a:r>
            <a:r>
              <a:rPr b="0" lang="en-US" sz="2000" spc="-1" strike="noStrike">
                <a:solidFill>
                  <a:srgbClr val="de67b4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aw_input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(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What is your favorite color? ”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Cool!  My favorite color is _light_”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, color,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!"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scale </a:t>
            </a:r>
            <a:r>
              <a:rPr b="0" lang="en-US" sz="2000" spc="-1" strike="noStrike">
                <a:solidFill>
                  <a:srgbClr val="de67b4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put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(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On a scale of 1 to 10, how much do you like Matt Damon? ”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Cool!  I like him ”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</a:t>
            </a:r>
            <a:r>
              <a:rPr b="0" lang="en-US" sz="2000" spc="-1" strike="noStrike">
                <a:solidFill>
                  <a:srgbClr val="fff4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1.8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 much!"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4791240"/>
            <a:ext cx="815328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dentify the 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comment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 functions, </a:t>
            </a:r>
            <a:r>
              <a:rPr b="0" lang="en-US" sz="2400" spc="-1" strike="noStrike">
                <a:solidFill>
                  <a:srgbClr val="ffcc13"/>
                </a:solidFill>
                <a:latin typeface="Arial"/>
              </a:rPr>
              <a:t>expression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de67b4"/>
                </a:solidFill>
                <a:latin typeface="Arial"/>
              </a:rPr>
              <a:t>assignments,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literal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23120" y="4114800"/>
            <a:ext cx="1652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cc13"/>
                </a:solidFill>
                <a:latin typeface="Arial"/>
              </a:rPr>
              <a:t>expression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3429000" y="3504960"/>
            <a:ext cx="304920" cy="1066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c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verage three number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2A50-E2CC-457D-BE43-8A9CE83B228D}" type="slidenum">
              <a:t>32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372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o We Need Programming Languag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53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ers can’t understand English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oo ambiguous (PB&amp;J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umans can’t easily write 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2895480" y="3276720"/>
            <a:ext cx="5943600" cy="380880"/>
          </a:xfrm>
          <a:prstGeom prst="rect">
            <a:avLst/>
          </a:prstGeom>
          <a:solidFill>
            <a:srgbClr val="cb9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Statement (English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3962520"/>
            <a:ext cx="5943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orithm/Pseudo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5257800"/>
            <a:ext cx="5943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te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95480" y="4648320"/>
            <a:ext cx="5943600" cy="3808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level Programming Language (Python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95480" y="6019920"/>
            <a:ext cx="5943600" cy="380880"/>
          </a:xfrm>
          <a:prstGeom prst="rect">
            <a:avLst/>
          </a:prstGeom>
          <a:solidFill>
            <a:srgbClr val="ffb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code/Central Processing Unit (CPU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3200400"/>
            <a:ext cx="2819520" cy="1523880"/>
            <a:chOff x="0" y="3200400"/>
            <a:chExt cx="2819520" cy="1523880"/>
          </a:xfrm>
        </p:grpSpPr>
        <p:sp>
          <p:nvSpPr>
            <p:cNvPr id="84" name=""/>
            <p:cNvSpPr/>
            <p:nvPr/>
          </p:nvSpPr>
          <p:spPr>
            <a:xfrm>
              <a:off x="2666880" y="3352680"/>
              <a:ext cx="152640" cy="137160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56880 h 1371600"/>
                <a:gd name="textAreaBottom" fmla="*/ 131472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200400"/>
              <a:ext cx="259092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Programmer (YOU!)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ranslates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from problem to algorithm (solution) to program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0" y="4846680"/>
            <a:ext cx="2819520" cy="943920"/>
            <a:chOff x="0" y="4846680"/>
            <a:chExt cx="2819520" cy="943920"/>
          </a:xfrm>
        </p:grpSpPr>
        <p:sp>
          <p:nvSpPr>
            <p:cNvPr id="87" name=""/>
            <p:cNvSpPr/>
            <p:nvPr/>
          </p:nvSpPr>
          <p:spPr>
            <a:xfrm>
              <a:off x="2666880" y="4923000"/>
              <a:ext cx="152640" cy="60948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25200 h 609480"/>
                <a:gd name="textAreaBottom" fmla="*/ 5842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4846680"/>
              <a:ext cx="2590920" cy="94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Python 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interpreter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translates into bytecode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5372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o We Need Programming Languag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53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ers can’t understand English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oo ambiguous (PB&amp;J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umans can’t easily write 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3276720"/>
            <a:ext cx="5943600" cy="380880"/>
          </a:xfrm>
          <a:prstGeom prst="rect">
            <a:avLst/>
          </a:prstGeom>
          <a:solidFill>
            <a:srgbClr val="cb9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Statement (English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3962520"/>
            <a:ext cx="5943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orithm/Pseudo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5257800"/>
            <a:ext cx="5943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te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4648320"/>
            <a:ext cx="5943600" cy="3808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level Programming Language (Python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6019920"/>
            <a:ext cx="5943600" cy="380880"/>
          </a:xfrm>
          <a:prstGeom prst="rect">
            <a:avLst/>
          </a:prstGeom>
          <a:solidFill>
            <a:srgbClr val="ffb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code/Central Processing Unit (CPU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5486400"/>
            <a:ext cx="152640" cy="609480"/>
          </a:xfrm>
          <a:custGeom>
            <a:avLst/>
            <a:gdLst>
              <a:gd name="textAreaLeft" fmla="*/ 44640 w 152640"/>
              <a:gd name="textAreaRight" fmla="*/ 153000 w 15264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320" y="5257800"/>
            <a:ext cx="259056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ython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preter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executes the bytecode in a “virtual machine”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Interpret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53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Validates the Python programming language expressio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Enforces Python syntax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Reports syntax error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Simulates a computer (executes the expression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Runtime errors (e.g., divide by 0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Semantic errors (not what you </a:t>
            </a:r>
            <a:r>
              <a:rPr b="0" i="1" lang="en-GB" sz="2400" spc="-1" strike="noStrike">
                <a:solidFill>
                  <a:srgbClr val="3333cc"/>
                </a:solidFill>
                <a:latin typeface="Tahoma"/>
              </a:rPr>
              <a:t>meant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5256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6662880" y="4427640"/>
            <a:ext cx="1566720" cy="753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4386240"/>
            <a:ext cx="1219320" cy="87156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yth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expressi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75200" y="5951520"/>
            <a:ext cx="1044720" cy="7542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1" idx="3"/>
            <a:endCxn id="100" idx="1"/>
          </p:cNvCxnSpPr>
          <p:nvPr/>
        </p:nvCxnSpPr>
        <p:spPr>
          <a:xfrm flipV="1">
            <a:off x="5029200" y="4804560"/>
            <a:ext cx="1634400" cy="183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105" idx="0"/>
            <a:endCxn id="100" idx="2"/>
          </p:cNvCxnSpPr>
          <p:nvPr/>
        </p:nvCxnSpPr>
        <p:spPr>
          <a:xfrm flipH="1" flipV="1">
            <a:off x="7446600" y="5180760"/>
            <a:ext cx="402480" cy="7707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7162920" y="5951520"/>
            <a:ext cx="1371600" cy="7542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0" idx="3"/>
            <a:endCxn id="105" idx="3"/>
          </p:cNvCxnSpPr>
          <p:nvPr/>
        </p:nvCxnSpPr>
        <p:spPr>
          <a:xfrm>
            <a:off x="8229240" y="4805280"/>
            <a:ext cx="305640" cy="1524960"/>
          </a:xfrm>
          <a:prstGeom prst="bentConnector3">
            <a:avLst>
              <a:gd name="adj1" fmla="val 175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0" idx="2"/>
            <a:endCxn id="102" idx="0"/>
          </p:cNvCxnSpPr>
          <p:nvPr/>
        </p:nvCxnSpPr>
        <p:spPr>
          <a:xfrm flipH="1">
            <a:off x="5496840" y="5181120"/>
            <a:ext cx="1950120" cy="7707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419360" y="2311560"/>
            <a:ext cx="4648680" cy="433800"/>
            <a:chOff x="4419360" y="2311560"/>
            <a:chExt cx="4648680" cy="433800"/>
          </a:xfrm>
        </p:grpSpPr>
        <p:sp>
          <p:nvSpPr>
            <p:cNvPr id="109" name=""/>
            <p:cNvSpPr/>
            <p:nvPr/>
          </p:nvSpPr>
          <p:spPr>
            <a:xfrm>
              <a:off x="5091120" y="2311560"/>
              <a:ext cx="39769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Arial"/>
                </a:rPr>
                <a:t>Have a lot of these early on!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4419360" y="2514600"/>
              <a:ext cx="685800" cy="1522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28600" y="4724280"/>
            <a:ext cx="298764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3000"/>
              </a:lnSpc>
              <a:buClr>
                <a:srgbClr val="00cc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ood way to test expression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176040" indent="-176040">
              <a:lnSpc>
                <a:spcPct val="93000"/>
              </a:lnSpc>
              <a:buClr>
                <a:srgbClr val="00cc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hat you were doing in the “shell”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ur Programm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686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Programmer types a </a:t>
            </a:r>
            <a:r>
              <a:rPr b="0" lang="en-GB" sz="3000" spc="-1" strike="noStrike">
                <a:solidFill>
                  <a:srgbClr val="66ccff"/>
                </a:solidFill>
                <a:latin typeface="Tahoma"/>
              </a:rPr>
              <a:t>program/script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into a </a:t>
            </a:r>
            <a:r>
              <a:rPr b="1" lang="en-GB" sz="3000" spc="-1" strike="noStrike">
                <a:solidFill>
                  <a:srgbClr val="010199"/>
                </a:solidFill>
                <a:latin typeface="Tahoma"/>
              </a:rPr>
              <a:t>text editor</a:t>
            </a:r>
            <a:r>
              <a:rPr b="1" lang="en-GB" sz="30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(jEdit or IDLE).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An </a:t>
            </a:r>
            <a:r>
              <a:rPr b="0" lang="en-GB" sz="3000" spc="-1" strike="noStrike">
                <a:solidFill>
                  <a:srgbClr val="ff00ff"/>
                </a:solidFill>
                <a:latin typeface="Tahoma"/>
              </a:rPr>
              <a:t>interpreter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turns each expression into </a:t>
            </a:r>
            <a:r>
              <a:rPr b="0" lang="en-GB" sz="3000" spc="-1" strike="noStrike">
                <a:solidFill>
                  <a:srgbClr val="cb98fe"/>
                </a:solidFill>
                <a:latin typeface="Tahoma"/>
              </a:rPr>
              <a:t>bytecode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and then executes each expression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3578400"/>
            <a:ext cx="2057400" cy="9903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350208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.py  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5102280"/>
            <a:ext cx="137160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15" idx="3"/>
            <a:endCxn id="114" idx="1"/>
          </p:cNvCxnSpPr>
          <p:nvPr/>
        </p:nvCxnSpPr>
        <p:spPr>
          <a:xfrm>
            <a:off x="4952520" y="407304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9" idx="0"/>
            <a:endCxn id="114" idx="2"/>
          </p:cNvCxnSpPr>
          <p:nvPr/>
        </p:nvCxnSpPr>
        <p:spPr>
          <a:xfrm flipH="1" flipV="1">
            <a:off x="7124040" y="4568400"/>
            <a:ext cx="57204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304920" y="3578400"/>
            <a:ext cx="2057400" cy="990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(jEdit or IDLE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20" idx="3"/>
            <a:endCxn id="115" idx="1"/>
          </p:cNvCxnSpPr>
          <p:nvPr/>
        </p:nvCxnSpPr>
        <p:spPr>
          <a:xfrm>
            <a:off x="2361960" y="407304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6934320" y="5102280"/>
            <a:ext cx="15238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14" idx="3"/>
            <a:endCxn id="119" idx="3"/>
          </p:cNvCxnSpPr>
          <p:nvPr/>
        </p:nvCxnSpPr>
        <p:spPr>
          <a:xfrm>
            <a:off x="8152920" y="4073400"/>
            <a:ext cx="305640" cy="1524960"/>
          </a:xfrm>
          <a:prstGeom prst="bentConnector3">
            <a:avLst>
              <a:gd name="adj1" fmla="val 231721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4" idx="2"/>
            <a:endCxn id="116" idx="0"/>
          </p:cNvCxnSpPr>
          <p:nvPr/>
        </p:nvCxnSpPr>
        <p:spPr>
          <a:xfrm flipH="1">
            <a:off x="5257440" y="4568760"/>
            <a:ext cx="186768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029200" y="4264200"/>
            <a:ext cx="12193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 “line” at a tim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320" y="4797360"/>
            <a:ext cx="441936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3000"/>
              </a:lnSpc>
              <a:buClr>
                <a:srgbClr val="02020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et feedback about which line caused the problem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176040" indent="-176040">
              <a:lnSpc>
                <a:spcPct val="93000"/>
              </a:lnSpc>
              <a:buClr>
                <a:srgbClr val="02020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terpreter stops validating/executing lin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0988-8885-429A-BA0F-191600F243C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iled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Examples: Java, C++, C, etc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ile whole program into bytecode/executable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en, execute the bytecode/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-49320"/>
            <a:ext cx="868680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iled Language Programm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68680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de67b4"/>
                </a:solidFill>
                <a:latin typeface="Tahoma"/>
              </a:rPr>
              <a:t>Compiler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compiles program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  <a:p>
            <a:pPr lvl="1" marL="1093680" indent="-353880">
              <a:lnSpc>
                <a:spcPct val="100000"/>
              </a:lnSpc>
              <a:spcBef>
                <a:spcPts val="751"/>
              </a:spcBef>
              <a:buClr>
                <a:srgbClr val="6699ff"/>
              </a:buClr>
              <a:buFont typeface="Tahoma"/>
              <a:buChar char="•"/>
              <a:tabLst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600" spc="-1" strike="noStrike">
                <a:solidFill>
                  <a:srgbClr val="3333cc"/>
                </a:solidFill>
                <a:latin typeface="Tahoma"/>
              </a:rPr>
              <a:t>Validate program, report syntax errors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1093680" indent="-353880">
              <a:lnSpc>
                <a:spcPct val="100000"/>
              </a:lnSpc>
              <a:spcBef>
                <a:spcPts val="751"/>
              </a:spcBef>
              <a:buClr>
                <a:srgbClr val="6699ff"/>
              </a:buClr>
              <a:buFont typeface="Tahoma"/>
              <a:buChar char="•"/>
              <a:tabLst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600" spc="-1" strike="noStrike">
                <a:solidFill>
                  <a:srgbClr val="3333cc"/>
                </a:solidFill>
                <a:latin typeface="Tahoma"/>
              </a:rPr>
              <a:t>Creates </a:t>
            </a:r>
            <a:r>
              <a:rPr b="0" lang="en-GB" sz="2600" spc="-1" strike="noStrike">
                <a:solidFill>
                  <a:srgbClr val="cb98fe"/>
                </a:solidFill>
                <a:latin typeface="Tahoma"/>
              </a:rPr>
              <a:t>executable</a:t>
            </a:r>
            <a:r>
              <a:rPr b="0" lang="en-GB" sz="2600" spc="-1" strike="noStrike">
                <a:solidFill>
                  <a:srgbClr val="3333cc"/>
                </a:solidFill>
                <a:latin typeface="Tahoma"/>
              </a:rPr>
              <a:t> (bytecode or machine code)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Execute </a:t>
            </a:r>
            <a:r>
              <a:rPr b="0" lang="en-GB" sz="3000" spc="-1" strike="noStrike">
                <a:solidFill>
                  <a:srgbClr val="cb98fe"/>
                </a:solidFill>
                <a:latin typeface="Tahoma"/>
              </a:rPr>
              <a:t>executable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3809880"/>
            <a:ext cx="2057400" cy="7621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Compil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52680" y="3733920"/>
            <a:ext cx="1600200" cy="9144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38480" y="5334120"/>
            <a:ext cx="137160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31" idx="3"/>
            <a:endCxn id="130" idx="1"/>
          </p:cNvCxnSpPr>
          <p:nvPr/>
        </p:nvCxnSpPr>
        <p:spPr>
          <a:xfrm>
            <a:off x="4952520" y="419076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35" idx="1"/>
            <a:endCxn id="132" idx="3"/>
          </p:cNvCxnSpPr>
          <p:nvPr/>
        </p:nvCxnSpPr>
        <p:spPr>
          <a:xfrm flipH="1">
            <a:off x="5409360" y="5829120"/>
            <a:ext cx="122004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304920" y="3809880"/>
            <a:ext cx="2057400" cy="7621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6" idx="3"/>
            <a:endCxn id="131" idx="1"/>
          </p:cNvCxnSpPr>
          <p:nvPr/>
        </p:nvCxnSpPr>
        <p:spPr>
          <a:xfrm>
            <a:off x="2361960" y="419076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6629400" y="5334120"/>
            <a:ext cx="175248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 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Machine 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0" idx="3"/>
            <a:endCxn id="135" idx="3"/>
          </p:cNvCxnSpPr>
          <p:nvPr/>
        </p:nvCxnSpPr>
        <p:spPr>
          <a:xfrm>
            <a:off x="8152920" y="4190760"/>
            <a:ext cx="229320" cy="1639080"/>
          </a:xfrm>
          <a:prstGeom prst="bentConnector3">
            <a:avLst>
              <a:gd name="adj1" fmla="val 200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5560560" y="3429000"/>
            <a:ext cx="30380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lidates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whole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program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4ADE-FB8D-4E6F-9988-2A811FA5206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on University</dc:creator>
  <dc:description/>
  <dc:language>en-US</dc:language>
  <cp:lastModifiedBy>Sara Sprenkle</cp:lastModifiedBy>
  <cp:lastPrinted>2007-09-10T23:03:20Z</cp:lastPrinted>
  <dcterms:modified xsi:type="dcterms:W3CDTF">2007-09-13T00:58:36Z</dcterms:modified>
  <cp:revision>458</cp:revision>
  <dc:subject/>
  <dc:title>Intro to Java</dc:title>
</cp:coreProperties>
</file>