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804-E92B-4E15-9705-1BAAAE4D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DA8-906C-4AA2-B9AB-20335F4E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3C3-A98A-4337-9EE9-2BC99C7E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2B5-9DBE-4454-B189-EB78A99B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F68AF-DB1F-4E90-A447-B5EBFF92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882F4-62DF-4BFC-9681-CD602D65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70A68-E399-499D-B741-8C5B009E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A11B4-FD3D-45B1-85A7-9ABB31AA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23D5B-000E-47FE-BE8E-EB506A95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7124D-EF26-46F0-8147-A3F3FD1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E4981-3177-46A4-ADE9-748E8F6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540-EB4A-439B-B2EC-C5C14BAB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3F967-6CC7-43E8-83A1-FFDB24B5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A416E-65A3-484C-A520-16BBBD37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9AAE6-89FD-4F97-8805-A271F8F1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D818D-0FA6-4A55-AB4D-3C38B640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92EA3-DC18-4C82-A683-D4A9DD73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0FE-CA14-442F-A9A4-61F7C266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04A-9258-4FB2-9E2E-7F95D3E5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19B-8EC5-42D2-BC80-9FA98C1E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357-6701-4ACF-9D58-D40DC356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ACF-8DD0-4386-BD8E-A82EF68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A41-3B9E-473B-84A5-51B5858D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B70-9383-4103-B19E-D6475574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766B-7B6C-4521-857A-48E7488106C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92F4-F16B-492B-9BC9-F6C109EA870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roduction to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orking with 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6E2-D188-4DE1-A28F-4BE5808DD8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year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7CF-2FCE-4B76-8FAD-19156EAD43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1FD-5E91-47F2-A6B2-5DCAB97548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of reading from a file using file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file: data/years.d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is what Python printed different than the file’s conten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to fix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2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l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1752480"/>
            <a:ext cx="3787560" cy="1557000"/>
            <a:chOff x="5105520" y="1752480"/>
            <a:chExt cx="3787560" cy="1557000"/>
          </a:xfrm>
        </p:grpSpPr>
        <p:sp>
          <p:nvSpPr>
            <p:cNvPr id="132" name=""/>
            <p:cNvSpPr/>
            <p:nvPr/>
          </p:nvSpPr>
          <p:spPr>
            <a:xfrm>
              <a:off x="5638680" y="1752480"/>
              <a:ext cx="3254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Typically use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da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or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tx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file extension for these types of data/text files 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105520" y="2514240"/>
              <a:ext cx="9144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9DA-0EDC-4C4C-91D4-FEDEF11179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9320" y="42022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29718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3800" y="30942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038120" y="34750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37800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A11-5A2E-429D-BE98-29CCE93728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search a file for some term.  We want to know which lines of the file contain that term and a count of the number of lines that contained that te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372-9EAA-4233-B62A-234C3BD771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ime, we want to ignore all lines that begin with “#” (a.k.a., the line is a commen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would we have comments in a data fi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ata/years2.da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we revise the previous solution to do thi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09E-21F2-41EC-8F59-73A84EAF19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ling Numeric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been dealing with reading and writing string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 we need to do to read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numb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rom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write numbers to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DA9-6CA6-4364-A538-29DFF62ECB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to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file object in write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yFile = file(“years.txt”, “w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create a file from 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e_write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happens if execute the program again with different user inp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4760" y="634536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F08-5089-44A5-9B23-0326BC8ED5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temp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11A-94FC-46C8-9278-2A5213F891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C3C-D4F4-4A25-903D-274D2A95AC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rger programs require functions to maintain readabilit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main() and other functions to break up your program into smaller, more manageable chunk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Abstrac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away” the detai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s before, you can still write smaller scripts without any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try out functions using smaller script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eed the main() function when using other functions to keep “driver” at top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therwise, functions need to be defined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A582-3759-4952-8952-B32646360A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9320" y="39736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27432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3800" y="28656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038120" y="32464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5514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626-2EF7-421F-8039-3212E51084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tional Useful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963720"/>
          <a:ext cx="8458200" cy="5387760"/>
        </p:xfrm>
        <a:graphic>
          <a:graphicData uri="http://schemas.openxmlformats.org/drawingml/2006/table">
            <a:tbl>
              <a:tblPr/>
              <a:tblGrid>
                <a:gridCol w="2971800"/>
                <a:gridCol w="548640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ip([chars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the string with the leading and trailing characters removed.  Defaults to whitespace if no characters specified.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--stripping whitespace from beginning and end and using whitespace characters as the delimiter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, using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as the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delimiter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string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start[,end]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lowest index in the string where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.  Return -1 if not fou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lace(old, new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copy of string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ld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replaced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ew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869-CE1F-4912-A5F5-D3919FB206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Paradigm: Imperativ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modern programming languages ar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erativ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numbers and strings in variable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operation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data using operations, such as + (addition and concatenation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and operations are separa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to imperative: object-oriented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60A-1700-4BAB-862B-6A69E42271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is a collection of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mb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and method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interact by invoking methods on other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 perform some operation on obj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C7F-FB65-45E4-BD69-62C6FB4436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been using objects and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Just didn’t call them objec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: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data type (or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 creat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type (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nimal = “cow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ound = “moo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029200"/>
            <a:ext cx="2895480" cy="10666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imal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c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u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moo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4100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58672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0800" y="45687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5114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Objects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 of type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800" y="5562720"/>
            <a:ext cx="137160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60" y="4975200"/>
            <a:ext cx="161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Variable names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identifi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562720"/>
            <a:ext cx="83844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D05-ED5C-4229-A2CA-5463794B20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efined methods that you can use on objects of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methods: lower, replace, find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 are similar to functions but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alled/us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ifferent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bjectname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name([parameter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 animal.upper(), sound.center(1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day: new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with its own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4FF-038D-4524-BA55-1A45C5DACD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ow if need to enter a lot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ror-pro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User enters the wrong value!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f want to run again after program gets modifi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EB4-75A1-4815-914C-160C59D076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data once into a file, save it, and reuse it in your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for large amounts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s can use files to communic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able to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read 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write to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80060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48769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724280"/>
            <a:ext cx="121932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cri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3"/>
            <a:endCxn id="108" idx="1"/>
          </p:cNvCxnSpPr>
          <p:nvPr/>
        </p:nvCxnSpPr>
        <p:spPr>
          <a:xfrm>
            <a:off x="2228400" y="529560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3"/>
            <a:endCxn id="107" idx="1"/>
          </p:cNvCxnSpPr>
          <p:nvPr/>
        </p:nvCxnSpPr>
        <p:spPr>
          <a:xfrm>
            <a:off x="5047920" y="5295600"/>
            <a:ext cx="16390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733920" y="5864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2B5-73DC-42A9-B0D1-723370684D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Use of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05092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257720"/>
            <a:ext cx="167616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974960"/>
            <a:ext cx="121896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  <a:endCxn id="115" idx="1"/>
          </p:cNvCxnSpPr>
          <p:nvPr/>
        </p:nvCxnSpPr>
        <p:spPr>
          <a:xfrm>
            <a:off x="1923840" y="254592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4" idx="0"/>
          </p:cNvCxnSpPr>
          <p:nvPr/>
        </p:nvCxnSpPr>
        <p:spPr>
          <a:xfrm>
            <a:off x="4114440" y="3137040"/>
            <a:ext cx="1080" cy="11023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200400" y="1066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eb Page (Text File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42577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row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4" idx="3"/>
            <a:endCxn id="119" idx="1"/>
          </p:cNvCxnSpPr>
          <p:nvPr/>
        </p:nvCxnSpPr>
        <p:spPr>
          <a:xfrm>
            <a:off x="4971960" y="4676400"/>
            <a:ext cx="14104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564600" y="36781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irefo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22840" y="528804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nders” web page for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F21-C46B-4883-B5E0-85408325D9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7T21:27:22Z</cp:lastPrinted>
  <dcterms:modified xsi:type="dcterms:W3CDTF">2007-10-17T21:59:52Z</dcterms:modified>
  <cp:revision>1804</cp:revision>
  <dc:subject/>
  <dc:title>PowerPoint Presentation</dc:title>
</cp:coreProperties>
</file>