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B494-E058-4180-BDD4-4070E83A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88FC-090D-4566-9615-F3E6E923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F964-5CEF-4820-998C-362E3AD9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2824-DE23-4C89-9E54-9392AAA5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97C97-0C1D-4A9E-8AA1-5D57206F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4695C-7CB6-40D8-8F39-CEB62653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CDABF-D3CA-44DD-9AFC-09CAA670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CF4B4-C261-4C20-AFE0-0BF5713C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9F3CC-A78C-4CD6-8828-C69B681B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C9146-69DE-47A2-9079-37959DDC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BE6A7-2175-4A61-96E9-0D15FF78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1C56-5306-4FAC-A254-58534C88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DEFB3-109D-41AB-8F3C-AD8E7DF4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E13FF-25C9-4D71-BD50-57FC5326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7186A-46A0-46F8-9A7F-9A38759A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39F1C-70E4-4009-8952-9006A201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4640E-3C52-4877-8626-4D494088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CC9C-0B83-4A18-BA8F-D93203BD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A190-D145-4AFF-8658-2535A16E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99C7-A2ED-4EC1-A806-605B28D5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10ED-8EEB-4933-8DCF-4EEE83AC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3A5F-7A29-4D15-A15C-1DE0851D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B927-2B49-4A72-AA95-481AB35E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B93-F4B1-4282-B0ED-2837B3B0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19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F86A-EE95-4962-875C-C33A9A046A5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7985-091B-4461-A2EC-10DEC9498BA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Precedence/Arithmetic, importing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finite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CDB-1246-4D12-BF1A-1C134869F2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ing/Repet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2133720"/>
            <a:ext cx="502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862520"/>
            <a:ext cx="49514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38718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peat 10 ti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9" idx="2"/>
            <a:endCxn id="118" idx="0"/>
          </p:cNvCxnSpPr>
          <p:nvPr/>
        </p:nvCxnSpPr>
        <p:spPr>
          <a:xfrm>
            <a:off x="5752800" y="43434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8" idx="2"/>
            <a:endCxn id="119" idx="1"/>
          </p:cNvCxnSpPr>
          <p:nvPr/>
        </p:nvCxnSpPr>
        <p:spPr>
          <a:xfrm flipV="1" rot="16200000">
            <a:off x="4271400" y="3852000"/>
            <a:ext cx="1234440" cy="1729440"/>
          </a:xfrm>
          <a:prstGeom prst="bentConnector4">
            <a:avLst>
              <a:gd name="adj1" fmla="val -33459"/>
              <a:gd name="adj2" fmla="val 156464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 flipH="1">
            <a:off x="2208960" y="3733920"/>
            <a:ext cx="381240" cy="2361960"/>
          </a:xfrm>
          <a:custGeom>
            <a:avLst/>
            <a:gdLst>
              <a:gd name="textAreaLeft" fmla="*/ -360 w 381240"/>
              <a:gd name="textAreaRight" fmla="*/ 137160 w 3812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421596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Make 10 PB&amp;J sandwich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6B13-687B-46D7-B1CC-6C05E10B56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4862520"/>
            <a:ext cx="49514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38718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x </a:t>
            </a: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xrange(10)</a:t>
            </a: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2"/>
            <a:endCxn id="126" idx="0"/>
          </p:cNvCxnSpPr>
          <p:nvPr/>
        </p:nvCxnSpPr>
        <p:spPr>
          <a:xfrm>
            <a:off x="5752800" y="43434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6" idx="2"/>
            <a:endCxn id="127" idx="1"/>
          </p:cNvCxnSpPr>
          <p:nvPr/>
        </p:nvCxnSpPr>
        <p:spPr>
          <a:xfrm flipV="1" rot="16200000">
            <a:off x="4271400" y="3852000"/>
            <a:ext cx="1234440" cy="1729440"/>
          </a:xfrm>
          <a:prstGeom prst="bentConnector4">
            <a:avLst>
              <a:gd name="adj1" fmla="val -33459"/>
              <a:gd name="adj2" fmla="val 156464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flipH="1">
            <a:off x="2208960" y="3733920"/>
            <a:ext cx="381240" cy="2361960"/>
          </a:xfrm>
          <a:custGeom>
            <a:avLst/>
            <a:gdLst>
              <a:gd name="textAreaLeft" fmla="*/ -360 w 381240"/>
              <a:gd name="textAreaRight" fmla="*/ 137160 w 3812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421596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Make 10 PB&amp;J sandwich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30040" y="533412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Loop </a:t>
            </a:r>
            <a:r>
              <a:rPr b="1" lang="en-US" sz="2400" spc="-1" strike="noStrike">
                <a:solidFill>
                  <a:srgbClr val="33cccc"/>
                </a:solidFill>
                <a:latin typeface="Tahoma"/>
              </a:rPr>
              <a:t>bod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16120" y="335268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ef4"/>
                </a:solidFill>
                <a:latin typeface="Tahoma"/>
              </a:rPr>
              <a:t>Loop</a:t>
            </a:r>
            <a:r>
              <a:rPr b="1" lang="en-US" sz="2400" spc="-1" strike="noStrike">
                <a:solidFill>
                  <a:srgbClr val="ff8ef4"/>
                </a:solidFill>
                <a:latin typeface="Tahoma"/>
              </a:rPr>
              <a:t> head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9040" y="266688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oop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952880" y="3048120"/>
            <a:ext cx="76320" cy="99036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25760" y="296856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ywor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352680"/>
            <a:ext cx="91440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3352680"/>
            <a:ext cx="160020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7260-1D1A-4972-83F5-0B9193FB6E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133720"/>
            <a:ext cx="24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Times to repea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733560" y="2590920"/>
            <a:ext cx="190476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A57A-14E2-4D17-A11E-6D2217AECB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only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to repe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for x in xrange(5): print “Hello!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73600" y="60958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imple_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628-A8F8-46C5-908D-EEAE19BFD4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Goes in the Loop Body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PB&amp;J Sandwi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ather materials (bread, PB, J, knives, plat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pen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2 pieces of bread on pl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read PB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read Jelly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lace PB-side facedown on Jelly-side of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ose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ean knif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away material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6095880"/>
            <a:ext cx="2725920" cy="36684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5181480"/>
            <a:ext cx="24382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for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 x </a:t>
            </a: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 xrange(10)</a:t>
            </a: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1" idx="2"/>
            <a:endCxn id="150" idx="0"/>
          </p:cNvCxnSpPr>
          <p:nvPr/>
        </p:nvCxnSpPr>
        <p:spPr>
          <a:xfrm flipH="1">
            <a:off x="7459200" y="5652720"/>
            <a:ext cx="8640" cy="42948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2"/>
            <a:endCxn id="151" idx="1"/>
          </p:cNvCxnSpPr>
          <p:nvPr/>
        </p:nvCxnSpPr>
        <p:spPr>
          <a:xfrm flipV="1" rot="16200000">
            <a:off x="6312960" y="5330160"/>
            <a:ext cx="1067760" cy="1226160"/>
          </a:xfrm>
          <a:prstGeom prst="bentConnector4">
            <a:avLst>
              <a:gd name="adj1" fmla="val -20067"/>
              <a:gd name="adj2" fmla="val 129897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6FCD-667A-4B52-A646-B4D688572C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Goes in the Loop Body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PB&amp;J Sandwi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ather materials (bread, PB, J, knives, plat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pen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ut 2 pieces of bread on pl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pread PB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pread Jelly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lace PB-side facedown on Jelly-side of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ose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ean knif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away material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752480"/>
            <a:ext cx="7924680" cy="99072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819520"/>
            <a:ext cx="7924680" cy="190476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800600"/>
            <a:ext cx="7924680" cy="152388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2133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-499680" y="355284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Tahoma"/>
              </a:rPr>
              <a:t>Loop Bod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97640" y="51354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Finaliz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B579-629B-4728-9325-F03A4FAE65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2133720"/>
            <a:ext cx="24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Times to repea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733560" y="2590920"/>
            <a:ext cx="190476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B26E-C022-4C6E-9F1E-D6983CD770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nalyzing 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o, exactl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74720" y="609588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_analysi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10DA-9FBB-488C-B18F-BD79134067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e above signature mea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491E-FC0B-4F18-8E5C-3A2CB7A087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1 argument: xrange(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2 arguments: xrange(start, 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3 arguments: xrange(start, stop, ste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46880" y="616896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ing_xran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2AA0-8193-40C9-AD3B-86AF809384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ponenti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al: compute -3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uggested: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pow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(-3, 2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Courier New"/>
              </a:rPr>
              <a:t>pow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else could we get tha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fun, what is 2 ** -3 ** 2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6006-29E4-4A73-9E7E-0B0444F342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1 argument: xrange(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0 to stop-1 with step=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2 arguments: xrange(start, 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start to stop-1 with step=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3 arguments: xrange(start, stop, ste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start to stop-1 with step size=ste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 that with negative numbers,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6880" y="616896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ing_xran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27A7-28D6-44D7-B58C-EA4E569B80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5 numbers,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verage 5 numbers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33A2-284A-45C4-8421-CE6BDC031E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umulator Design Patte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accumulator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 until do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value of the accumul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play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A35A-2467-4524-85D0-DDB8E47E5B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Libr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has a rich library of functions and definitions available for your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library is broken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odule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 is a file containing Python definitions and state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nefits of functions/definitions in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need to rewrite someone else’s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’s in a module, it is a very efficient (in terms of computation speed and memory usag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20D8-DA8C-4629-91C6-93FD8283CC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or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To use the definitions in a module, you must first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the modul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: to use the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math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module’s definitions, use the the import statement: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ypically import statements are at </a:t>
            </a:r>
            <a:r>
              <a:rPr b="0" i="1" lang="en-US" sz="2400" spc="-1" strike="noStrike">
                <a:solidFill>
                  <a:srgbClr val="010199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of program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To use, prepend constant or function with “modulename.”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s for constants: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th.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s for functions: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th.sqr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5880" y="220968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ort math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28120" y="617220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module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C629-D9BD-4C63-94D3-D625BF30C4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ternatively can import only a subset of the modu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library&gt;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name1&gt;, &lt;name2&gt;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math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pi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can use just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i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stead of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math.pi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337F-33CF-4501-A30B-2B4A254FB1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nding Modules To U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 I know if some code that I want already exist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Library Referenc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ttp://docs.python.org/lib/lib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odule has functions/constants for manipulating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the most part, to practice, in the beginning you will write most of your code from scrat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7472-CF06-4F53-AC23-51FDF3A606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086600" y="51814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type of statement is a building blo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itialization/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rithmetic, string concatenation, input/raw_inpu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an combine them to create more complex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lutions to proble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981080"/>
            <a:ext cx="1523880" cy="6098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48006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43434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38098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6600" y="34290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1981080"/>
            <a:ext cx="1524240" cy="60984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2971800"/>
            <a:ext cx="175248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1143000"/>
            <a:ext cx="175284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CD76-3C37-46A0-9E48-055E056E51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0896-73B7-436C-A80D-4D4E568209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76920" y="388620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tandard Algorith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 input from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some compu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Today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arn new building block, new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350532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304812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3116160"/>
            <a:ext cx="22096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 = input(“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s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an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7A96-7215-4140-9174-2D7DD1513E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19T20:24:05Z</dcterms:modified>
  <cp:revision>229</cp:revision>
  <dc:subject/>
  <dc:title>PowerPoint Presentation</dc:title>
</cp:coreProperties>
</file>