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B5D4-E53D-4C0A-8A9C-61B5D98D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221-9972-4921-B932-0D15DFC2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0BF7-ED1F-4D79-B15B-FB57FF51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880E-53F6-4D2A-B8FB-D106DC2A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608F0-A5F4-47D0-B530-6F2F4313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A6E5A-0996-487C-8870-D69ABC6D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9F01D-5BB9-4A51-9938-9EDBF72D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664FB-E994-4896-9306-231BE6EC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D9B32-7978-4340-8ED2-784CC804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A3183-10C4-47DF-9DCC-BB9450C8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22895-AE01-48B7-8291-84A3180A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98D2-E85E-43AA-B3CA-887431E0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317A2-569D-4368-9150-0F18B638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06CF8-6268-44EA-AFB4-05C3C48B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344FC-E022-42E4-BF91-58E89FB5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032BE-5936-42B5-B132-00095297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CB5F4-900E-41A0-8A9C-B31CCB52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3C52-47A5-40E4-8A32-5936AA30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5A34-C221-49E0-9932-2D1A6F9E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1C0D-10B9-4ADE-9F03-618DADC9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ADF3-3DCA-49BE-94EE-2D0C72AE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72D2-4F9B-47BB-B2C3-CC4120A5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0CCA-43B6-4AF0-BF33-E20CE861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3634-ACC6-4EEB-94F1-E94D9DF4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2260-2268-44DA-8608-6773222E0B86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4E8F-12A6-4CFD-8A58-2DF1C5FC7F28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ief Conditional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ile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andom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486C-1F9D-44B9-9FD7-906411A3BA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s, comparing use of brea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* condition shows when loop will stop executing */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 input(“Enter a number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ile x % 2 != 0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 = input(“Try again.  Enter a number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x, “ is an even number.”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1426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* have to look inside loop to know when it stops */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ile True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 = input(“Enter a number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x %2 == 0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break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x, “is an even number.”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1143000"/>
            <a:ext cx="0" cy="5257800"/>
          </a:xfrm>
          <a:prstGeom prst="line">
            <a:avLst/>
          </a:prstGeom>
          <a:ln w="2844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49528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Using break statements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est when loop has to execute at least once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1BBE-332C-4497-937C-D9EFD73761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vs. For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ny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can be translated into a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 vice vers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 are more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powerfu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an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B987-4852-40C5-B829-7486DA6788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mmary of Building Block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ditional state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, if-else, if-else-if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ile, f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FAAB-13DF-47C8-93AD-C429608DC4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ondeterministic Decis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metimes, we don’t want to necessarily know that a specific decision is always ma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, games often use randomness to make decis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oll d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in flip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cation and behavior of baddi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062F-F2FA-4CB4-A08D-C48F3C6D65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random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modu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provides the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random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odule to generate pseudo-random numbers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“pseudo-random”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ctually generates a list of numbers and grabs the next one off the l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 “seed” is used to initialize the random number gener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y default, the current time is use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898F-B018-410C-80F8-1D67C28883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Arial"/>
              </a:rPr>
              <a:t>Some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 random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andom(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the next random floating point number in the range [0.0, 1.0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andint(a, b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 a random integer N such that a&lt;= N&lt;= b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00160" y="1419120"/>
            <a:ext cx="19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73880" y="62452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andom_test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7DE3-BE58-47A3-B180-29F068DA10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imulate Flipping Coi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mulate by randomly selecting between 0 (heads) and 1 (tail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: coinFlip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blem: How many flips does it take to get 3 consecutive head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09640" y="6245280"/>
            <a:ext cx="31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nsecutiveHea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FEEB-D5F1-4492-9DD5-89CBE26E4F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ctober Problem of the Mont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welve W&amp;L alumni get together during homecoming to have lunch.  Before they sit down to eat, everyone shakes hands with everyone else exactly once.  How many handshakes take plac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42120" y="624528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hake_han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FB21-BC29-4B0E-9523-7A67901062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CS Issu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vironmental Monitoring with Sensor Networ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ee blog entry for links, more info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17AA-202E-44C4-8950-0CD31ED01E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ditional Review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gical operators: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an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no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numeric grade convers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um_grade &lt; 0 or num_grade &gt; 100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error messag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s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mput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ternatively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ot( num_grade &lt; 0 or num_grade &gt; 100)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mput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s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error messag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1022-86B9-460F-B19D-401ADE3CCE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definite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 are </a:t>
            </a:r>
            <a:r>
              <a:rPr b="1" i="1" lang="en-US" sz="3200" spc="-1" strike="noStrike">
                <a:solidFill>
                  <a:srgbClr val="010199"/>
                </a:solidFill>
                <a:latin typeface="Arial"/>
              </a:rPr>
              <a:t>definit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ecute a fixed number of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definite loops: keeps iterating until certain conditions are me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pending on condition, no guarantee in advance of how many times the loop body will be execu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EDA4-D33F-4E28-AB94-CF26DC4626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494240" y="2971800"/>
            <a:ext cx="35812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i equals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90" idx="2"/>
            <a:endCxn id="89" idx="0"/>
          </p:cNvCxnSpPr>
          <p:nvPr/>
        </p:nvCxnSpPr>
        <p:spPr>
          <a:xfrm flipH="1">
            <a:off x="6284160" y="2452680"/>
            <a:ext cx="252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93" idx="2"/>
            <a:endCxn id="90" idx="1"/>
          </p:cNvCxnSpPr>
          <p:nvPr/>
        </p:nvCxnSpPr>
        <p:spPr>
          <a:xfrm flipV="1" rot="16200000">
            <a:off x="4270680" y="2495880"/>
            <a:ext cx="2300760" cy="1728000"/>
          </a:xfrm>
          <a:prstGeom prst="bentConnector4">
            <a:avLst>
              <a:gd name="adj1" fmla="val -20845"/>
              <a:gd name="adj2" fmla="val 124255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646520" y="990720"/>
            <a:ext cx="32767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120" y="2435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82280" y="1701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6360" y="403848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>
            <a:off x="6284520" y="3443400"/>
            <a:ext cx="108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4" idx="2"/>
            <a:endCxn id="90" idx="0"/>
          </p:cNvCxnSpPr>
          <p:nvPr/>
        </p:nvCxnSpPr>
        <p:spPr>
          <a:xfrm>
            <a:off x="6284520" y="1461600"/>
            <a:ext cx="2520" cy="5058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4722840" y="5486400"/>
            <a:ext cx="28954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0" name=""/>
          <p:cNvCxnSpPr/>
          <p:nvPr/>
        </p:nvCxnSpPr>
        <p:spPr>
          <a:xfrm flipH="1">
            <a:off x="6170400" y="220968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76320" y="14479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hile i &lt; 10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i equals 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809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Questions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will “i” get printed ou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is the condition evaluated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is the value of i after the loop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77920" y="63216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vs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EEB9-9AC5-4B06-9ED5-B79DD7BCA0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nknown Number of It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ums numbers input by use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op when the user inputs some designated stop value (Enter --&gt; “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52720" y="624528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tillzer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E78B-E1AC-444E-9C30-03F39D026D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: Sentinel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ntinel: when to sto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uard” to the lo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= get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value != sentinel 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valu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= get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C78-30A3-4DDE-8965-B3B0BA8333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Ques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make sure that the loop actually stops (is not infinite)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35B-CABC-487B-BDD4-137F8DFEE4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Ques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make sure that the loop actually stops (is not infinite)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990720" indent="-533520"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pdate the condition’s variable inside lo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990720" indent="-533520"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CE22-84C0-4DF2-AD1C-053AC2D7A4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e of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break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stateme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break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statement can “break you” out of a loo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733920"/>
            <a:ext cx="35816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count &lt; 100 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9040" y="274320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6" idx="2"/>
            <a:endCxn id="115" idx="0"/>
          </p:cNvCxnSpPr>
          <p:nvPr/>
        </p:nvCxnSpPr>
        <p:spPr>
          <a:xfrm flipH="1">
            <a:off x="5371920" y="3214800"/>
            <a:ext cx="216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9" idx="2"/>
            <a:endCxn id="116" idx="1"/>
          </p:cNvCxnSpPr>
          <p:nvPr/>
        </p:nvCxnSpPr>
        <p:spPr>
          <a:xfrm flipV="1" rot="16200000">
            <a:off x="2919600" y="3696480"/>
            <a:ext cx="2300760" cy="851400"/>
          </a:xfrm>
          <a:prstGeom prst="bentConnector4">
            <a:avLst>
              <a:gd name="adj1" fmla="val -9311"/>
              <a:gd name="adj2" fmla="val 125169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733920" y="1752480"/>
            <a:ext cx="327636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, count =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1160" y="319716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69320" y="24638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4800600"/>
            <a:ext cx="13716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5" idx="2"/>
            <a:endCxn id="119" idx="0"/>
          </p:cNvCxnSpPr>
          <p:nvPr/>
        </p:nvCxnSpPr>
        <p:spPr>
          <a:xfrm flipH="1">
            <a:off x="4494960" y="4205160"/>
            <a:ext cx="87732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0" idx="2"/>
            <a:endCxn id="116" idx="0"/>
          </p:cNvCxnSpPr>
          <p:nvPr/>
        </p:nvCxnSpPr>
        <p:spPr>
          <a:xfrm>
            <a:off x="5372280" y="2224080"/>
            <a:ext cx="216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3809880" y="6248520"/>
            <a:ext cx="28958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6" name=""/>
          <p:cNvCxnSpPr/>
          <p:nvPr/>
        </p:nvCxnSpPr>
        <p:spPr>
          <a:xfrm flipH="1">
            <a:off x="5257440" y="297180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715000" y="4800600"/>
            <a:ext cx="15238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brea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5" idx="2"/>
            <a:endCxn id="127" idx="0"/>
          </p:cNvCxnSpPr>
          <p:nvPr/>
        </p:nvCxnSpPr>
        <p:spPr>
          <a:xfrm>
            <a:off x="5371920" y="4205160"/>
            <a:ext cx="110556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077160" y="42670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20480" y="419112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7" idx="2"/>
            <a:endCxn id="125" idx="0"/>
          </p:cNvCxnSpPr>
          <p:nvPr/>
        </p:nvCxnSpPr>
        <p:spPr>
          <a:xfrm flipH="1">
            <a:off x="5257080" y="5272200"/>
            <a:ext cx="1220040" cy="962640"/>
          </a:xfrm>
          <a:prstGeom prst="straightConnector1">
            <a:avLst/>
          </a:prstGeom>
          <a:ln w="3168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489240" y="2697120"/>
            <a:ext cx="259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=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unt =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ile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i &lt; 10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count &lt; 100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 +=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brea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D245-C8D0-4853-A4C9-41FED0EC8D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2T19:57:10Z</dcterms:modified>
  <cp:revision>941</cp:revision>
  <dc:subject/>
  <dc:title>PowerPoint Presentation</dc:title>
</cp:coreProperties>
</file>