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AE0-AB9C-4596-9AF2-6413BCDE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4E0-4797-4FC9-8ECF-13356FA8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CADF-DAF0-4952-98E9-EA7D17C6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862-ED42-4C7A-83B9-4876928D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7A180-8AF9-4E89-BB3E-BE8E935A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A60DD-7811-4C6E-8B66-225DA5E6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9D9A8-321E-4FA7-A0D9-C495FB44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CD70F-0866-4CBB-BA8F-3650A5E2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36575-AF65-4C07-B95D-DA1F24B4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6C825-4DC6-4777-BED4-9924FF3E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835FD-E432-44D0-9E08-1A11FAC9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35F-05D8-43D3-B1DC-ECDEB6EB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381B8-C723-496A-88F7-928DEC3E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32436-0157-4EBD-84E5-62090C9B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729E9-1FB0-4353-B466-F7D6602E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C5D3A-F409-4E1C-8B7A-15B4E329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96DF2-9517-44AA-8F19-24051214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5AA-F43F-442B-9786-7C0C17A2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32A-2AE6-490B-8C76-E8F57F0E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03C-7D22-4D7A-9153-81B56C7E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CCF-395E-44EB-B87A-A51DAA58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0BC-2F75-4A1D-9A37-99192499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3FB-7C9B-4522-9E24-098C8216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720-303B-4F7B-8301-55055971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C9ED-7E39-4CA1-86FF-7D7DC52CCC4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1669-4EEC-4042-A8C2-B26E630E5BB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terminism vs. Non-Determinis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no input and no randomn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 always executes the same way with the sam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nown as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r programs have been 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ing the random functions will make our program non-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ing program multiple times will result in different execution,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code readability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ter variable na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ptive, useful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blank lines with comments to separate code “block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tty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3080" y="1066680"/>
            <a:ext cx="8169480" cy="5582520"/>
          </a:xfrm>
          <a:prstGeom prst="rect">
            <a:avLst/>
          </a:prstGeom>
          <a:solidFill>
            <a:srgbClr val="ff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first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ft_s = COURT_LENGTH / jenny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ft_s = COURT_LENGTH / laura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ft_s = COURT_LENGTH / venus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second calculations to mi/h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mi_hr = (jenny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mi_hr = (laura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mi_hr = (venus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Display output nicely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      CISC111 Tennis Pros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--------------------------------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\t\t ft/s\t  mi/hr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Laura\t\t%5.2f\t %6.2f" % (laura_ft_s, laura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Jennifer \t%5.2f\t %6.2f" % (jenny_ft_s, jenny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Venus\t\t%5.2f\t %6.2f" % (venus_ft_s, venus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438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Comments, Space between blocks of cod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495680" y="2819520"/>
            <a:ext cx="1371600" cy="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4720" y="380880"/>
            <a:ext cx="324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Descriptive variable name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Use of constant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523520" y="762120"/>
            <a:ext cx="297180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733560" y="914400"/>
            <a:ext cx="990360" cy="83808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838080"/>
            <a:ext cx="38088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mplate string with 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nclude other characters besides format specifi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have more than one 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Venus %20.2f %10.2f” % (fpers, mph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%3d|” % (x*y)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3400" y="545004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Needs to be in parenthes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352680" y="4572000"/>
            <a:ext cx="60984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member to remove ~ files before prin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aves paper because extra file isn’t getting printed o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02:33Z</dcterms:created>
  <dc:creator>Sara Sprenkle</dc:creator>
  <dc:description/>
  <dc:language>en-US</dc:language>
  <cp:lastModifiedBy>Sara Sprenkle</cp:lastModifiedBy>
  <cp:lastPrinted>2007-10-02T17:42:22Z</cp:lastPrinted>
  <dcterms:modified xsi:type="dcterms:W3CDTF">2007-10-02T18:19:23Z</dcterms:modified>
  <cp:revision>29</cp:revision>
  <dc:subject/>
  <dc:title>PowerPoint Presentation</dc:title>
</cp:coreProperties>
</file>