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095-B04D-466F-A317-44953358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9B4-AEC7-47BB-9E4A-AAD4F3F6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4C1-8B2A-4FC4-9884-3DEC8BA5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3B6-EEE2-4528-8466-A6987C67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BE2B0-A61C-4C24-9A7B-13E31D5E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A3C27-B574-46F8-8E7F-A471EE31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3E32A-D562-4127-8CF3-DAE1EEE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8E817-7293-41D9-B7CA-FB07B92F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F6D7A-9676-4A5D-9019-AD5DA290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5F831-96CF-429C-908E-F643C7EF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2E63A-0A42-4831-883C-7279AB3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80E-2E69-4970-93F1-46FF3126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C947B-E032-4E2E-8BC5-9D4852D4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1A72B-4B26-4B3B-A892-37936709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EA608-9442-4E04-9FF7-E80ADE9A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D277E-8F98-49EB-8ADB-D68AEC40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B5001-F642-4623-97D3-361C06F3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347-616A-4B9B-AE74-2EC69745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CE8-4B92-41C7-B724-9B096845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3FE-25E9-4074-888D-6EA6527B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939-FC44-4C93-A83F-4C3CD4E3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514-E0AD-4F6F-9E62-DF95050D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528-EDF5-4B3A-A314-6E80B97D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830-B805-41D6-AD56-5B3C71D9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C3E5-AD9A-41EE-B130-F4237C1AC7D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596D-E94C-4627-B0BD-8DC06F113BC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1 Feed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Linux/UNIX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DA8-F5CA-4ED5-9589-D709A4A1D1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Remote Ac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tilize more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ute partial answers on different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bine partial answers into final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ewer idle CPU cyc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Take advantage of other machine’s resourc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pplication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tributed and parallel process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ientific compu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151-1199-44FF-A2A3-0C00E7CEC0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formatting output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using Linux remote acc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stuff you should kn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initial problem-solving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ulate the problem/solution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out your algorithm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1A9-3A72-43A9-A6DC-D4DB3E5EFA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in’ goo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commen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naming of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test cas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D1A-93AA-4D2C-973C-825252C89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Variable Nam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descriptive variable nam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or atomic weight, the input from the user about the number of hydrogen atom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_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gin with lowercase letter for typical variab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l caps for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s that don’t change during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63E-F15E-4EAC-8287-6BBB7C8E79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monstrate that your program works using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sever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est cases when there is user-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well-known test cases, when applicab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xample with F--&gt;C, use 32F, 212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show me testing from when you were developing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after you’ve done all testing/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tart IDLE shell to get rid of previous testing resul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550-7BA5-4143-AB66-414B450FA4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Data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ed to use constructor/converter if variable is of correct data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raw_input(“…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x is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entered” + x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ote don’t need to use str(x) because x is already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3DE-10A3-400E-9A02-8975A53951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who you ask, you’ll get different answ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8A7-1F69-41CF-8EBB-020819D34A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perating system reas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bility -- reboot less ofte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fficiency (requires fewer hardware resourc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ecure (fewer virus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operations efficienc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amount of time that user’s hands leave key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duce mouse click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ulti-user capabilit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than one user can use the machine’s resour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CA8-5B63-4BD5-8A63-AC8C0D9F36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1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2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malltalk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 2 remotely logs into pascal using ssh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SH: secure shell protocol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9B6-B465-4FCE-ABE4-59262BCC07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2 can execute programs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remotel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pasc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achine from command li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use desktop manag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1 and User2 share pascal’s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81080"/>
            <a:ext cx="1066680" cy="45720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0D8-7DBD-4A03-8DE3-E0C115B305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16:05:14Z</dcterms:modified>
  <cp:revision>425</cp:revision>
  <dc:subject/>
  <dc:title>PowerPoint Presentation</dc:title>
</cp:coreProperties>
</file>