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pct" ContentType="image/x-pict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D36B-066F-4BFB-A7CA-93313F0CA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D37C-EE1C-43D1-AC05-DCA177497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DF1D-3C70-42A0-80E4-12D7E7B49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5FC9-0F11-4EC2-85CC-BFD8F16CA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F9D1C2-6FE6-4430-864B-DB3A435E2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63DDB6-5B98-4FCC-8896-122F553C7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1F5071-467C-4B30-96D6-36B5626D4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090914-82E8-48AC-9BDA-28EC9F783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C34A5D-6B98-443A-990B-4AF90E391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124C9F-2EEE-4836-87F9-5F20705D0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D4BE8E-C204-4913-A018-0272F31B9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BB44-FC5E-41BF-9B8B-CD6446DF0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1CEA8A-37F9-44EC-8257-6B5A4DDEF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3795A0-C9D5-412D-8AC0-39BF8E1F9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84B3F1-CAC9-4EF8-9E09-DAB87C90D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364BF0-752B-4AE9-8EB3-597753F5A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D5E02B-B24D-4D5E-8401-774F25170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EF6C-08C4-4AEE-865D-5E864EB17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D5E3-4192-4D86-8BE5-8611F5549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E2F3-22DD-4E49-A33D-2408A175A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96DC-3596-48AA-96EF-6AA66A32B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4E35-EFFB-4353-BDFB-18F743EC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852E-F5BB-491A-80F0-02DB37E0D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13CB-3DC7-4F0E-B07F-7B4D01DF8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Apr 4,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7770C-9382-4864-864D-2001842D2C0F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CCB3C-421D-4275-83B9-626D8BC761C9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4.xm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nal Exam Questions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ncluding CS111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Other programming languag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hat is computer science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6D65-5953-44D4-90C7-94093DA8E5B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paring Programming Languag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ow is the syntax/semantics of these languages different from Python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is easier or harder to do in these other programming languages than in Python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BA71-DE79-476C-B7A4-225AD61EE5A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paring Programming Languag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enefits of Python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impler syntax (e.g., fewer {} and ()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an cover some content with less overhea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rawback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ata types aren’t explicit (static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Can be harder for you to remember and keep straight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Not compiled explicitly beforehan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Keep executing to find all the syntax bugs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Allows you to do some crazy stuff that won’t work in other programming languag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5821-5EC2-4595-8A32-09FBD9FD988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o Uses Python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Google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Backends of Gmail and Google Maps and search-engine internals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NASA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Collaborative engineering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Yahoo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Groups: Maintain discussion groups; Maps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RedHat Linux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System infrastructure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Original BitTorrent client; Youtube; Civilization IV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1B96-B9B8-43DD-A326-9BA250A24FF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puter Science != Programming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6019920" y="2895480"/>
            <a:ext cx="1600200" cy="1533600"/>
          </a:xfrm>
          <a:prstGeom prst="ellipse">
            <a:avLst/>
          </a:prstGeom>
          <a:solidFill>
            <a:srgbClr val="120df3"/>
          </a:solidFill>
          <a:ln w="28440">
            <a:solidFill>
              <a:srgbClr val="120d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0" name="">
            <a:hlinkClick r:id="rId1" action="ppaction://hlinksldjump"/>
          </p:cNvPr>
          <p:cNvSpPr/>
          <p:nvPr/>
        </p:nvSpPr>
        <p:spPr>
          <a:xfrm>
            <a:off x="381600" y="1752480"/>
            <a:ext cx="29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20df3"/>
                </a:solidFill>
                <a:latin typeface="Arial"/>
                <a:ea typeface="ＭＳ Ｐゴシック"/>
              </a:rPr>
              <a:t>programming : CS :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26892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  <a:ea typeface="ＭＳ Ｐゴシック"/>
              </a:rPr>
              <a:t>machining : engineering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47920" y="332424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  <a:ea typeface="ＭＳ Ｐゴシック"/>
              </a:rPr>
              <a:t>grammar : literatur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7920" y="39592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  <a:ea typeface="ＭＳ Ｐゴシック"/>
              </a:rPr>
              <a:t>equations : mathematic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4" name="">
            <a:hlinkClick r:id="rId2" action="ppaction://hlinksldjump"/>
          </p:cNvPr>
          <p:cNvSpPr/>
          <p:nvPr/>
        </p:nvSpPr>
        <p:spPr>
          <a:xfrm>
            <a:off x="2109240" y="5440320"/>
            <a:ext cx="498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0df3"/>
                </a:solidFill>
                <a:latin typeface="Arial"/>
                <a:ea typeface="ＭＳ Ｐゴシック"/>
              </a:rPr>
              <a:t>a vehicle, not a destination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705720" y="2819520"/>
            <a:ext cx="1828800" cy="1752480"/>
          </a:xfrm>
          <a:prstGeom prst="ellipse">
            <a:avLst/>
          </a:prstGeom>
          <a:solidFill>
            <a:srgbClr val="008000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19920" y="2895480"/>
            <a:ext cx="1600200" cy="1533600"/>
          </a:xfrm>
          <a:prstGeom prst="ellipse">
            <a:avLst/>
          </a:prstGeom>
          <a:noFill/>
          <a:ln w="28440">
            <a:solidFill>
              <a:srgbClr val="120d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1200" y="3378240"/>
            <a:ext cx="152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bfa"/>
                </a:solidFill>
                <a:latin typeface="Arial"/>
              </a:rPr>
              <a:t>Programming</a:t>
            </a:r>
            <a:endParaRPr b="0" lang="en-US" sz="16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018200" y="3660840"/>
            <a:ext cx="1363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bfa"/>
                </a:solidFill>
                <a:latin typeface="Arial"/>
              </a:rPr>
              <a:t>Computer Science</a:t>
            </a:r>
            <a:endParaRPr b="0" lang="en-US" sz="16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450080" y="464832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walking : W&amp;L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F8CA-B28E-4459-9EFE-3B5130908AC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puter Science Field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4952520"/>
            <a:ext cx="8686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Often research involves combinations of these field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Not just programming!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4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But programming is a tool to do much, much more!</a:t>
            </a:r>
            <a:endParaRPr b="0" lang="en-US" sz="20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847760" y="1143000"/>
            <a:ext cx="117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Theor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97240" y="1143000"/>
            <a:ext cx="101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Othe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52280" y="1192320"/>
            <a:ext cx="2743200" cy="2609280"/>
            <a:chOff x="152280" y="1192320"/>
            <a:chExt cx="2743200" cy="2609280"/>
          </a:xfrm>
        </p:grpSpPr>
        <p:sp>
          <p:nvSpPr>
            <p:cNvPr id="125" name=""/>
            <p:cNvSpPr/>
            <p:nvPr/>
          </p:nvSpPr>
          <p:spPr>
            <a:xfrm>
              <a:off x="347760" y="1192320"/>
              <a:ext cx="136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199"/>
                  </a:solidFill>
                  <a:latin typeface="Tahoma"/>
                </a:rPr>
                <a:t>Systems</a:t>
              </a:r>
              <a:endParaRPr b="0" lang="en-US" sz="2400" spc="-1" strike="noStrike">
                <a:solidFill>
                  <a:srgbClr val="020202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2280" y="1573200"/>
              <a:ext cx="2743200" cy="22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4320" indent="-18432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Architecture</a:t>
              </a:r>
              <a:endParaRPr b="0" lang="en-US" sz="2000" spc="-1" strike="noStrike">
                <a:solidFill>
                  <a:srgbClr val="020202"/>
                </a:solidFill>
                <a:latin typeface="Times New Roman"/>
              </a:endParaRPr>
            </a:p>
            <a:p>
              <a:pPr marL="184320" indent="-18432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Operating systems</a:t>
              </a:r>
              <a:endParaRPr b="0" lang="en-US" sz="2000" spc="-1" strike="noStrike">
                <a:solidFill>
                  <a:srgbClr val="020202"/>
                </a:solidFill>
                <a:latin typeface="Times New Roman"/>
              </a:endParaRPr>
            </a:p>
            <a:p>
              <a:pPr marL="184320" indent="-18432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Networks</a:t>
              </a:r>
              <a:endParaRPr b="0" lang="en-US" sz="2000" spc="-1" strike="noStrike">
                <a:solidFill>
                  <a:srgbClr val="020202"/>
                </a:solidFill>
                <a:latin typeface="Times New Roman"/>
              </a:endParaRPr>
            </a:p>
            <a:p>
              <a:pPr marL="184320" indent="-18432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Distributed and parallel systems</a:t>
              </a:r>
              <a:endParaRPr b="0" lang="en-US" sz="2000" spc="-1" strike="noStrike">
                <a:solidFill>
                  <a:srgbClr val="020202"/>
                </a:solidFill>
                <a:latin typeface="Times New Roman"/>
              </a:endParaRPr>
            </a:p>
            <a:p>
              <a:pPr marL="184320" indent="-18432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Databases</a:t>
              </a:r>
              <a:endParaRPr b="0" lang="en-US" sz="2000" spc="-1" strike="noStrike">
                <a:solidFill>
                  <a:srgbClr val="020202"/>
                </a:solidFill>
                <a:latin typeface="Times New Roman"/>
              </a:endParaRPr>
            </a:p>
            <a:p>
              <a:pPr marL="184320" indent="-18432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…</a:t>
              </a:r>
              <a:endParaRPr b="0" lang="en-US" sz="2000" spc="-1" strike="noStrike">
                <a:solidFill>
                  <a:srgbClr val="020202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4952880" y="1579680"/>
            <a:ext cx="2362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0680" indent="-220680">
              <a:lnSpc>
                <a:spcPct val="100000"/>
              </a:lnSpc>
              <a:buClr>
                <a:srgbClr val="00c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Algorithms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 marL="220680" indent="-220680">
              <a:lnSpc>
                <a:spcPct val="100000"/>
              </a:lnSpc>
              <a:buClr>
                <a:srgbClr val="00c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Theory of computation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 marL="220680" indent="-220680">
              <a:lnSpc>
                <a:spcPct val="100000"/>
              </a:lnSpc>
              <a:buClr>
                <a:srgbClr val="00c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…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2819520" y="1173240"/>
            <a:ext cx="2133360" cy="2931840"/>
            <a:chOff x="2819520" y="1173240"/>
            <a:chExt cx="2133360" cy="2931840"/>
          </a:xfrm>
        </p:grpSpPr>
        <p:sp>
          <p:nvSpPr>
            <p:cNvPr id="129" name=""/>
            <p:cNvSpPr/>
            <p:nvPr/>
          </p:nvSpPr>
          <p:spPr>
            <a:xfrm>
              <a:off x="2854440" y="1173240"/>
              <a:ext cx="145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199"/>
                  </a:solidFill>
                  <a:latin typeface="Tahoma"/>
                </a:rPr>
                <a:t>Software</a:t>
              </a:r>
              <a:endParaRPr b="0" lang="en-US" sz="2400" spc="-1" strike="noStrike">
                <a:solidFill>
                  <a:srgbClr val="020202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819520" y="1571760"/>
              <a:ext cx="2133360" cy="25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65240" indent="-16524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Compilers</a:t>
              </a:r>
              <a:endParaRPr b="0" lang="en-US" sz="2000" spc="-1" strike="noStrike">
                <a:solidFill>
                  <a:srgbClr val="020202"/>
                </a:solidFill>
                <a:latin typeface="Times New Roman"/>
              </a:endParaRPr>
            </a:p>
            <a:p>
              <a:pPr marL="165240" indent="-16524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Graphics</a:t>
              </a:r>
              <a:endParaRPr b="0" lang="en-US" sz="2000" spc="-1" strike="noStrike">
                <a:solidFill>
                  <a:srgbClr val="020202"/>
                </a:solidFill>
                <a:latin typeface="Times New Roman"/>
              </a:endParaRPr>
            </a:p>
            <a:p>
              <a:pPr marL="165240" indent="-16524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Software engineering</a:t>
              </a:r>
              <a:endParaRPr b="0" lang="en-US" sz="2000" spc="-1" strike="noStrike">
                <a:solidFill>
                  <a:srgbClr val="020202"/>
                </a:solidFill>
                <a:latin typeface="Times New Roman"/>
              </a:endParaRPr>
            </a:p>
            <a:p>
              <a:pPr marL="165240" indent="-16524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Software testing and verification,</a:t>
              </a:r>
              <a:endParaRPr b="0" lang="en-US" sz="2000" spc="-1" strike="noStrike">
                <a:solidFill>
                  <a:srgbClr val="020202"/>
                </a:solidFill>
                <a:latin typeface="Times New Roman"/>
              </a:endParaRPr>
            </a:p>
            <a:p>
              <a:pPr marL="165240" indent="-16524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…</a:t>
              </a:r>
              <a:endParaRPr b="0" lang="en-US" sz="2000" spc="-1" strike="noStrike">
                <a:solidFill>
                  <a:srgbClr val="020202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858000" y="1600200"/>
            <a:ext cx="2133720" cy="33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01680" indent="-187200">
              <a:lnSpc>
                <a:spcPct val="80000"/>
              </a:lnSpc>
              <a:spcBef>
                <a:spcPts val="499"/>
              </a:spcBef>
              <a:buClr>
                <a:srgbClr val="00c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Artificial intelligence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 lvl="1" marL="301680" indent="-187200">
              <a:lnSpc>
                <a:spcPct val="80000"/>
              </a:lnSpc>
              <a:spcBef>
                <a:spcPts val="499"/>
              </a:spcBef>
              <a:buClr>
                <a:srgbClr val="00c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Robotics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 lvl="1" marL="301680" indent="-187200">
              <a:lnSpc>
                <a:spcPct val="80000"/>
              </a:lnSpc>
              <a:spcBef>
                <a:spcPts val="499"/>
              </a:spcBef>
              <a:buClr>
                <a:srgbClr val="00c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Natural language processing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 lvl="1" marL="301680" indent="-187200">
              <a:lnSpc>
                <a:spcPct val="80000"/>
              </a:lnSpc>
              <a:spcBef>
                <a:spcPts val="499"/>
              </a:spcBef>
              <a:buClr>
                <a:srgbClr val="00c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Bioinformatics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 lvl="1" marL="301680" indent="-187200">
              <a:lnSpc>
                <a:spcPct val="80000"/>
              </a:lnSpc>
              <a:spcBef>
                <a:spcPts val="499"/>
              </a:spcBef>
              <a:buClr>
                <a:srgbClr val="00c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Visualization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 lvl="1" marL="301680" indent="-187200">
              <a:lnSpc>
                <a:spcPct val="80000"/>
              </a:lnSpc>
              <a:spcBef>
                <a:spcPts val="499"/>
              </a:spcBef>
              <a:buClr>
                <a:srgbClr val="00c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Numerical analysis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 lvl="1" marL="301680" indent="-187200">
              <a:lnSpc>
                <a:spcPct val="80000"/>
              </a:lnSpc>
              <a:spcBef>
                <a:spcPts val="499"/>
              </a:spcBef>
              <a:buClr>
                <a:srgbClr val="00c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…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45B6-9FE4-43F7-9B4A-7EA0045C2F7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puter Science Field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62120" y="5257800"/>
            <a:ext cx="8153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 = field we discussed or did a problem in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Some are a stretch :)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47760" y="1143000"/>
            <a:ext cx="117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Theor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97240" y="1143000"/>
            <a:ext cx="101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Othe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52280" y="1192320"/>
            <a:ext cx="2743200" cy="3401280"/>
            <a:chOff x="152280" y="1192320"/>
            <a:chExt cx="2743200" cy="3401280"/>
          </a:xfrm>
        </p:grpSpPr>
        <p:sp>
          <p:nvSpPr>
            <p:cNvPr id="137" name=""/>
            <p:cNvSpPr/>
            <p:nvPr/>
          </p:nvSpPr>
          <p:spPr>
            <a:xfrm>
              <a:off x="347760" y="1192320"/>
              <a:ext cx="136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199"/>
                  </a:solidFill>
                  <a:latin typeface="Tahoma"/>
                </a:rPr>
                <a:t>Systems</a:t>
              </a:r>
              <a:endParaRPr b="0" lang="en-US" sz="2400" spc="-1" strike="noStrike">
                <a:solidFill>
                  <a:srgbClr val="020202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52280" y="1573560"/>
              <a:ext cx="274320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4320" indent="-18432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Architecture </a:t>
              </a:r>
              <a:r>
                <a:rPr b="1" lang="en-US" sz="2800" spc="-1" strike="noStrike">
                  <a:solidFill>
                    <a:srgbClr val="ffcc00"/>
                  </a:solidFill>
                  <a:latin typeface="Arial"/>
                </a:rPr>
                <a:t>*</a:t>
              </a:r>
              <a:r>
                <a:rPr b="0" lang="en-US" sz="2800" spc="-1" strike="noStrike">
                  <a:solidFill>
                    <a:srgbClr val="020202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20202"/>
                </a:solidFill>
                <a:latin typeface="Times New Roman"/>
              </a:endParaRPr>
            </a:p>
            <a:p>
              <a:pPr marL="184320" indent="-18432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Operating systems </a:t>
              </a:r>
              <a:r>
                <a:rPr b="1" lang="en-US" sz="2800" spc="-1" strike="noStrike">
                  <a:solidFill>
                    <a:srgbClr val="ffcc00"/>
                  </a:solidFill>
                  <a:latin typeface="Arial"/>
                </a:rPr>
                <a:t>*</a:t>
              </a:r>
              <a:r>
                <a:rPr b="0" lang="en-US" sz="2800" spc="-1" strike="noStrike">
                  <a:solidFill>
                    <a:srgbClr val="020202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20202"/>
                </a:solidFill>
                <a:latin typeface="Times New Roman"/>
              </a:endParaRPr>
            </a:p>
            <a:p>
              <a:pPr marL="184320" indent="-18432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Networks </a:t>
              </a:r>
              <a:r>
                <a:rPr b="1" lang="en-US" sz="2800" spc="-1" strike="noStrike">
                  <a:solidFill>
                    <a:srgbClr val="ffcc00"/>
                  </a:solidFill>
                  <a:latin typeface="Arial"/>
                </a:rPr>
                <a:t>*</a:t>
              </a:r>
              <a:r>
                <a:rPr b="0" lang="en-US" sz="2800" spc="-1" strike="noStrike">
                  <a:solidFill>
                    <a:srgbClr val="020202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20202"/>
                </a:solidFill>
                <a:latin typeface="Times New Roman"/>
              </a:endParaRPr>
            </a:p>
            <a:p>
              <a:pPr marL="184320" indent="-18432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Distributed </a:t>
              </a:r>
              <a:r>
                <a:rPr b="1" lang="en-US" sz="2800" spc="-1" strike="noStrike">
                  <a:solidFill>
                    <a:srgbClr val="ffcc00"/>
                  </a:solidFill>
                  <a:latin typeface="Arial"/>
                </a:rPr>
                <a:t>*</a:t>
              </a: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 and parallel systems</a:t>
              </a:r>
              <a:endParaRPr b="0" lang="en-US" sz="2000" spc="-1" strike="noStrike">
                <a:solidFill>
                  <a:srgbClr val="020202"/>
                </a:solidFill>
                <a:latin typeface="Times New Roman"/>
              </a:endParaRPr>
            </a:p>
            <a:p>
              <a:pPr marL="184320" indent="-18432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Databases</a:t>
              </a:r>
              <a:endParaRPr b="0" lang="en-US" sz="2000" spc="-1" strike="noStrike">
                <a:solidFill>
                  <a:srgbClr val="020202"/>
                </a:solidFill>
                <a:latin typeface="Times New Roman"/>
              </a:endParaRPr>
            </a:p>
            <a:p>
              <a:pPr marL="184320" indent="-18432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…</a:t>
              </a:r>
              <a:endParaRPr b="0" lang="en-US" sz="2000" spc="-1" strike="noStrike">
                <a:solidFill>
                  <a:srgbClr val="020202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4952880" y="157968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0680" indent="-220680">
              <a:lnSpc>
                <a:spcPct val="100000"/>
              </a:lnSpc>
              <a:buClr>
                <a:srgbClr val="00c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Algorithms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 marL="220680" indent="-220680">
              <a:lnSpc>
                <a:spcPct val="100000"/>
              </a:lnSpc>
              <a:buClr>
                <a:srgbClr val="00c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Theory of computation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 marL="220680" indent="-220680">
              <a:lnSpc>
                <a:spcPct val="100000"/>
              </a:lnSpc>
              <a:buClr>
                <a:srgbClr val="00c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…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2819520" y="1173240"/>
            <a:ext cx="2133360" cy="3418560"/>
            <a:chOff x="2819520" y="1173240"/>
            <a:chExt cx="2133360" cy="3418560"/>
          </a:xfrm>
        </p:grpSpPr>
        <p:sp>
          <p:nvSpPr>
            <p:cNvPr id="141" name=""/>
            <p:cNvSpPr/>
            <p:nvPr/>
          </p:nvSpPr>
          <p:spPr>
            <a:xfrm>
              <a:off x="2854440" y="1173240"/>
              <a:ext cx="145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199"/>
                  </a:solidFill>
                  <a:latin typeface="Tahoma"/>
                </a:rPr>
                <a:t>Software</a:t>
              </a:r>
              <a:endParaRPr b="0" lang="en-US" sz="2400" spc="-1" strike="noStrike">
                <a:solidFill>
                  <a:srgbClr val="020202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819520" y="1571760"/>
              <a:ext cx="213336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65240" indent="-16524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Compilers </a:t>
              </a:r>
              <a:r>
                <a:rPr b="1" lang="en-US" sz="2800" spc="-1" strike="noStrike">
                  <a:solidFill>
                    <a:srgbClr val="ffcc00"/>
                  </a:solidFill>
                  <a:latin typeface="Arial"/>
                </a:rPr>
                <a:t>*</a:t>
              </a:r>
              <a:r>
                <a:rPr b="0" lang="en-US" sz="2800" spc="-1" strike="noStrike">
                  <a:solidFill>
                    <a:srgbClr val="020202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20202"/>
                </a:solidFill>
                <a:latin typeface="Times New Roman"/>
              </a:endParaRPr>
            </a:p>
            <a:p>
              <a:pPr marL="165240" indent="-16524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Graphics </a:t>
              </a:r>
              <a:r>
                <a:rPr b="1" lang="en-US" sz="2800" spc="-1" strike="noStrike">
                  <a:solidFill>
                    <a:srgbClr val="ffcc00"/>
                  </a:solidFill>
                  <a:latin typeface="Arial"/>
                </a:rPr>
                <a:t>*</a:t>
              </a:r>
              <a:r>
                <a:rPr b="0" lang="en-US" sz="2800" spc="-1" strike="noStrike">
                  <a:solidFill>
                    <a:srgbClr val="020202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20202"/>
                </a:solidFill>
                <a:latin typeface="Times New Roman"/>
              </a:endParaRPr>
            </a:p>
            <a:p>
              <a:pPr marL="165240" indent="-16524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Software engineering </a:t>
              </a:r>
              <a:r>
                <a:rPr b="1" lang="en-US" sz="2800" spc="-1" strike="noStrike">
                  <a:solidFill>
                    <a:srgbClr val="ffcc00"/>
                  </a:solidFill>
                  <a:latin typeface="Arial"/>
                </a:rPr>
                <a:t>*</a:t>
              </a:r>
              <a:r>
                <a:rPr b="0" lang="en-US" sz="2800" spc="-1" strike="noStrike">
                  <a:solidFill>
                    <a:srgbClr val="020202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20202"/>
                </a:solidFill>
                <a:latin typeface="Times New Roman"/>
              </a:endParaRPr>
            </a:p>
            <a:p>
              <a:pPr marL="165240" indent="-16524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Software testing </a:t>
              </a:r>
              <a:r>
                <a:rPr b="1" lang="en-US" sz="2800" spc="-1" strike="noStrike">
                  <a:solidFill>
                    <a:srgbClr val="ffcc00"/>
                  </a:solidFill>
                  <a:latin typeface="Arial"/>
                </a:rPr>
                <a:t>*</a:t>
              </a: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 and verification,</a:t>
              </a:r>
              <a:endParaRPr b="0" lang="en-US" sz="2000" spc="-1" strike="noStrike">
                <a:solidFill>
                  <a:srgbClr val="020202"/>
                </a:solidFill>
                <a:latin typeface="Times New Roman"/>
              </a:endParaRPr>
            </a:p>
            <a:p>
              <a:pPr marL="165240" indent="-16524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…</a:t>
              </a:r>
              <a:endParaRPr b="0" lang="en-US" sz="2000" spc="-1" strike="noStrike">
                <a:solidFill>
                  <a:srgbClr val="020202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6858000" y="1600200"/>
            <a:ext cx="2133720" cy="36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01680" indent="-187200">
              <a:lnSpc>
                <a:spcPct val="80000"/>
              </a:lnSpc>
              <a:spcBef>
                <a:spcPts val="700"/>
              </a:spcBef>
              <a:buClr>
                <a:srgbClr val="00c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Artificial intelligence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 lvl="1" marL="301680" indent="-187200">
              <a:lnSpc>
                <a:spcPct val="80000"/>
              </a:lnSpc>
              <a:spcBef>
                <a:spcPts val="700"/>
              </a:spcBef>
              <a:buClr>
                <a:srgbClr val="00c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Robotics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 lvl="1" marL="301680" indent="-187200">
              <a:lnSpc>
                <a:spcPct val="80000"/>
              </a:lnSpc>
              <a:spcBef>
                <a:spcPts val="499"/>
              </a:spcBef>
              <a:buClr>
                <a:srgbClr val="00c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Natural language processing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 lvl="1" marL="301680" indent="-187200">
              <a:lnSpc>
                <a:spcPct val="80000"/>
              </a:lnSpc>
              <a:spcBef>
                <a:spcPts val="499"/>
              </a:spcBef>
              <a:buClr>
                <a:srgbClr val="00c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Bioinformatics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 lvl="1" marL="301680" indent="-187200">
              <a:lnSpc>
                <a:spcPct val="80000"/>
              </a:lnSpc>
              <a:spcBef>
                <a:spcPts val="499"/>
              </a:spcBef>
              <a:buClr>
                <a:srgbClr val="00c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Visualization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 lvl="1" marL="301680" indent="-187200">
              <a:lnSpc>
                <a:spcPct val="80000"/>
              </a:lnSpc>
              <a:spcBef>
                <a:spcPts val="499"/>
              </a:spcBef>
              <a:buClr>
                <a:srgbClr val="00c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Numerical analysis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 lvl="1" marL="301680" indent="-187200">
              <a:lnSpc>
                <a:spcPct val="80000"/>
              </a:lnSpc>
              <a:spcBef>
                <a:spcPts val="499"/>
              </a:spcBef>
              <a:buClr>
                <a:srgbClr val="00c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…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8957-8BE9-44D9-ADA7-2A560401775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S == Complexity Scien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tudy of Complexit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ow can it be done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Based on </a:t>
            </a:r>
            <a:r>
              <a:rPr b="1" lang="en-US" sz="2600" spc="-1" strike="noStrike">
                <a:solidFill>
                  <a:srgbClr val="020202"/>
                </a:solidFill>
                <a:latin typeface="Arial"/>
              </a:rPr>
              <a:t>information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Managing, manipulating data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Possible algorithms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ow well can it be done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Most </a:t>
            </a:r>
            <a:r>
              <a:rPr b="1" lang="en-US" sz="2600" spc="-1" strike="noStrike">
                <a:solidFill>
                  <a:srgbClr val="020202"/>
                </a:solidFill>
                <a:latin typeface="Arial"/>
              </a:rPr>
              <a:t>efficient</a:t>
            </a: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 algorithm in terms of time and/or space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an it be done at all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Often, proof is a program--an implementation of the above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B73B-5345-4920-B26A-5931D839EE2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iversity in Computer Scien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5562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&amp;E around 50%, CS &lt; 20%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143000" y="1066680"/>
          <a:ext cx="6324480" cy="42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066680"/>
                    <a:ext cx="6324480" cy="42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7F26-C58B-49BE-A98A-85B8DAB4CD7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Graduate Enrollmen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914400" y="1517760"/>
            <a:ext cx="7331040" cy="47307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635480" y="1066680"/>
            <a:ext cx="597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hare of S&amp;E Graduate Students by Field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A937-C318-43A5-92D6-658D078A651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ttracting Computer Scientist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Demand for software engineers is high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Create new software, applications --&gt; improve productivity</a:t>
            </a:r>
            <a:endParaRPr b="0" lang="en-US" sz="20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Good starting salaries, esp. compared to other college graduates</a:t>
            </a:r>
            <a:endParaRPr b="0" lang="en-US" sz="20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Computer science majors are decreasing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Dropped with dot-com bust</a:t>
            </a:r>
            <a:endParaRPr b="0" lang="en-US" sz="20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Losing “normal” people of all genders, ethnicities</a:t>
            </a:r>
            <a:endParaRPr b="0" lang="en-US" sz="20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Need to attract and retain more major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Maintain technical innovation, diversity of ideas</a:t>
            </a:r>
            <a:endParaRPr b="0" lang="en-US" sz="20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Computing’s effect on other fields</a:t>
            </a:r>
            <a:endParaRPr b="0" lang="en-US" sz="20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Does attracting new majors compromise/weaken the discipline?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A6CE-018E-40F9-812B-5050EDABEF7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pplying What You Know To Other Languag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t the beginning of the semester, some of you asked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hy Python?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ill I be able to read/write programs in other programming languages?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e’ll answer the first by showing that you can do the second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6D38-C232-4959-947F-F05534214F3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iscuss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228600" y="2255760"/>
          <a:ext cx="8610480" cy="2697120"/>
        </p:xfrm>
        <a:graphic>
          <a:graphicData uri="http://schemas.openxmlformats.org/drawingml/2006/table">
            <a:tbl>
              <a:tblPr/>
              <a:tblGrid>
                <a:gridCol w="2001960"/>
                <a:gridCol w="1579320"/>
                <a:gridCol w="2425680"/>
                <a:gridCol w="26035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Stereotype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% Truth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Perception changed?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How to Address?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8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8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8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457200" y="5029200"/>
            <a:ext cx="2606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ome stereotypes have some truth to them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1905120" y="4191120"/>
            <a:ext cx="761760" cy="91440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70360" y="4906800"/>
            <a:ext cx="184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ince W&amp;L or since CS11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4343400" y="4038480"/>
            <a:ext cx="457200" cy="99072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843160" y="5105520"/>
            <a:ext cx="286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In classroom?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As a profession?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Recruitment tools?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7162920" y="4114800"/>
            <a:ext cx="75960" cy="99072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9880" y="304920"/>
            <a:ext cx="533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Group1: Julie, Lucy, Vasil, Coli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Group2: Greg, Dave, Joe, Alex, Na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Group3: Ty, Clay, Arturo, Joa, Stuar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7267-17EC-4796-82BF-C577E69456F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iscuss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y do we need women and minorities and others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iversity of perspective, idea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Robot: makers of Roomba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Male and Female co-founders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Games: Missing 50% of marke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Sims - most popular game in history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roader: need applications for all peop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F93C-ECE6-44AA-B47A-EC356390862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nclus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e impact of computer science on your lif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nderstand some of the computing issues bett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aking out some of the myster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ecurity, testing, debugging, efficienc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lgorithms are everywher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ocess for solving problem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apping human intuition to systematic/automatic proces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4349-466F-4D02-9AD1-0B099D52EA1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pplying What You Know To Other Languag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20202"/>
                </a:solidFill>
                <a:latin typeface="Arial"/>
              </a:rPr>
              <a:t>Syntax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: symbols used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20202"/>
                </a:solidFill>
                <a:latin typeface="Arial"/>
              </a:rPr>
              <a:t>Semantic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: what the symbols </a:t>
            </a:r>
            <a:r>
              <a:rPr b="0" i="1" lang="en-US" sz="3200" spc="-1" strike="noStrike">
                <a:solidFill>
                  <a:srgbClr val="020202"/>
                </a:solidFill>
                <a:latin typeface="Arial"/>
              </a:rPr>
              <a:t>mea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3289-DA39-48D7-995F-F540250893F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at is the Python Program Doing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1D96-9A32-4C80-913A-3D7DCEE5609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at is the Python Program Doing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etting a line of input from “</a:t>
            </a: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standard in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” (from the user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plitting the input into integer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alculating the result to a formula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eciding if a student is admitted, based on the result of the formula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35FA-99A0-4517-BC9E-EAA341E5083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dmissions Proble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inary University decides to admit students based on a formula that weighs various factor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cores of 70 or better are admitte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put: single line, 4 integers, in order below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80880" y="3657600"/>
          <a:ext cx="8305920" cy="2643120"/>
        </p:xfrm>
        <a:graphic>
          <a:graphicData uri="http://schemas.openxmlformats.org/drawingml/2006/table">
            <a:tbl>
              <a:tblPr/>
              <a:tblGrid>
                <a:gridCol w="2768760"/>
                <a:gridCol w="2768400"/>
                <a:gridCol w="27687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Category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ange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Weight Factor (Multiplier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High School GPA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0 - 10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0.25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AT score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600-2400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.01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AP Courses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0-10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Intangibles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-10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F6D3-DB8F-4127-87EB-D0C46E33C68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Example Input/Expected Outpu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57200" y="1371600"/>
          <a:ext cx="7620120" cy="4800600"/>
        </p:xfrm>
        <a:graphic>
          <a:graphicData uri="http://schemas.openxmlformats.org/drawingml/2006/table">
            <a:tbl>
              <a:tblPr/>
              <a:tblGrid>
                <a:gridCol w="3809880"/>
                <a:gridCol w="381024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Inpu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xpected Outpu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0 1 0 30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DENY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68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6 10 99 239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ADMI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0 7 82 150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ADMI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68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 5 0 99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DENY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 5 0 100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ADMI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 5 0 101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ADMI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C09A-61EC-455D-B428-3264EF6CCD3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at is the Python Program Doing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etting a line of input from “</a:t>
            </a: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standard in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” (from the user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plitting the input into integer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alculating the result to a formula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eciding if a student is admitted, based on the result of the formula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13480" y="4834080"/>
            <a:ext cx="679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Identify these pieces in the other program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8F98-7283-4BAB-BC0E-07F75BC1BC7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Example Program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intLab.sh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Bash scrip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Java, C++, C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ogramming content problem: determining if someone should be admitted to colleg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C614-534C-43A4-83C1-D7812106E11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cp:lastPrinted>2007-12-03T20:55:52Z</cp:lastPrinted>
  <dcterms:modified xsi:type="dcterms:W3CDTF">2008-04-04T19:40:22Z</dcterms:modified>
  <cp:revision>4174</cp:revision>
  <dc:subject/>
  <dc:title>PowerPoint Presentation</dc:title>
</cp:coreProperties>
</file>