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81B-4EB4-4D53-9113-16DE6596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300-B4B5-4E25-A479-D4968611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483-AD36-4010-8038-5FF943F3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A09-2651-4CAE-B1E3-95AFC907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8B246-5FA2-4C89-B19A-72E00DAB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8724B-633B-426F-A9E8-8151D856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A2A5B-867A-4AE0-9119-35D7A673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3455F-B6A1-4A5E-A841-A69DABF9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AA66E-1EA9-4A2E-A902-B0F6FE29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2A14D-F2DA-41D0-9225-EDF36C3A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A171D-7294-43DA-9BD6-366E403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380-0E17-4411-B3CD-A20EED84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F8F1D-13D6-4B83-B593-E49FAEB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0B428-E44C-49AA-B933-7FC5610A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A3E49-85B6-450D-A02A-2E019B80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1F980-4E0D-4FC8-90C8-6FE9B507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46920-392D-469F-AB4F-E7FB95BD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516-56C7-47CD-81E3-FD0096DE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AF4-BCF6-4A41-8ACC-D233D9CC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214-BE8B-470F-B4C1-AD4A4A56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2A9-35AB-42CA-8726-5F0B593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7C4-A76C-497F-81AD-1AEF3EC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311-F43C-411B-A9AC-DED6F0BC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307-178D-49F6-8229-EFBA8CF0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9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7ED8-8561-4555-B64A-A9A4FAB7892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93D-B90F-496E-A3B4-B6BDC215732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s 1,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371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09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2"/>
            <a:endCxn id="84" idx="0"/>
          </p:cNvCxnSpPr>
          <p:nvPr/>
        </p:nvCxnSpPr>
        <p:spPr>
          <a:xfrm flipH="1">
            <a:off x="1028520" y="1828800"/>
            <a:ext cx="876600" cy="3812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>
            <a:off x="1028520" y="2666880"/>
            <a:ext cx="952920" cy="381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20920" y="1841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080" y="11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2"/>
            <a:endCxn id="87" idx="0"/>
          </p:cNvCxnSpPr>
          <p:nvPr/>
        </p:nvCxnSpPr>
        <p:spPr>
          <a:xfrm flipH="1" rot="16200000">
            <a:off x="1333440" y="2400120"/>
            <a:ext cx="1219680" cy="76680"/>
          </a:xfrm>
          <a:prstGeom prst="curvedConnector3">
            <a:avLst>
              <a:gd name="adj1" fmla="val 25036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907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913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1" idx="0"/>
          </p:cNvCxnSpPr>
          <p:nvPr/>
        </p:nvCxnSpPr>
        <p:spPr>
          <a:xfrm flipH="1">
            <a:off x="1104840" y="5257800"/>
            <a:ext cx="87660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1" idx="2"/>
          </p:cNvCxnSpPr>
          <p:nvPr/>
        </p:nvCxnSpPr>
        <p:spPr>
          <a:xfrm>
            <a:off x="1104840" y="6248520"/>
            <a:ext cx="991440" cy="3690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11360" y="5257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</p:cNvCxnSpPr>
          <p:nvPr/>
        </p:nvCxnSpPr>
        <p:spPr>
          <a:xfrm flipH="1" rot="16200000">
            <a:off x="1352520" y="5886000"/>
            <a:ext cx="1371960" cy="115200"/>
          </a:xfrm>
          <a:prstGeom prst="curvedConnector3">
            <a:avLst>
              <a:gd name="adj1" fmla="val 2572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90720" y="4800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==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94956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7" idx="2"/>
            <a:endCxn id="97" idx="0"/>
          </p:cNvCxnSpPr>
          <p:nvPr/>
        </p:nvCxnSpPr>
        <p:spPr>
          <a:xfrm flipH="1">
            <a:off x="1104840" y="3505320"/>
            <a:ext cx="876600" cy="444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2"/>
            <a:endCxn id="93" idx="0"/>
          </p:cNvCxnSpPr>
          <p:nvPr/>
        </p:nvCxnSpPr>
        <p:spPr>
          <a:xfrm>
            <a:off x="1104840" y="4406760"/>
            <a:ext cx="876600" cy="3942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97240" y="3581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7" idx="2"/>
            <a:endCxn id="93" idx="0"/>
          </p:cNvCxnSpPr>
          <p:nvPr/>
        </p:nvCxnSpPr>
        <p:spPr>
          <a:xfrm rot="16200000">
            <a:off x="1333440" y="4152960"/>
            <a:ext cx="1295640" cy="360"/>
          </a:xfrm>
          <a:prstGeom prst="curvedConnector2">
            <a:avLst/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 flipH="1">
            <a:off x="5371920" y="1752480"/>
            <a:ext cx="171504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5371920" y="2743200"/>
            <a:ext cx="1752840" cy="19814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7560" y="1066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2" idx="2"/>
            <a:endCxn id="110" idx="0"/>
          </p:cNvCxnSpPr>
          <p:nvPr/>
        </p:nvCxnSpPr>
        <p:spPr>
          <a:xfrm flipH="1" rot="16200000">
            <a:off x="7353360" y="1485720"/>
            <a:ext cx="381600" cy="914760"/>
          </a:xfrm>
          <a:prstGeom prst="curvedConnector3">
            <a:avLst>
              <a:gd name="adj1" fmla="val 25118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7124400" y="3581280"/>
            <a:ext cx="121968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2"/>
            <a:endCxn id="113" idx="0"/>
          </p:cNvCxnSpPr>
          <p:nvPr/>
        </p:nvCxnSpPr>
        <p:spPr>
          <a:xfrm flipH="1">
            <a:off x="6896160" y="2590920"/>
            <a:ext cx="1105200" cy="53352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2"/>
            <a:endCxn id="106" idx="0"/>
          </p:cNvCxnSpPr>
          <p:nvPr/>
        </p:nvCxnSpPr>
        <p:spPr>
          <a:xfrm>
            <a:off x="6896160" y="3581280"/>
            <a:ext cx="22860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2"/>
          </p:cNvCxnSpPr>
          <p:nvPr/>
        </p:nvCxnSpPr>
        <p:spPr>
          <a:xfrm flipH="1" rot="16200000">
            <a:off x="7911720" y="2679840"/>
            <a:ext cx="520920" cy="342720"/>
          </a:xfrm>
          <a:prstGeom prst="curvedConnector3">
            <a:avLst>
              <a:gd name="adj1" fmla="val 2690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5635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ider case num1=5, num2=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45C-9899-452D-B995-F9565B8307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l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1" idx="0"/>
          </p:cNvCxnSpPr>
          <p:nvPr/>
        </p:nvCxnSpPr>
        <p:spPr>
          <a:xfrm flipH="1">
            <a:off x="5371920" y="17650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24" idx="0"/>
          </p:cNvCxnSpPr>
          <p:nvPr/>
        </p:nvCxnSpPr>
        <p:spPr>
          <a:xfrm>
            <a:off x="5372280" y="27554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27" idx="0"/>
          </p:cNvCxnSpPr>
          <p:nvPr/>
        </p:nvCxnSpPr>
        <p:spPr>
          <a:xfrm flipH="1" rot="16200000">
            <a:off x="7365960" y="14853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7124040" y="35942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>
            <a:off x="6895440" y="26031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2"/>
            <a:endCxn id="124" idx="0"/>
          </p:cNvCxnSpPr>
          <p:nvPr/>
        </p:nvCxnSpPr>
        <p:spPr>
          <a:xfrm>
            <a:off x="6895800" y="35942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2"/>
          </p:cNvCxnSpPr>
          <p:nvPr/>
        </p:nvCxnSpPr>
        <p:spPr>
          <a:xfrm flipH="1" rot="16200000">
            <a:off x="7917480" y="26856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==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 flipH="1">
            <a:off x="952200" y="26794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6" idx="2"/>
            <a:endCxn id="139" idx="0"/>
          </p:cNvCxnSpPr>
          <p:nvPr/>
        </p:nvCxnSpPr>
        <p:spPr>
          <a:xfrm>
            <a:off x="952560" y="36698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283040" y="26798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 flipH="1" rot="16200000">
            <a:off x="2946240" y="23997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09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9" idx="0"/>
          </p:cNvCxnSpPr>
          <p:nvPr/>
        </p:nvCxnSpPr>
        <p:spPr>
          <a:xfrm flipH="1">
            <a:off x="2704320" y="45086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828800" y="40384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2" idx="2"/>
            <a:endCxn id="145" idx="0"/>
          </p:cNvCxnSpPr>
          <p:nvPr/>
        </p:nvCxnSpPr>
        <p:spPr>
          <a:xfrm flipH="1">
            <a:off x="2475720" y="35175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0"/>
          </p:cNvCxnSpPr>
          <p:nvPr/>
        </p:nvCxnSpPr>
        <p:spPr>
          <a:xfrm>
            <a:off x="2476080" y="45086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08296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</p:cNvCxnSpPr>
          <p:nvPr/>
        </p:nvCxnSpPr>
        <p:spPr>
          <a:xfrm flipH="1" rot="16200000">
            <a:off x="3497760" y="36000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905120" y="5638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080" y="1139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ch tends to be more efficien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7FC-7CD0-4601-A5C3-B53ED2D54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MI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ably better to compute as a float and then round to nearest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do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legant if/else condi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3581280"/>
            <a:ext cx="32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lt; 19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0320" y="417528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gt;= 19 and bmi &lt;=25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654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s  opposed to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80" y="6093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Both are corr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D3B-2A0E-4A7F-9007-C416CBC53E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fficiency and Elega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art thinking more about efficiency and elegance when writing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variable names, good comments, good spac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4A7-46F5-46CE-A57C-C17E25DAB3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urn in before end of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0C6-4566-4131-8B39-E74A371ED9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27T16:51:22Z</cp:lastPrinted>
  <dcterms:modified xsi:type="dcterms:W3CDTF">2007-10-10T00:27:57Z</dcterms:modified>
  <cp:revision>514</cp:revision>
  <dc:subject/>
  <dc:title>PowerPoint Presentation</dc:title>
</cp:coreProperties>
</file>