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D8D-B3A6-41DB-A6EA-5323BCD0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EA0-A530-497A-B532-C8F6C213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8EA-C712-415B-B056-9A532BC4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DE1-6FB5-40F1-B481-74F26435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B844A-8E93-457D-9120-BAFA5A82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0A43C-7BC7-4932-9907-B31370F3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05AAA-ED02-4CBA-9DE2-2A7FACE2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F3A78-6B22-413C-9CCA-19ADC202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0E624-A0D8-4CE4-8B7A-023153E9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83A70-4794-4001-A18E-5B649A46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22A43-5C6C-4274-A3B4-DDB7DD5A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171-6290-4581-B6C6-7AF5DFA8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49024-D693-4907-A745-D31B7D2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E8BD4-2DDF-4749-973D-71DF0F8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BE8C6-5F69-400F-8AD0-40BFC7B0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76001-4641-48D7-A177-FB58E2AC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53863-9791-458B-98C1-7F4732D2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5B5-DA57-43EF-BD9D-085BB10A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FCC-E793-4CC4-BB3D-B6200DE0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166-F69C-4E26-A80C-EB685DF7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ACA-3850-4129-861B-6DC11969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3CD-EAD9-4D1A-B8C6-AF6272E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E71-3C87-4899-8FED-45A3CD3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453-A133-45D7-8411-C9038116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6804-5968-44B3-A1C3-FCFB586FBC1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28C8-FF43-49CC-A8A7-E5041310B20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 Conditional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834-9C7A-4469-A91E-CB318AEA5C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s, comparing use of brea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condition shows when loop will stop executing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x % 2 !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Try again.  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 is an even number.”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have to look inside loop to know when it stops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True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x %2 =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is an even number.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Using break statement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est when loop has to execute at least once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D6C-6AD0-485B-BCC5-2D38E5CA10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vs.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y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can be translated into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vice vers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mor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owerfu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an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87C-9BE6-4D03-915B-63FFCABFD1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 of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al stat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, if-else, if-else-i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ile, f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224-1263-4057-B800-436B87D596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ndeterministic Deci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times, we don’t want to necessarily know that a specific decision is always ma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games often use randomness to make decis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in fli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cation and behavior of badd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0A9-1986-4313-9606-1B49E92951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random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modu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provides the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to generate pseudo-random numb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“pseudo-random”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tually generates a list of numbers and grabs the next one off the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 “seed” is used to initialize the random number gen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y default, the current time is us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FAC-1C90-4E6F-88D5-88AE341BD6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Arial"/>
              </a:rPr>
              <a:t>Some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 random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(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next random floating point number in the range [0.0, 1.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int(a, b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a random integer N such that a&lt;= N&lt;= 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0160" y="1419120"/>
            <a:ext cx="19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73880" y="62452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dom_te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0F1-36CF-4859-B5AC-7789A3515D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imulate Flipping Coi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ulate by randomly selecting between 0 (heads) and 1 (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coinFlip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lem: How many flips does it take to get 3 consecutive head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09640" y="62452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ecutiveHea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ECD-C97D-4265-BD3A-B36F912910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ctober Problem of the Mont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welve W&amp;L alumni get together during homecoming to have lunch.  Before they sit down to eat, everyone shakes hands with everyone else exactly once.  How many handshakes take plac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2120" y="6245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ke_han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F7E-922E-417E-9FA9-3CA03E0C2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vironmental Monitoring with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e blog entry for links, more inf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58F-6F34-460F-A041-204AF96149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ditional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gical operators: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no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numeric grade convers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um_grade &lt; 0 or num_grade &gt; 100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t( num_grade &lt; 0 or num_grade &gt; 100)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971-B2A1-4424-B9FC-22992560C5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6D9-8352-40B7-A217-F14F102D34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2"/>
            <a:endCxn id="89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3" idx="2"/>
            <a:endCxn id="90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  <a:endCxn id="90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BBC-BAEA-45CA-9F6D-6896C961C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known Number of It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ums numbers input by use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op when the user inputs some designated stop value (Enter --&gt; “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720" y="6245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tillzer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482-F1AF-436A-B8D9-06F3AFC955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: Sentinel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ntinel: when to st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uard” to th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value != sentinel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valu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F40-B95D-4074-8E38-7D0EAEDA8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443-C106-49C9-90A5-557B94BB86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condition’s variable insid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815-FFD7-48D3-91D4-FC35829FA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e of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state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can “break you” out of a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733920"/>
            <a:ext cx="35816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count &lt; 100 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9040" y="27432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2"/>
            <a:endCxn id="115" idx="0"/>
          </p:cNvCxnSpPr>
          <p:nvPr/>
        </p:nvCxnSpPr>
        <p:spPr>
          <a:xfrm flipH="1">
            <a:off x="5371920" y="321480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16" idx="1"/>
          </p:cNvCxnSpPr>
          <p:nvPr/>
        </p:nvCxnSpPr>
        <p:spPr>
          <a:xfrm flipV="1" rot="16200000">
            <a:off x="2919600" y="3696480"/>
            <a:ext cx="2300760" cy="851400"/>
          </a:xfrm>
          <a:prstGeom prst="bentConnector4">
            <a:avLst>
              <a:gd name="adj1" fmla="val -9311"/>
              <a:gd name="adj2" fmla="val 125169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733920" y="1752480"/>
            <a:ext cx="327636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, 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1971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9320" y="2463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800600"/>
            <a:ext cx="13716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2"/>
            <a:endCxn id="119" idx="0"/>
          </p:cNvCxnSpPr>
          <p:nvPr/>
        </p:nvCxnSpPr>
        <p:spPr>
          <a:xfrm flipH="1">
            <a:off x="4494960" y="4205160"/>
            <a:ext cx="87732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0" idx="2"/>
            <a:endCxn id="116" idx="0"/>
          </p:cNvCxnSpPr>
          <p:nvPr/>
        </p:nvCxnSpPr>
        <p:spPr>
          <a:xfrm>
            <a:off x="5372280" y="222408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5257440" y="297180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715000" y="4800600"/>
            <a:ext cx="15238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5" idx="2"/>
            <a:endCxn id="127" idx="0"/>
          </p:cNvCxnSpPr>
          <p:nvPr/>
        </p:nvCxnSpPr>
        <p:spPr>
          <a:xfrm>
            <a:off x="5371920" y="4205160"/>
            <a:ext cx="110556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077160" y="4267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0480" y="4191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25" idx="0"/>
          </p:cNvCxnSpPr>
          <p:nvPr/>
        </p:nvCxnSpPr>
        <p:spPr>
          <a:xfrm flipH="1">
            <a:off x="5257080" y="5272200"/>
            <a:ext cx="1220040" cy="962640"/>
          </a:xfrm>
          <a:prstGeom prst="straightConnector1">
            <a:avLst/>
          </a:prstGeom>
          <a:ln w="3168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89240" y="2697120"/>
            <a:ext cx="259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 &lt; 10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count &lt; 100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 +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E26-3503-4618-A5D8-C89033C639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2T19:57:10Z</dcterms:modified>
  <cp:revision>941</cp:revision>
  <dc:subject/>
  <dc:title>PowerPoint Presentation</dc:title>
</cp:coreProperties>
</file>