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BF7-F2CB-4ADB-AD3D-E4B62473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81C-D563-4D1A-AA2B-31B2C9D0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D06-FFBD-4CA1-9791-C7C61321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AA6-F535-4B42-BD78-48AEAF95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36CA0-44FC-4932-A49D-06F88BED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F3931-7F39-4551-8D0A-22F013F8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B83A9-3733-4C3A-88A2-02C2FB94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7E418-2EA1-4A9B-B63F-AE2463D7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BBC96-17BD-421F-9F2A-791CB780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F8657-3E08-4F95-B675-9B50DB3D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F642A-F2D1-4CF7-A8D7-F131F9BC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583E-FBDF-46A4-95D8-6CCA0998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0B76F-E4C9-4750-ABBD-3C4B7D5A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59D3E-7D55-4839-8241-FC10F504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F833D-8068-4523-B79C-60E5E71A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8D734-37C9-4731-B237-E9CB1C16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6D6F9-9BDE-4B66-822E-3F24CBF5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6E0-4692-4FB9-8B1B-B7F2BE57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EEE-ABB4-4087-95BC-31DB74DA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1A8-30A2-4F49-B3F5-A504EAA4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06E2-6D90-4883-8971-54C777B1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2BE-DF75-4CE0-8845-B6E31D35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CE8-9EEF-49F1-8B6C-F385ED05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983-49EA-400A-AE48-0E71B157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9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95F9-0519-4415-A707-7FDA1DD227D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8CED-07B4-4C92-9413-5A0BFF2A7CE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s 1,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371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209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3" idx="2"/>
            <a:endCxn id="84" idx="0"/>
          </p:cNvCxnSpPr>
          <p:nvPr/>
        </p:nvCxnSpPr>
        <p:spPr>
          <a:xfrm flipH="1">
            <a:off x="1028520" y="1828800"/>
            <a:ext cx="876600" cy="3812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4" idx="2"/>
            <a:endCxn id="87" idx="0"/>
          </p:cNvCxnSpPr>
          <p:nvPr/>
        </p:nvCxnSpPr>
        <p:spPr>
          <a:xfrm>
            <a:off x="1028520" y="2666880"/>
            <a:ext cx="952920" cy="381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20920" y="18414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6080" y="114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3" idx="2"/>
            <a:endCxn id="87" idx="0"/>
          </p:cNvCxnSpPr>
          <p:nvPr/>
        </p:nvCxnSpPr>
        <p:spPr>
          <a:xfrm flipH="1" rot="16200000">
            <a:off x="1333440" y="2400120"/>
            <a:ext cx="1219680" cy="76680"/>
          </a:xfrm>
          <a:prstGeom prst="curvedConnector3">
            <a:avLst>
              <a:gd name="adj1" fmla="val 25036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907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7913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2"/>
            <a:endCxn id="91" idx="0"/>
          </p:cNvCxnSpPr>
          <p:nvPr/>
        </p:nvCxnSpPr>
        <p:spPr>
          <a:xfrm flipH="1">
            <a:off x="1104840" y="5257800"/>
            <a:ext cx="87660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91" idx="2"/>
          </p:cNvCxnSpPr>
          <p:nvPr/>
        </p:nvCxnSpPr>
        <p:spPr>
          <a:xfrm>
            <a:off x="1104840" y="6248520"/>
            <a:ext cx="991440" cy="3690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711360" y="52578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3" idx="2"/>
          </p:cNvCxnSpPr>
          <p:nvPr/>
        </p:nvCxnSpPr>
        <p:spPr>
          <a:xfrm flipH="1" rot="16200000">
            <a:off x="1352520" y="5886000"/>
            <a:ext cx="1371960" cy="115200"/>
          </a:xfrm>
          <a:prstGeom prst="curvedConnector3">
            <a:avLst>
              <a:gd name="adj1" fmla="val 2572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990720" y="4800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==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94956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7" idx="2"/>
            <a:endCxn id="97" idx="0"/>
          </p:cNvCxnSpPr>
          <p:nvPr/>
        </p:nvCxnSpPr>
        <p:spPr>
          <a:xfrm flipH="1">
            <a:off x="1104840" y="3505320"/>
            <a:ext cx="876600" cy="444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7" idx="2"/>
            <a:endCxn id="93" idx="0"/>
          </p:cNvCxnSpPr>
          <p:nvPr/>
        </p:nvCxnSpPr>
        <p:spPr>
          <a:xfrm>
            <a:off x="1104840" y="4406760"/>
            <a:ext cx="876600" cy="3942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97240" y="358128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7" idx="2"/>
            <a:endCxn id="93" idx="0"/>
          </p:cNvCxnSpPr>
          <p:nvPr/>
        </p:nvCxnSpPr>
        <p:spPr>
          <a:xfrm rot="16200000">
            <a:off x="1333440" y="4152960"/>
            <a:ext cx="1295640" cy="360"/>
          </a:xfrm>
          <a:prstGeom prst="curvedConnector2">
            <a:avLst/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2"/>
            <a:endCxn id="103" idx="0"/>
          </p:cNvCxnSpPr>
          <p:nvPr/>
        </p:nvCxnSpPr>
        <p:spPr>
          <a:xfrm flipH="1">
            <a:off x="5371920" y="1752480"/>
            <a:ext cx="171504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3" idx="2"/>
            <a:endCxn id="106" idx="0"/>
          </p:cNvCxnSpPr>
          <p:nvPr/>
        </p:nvCxnSpPr>
        <p:spPr>
          <a:xfrm>
            <a:off x="5371920" y="2743200"/>
            <a:ext cx="1752840" cy="19814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7560" y="1066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2" idx="2"/>
            <a:endCxn id="110" idx="0"/>
          </p:cNvCxnSpPr>
          <p:nvPr/>
        </p:nvCxnSpPr>
        <p:spPr>
          <a:xfrm flipH="1" rot="16200000">
            <a:off x="7353360" y="1485720"/>
            <a:ext cx="381600" cy="914760"/>
          </a:xfrm>
          <a:prstGeom prst="curvedConnector3">
            <a:avLst>
              <a:gd name="adj1" fmla="val 25118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1" idx="2"/>
            <a:endCxn id="106" idx="0"/>
          </p:cNvCxnSpPr>
          <p:nvPr/>
        </p:nvCxnSpPr>
        <p:spPr>
          <a:xfrm flipH="1">
            <a:off x="7124400" y="3581280"/>
            <a:ext cx="121968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0" idx="2"/>
            <a:endCxn id="113" idx="0"/>
          </p:cNvCxnSpPr>
          <p:nvPr/>
        </p:nvCxnSpPr>
        <p:spPr>
          <a:xfrm flipH="1">
            <a:off x="6896160" y="2590920"/>
            <a:ext cx="1105200" cy="53352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2"/>
            <a:endCxn id="106" idx="0"/>
          </p:cNvCxnSpPr>
          <p:nvPr/>
        </p:nvCxnSpPr>
        <p:spPr>
          <a:xfrm>
            <a:off x="6896160" y="3581280"/>
            <a:ext cx="22860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0" idx="2"/>
          </p:cNvCxnSpPr>
          <p:nvPr/>
        </p:nvCxnSpPr>
        <p:spPr>
          <a:xfrm flipH="1" rot="16200000">
            <a:off x="7911720" y="2679840"/>
            <a:ext cx="520920" cy="342720"/>
          </a:xfrm>
          <a:prstGeom prst="curvedConnector3">
            <a:avLst>
              <a:gd name="adj1" fmla="val 2690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6320" y="5635800"/>
            <a:ext cx="47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ider case num1=5, num2=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F8E-3B50-4EBE-AD95-E910F17DDD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l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21" idx="0"/>
          </p:cNvCxnSpPr>
          <p:nvPr/>
        </p:nvCxnSpPr>
        <p:spPr>
          <a:xfrm flipH="1">
            <a:off x="5371920" y="17650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2"/>
            <a:endCxn id="124" idx="0"/>
          </p:cNvCxnSpPr>
          <p:nvPr/>
        </p:nvCxnSpPr>
        <p:spPr>
          <a:xfrm>
            <a:off x="5372280" y="27554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0" idx="2"/>
            <a:endCxn id="127" idx="0"/>
          </p:cNvCxnSpPr>
          <p:nvPr/>
        </p:nvCxnSpPr>
        <p:spPr>
          <a:xfrm flipH="1" rot="16200000">
            <a:off x="7365960" y="14853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2"/>
            <a:endCxn id="124" idx="0"/>
          </p:cNvCxnSpPr>
          <p:nvPr/>
        </p:nvCxnSpPr>
        <p:spPr>
          <a:xfrm flipH="1">
            <a:off x="7124040" y="35942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30" idx="0"/>
          </p:cNvCxnSpPr>
          <p:nvPr/>
        </p:nvCxnSpPr>
        <p:spPr>
          <a:xfrm flipH="1">
            <a:off x="6895440" y="26031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30" idx="2"/>
            <a:endCxn id="124" idx="0"/>
          </p:cNvCxnSpPr>
          <p:nvPr/>
        </p:nvCxnSpPr>
        <p:spPr>
          <a:xfrm>
            <a:off x="6895800" y="35942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7" idx="2"/>
          </p:cNvCxnSpPr>
          <p:nvPr/>
        </p:nvCxnSpPr>
        <p:spPr>
          <a:xfrm flipH="1" rot="16200000">
            <a:off x="7917480" y="26856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2096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==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2004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 flipH="1">
            <a:off x="952200" y="26794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6" idx="2"/>
            <a:endCxn id="139" idx="0"/>
          </p:cNvCxnSpPr>
          <p:nvPr/>
        </p:nvCxnSpPr>
        <p:spPr>
          <a:xfrm>
            <a:off x="952560" y="36698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283040" y="26798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5" idx="2"/>
            <a:endCxn id="142" idx="0"/>
          </p:cNvCxnSpPr>
          <p:nvPr/>
        </p:nvCxnSpPr>
        <p:spPr>
          <a:xfrm flipH="1" rot="16200000">
            <a:off x="2946240" y="23997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09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0384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39" idx="0"/>
          </p:cNvCxnSpPr>
          <p:nvPr/>
        </p:nvCxnSpPr>
        <p:spPr>
          <a:xfrm flipH="1">
            <a:off x="2704320" y="45086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828800" y="40384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2" idx="2"/>
            <a:endCxn id="145" idx="0"/>
          </p:cNvCxnSpPr>
          <p:nvPr/>
        </p:nvCxnSpPr>
        <p:spPr>
          <a:xfrm flipH="1">
            <a:off x="2475720" y="35175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5" idx="2"/>
            <a:endCxn id="139" idx="0"/>
          </p:cNvCxnSpPr>
          <p:nvPr/>
        </p:nvCxnSpPr>
        <p:spPr>
          <a:xfrm>
            <a:off x="2476080" y="45086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08296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</p:cNvCxnSpPr>
          <p:nvPr/>
        </p:nvCxnSpPr>
        <p:spPr>
          <a:xfrm flipH="1" rot="16200000">
            <a:off x="3497760" y="36000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905120" y="5638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5080" y="113976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ch tends to be more efficien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BC3-7A90-4695-98AD-7810B49468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MI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ably better to compute as a float and then round to nearest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do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legant if/else condi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840" y="3581280"/>
            <a:ext cx="327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lt; 19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10320" y="4175280"/>
            <a:ext cx="404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gt;= 19 and bmi &lt;=25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36543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As  opposed to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7880" y="609300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Both are corr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7BF2-24E4-47FC-813B-8D32331946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fficiency and Elega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art thinking more about efficiency and elegance when writing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variable names, good comments, good spac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B47-8FCE-4AD6-BC91-0874CE9BE4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urn in before end of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F41-CF99-4A4B-8176-A7B62FD71B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27T16:51:22Z</cp:lastPrinted>
  <dcterms:modified xsi:type="dcterms:W3CDTF">2007-10-10T00:27:57Z</dcterms:modified>
  <cp:revision>514</cp:revision>
  <dc:subject/>
  <dc:title>PowerPoint Presentation</dc:title>
</cp:coreProperties>
</file>