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9A1-C974-48E3-A9FA-388526F8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6BE-9DB1-4AA1-AA1F-AA121926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4C9-B56F-408C-A47B-A0157ADE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8F1-D1A6-42E8-894F-44190292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66595-B988-4B23-9A2A-8487AA95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33461-CE6F-4D7C-8410-6ABBF0A4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1677C-1A70-4FF9-BF2E-299DF3FF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13A20-A3BA-4737-B432-9FF31968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56833-05F1-4E24-965D-8B0997E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F40D9-FEF1-42FC-8247-ECED2332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87B21-9BC5-44DC-81CE-0EA7D0AC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F3E-B6FD-42E5-97DA-A51CBB17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741AD-9710-4EB8-A252-0ADC2B7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AEF23-790A-4BD4-BD4E-637D3689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35CBB-DB58-4F0B-AF17-0ED94B50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D122D-07F6-4D5D-AE62-6D5A3B27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C302B-4D57-41C3-A214-CDEB144C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E13-3126-443B-A128-B7B06A2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856-FCA2-4081-8B5C-60117F63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0F5-E698-4115-B5A3-40D5851C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31D-0F4F-4FE8-BE56-9A43695A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F73-028A-483A-8A5D-5F5B9A27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4EB-DAF7-499D-991F-8A09C45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3CA-9BBE-4140-AF6E-7F10A0F3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A0A6-92F0-4E21-968B-600F36BAC53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3E9F-970E-454C-A3A5-5033720A7B7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i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267-9291-46FB-A25F-479D61EF2C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2880" y="312408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range(15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s a list of size 15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0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1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x] = newfi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num in fibs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each num on sep lin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120" y="6321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1320" y="191448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ilar to xrang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n use same parame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286000"/>
            <a:ext cx="137160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0A8-7AD3-433C-BA64-FE8F1AB05F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Arra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ly, lists are similar to array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imilar to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C++ and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ArrayLis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Jav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, arrays hav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ength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insert and remove elements from arrays so that the length of the array chan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make the array as big as you’ll think you’ll ne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2FA-5A25-4D87-AA97-22594D970B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 ar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immu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be mutat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, can’t be modified/chang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sts can be chang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table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" y="39625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=[“milk”, “eggs”, “bread”, “Doritos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080" y="4471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0] = “skim milk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3] = “popcorn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626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 is now [“skim milk”, “eggs”, “bread”, “popcorn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E15-6B69-4862-B01E-602294D84B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pie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following code outpu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[1, 2, 3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[0] = 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4E8-6FE6-4E05-A3E2-DA40CB841F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Identifiers are Poin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 is not a copy of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ints to what x points t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to make a copy of 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 +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: y=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y.extend(x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0400" y="1806480"/>
          <a:ext cx="3505320" cy="5173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18280" y="16002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24717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06480"/>
            <a:ext cx="1828800" cy="2286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63680"/>
            <a:ext cx="167652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E7C-31C8-4BE5-B218-1A10FFB499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as Parameters to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modify a list passed as a parameter into a function, the list is modified outsid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s a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assed-by-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fferent from immutable types (e.g., numbers, string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rameter is actually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poin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the list in memory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7FA-8A79-496F-A0B7-347B4BFB78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ort a list of 3 numbers, in descending ord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ith list method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we do this using only three comparison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00" y="3222720"/>
            <a:ext cx="66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# order list such that list[0] &gt;= list[1] &gt;= list[2]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descendSort3Nums( list3 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5720" y="6278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460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lled a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52117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3Nums(list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DD7-E2F4-4C19-8133-3D08F2DD2B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Does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in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Work for List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x in groceries, where groceries is a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element in list, checks if element equals (==)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worst case, how many elements does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to chec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improve the search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7E1-76C3-4BEE-A60C-36DD40A1A1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earch Improv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rt the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helps search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960" y="6245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i-Low g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9C4-57CE-493F-A62B-2E7DA47EB0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aster Look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I wanted to know the Registrar’s phone number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ould I search through an alphabetized list of phone number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, I would look up the Registrar and find the phone numb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ssociate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with the Registr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ype of data structure is known as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dictionar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s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EF9-D16D-4D21-9C73-8259898D20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Sequences of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ommonly group a sequence of data together and refer to them by one na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 of the week: Sunday, Monday, Tuesday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nths of the year: January, February, March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pping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represent this data as a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arrays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other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B6D-C3C0-4B35-8222-A091608AA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CLASS ANSWERS: variable names --&gt; values, function names --&gt; function definitions, ascii value --&gt; character, character --&gt; ascii value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7A1-6976-4147-95A7-25591D80FD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eys are not necessarily alphabetiz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pings are from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key to one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r mor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uniqu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Values are not necessarily uniq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8AC-C94C-4C64-8C4C-C0BBEB15FF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2E1-EBBC-476A-85FF-180D6C00D9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F7C-F03F-4D8D-A2D4-8E81FA64D7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ert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EFB-FA30-4056-A28F-8F36670A67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5638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cience &amp; Engineering: near 5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26684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9FD-E9F8-4EB1-B63B-8927835E7A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C83-457A-4441-8769-04E3E81548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2001, S&amp;E: 11% full, 22% assoc, 36% ass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S: 8%, 13%, 14%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143000"/>
          <a:ext cx="723888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39D-BBBA-4341-85F8-FCC4524627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 related item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ame with a single variable name instead of creating many separate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.g., sunday = “Sun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has an </a:t>
            </a:r>
            <a:r>
              <a:rPr b="0" i="1" lang="en-US" sz="2800" spc="-1" strike="noStrike">
                <a:solidFill>
                  <a:srgbClr val="00c6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venient for dealing with large amounts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could keep all the temperature data in a list if needed to reuse la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and methods for handling, manipulat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EF2-6976-45DF-9DB1-B6180A99A7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: A Closer Loo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&lt;listname&gt;[&lt;int_expr&gt;]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accessing characters in a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-1] is “Sat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0] is “Sun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803240"/>
          <a:ext cx="7620120" cy="101592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154160"/>
                <a:gridCol w="1023840"/>
                <a:gridCol w="1087560"/>
                <a:gridCol w="1089000"/>
              </a:tblGrid>
              <a:tr h="5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o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ue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d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hu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ri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7480" y="1139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905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osition/index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371600"/>
            <a:ext cx="53316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2895120"/>
            <a:ext cx="914400" cy="3812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en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InWeek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) is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7680" y="1219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aysInWee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016-A2F0-4D58-B65C-77B7F84C3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+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eti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* &lt;int-expr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&lt;int-expr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seq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lic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: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var&gt; in &lt;seq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expr&gt; in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7560" y="577044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imilar to operations for string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F8B-9479-4CDB-B908-049E1CE9BC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L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very element in the list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quivalent t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6000" y="3317760"/>
            <a:ext cx="27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tem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st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item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23162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 item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8200" y="2286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2666880"/>
            <a:ext cx="76176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895480"/>
            <a:ext cx="45720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1760" y="514656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range(len(list))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st[x]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5114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819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3000" y="62784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OfWeek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4B4-A7A2-4682-B4F2-4D07070A1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embershi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heck if a list contains an elem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Example problem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rolledstudents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is a list of students who are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ant to check if a student who attends the class is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If have a list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attendingstudent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, check if each attending student is an enrolled stud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1080" y="396252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student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enrolledstudents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udent, “is not enrolled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70D-3259-46EF-95EA-162DAA8848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17680"/>
          <a:ext cx="8305920" cy="4865760"/>
        </p:xfrm>
        <a:graphic>
          <a:graphicData uri="http://schemas.openxmlformats.org/drawingml/2006/table">
            <a:tbl>
              <a:tblPr/>
              <a:tblGrid>
                <a:gridCol w="2819520"/>
                <a:gridCol w="548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append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 elemen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the e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sort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ort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vers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verse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dex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index of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Error i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not in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ser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ser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to list at index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coun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number of occurrences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move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pop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h element of the list and returns its valu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FE0-D5B0-4014-A71E-95899BB31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80" y="3200400"/>
            <a:ext cx="798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[]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 an empty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append the first two Fib numb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6)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ompute the next 13 nu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newfib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fib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out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1000" y="63244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3EB-AD1E-4DCB-BCBC-05617ACE7E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1:06Z</cp:lastPrinted>
  <dcterms:modified xsi:type="dcterms:W3CDTF">2007-10-22T19:51:30Z</dcterms:modified>
  <cp:revision>2147</cp:revision>
  <dc:subject/>
  <dc:title>PowerPoint Presentation</dc:title>
</cp:coreProperties>
</file>