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1453-A66D-4B2A-8F0C-660519215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756A-8F18-4438-A8D6-CCC7C5AE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CA8B-4FB4-4BA5-A181-E6A160AD2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861E-14AA-407A-B853-77205BAD2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FA25E-83F6-4AAD-B1A7-4F517E3F7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ADBAC-C15D-4C6C-883A-2F5321AA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C9708-1358-4DDA-BDE0-B0631CC8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FA7EF-6A03-4060-82D6-0F2737E0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7B4AF-71AD-4E81-B5C3-CE6BFA35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89930-615A-4948-ADCA-34E962BF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05F67-A837-4F1B-8368-82E7FE26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99ED-50E5-48CB-A518-03024582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A7913-B9A0-43EE-9FDA-6A4F605D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784BD-F316-4C11-953E-C40BDD80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B9C0B-DEDF-4B33-8A15-33D27F06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65BCC-D3B9-42FB-B28F-68F58D310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FB13A-B26E-4905-8330-FDA29F398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7E33-44E7-4B5C-8A30-D80C4C39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A9E2-7303-4CD8-A845-B6602566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907D-68DA-4423-B868-3D77E2AF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4460-2F02-42E2-8511-3DC98F07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DBEA-6C14-4FB9-A760-B673453C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5E6E-06CA-4F17-BBCF-684EAEBF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C59F-6D86-47C6-943F-FC8524A9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t 25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AC6F-B250-419D-895F-0035EA55BBF7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E398-297A-4DF0-91F1-1ECA7D177875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b 1 Feedbac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y Linux/UNIX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b 2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07A5-DDDD-4BA1-9A92-87B036F918D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enefits of Remote Ac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tilize more resourc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mpute partial answers on different machin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mbine partial answers into final answ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ewer idle CPU cyc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Take advantage of other machine’s resource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pplications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stributed and parallel process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cientific comput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D1FC-B86D-4FC2-B674-BE4D41A07CE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2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cus: formatting output, for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actice using Linux remote acces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ess help on stuff you should kno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ess help on initial problem-solving ste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imulate the problem/solution on pap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rite out your algorithm on pap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409F-7D25-47B6-AEFE-4279E85F35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1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kin’ goo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ood comment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ood naming of variab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ood test cas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D45E-05EC-4B81-8407-F9B4545CF8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1 Feedback: Variable Nam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descriptive variable nam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for atomic weight, the input from the user about the number of hydrogen atoms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num_h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egin with lowercase letter for typical variab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ll caps for consta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Variables that don’t change during program exec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2183-30EF-4E46-9A9A-F8BAB2B9D5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1 Feedback: Test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monstrate that your program works using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several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600"/>
                </a:solidFill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est cases when there is user-in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 well-known test cases, when applicabl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example with F--&gt;C, use 32F, 212F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n’t show me testing from when you were developing the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after you’ve done all testing/debugg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start IDLE shell to get rid of previous testing resul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6BC8-2E1C-4114-846B-2D3B7C454F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1 Feedback: Data Typ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n’t need to use constructor/converter if variable is of correct data typ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x = raw_input(“…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x is a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“You entered” + x + “.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Note don’t need to use str(x) because x is already a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73F9-EF71-4738-815F-C872A0A0E8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Linux/UNIX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pending on who you ask, you’ll get different answ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5F4F-9678-415C-9D93-013E7534F0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Linux/UNIX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perating system reas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ability -- reboot less ofte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fficiency (requires fewer hardware resources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ore secure (fewer viruses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r operations efficienc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duce amount of time that user’s hands leave keyboar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Reduce mouse click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Real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ulti-user capabiliti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ore than one user can use the machine’s resourc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6F7B-3F1B-4A35-AAFF-EBE4A542A9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Machine Resources Remotel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4038120"/>
            <a:ext cx="85345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User1 physically sitting at machine named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pascal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User2 physically sitting at machine named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malltalk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User 2 remotely logs into pascal using ssh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SH: secure shell protocol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1371600"/>
            <a:ext cx="2362320" cy="1905120"/>
          </a:xfrm>
          <a:prstGeom prst="rect">
            <a:avLst/>
          </a:pr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malltal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2286000"/>
            <a:ext cx="1905120" cy="83808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User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819160" y="2514600"/>
            <a:ext cx="2819160" cy="0"/>
          </a:xfrm>
          <a:prstGeom prst="line">
            <a:avLst/>
          </a:prstGeom>
          <a:ln w="381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82760" y="205416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ss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371600"/>
            <a:ext cx="2362320" cy="2362320"/>
          </a:xfrm>
          <a:prstGeom prst="rect">
            <a:avLst/>
          </a:pr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asc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2666880"/>
            <a:ext cx="1905120" cy="838440"/>
          </a:xfrm>
          <a:prstGeom prst="rect">
            <a:avLst/>
          </a:pr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User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0587-F9E2-4883-968B-1A623C9C43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Machine Resources Remotel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280" y="411444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r2 can execute programs </a:t>
            </a:r>
            <a:r>
              <a:rPr b="0" i="1" lang="en-US" sz="3200" spc="-1" strike="noStrike">
                <a:solidFill>
                  <a:srgbClr val="010199"/>
                </a:solidFill>
                <a:latin typeface="Arial"/>
              </a:rPr>
              <a:t>remotely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n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pascal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achine from command lin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’t use desktop manag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r1 and User2 share pascal’s resourc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371600"/>
            <a:ext cx="2362320" cy="2362320"/>
          </a:xfrm>
          <a:prstGeom prst="rect">
            <a:avLst/>
          </a:pr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asc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2666880"/>
            <a:ext cx="1905120" cy="838440"/>
          </a:xfrm>
          <a:prstGeom prst="rect">
            <a:avLst/>
          </a:pr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User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38680" y="1371600"/>
            <a:ext cx="2362320" cy="1905120"/>
          </a:xfrm>
          <a:prstGeom prst="rect">
            <a:avLst/>
          </a:pr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malltal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286000"/>
            <a:ext cx="1905120" cy="83808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User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160" y="2514600"/>
            <a:ext cx="2819160" cy="0"/>
          </a:xfrm>
          <a:prstGeom prst="line">
            <a:avLst/>
          </a:prstGeom>
          <a:ln w="381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82760" y="205416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ss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1981080"/>
            <a:ext cx="1066680" cy="45720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User 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4B93-973B-4C49-83A4-BDEE5C1422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09-25T16:05:14Z</dcterms:modified>
  <cp:revision>425</cp:revision>
  <dc:subject/>
  <dc:title>PowerPoint Presentation</dc:title>
</cp:coreProperties>
</file>