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B2D7-A666-48E6-A6A6-8494B90928F3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8D4E-3FE0-4419-A689-6554125A7C2F}" type="slidenum">
              <a:rPr b="0" lang="en-US" sz="12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606920" cy="3454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6400" y="4352760"/>
            <a:ext cx="50770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228-36B5-47C9-B94A-C391095D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C7D-C7E2-4610-8E3E-299B3576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6F8-D0A8-42B9-9141-2F6E8C3B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134-B793-419E-A21C-7F695FDA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F3B36-92CD-4A73-850F-221340E5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81BBF-1A9A-485A-A427-F545703A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CEE59-5DFE-48CA-9B4D-CC065ED7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29D64-1F0C-4A53-855F-523F5CE2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5330B-34AD-4354-8952-F18DE6E3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2C4D9-6914-403C-81D6-C397371D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D4436-0974-4857-8ADC-366C7972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82A-B1D1-4751-A3CF-FC454E00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CCA81-5EBD-4D95-8BB6-7F147387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CD81E-CCA5-49F3-BFB9-30588932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0C718-D30E-4712-B28F-2FB07072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3ECAB-AE9D-4574-A447-C6E785E1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07762-5D2F-4557-BD92-C7C90742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F37-C48E-43F3-8633-EE2D8052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E9D-DA60-41F8-BF7F-BCFB3AF2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3EC-114E-42E2-BA06-9F3D6192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DB8-FF4C-4728-B47A-60822A89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304-7709-45A3-BA15-14F5625F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B93-B803-4139-9938-2B003231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186-8F9F-4628-BDB2-C069AF10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9578-3809-43C5-A82A-6A556A41719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1CC4-7557-4C9E-9592-078DFC88E1B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format specifiers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sted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de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63F-FA2F-4201-8DE7-5FE8B853D3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11120" y="2286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62E-D944-4DF1-9A25-46AC495D49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11120" y="2286000"/>
            <a:ext cx="136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816-2A45-4136-B7CE-A5C38DFBCA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affect Python’s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rt with a ‘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’ sig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ange one value (at top of program) to change value everywhere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exible program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s rid of “magic number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Give a clear name/purpose to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0FE-4569-4080-9F33-226B2B2711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9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 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70F-8591-4A8E-B943-4F820239DC5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/Us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is program do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figure it o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ould you do to improve the program’s readability and usabilit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11800" y="5715000"/>
            <a:ext cx="29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befo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afte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CD6-2717-4005-871A-91447CE918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ence Post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some posts and some beams to connect the posts, build a fence that is X fenceposts lo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06440" y="62485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ence_po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DCEE-8B23-4251-848C-DA637B63EC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ing Students to Gro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a for loop and the modulo (%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A5D-ABBE-4EB7-9E7D-3AA3BC5CFD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“Why You Can’t Cite Wikipedia in My Class”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2A2-2FD0-422F-A90B-D433FB92E4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-like Review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want to use functions or constants that are defined in a module, what type of statement do you u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odule_example.py, when we computed e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20202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+ 1, the answer wasn’t 0.  Why?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C48F-E295-4B1F-A7BA-309EA0E0EE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str() construc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formatting options for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 over how output is displayed to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ight, center, left 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437-F667-461F-B06C-F92F7BE4C0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nstructor/conver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when printing output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220-AF8D-4939-9973-5836680180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+: include a sign before positive integer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D23-9E9B-4419-A599-B821B8C95E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or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1CD-E71C-45CF-8681-03834FB783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2880" y="22096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6629040" y="609480"/>
            <a:ext cx="381240" cy="3124080"/>
          </a:xfrm>
          <a:custGeom>
            <a:avLst/>
            <a:gdLst>
              <a:gd name="textAreaLeft" fmla="*/ 0 w 381240"/>
              <a:gd name="textAreaRight" fmla="*/ 137520 w 38124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F862-3225-421D-B0CD-349CDCFD51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3885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For more info: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http://docs.python.org/lib/typesseq-strings.html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0" y="6245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mat_specifier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D1A-0D97-4F78-804D-5D2DC8CA05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FF9-6ED6-4433-AFA4-B52AC64C81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02:42:01Z</dcterms:modified>
  <cp:revision>312</cp:revision>
  <dc:subject/>
  <dc:title>PowerPoint Presentation</dc:title>
</cp:coreProperties>
</file>