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38C4-FA9F-4EB4-B74A-9427B426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9A39-5EA5-4559-8A71-50F48B4F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400B-9BE1-4247-A4D1-747F4CF5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91C5-FF3C-4342-A175-2CE14934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50A42-5A3C-4490-81B2-5BCDCE3E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21588-6B39-403A-93E9-8E7C139F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722ED-024C-4E71-AEB8-26C7B599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DA231-0B0A-4979-B40A-D14469BF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AB97A-C9CF-4A02-8BB4-96A62C33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AFA8D-4643-4411-9C51-2B606295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2DF84-98CB-4694-892A-8B992956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C133-60B2-4B35-BA7F-B964C055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52137-71C7-4054-9F56-1C827CE1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83F6C-9237-49B3-87E3-A8EDC3EE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63AC2-C26A-431F-8AB2-7AAFAB7B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6956C-DAD9-4D83-A9AA-F2ACE906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B96AE-97AF-485D-94D5-A7375093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15E0-883D-4551-824D-66F601DB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A9A7-694A-4593-B799-11034A92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7C88-FCB1-43B5-94AF-12302FF4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9112-6AA3-4FEE-BDB7-CD375CB1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E35D-4B69-47D0-8BAF-2EA16614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7739-20C1-4BF8-8C6B-837D1D66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A991-96DD-4A9A-ACF3-9DED27A2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5087-901E-4032-A7A5-77A348EB3C89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08A5-1369-4414-8D74-918B1CD88713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nnouncement: Midterm prep docume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stants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method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ing your ow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4517-B8C7-4E47-A248-91931FDB1D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arison of Code Using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ithout function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nu_withoutfunc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ith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nu_withfunctions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EEA7-5705-4255-B083-3AD38BEFB6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2, Problem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place to make a function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place that has some useful code that we may want to reus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2B2F-66DF-445E-9F33-241C4ED44E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 ft/s to mp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3352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put: ft/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utput: mp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1523880"/>
            <a:ext cx="2971800" cy="1371600"/>
          </a:xfrm>
          <a:prstGeom prst="rect">
            <a:avLst/>
          </a:prstGeom>
          <a:solidFill>
            <a:srgbClr val="020202"/>
          </a:solidFill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ftpersToMP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8080" y="2209680"/>
            <a:ext cx="12952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45160" y="2209680"/>
            <a:ext cx="17524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040" y="197820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4960" y="197820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66080" y="174960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Ft/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66000" y="17496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P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AE09-27FB-468C-AB57-0E82058E17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yntax of Function Defini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527040" y="1600200"/>
            <a:ext cx="8388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ftpsToMPH(ftps) 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SECOND_TO_HOUR = 3600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FEET_TO_MILE = (1.0/5280)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result = ftps * SECOND_TO_HOUR * FEET_TO_MILE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" y="128412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12400" y="1270080"/>
            <a:ext cx="125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Function</a:t>
            </a:r>
            <a:br>
              <a:rPr sz="2000"/>
            </a:b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75160" y="1143000"/>
            <a:ext cx="163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Input Name/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Parameter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-368640" y="2728800"/>
            <a:ext cx="220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Body (or function definition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8040" y="5105520"/>
            <a:ext cx="24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How to give outpu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96920" y="1676520"/>
            <a:ext cx="0" cy="8380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68520" y="1905120"/>
            <a:ext cx="0" cy="5331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882600" y="1752480"/>
            <a:ext cx="338040" cy="6652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554120" y="4419720"/>
            <a:ext cx="351000" cy="7617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2438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Function head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E464-BD69-4FC2-8D1C-106509F414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re are functions in the cod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be defined in script before use (calling it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ld be in separat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to use 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menu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ine in modules when functions are reusable for many different progra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enefits: shorter code (no function defns), isolate testing of function, write “test driver” scripts to test functions separately from use in scrip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5003-768D-4BFB-97A4-A38DBF9706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inputs to a function are called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argu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call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/using functions, parameters must appear in same order as in the function head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round(x, n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float to roun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integer of decimal places to round to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47F5-FA53-4E39-BFAF-56DFC56258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Form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named in the the function definition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Actu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or literals that really get used when the function is called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round(x, n) :</a:t>
            </a:r>
            <a:br>
              <a:rPr sz="3200"/>
            </a:b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oundCelc = round(celc,2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l &amp; actual parameters must match in order, number, and type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Form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648320" y="3429000"/>
            <a:ext cx="12189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105520" y="3429000"/>
            <a:ext cx="7617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590920" y="3276720"/>
            <a:ext cx="12189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048120" y="3276720"/>
            <a:ext cx="7617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A1A3-44BB-4903-AA5E-00C34A3AC4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the code reaches a statement lik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retur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x is the output returned to the place where function called and the function st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functions that don’t have explicit output, return does not have a value with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retur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ptional: don’t need to have return (see </a:t>
            </a:r>
            <a:r>
              <a:rPr b="0" lang="en-US" sz="2600" spc="-1" strike="noStrike">
                <a:solidFill>
                  <a:srgbClr val="00c600"/>
                </a:solidFill>
                <a:latin typeface="Arial"/>
              </a:rPr>
              <a:t>menu.py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EC2C-FD2D-45B9-B02D-FF13DCDCDD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alling your own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jennifer_mph = ftpsToMPH(jen_ft_sec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ura_mph = ftpsToMPH(laura_ft_sec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venus_mph = ftpsToMPH(venus_ft_sec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88620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Output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is assigned to venus_mp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720" y="4054320"/>
            <a:ext cx="14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Function</a:t>
            </a:r>
            <a:br>
              <a:rPr sz="2400"/>
            </a:b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50480" y="41148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447920" y="3352680"/>
            <a:ext cx="1143000" cy="53352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962520" y="3504960"/>
            <a:ext cx="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019920" y="3504960"/>
            <a:ext cx="0" cy="68580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2971800"/>
            <a:ext cx="2133360" cy="533520"/>
          </a:xfrm>
          <a:prstGeom prst="rect">
            <a:avLst/>
          </a:prstGeom>
          <a:solidFill>
            <a:srgbClr val="6699ff">
              <a:alpha val="31000"/>
            </a:srgbClr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E24A-D5BA-4DB0-AF6D-8DB748F074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en you call the function, the computer jumps to the function and executes i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en it is done, it returns to the same place in the first code where it left off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98720" y="3427560"/>
            <a:ext cx="391536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ftpsToMPH(ftps) </a:t>
            </a: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S2HR = 3600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FT2MI = (1.0/5280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result = ftps * S2HR * FT2MI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666880" y="3580920"/>
            <a:ext cx="1981440" cy="129564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809880" y="4952880"/>
            <a:ext cx="1447920" cy="7632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6800" y="3733920"/>
            <a:ext cx="36248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COURT_LEN = 78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#Make calculations to ft/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j_ft_s = COURT_LEN / j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j_mi_hr = ftpersToMPH(j_ft_s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14160" y="5973840"/>
            <a:ext cx="46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: not great variable nam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0AEA-ADB9-4B92-A956-83A8CAA407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stants Review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stants: don’t change for “life” of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uring one program exec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’s a constant always (like PI), that’s tr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ld play Rainbow Dice to 10, 100, or 100000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kes easy to change program once at t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A31-82EA-4597-B1AB-3D544B6608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4876920"/>
            <a:ext cx="4343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The max is”, z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86200"/>
            <a:ext cx="220968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z=max(x, y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8" idx="2"/>
            <a:endCxn id="167" idx="0"/>
          </p:cNvCxnSpPr>
          <p:nvPr/>
        </p:nvCxnSpPr>
        <p:spPr>
          <a:xfrm>
            <a:off x="2323800" y="43578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endCxn id="168" idx="0"/>
          </p:cNvCxnSpPr>
          <p:nvPr/>
        </p:nvCxnSpPr>
        <p:spPr>
          <a:xfrm>
            <a:off x="2323800" y="34434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8" idx="3"/>
            <a:endCxn id="172" idx="1"/>
          </p:cNvCxnSpPr>
          <p:nvPr/>
        </p:nvCxnSpPr>
        <p:spPr>
          <a:xfrm flipV="1">
            <a:off x="3443040" y="1371240"/>
            <a:ext cx="1267560" cy="274392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74" idx="1"/>
            <a:endCxn id="168" idx="3"/>
          </p:cNvCxnSpPr>
          <p:nvPr/>
        </p:nvCxnSpPr>
        <p:spPr>
          <a:xfrm rot="10800000">
            <a:off x="3443400" y="4114080"/>
            <a:ext cx="1953000" cy="144864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 flipV="1">
            <a:off x="1828800" y="3962520"/>
            <a:ext cx="1219320" cy="304560"/>
          </a:xfrm>
          <a:prstGeom prst="line">
            <a:avLst/>
          </a:prstGeom>
          <a:ln w="63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62320" y="33526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Gets replaced with function’s output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13372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2971800"/>
            <a:ext cx="28195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y = input(“Enter 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7" idx="2"/>
            <a:endCxn id="178" idx="0"/>
          </p:cNvCxnSpPr>
          <p:nvPr/>
        </p:nvCxnSpPr>
        <p:spPr>
          <a:xfrm>
            <a:off x="2323800" y="2604600"/>
            <a:ext cx="1080" cy="35316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 flipH="1" flipV="1">
            <a:off x="761760" y="2437920"/>
            <a:ext cx="152280" cy="68580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37160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To </a:t>
            </a:r>
            <a:r>
              <a:rPr b="1" lang="en-US" sz="2200" spc="-1" strike="noStrike">
                <a:solidFill>
                  <a:srgbClr val="010199"/>
                </a:solidFill>
                <a:latin typeface="Tahoma"/>
              </a:rPr>
              <a:t>input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 function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81" idx="2"/>
            <a:endCxn id="178" idx="1"/>
          </p:cNvCxnSpPr>
          <p:nvPr/>
        </p:nvCxnSpPr>
        <p:spPr>
          <a:xfrm flipH="1" rot="16200000">
            <a:off x="390240" y="2691360"/>
            <a:ext cx="727560" cy="29124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4648320" y="4114800"/>
            <a:ext cx="22096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304812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6" idx="2"/>
            <a:endCxn id="184" idx="0"/>
          </p:cNvCxnSpPr>
          <p:nvPr/>
        </p:nvCxnSpPr>
        <p:spPr>
          <a:xfrm>
            <a:off x="6667200" y="25290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5715000" y="2057400"/>
            <a:ext cx="19051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02400" y="35053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34680" y="3581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0280" y="411480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3" idx="2"/>
            <a:endCxn id="174" idx="0"/>
          </p:cNvCxnSpPr>
          <p:nvPr/>
        </p:nvCxnSpPr>
        <p:spPr>
          <a:xfrm>
            <a:off x="5752800" y="4586040"/>
            <a:ext cx="110556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5410080" y="5334120"/>
            <a:ext cx="28958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4" idx="2"/>
            <a:endCxn id="183" idx="0"/>
          </p:cNvCxnSpPr>
          <p:nvPr/>
        </p:nvCxnSpPr>
        <p:spPr>
          <a:xfrm flipH="1">
            <a:off x="5752800" y="3519360"/>
            <a:ext cx="9151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72" idx="2"/>
            <a:endCxn id="186" idx="0"/>
          </p:cNvCxnSpPr>
          <p:nvPr/>
        </p:nvCxnSpPr>
        <p:spPr>
          <a:xfrm>
            <a:off x="6667200" y="16146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4724280" y="1143000"/>
            <a:ext cx="38862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max(num1, num2) </a:t>
            </a: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4" idx="2"/>
            <a:endCxn id="189" idx="0"/>
          </p:cNvCxnSpPr>
          <p:nvPr/>
        </p:nvCxnSpPr>
        <p:spPr>
          <a:xfrm>
            <a:off x="6667560" y="3519360"/>
            <a:ext cx="13723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9" idx="2"/>
            <a:endCxn id="174" idx="0"/>
          </p:cNvCxnSpPr>
          <p:nvPr/>
        </p:nvCxnSpPr>
        <p:spPr>
          <a:xfrm flipH="1">
            <a:off x="6857280" y="4586040"/>
            <a:ext cx="118188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4867920" y="258840"/>
            <a:ext cx="37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 gets the value of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 gets the value of 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4748-A726-4653-A129-F868211CEE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: 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f num1 &gt;= num2 :</a:t>
            </a:r>
            <a:br>
              <a:rPr sz="2200"/>
            </a:b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else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z = max( x, y 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4267080"/>
            <a:ext cx="22096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320040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201" idx="2"/>
            <a:endCxn id="199" idx="0"/>
          </p:cNvCxnSpPr>
          <p:nvPr/>
        </p:nvCxnSpPr>
        <p:spPr>
          <a:xfrm flipH="1">
            <a:off x="6667200" y="2528640"/>
            <a:ext cx="38880" cy="6577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5321520" y="3733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34680" y="37339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10280" y="4267080"/>
            <a:ext cx="20574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199" idx="2"/>
            <a:endCxn id="198" idx="0"/>
          </p:cNvCxnSpPr>
          <p:nvPr/>
        </p:nvCxnSpPr>
        <p:spPr>
          <a:xfrm flipH="1">
            <a:off x="5752800" y="3672000"/>
            <a:ext cx="9151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4572000" y="2057400"/>
            <a:ext cx="42670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x(num1, num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199" idx="2"/>
            <a:endCxn id="204" idx="0"/>
          </p:cNvCxnSpPr>
          <p:nvPr/>
        </p:nvCxnSpPr>
        <p:spPr>
          <a:xfrm>
            <a:off x="6667560" y="3672000"/>
            <a:ext cx="13723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4" idx="2"/>
          </p:cNvCxnSpPr>
          <p:nvPr/>
        </p:nvCxnSpPr>
        <p:spPr>
          <a:xfrm rot="5400000">
            <a:off x="7035840" y="4178880"/>
            <a:ext cx="443520" cy="156276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822040" y="533412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return to call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9" name=""/>
          <p:cNvCxnSpPr/>
          <p:nvPr/>
        </p:nvCxnSpPr>
        <p:spPr>
          <a:xfrm rot="5400000">
            <a:off x="4826160" y="4164480"/>
            <a:ext cx="44388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5A1A-10A2-4565-AB4D-3A196C0CB4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: 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f num1 &gt;= num2 :</a:t>
            </a:r>
            <a:br>
              <a:rPr sz="2200"/>
            </a:b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z = max( x, y 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4267080"/>
            <a:ext cx="22100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29200" y="320040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5" idx="2"/>
            <a:endCxn id="213" idx="0"/>
          </p:cNvCxnSpPr>
          <p:nvPr/>
        </p:nvCxnSpPr>
        <p:spPr>
          <a:xfrm flipH="1">
            <a:off x="6210000" y="2528640"/>
            <a:ext cx="38880" cy="6577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4864320" y="3733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5715000"/>
            <a:ext cx="20574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3" idx="2"/>
            <a:endCxn id="212" idx="0"/>
          </p:cNvCxnSpPr>
          <p:nvPr/>
        </p:nvCxnSpPr>
        <p:spPr>
          <a:xfrm flipH="1">
            <a:off x="5142960" y="3672000"/>
            <a:ext cx="106740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4114800" y="2057400"/>
            <a:ext cx="42670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7" idx="2"/>
          </p:cNvCxnSpPr>
          <p:nvPr/>
        </p:nvCxnSpPr>
        <p:spPr>
          <a:xfrm rot="5400000">
            <a:off x="5054760" y="5626800"/>
            <a:ext cx="44352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2441160" y="571500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return to call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21" name=""/>
          <p:cNvCxnSpPr/>
          <p:nvPr/>
        </p:nvCxnSpPr>
        <p:spPr>
          <a:xfrm rot="5400000">
            <a:off x="4140360" y="4164480"/>
            <a:ext cx="44388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3" idx="2"/>
            <a:endCxn id="217" idx="0"/>
          </p:cNvCxnSpPr>
          <p:nvPr/>
        </p:nvCxnSpPr>
        <p:spPr>
          <a:xfrm rot="5400000">
            <a:off x="5119200" y="4609800"/>
            <a:ext cx="2029320" cy="153000"/>
          </a:xfrm>
          <a:prstGeom prst="curvedConnector5">
            <a:avLst>
              <a:gd name="adj1" fmla="val 71504"/>
              <a:gd name="adj2" fmla="val 50000"/>
              <a:gd name="adj3" fmla="val 71504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311880" y="4657680"/>
            <a:ext cx="2832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Implicit false branch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Only way got here is if the condition was not tru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945D-7808-4233-8486-3251A5972E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ssing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ly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opie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the actual parameters are given to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actual parameters in the calling code do not change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wap 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wap two values 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n, put into a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A542-9E3D-498D-8926-F178DB4FB8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ethod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available operations to perform on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lightly different than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method: find(substring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s the index where substring is in 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-1 if substring isn’t fou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call a method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tring&gt;.methodname([arguments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filename.find(“.py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08320" y="612612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xecuted on this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048120" y="5866920"/>
            <a:ext cx="304560" cy="3049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8A5A-0B8B-4491-8D7A-F21379E8B3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4920" y="1143000"/>
          <a:ext cx="8610480" cy="4959360"/>
        </p:xfrm>
        <a:graphic>
          <a:graphicData uri="http://schemas.openxmlformats.org/drawingml/2006/table">
            <a:tbl>
              <a:tblPr/>
              <a:tblGrid>
                <a:gridCol w="3581280"/>
                <a:gridCol w="5029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tho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p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enter(width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string centered within the given number of column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unt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# of non-overlapping occurrences of substring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the string.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ndswith(sub), startswith(sub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ends with/starts with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nd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first index where substring 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found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salpha(), isdigit(), isspace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contains letters/digits/whitespace only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wer(), upper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copy of string converted to lowercase/lowercase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5312160" y="632448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_metho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11CE-A968-4986-B8D8-98561A64BE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Methods vs.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: all “input” as arguments/parame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le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built-in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lled as len(st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thods: “input” are argument/parameters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string the method was called 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 call: str.upper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8E8B-C180-4841-B750-EFFE8D98DA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 Using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dify binaryToDecimal.py to verify that the entered string contains only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one of the string method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ould we make sure that it contains only 0s and 1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4349-950C-425C-89CA-3A10388CF8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’ve used several built-i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en, input, raw_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unctions from modules, e.g., math and rando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Functions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re small pieces of code that can be used in other pieces of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ubprograms that have been given a nam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ave 0 or more inpu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duce 0 or 1 outpu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fine our own function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4C9B-DF1A-4C72-A6D6-D8C96EF597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 is a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black bo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lementation doesn’t mat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care that function generates appropriate output, given appropriate input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dn’t care how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unction was implemen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73360" y="4648320"/>
            <a:ext cx="2971800" cy="1371600"/>
          </a:xfrm>
          <a:prstGeom prst="rect">
            <a:avLst/>
          </a:prstGeom>
          <a:solidFill>
            <a:srgbClr val="020202"/>
          </a:solidFill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aw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8080" y="5334120"/>
            <a:ext cx="12952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45160" y="5334120"/>
            <a:ext cx="17524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040" y="510228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64960" y="502920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17240" y="480060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promp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89720" y="48006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er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57150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e saved output in a variab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59C9-E51F-4E37-8795-065A0C6163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write function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llows you to break up a hard problem into smaller, more manageable part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your code easier to understan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Hides implementation details (</a:t>
            </a: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abstrac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rovides interface (input, output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part of the code reusable so that you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nly have to type code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debug it all at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solates errors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make changes in one function (maintainability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C371-EF54-47F1-BE21-DFDD4A0222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8T20:55:54Z</dcterms:modified>
  <cp:revision>1293</cp:revision>
  <dc:subject/>
  <dc:title>PowerPoint Presentation</dc:title>
</cp:coreProperties>
</file>