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C24F4-809B-442F-B8E8-72F54968C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C853F-C2C7-4A20-84A2-989276BAE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4A388-2F58-47E3-810A-59610E5A9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84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84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679DD-91BC-435E-B982-30B4EA1E7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444A59-E87F-4031-A501-7B1BE28E2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C8DCD8-597C-4CD1-B329-F5349DCB6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2D52CD-943C-41DD-8A54-65CEBA31F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958842-5E70-442D-AB82-E550DD8C6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D32C49-32F1-4CCA-8C34-7C1913659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8686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2AF09F-CAC0-4496-ABAF-2D2566874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49F0D3-862A-4122-A190-8B14615FF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939D9-AB24-4ED0-81D8-663F72BAC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C7949A-752F-4550-809C-C6AF719EA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A23095-ACF5-4EAA-A377-A641AFF74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984304-13DF-4EBB-9011-AC654BD4F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87352A-7F45-49D9-AD96-7738DF912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56BE0E-5712-4544-A7B6-8D25BF0C3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8D9A5-528B-4557-A273-5C513CC16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95C43-DC3F-4D14-8745-287527A3E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4DF32-BEED-4AD6-8AC6-DF651C062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8686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59919-101E-43BC-B82F-1963694F0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2AB2D-0D81-46AF-8B28-3629DC9E4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A94F5-DC05-4CBA-A814-5360CE910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BF05E-274E-498B-BB48-71F26AB67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99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2" marL="1195560" indent="-28764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3" marL="1598760" indent="-289080">
              <a:spcBef>
                <a:spcPts val="799"/>
              </a:spcBef>
              <a:buClr>
                <a:srgbClr val="0101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4" marL="2006640" indent="-29196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5" marL="2006640" indent="-291960">
              <a:spcBef>
                <a:spcPts val="799"/>
              </a:spcBef>
              <a:buClr>
                <a:srgbClr val="020202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6" marL="2006640" indent="-291960">
              <a:spcBef>
                <a:spcPts val="799"/>
              </a:spcBef>
              <a:buClr>
                <a:srgbClr val="020202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date/time&gt;</a:t>
            </a: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Oct 16, 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footer&gt;</a:t>
            </a: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Sprenkle - CS1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5D5F0-4849-4E5A-9C65-6E97324FCBBD}" type="slidenum">
              <a:rPr b="0" lang="en-US" sz="1400" spc="-1" strike="noStrike">
                <a:solidFill>
                  <a:srgbClr val="02020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1FC94-410D-48F0-BE1F-0D91F3901614}" type="slidenum">
              <a:rPr b="0" lang="en-US" sz="1400" spc="-1" strike="noStrike">
                <a:solidFill>
                  <a:srgbClr val="02020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Objectiv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rap-up function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Lab 5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D65DE-0067-4D10-A733-991D7F3293C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rogram Using Function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1920" y="1066320"/>
            <a:ext cx="89917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20202"/>
                </a:solidFill>
                <a:latin typeface="Arial"/>
              </a:rPr>
              <a:t>def</a:t>
            </a: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 main():</a:t>
            </a: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print </a:t>
            </a: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print "This program converts binary numbers to decimal numbers."</a:t>
            </a: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print</a:t>
            </a: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binary_string = raw_input("Enter a number in binary: ")</a:t>
            </a: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    </a:t>
            </a: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    </a:t>
            </a:r>
            <a:r>
              <a:rPr b="1" lang="en-US" sz="2200" spc="-1" strike="noStrike">
                <a:solidFill>
                  <a:srgbClr val="020202"/>
                </a:solidFill>
                <a:latin typeface="Arial"/>
              </a:rPr>
              <a:t>while</a:t>
            </a: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 not isBinary(binary_string):</a:t>
            </a: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        </a:t>
            </a: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print "Sorry, that is not a binary string"</a:t>
            </a: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        </a:t>
            </a: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binary_string = raw_input("Enter a number in binary: ")</a:t>
            </a: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print "The decimal value is", binaryToDecimal(binary_string)</a:t>
            </a: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5840" y="5867280"/>
            <a:ext cx="812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Presents overview of what program does (hides details)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019920" y="3429000"/>
            <a:ext cx="2873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Could we write this without functions?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03C86-15B1-4419-BF7B-D50613C1E82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re/Post Condition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199"/>
                </a:solidFill>
                <a:latin typeface="Arial"/>
              </a:rPr>
              <a:t># pre: binary_string is a string that contains only 0s and 1s</a:t>
            </a: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199"/>
                </a:solidFill>
                <a:latin typeface="Arial"/>
              </a:rPr>
              <a:t># post: returns the decimal value for the binary string</a:t>
            </a: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20202"/>
                </a:solidFill>
                <a:latin typeface="Arial"/>
              </a:rPr>
              <a:t>def</a:t>
            </a: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 binaryToInt( binary_string ):</a:t>
            </a: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c600"/>
                </a:solidFill>
                <a:latin typeface="Arial"/>
              </a:rPr>
              <a:t># Alternatively, could do isBinary check here too,</a:t>
            </a: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c6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c600"/>
                </a:solidFill>
                <a:latin typeface="Arial"/>
              </a:rPr>
              <a:t># but, what would you </a:t>
            </a:r>
            <a:r>
              <a:rPr b="0" i="1" lang="en-US" sz="2200" spc="-1" strike="noStrike">
                <a:solidFill>
                  <a:srgbClr val="00c600"/>
                </a:solidFill>
                <a:latin typeface="Arial"/>
              </a:rPr>
              <a:t>return</a:t>
            </a:r>
            <a:r>
              <a:rPr b="0" lang="en-US" sz="2200" spc="-1" strike="noStrike">
                <a:solidFill>
                  <a:srgbClr val="00c600"/>
                </a:solidFill>
                <a:latin typeface="Arial"/>
              </a:rPr>
              <a:t> in that case?</a:t>
            </a: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exponent = len(binary_string)-1</a:t>
            </a: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dec_value = 0</a:t>
            </a: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    </a:t>
            </a: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    </a:t>
            </a:r>
            <a:r>
              <a:rPr b="1" lang="en-US" sz="2200" spc="-1" strike="noStrike">
                <a:solidFill>
                  <a:srgbClr val="020202"/>
                </a:solidFill>
                <a:latin typeface="Arial"/>
              </a:rPr>
              <a:t>for</a:t>
            </a: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 bit </a:t>
            </a:r>
            <a:r>
              <a:rPr b="1" lang="en-US" sz="2200" spc="-1" strike="noStrike">
                <a:solidFill>
                  <a:srgbClr val="020202"/>
                </a:solidFill>
                <a:latin typeface="Arial"/>
              </a:rPr>
              <a:t>in</a:t>
            </a: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 binary_string:</a:t>
            </a: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        </a:t>
            </a: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bit = int(bit)</a:t>
            </a: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        </a:t>
            </a:r>
            <a:r>
              <a:rPr b="0" lang="en-US" sz="2200" spc="-1" strike="noStrike">
                <a:solidFill>
                  <a:srgbClr val="010199"/>
                </a:solidFill>
                <a:latin typeface="Arial"/>
              </a:rPr>
              <a:t># print bit,"* 2^%d" % exponent</a:t>
            </a: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        </a:t>
            </a: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dec_value += bit * (2 ** exponent)</a:t>
            </a: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        </a:t>
            </a: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exponent -= 1</a:t>
            </a: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    </a:t>
            </a:r>
            <a:r>
              <a:rPr b="1" lang="en-US" sz="2200" spc="-1" strike="noStrike">
                <a:solidFill>
                  <a:srgbClr val="020202"/>
                </a:solidFill>
                <a:latin typeface="Arial"/>
              </a:rPr>
              <a:t>return</a:t>
            </a: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 dec_value</a:t>
            </a: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4876560" y="4373640"/>
            <a:ext cx="4038840" cy="1191240"/>
            <a:chOff x="4876560" y="4373640"/>
            <a:chExt cx="4038840" cy="1191240"/>
          </a:xfrm>
        </p:grpSpPr>
        <p:sp>
          <p:nvSpPr>
            <p:cNvPr id="91" name=""/>
            <p:cNvSpPr/>
            <p:nvPr/>
          </p:nvSpPr>
          <p:spPr>
            <a:xfrm>
              <a:off x="5867280" y="4373640"/>
              <a:ext cx="30481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c600"/>
                  </a:solidFill>
                  <a:latin typeface="Tahoma"/>
                </a:rPr>
                <a:t>Commented out print statement</a:t>
              </a:r>
              <a:endParaRPr b="0" lang="en-US" sz="2400" spc="-1" strike="noStrike">
                <a:solidFill>
                  <a:srgbClr val="020202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c600"/>
                  </a:solidFill>
                  <a:latin typeface="Tahoma"/>
                </a:rPr>
                <a:t>(No side effects)</a:t>
              </a:r>
              <a:endParaRPr b="0" lang="en-US" sz="2400" spc="-1" strike="noStrike">
                <a:solidFill>
                  <a:srgbClr val="020202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4876560" y="4800600"/>
              <a:ext cx="1143000" cy="228600"/>
            </a:xfrm>
            <a:prstGeom prst="line">
              <a:avLst/>
            </a:prstGeom>
            <a:ln w="38160">
              <a:solidFill>
                <a:srgbClr val="00c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20202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9A019-A382-4B20-833D-8621DC8A93A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Variable Scope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Know “lifetime” of variabl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Only during execution of function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Related to idea of “scope”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hat about variables outside of functions?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Can get tricky, as I demonstrated yesterday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Example: 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non_function_vars.py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9AA18-1276-4ED4-9B3A-8AD48604969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Debugging Advice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Build up your program in step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Always write only small pieces of code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Test, debug. Repeat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rite function body as part of main, tes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Then, separate out into its own function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est function separately from other cod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Comment out irrelevant code to make sure that the function behaves as expected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BAC67-65AE-4D27-8A5F-AFF33534A9A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Lab 4 Feedback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ternatives to iterate through string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199"/>
                </a:solidFill>
                <a:latin typeface="Arial"/>
              </a:rPr>
              <a:t>for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ch </a:t>
            </a:r>
            <a:r>
              <a:rPr b="1" lang="en-US" sz="2800" spc="-1" strike="noStrike">
                <a:solidFill>
                  <a:srgbClr val="010199"/>
                </a:solidFill>
                <a:latin typeface="Arial"/>
              </a:rPr>
              <a:t>in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s </a:t>
            </a:r>
            <a:r>
              <a:rPr b="1" lang="en-US" sz="2800" spc="-1" strike="noStrike">
                <a:solidFill>
                  <a:srgbClr val="010199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0"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199"/>
                </a:solidFill>
                <a:latin typeface="Arial"/>
              </a:rPr>
              <a:t>print ch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199"/>
                </a:solidFill>
                <a:latin typeface="Arial"/>
              </a:rPr>
              <a:t>for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x </a:t>
            </a:r>
            <a:r>
              <a:rPr b="1" lang="en-US" sz="2800" spc="-1" strike="noStrike">
                <a:solidFill>
                  <a:srgbClr val="010199"/>
                </a:solidFill>
                <a:latin typeface="Arial"/>
              </a:rPr>
              <a:t>in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xrange(len(s)) </a:t>
            </a:r>
            <a:r>
              <a:rPr b="1" lang="en-US" sz="2800" spc="-1" strike="noStrike">
                <a:solidFill>
                  <a:srgbClr val="010199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0"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199"/>
                </a:solidFill>
                <a:latin typeface="Arial"/>
              </a:rPr>
              <a:t>print s[x]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oving space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String method: replace(old, new[, count]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Use:  s.replace(‘ ‘, ‘’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886200" y="3505320"/>
            <a:ext cx="1523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String to replace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334120" y="3352680"/>
            <a:ext cx="198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String to replace with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724280" y="4343400"/>
            <a:ext cx="304920" cy="457200"/>
          </a:xfrm>
          <a:prstGeom prst="line">
            <a:avLst/>
          </a:prstGeom>
          <a:ln w="38160">
            <a:solidFill>
              <a:srgbClr val="00c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5943240" y="4191120"/>
            <a:ext cx="152280" cy="685800"/>
          </a:xfrm>
          <a:prstGeom prst="line">
            <a:avLst/>
          </a:prstGeom>
          <a:ln w="38160">
            <a:solidFill>
              <a:srgbClr val="00c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ED380-00A5-430C-83A3-8ED7DDC0EFD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Lab 4 Feedback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Most efficient solution to determine if palindrome: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Design decision: What should be part of the  isPalindrome function?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Lower casing and removal of spaces?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883520" y="2362320"/>
            <a:ext cx="4421880" cy="17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199"/>
                </a:solidFill>
                <a:latin typeface="Tahoma"/>
              </a:rPr>
              <a:t>for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 x </a:t>
            </a:r>
            <a:r>
              <a:rPr b="1" lang="en-US" sz="2400" spc="-1" strike="noStrike">
                <a:solidFill>
                  <a:srgbClr val="010199"/>
                </a:solidFill>
                <a:latin typeface="Tahoma"/>
              </a:rPr>
              <a:t>in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 xrange(len(string)/2) </a:t>
            </a:r>
            <a:r>
              <a:rPr b="1" lang="en-US" sz="2400" spc="-1" strike="noStrike">
                <a:solidFill>
                  <a:srgbClr val="010199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10199"/>
                </a:solidFill>
                <a:latin typeface="Tahoma"/>
              </a:rPr>
              <a:t>if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 str[-x-1]!=str[x] </a:t>
            </a:r>
            <a:r>
              <a:rPr b="1" lang="en-US" sz="2400" spc="-1" strike="noStrike">
                <a:solidFill>
                  <a:srgbClr val="010199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10199"/>
                </a:solidFill>
                <a:latin typeface="Tahoma"/>
              </a:rPr>
              <a:t>return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 False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199"/>
                </a:solidFill>
                <a:latin typeface="Tahoma"/>
              </a:rPr>
              <a:t>return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 True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B2AB6-0D8F-467A-8C76-03AEB95D512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Lab 5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inish up problem from last lab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Directions in the lab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Practice writing and using your own function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Practice writing your own module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5F6F0-0342-4A60-9B4E-D47E5A884AC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7T01:49:46Z</dcterms:created>
  <dc:creator>Sara Sprenkle</dc:creator>
  <dc:description/>
  <dc:language>en-US</dc:language>
  <cp:lastModifiedBy>Sara Sprenkle</cp:lastModifiedBy>
  <dcterms:modified xsi:type="dcterms:W3CDTF">2007-10-16T19:00:12Z</dcterms:modified>
  <cp:revision>1520</cp:revision>
  <dc:subject/>
  <dc:title>PowerPoint Presentation</dc:title>
</cp:coreProperties>
</file>