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226-3E8F-47BB-8A7D-59201700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989-C45A-4BEF-917D-F599E40A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D3EB-5E1A-4CBA-831C-85DCF24C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9FC-A873-411D-9EFE-4548BB06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F8209-CBF9-4816-B241-277BBC10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7F5DE-7CE1-4FE6-B45A-8577E544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B49F9-0852-4DD3-B736-064CB3B5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0381F-2131-472B-A9B4-6B5EE784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190C7-400B-438E-A555-D5CBE9D4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C705E-6EF6-4FE4-9B7F-AD62402D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D0220-BA81-4CDA-BF7B-BEFA02E8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4FC-6D77-4922-8BD7-03130325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43A39-94AE-4CE8-97D0-6E2136F4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AA70C-37CE-4B4A-8402-96234D3C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F5EA5-9173-406D-AD28-CA83871A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E6C01-8E7D-4988-B49E-65307650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538E0-7BB8-4C1B-8C32-C271B8A7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632-5C63-4B6C-8682-34934FA1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7D3-AD74-4987-A21D-CA704A5E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255-CA9F-4FD6-9431-DA4FEB97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6C4-EBD5-4F5B-BBC6-34901EE5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257-0DE3-4A4D-8B29-931961B5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FE1-D244-43B3-A6CA-7EE93536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292C-45C8-4FA4-86BF-373639F3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3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4F3C-DDF9-408F-8707-FB032315105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A95F-C48E-42C4-82F3-608B275D68C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puter’s representations of data typ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AE3-6A84-4DF0-B97E-B47415D173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with str = “The Beatle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143000" y="2946240"/>
          <a:ext cx="6858000" cy="33782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0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3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185-90B7-4D60-804B-B1E03EF04A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with str = “The Beatle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2946240"/>
          <a:ext cx="6858000" cy="33782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0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3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 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Error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6027120" y="639756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9B2-FA2C-4DF8-8746-969BD4CF09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ou can select a substring (zero or more characters) using th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[ ]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the end of th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the first element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a copy of the entir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CED4-D937-470F-9978-C790BE3382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can select a substring (one or more characters) using the [ ] and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file = “program.py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58880" y="2819520"/>
          <a:ext cx="5275440" cy="911160"/>
        </p:xfrm>
        <a:graphic>
          <a:graphicData uri="http://schemas.openxmlformats.org/drawingml/2006/table">
            <a:tbl>
              <a:tblPr/>
              <a:tblGrid>
                <a:gridCol w="527040"/>
                <a:gridCol w="528840"/>
                <a:gridCol w="527040"/>
                <a:gridCol w="527040"/>
                <a:gridCol w="528480"/>
                <a:gridCol w="527040"/>
                <a:gridCol w="527040"/>
                <a:gridCol w="527040"/>
                <a:gridCol w="528840"/>
                <a:gridCol w="52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219320" y="3909960"/>
          <a:ext cx="6858000" cy="2795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2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:3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8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-2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392-BDE5-457D-96BF-A3B12631EC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can select a substring (one or more characters) using the [ ] and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file = “program.py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58880" y="2819520"/>
          <a:ext cx="5275440" cy="911160"/>
        </p:xfrm>
        <a:graphic>
          <a:graphicData uri="http://schemas.openxmlformats.org/drawingml/2006/table">
            <a:tbl>
              <a:tblPr/>
              <a:tblGrid>
                <a:gridCol w="527040"/>
                <a:gridCol w="528840"/>
                <a:gridCol w="527040"/>
                <a:gridCol w="527040"/>
                <a:gridCol w="528480"/>
                <a:gridCol w="527040"/>
                <a:gridCol w="527040"/>
                <a:gridCol w="527040"/>
                <a:gridCol w="528840"/>
                <a:gridCol w="52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219320" y="3909960"/>
          <a:ext cx="6858000" cy="2795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ogram.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2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:3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o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8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-2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369-3A20-45D1-A49D-3E616D887C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for Sub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the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d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efore in for loop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valuates to True or Fal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09480" y="2832120"/>
            <a:ext cx="40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substr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string</a:t>
            </a:r>
            <a:r>
              <a:rPr b="1" lang="en-US" sz="28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5320" y="4689360"/>
            <a:ext cx="67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“.py”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filenam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filename, “is a Python script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373-E743-47B1-B1D9-FF82802C44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 are Immutab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: You cannot change the value of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you </a:t>
            </a:r>
            <a:r>
              <a:rPr b="0" lang="en-US" sz="3200" spc="-1" strike="noStrike">
                <a:solidFill>
                  <a:srgbClr val="f4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change a character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[0] = ‘S’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33520" y="3733560"/>
            <a:ext cx="2209680" cy="1143000"/>
          </a:xfrm>
          <a:prstGeom prst="line">
            <a:avLst/>
          </a:prstGeom>
          <a:ln w="3816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733920"/>
            <a:ext cx="1905120" cy="1066680"/>
          </a:xfrm>
          <a:prstGeom prst="line">
            <a:avLst/>
          </a:prstGeom>
          <a:ln w="3816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2D63-7644-40E0-BF44-20A8E4A389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umber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briefly discussed that numbers are stored on the computer in bi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inary repres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: two values (zero, one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ke a light switch (eithe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ff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Bi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each number in a number in binary represent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quivalent of a “digit” in decimal repres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0271-7C79-4C70-AD03-112874A513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cimal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mal is base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, 2, 3, 4, 5, 6, 7, 8, 9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decimal number represents a power of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389-0F89-4CCE-88A6-5EBD01E8E9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cimal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mal is base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, 2, 3, 4, 5, 6, 7, 8, 9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decimal number represents a power of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54,08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5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4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8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7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5*10,000+ 4*1000+ 0*100+ 8*10+ 7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43000" y="4038480"/>
          <a:ext cx="5715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7A4E-1978-46B9-8FC5-440D65642A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=12 alumn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7560" y="1828800"/>
            <a:ext cx="52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828800"/>
            <a:ext cx="762120" cy="441972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5280" y="365760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e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6120" y="196380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1 10  9  8  7  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0  1  2  3  4 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1 11 11 11 11 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2743200"/>
            <a:ext cx="3505320" cy="0"/>
          </a:xfrm>
          <a:prstGeom prst="line">
            <a:avLst/>
          </a:prstGeom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3320" y="3840120"/>
            <a:ext cx="253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s to 11 (N-1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 times (N/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= N*(N-1)/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B0B-77D8-411C-A420-D60239C3DE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 is base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binary number represents a power of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D29-D0F5-4EC4-955C-2BA9F92B8D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110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8+ 1*4+ 0*2+ 1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: 101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3000" y="1676520"/>
          <a:ext cx="4572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065-71B5-4E20-85CA-7F25765A33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101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16+0*8+ 1*4+ 1*2+ 0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1676520"/>
          <a:ext cx="5715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FA1-9207-4D93-96E2-F3A0149180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Binary to Decim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Accumulator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binary number as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starting exponent will be the length of the string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zer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bit in the binary numb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ltiply the bit by the appropriate power of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dd this to the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the exponent by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85520" y="5791320"/>
            <a:ext cx="325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inaryToDecimal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012-8817-4688-B7BA-E8E73F97FE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Decimal to Bin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decimal as an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the empty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peat until the decimal is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ult = str(decimal % 2) +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cimal = decimal /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60600" y="5410080"/>
            <a:ext cx="380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y out algorithm with 2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cimalToBi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281-A7F5-4EBD-A678-779FC00A95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=13 alumn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07560" y="1828800"/>
            <a:ext cx="52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1828800"/>
            <a:ext cx="762120" cy="48006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280" y="365760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e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36120" y="196380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2 11 10  9  8  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  2  3  4  5  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3 13 13 13 13 1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2743200"/>
            <a:ext cx="3505320" cy="0"/>
          </a:xfrm>
          <a:prstGeom prst="line">
            <a:avLst/>
          </a:prstGeom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70320" y="3840120"/>
            <a:ext cx="24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s to 13 (N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 times ((N-1)/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= N*(N-1)/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2AA-2100-434E-A383-149DE9BB23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for Next Wed’s Midte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rite a program that reads in two numbers. Then use only if statements (no elses) to print "Player 1 wins" if the first number is bigger, "Player 2 wins" if the second number is bigger, and "You tied!" if the numbers are equal.</a:t>
            </a:r>
            <a:endParaRPr b="0" lang="en-US" sz="25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BEE-C488-4124-95D1-B96D2B65F4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for Next Wed’s Midte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raw the control flow diagram for your Craps solu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o analyze efficiency: are there any execution paths through the control flow diagram that aren’t possibl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f so, revisit your solution to see if some other building blocks may be more appropriate (or see me to discuss!) 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A03-496E-415A-8369-25A5E4DE55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xt Process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ly focused on numbers so f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an manipulate strings to do useful wor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cus: the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st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ata type and what you can do with the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hapter 4 of boo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156-390A-4783-B382-96486B212B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ctually a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The Beatle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3432240"/>
          <a:ext cx="7010640" cy="1200240"/>
        </p:xfrm>
        <a:graphic>
          <a:graphicData uri="http://schemas.openxmlformats.org/drawingml/2006/table">
            <a:tbl>
              <a:tblPr/>
              <a:tblGrid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81720" y="414828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066680" y="4346640"/>
            <a:ext cx="60984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720" y="30510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432240"/>
            <a:ext cx="76212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4829040"/>
            <a:ext cx="40384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Length of the string: 1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uilt-in function: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len(str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o find length of a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8960" y="5367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rt at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981080" y="4727160"/>
            <a:ext cx="76320" cy="6858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13280" y="2362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 at len() -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898720"/>
            <a:ext cx="304920" cy="12193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BD5-F914-4742-A80D-2580C40EB4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St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characters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 “for each character in the string str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6280" y="24066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 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str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2720" y="624852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ython shel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FEF-326A-46E5-AC0A-C9D8905180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osi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index of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ega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count backwards from e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0]  returns the fir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-1] returns the la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572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e will deal with sequences beyond strings lat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209680" y="4780080"/>
            <a:ext cx="15264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352320" y="301680"/>
            <a:ext cx="5005800" cy="1450800"/>
            <a:chOff x="3352320" y="301680"/>
            <a:chExt cx="5005800" cy="1450800"/>
          </a:xfrm>
        </p:grpSpPr>
        <p:sp>
          <p:nvSpPr>
            <p:cNvPr id="127" name=""/>
            <p:cNvSpPr/>
            <p:nvPr/>
          </p:nvSpPr>
          <p:spPr>
            <a:xfrm flipH="1">
              <a:off x="3352320" y="762120"/>
              <a:ext cx="25909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762120"/>
              <a:ext cx="5335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99040" y="301680"/>
              <a:ext cx="32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Literally, </a:t>
              </a:r>
              <a:r>
                <a:rPr b="1" lang="en-US" sz="2400" spc="-1" strike="noStrike">
                  <a:solidFill>
                    <a:srgbClr val="6699ff"/>
                  </a:solidFill>
                  <a:latin typeface="Tahoma"/>
                </a:rPr>
                <a:t>not</a:t>
              </a: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 optional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140-DAF4-4166-AC64-38312A6B72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3T22:08:51Z</dcterms:modified>
  <cp:revision>1054</cp:revision>
  <dc:subject/>
  <dc:title>PowerPoint Presentation</dc:title>
</cp:coreProperties>
</file>