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B25-CB69-43F8-B916-F9EBFC03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D34-685F-441E-9F89-ED9D1699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E04-B1E1-4F85-BB20-86FFAC3B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901-0C62-4FCF-8A2A-5E7FF6A4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A78C6-6FAB-49EF-9536-2FF73D3B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F03A4-3B6E-4872-8C11-3499B000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B016D-F31B-49D9-987B-3EDB1574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A3282-5C4B-4946-850D-9DBC4172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C911E-CB57-4BC9-8793-EAC9F220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96D84-D24A-48C2-A545-B2AFF47D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BE31E-B071-45D5-AE25-C06E76C1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428-41CD-417A-823F-94D7CBD5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662ED-AFC3-4B8C-B08C-B0743121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5D5B4-F845-4C16-80F6-FA2AF859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84116-1CFE-4FCE-B689-17430012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D2495-8C0C-4F99-AFD2-CC2AEACF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07FA3-E59B-477E-855C-39CA991B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0EC-12E2-4E7A-ADEC-79996B3C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B8D-2979-48C5-806D-9D86268E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4B2-7CD4-489B-BF86-A33B1A9D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026-25DC-41E5-ABC9-E13621ED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50D-371E-411B-9829-5C69488A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A9B-3CE0-4C64-90FF-C97D2ADA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015-FEFE-481E-A31C-B053DA10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6174-BB9C-4D70-9748-27DBA2B649D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158D-9E3C-420F-B54A-FCF9BA647ED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arithmetic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cal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Modulo Operator: %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Modular Arithmetic: Remainder from divi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Works with integers on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6 % 4 is read as “six mod four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3 % 6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2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14 =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14 % 7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56B-9224-4411-ABED-3A761520C0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Brainsto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1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10 do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/10 do (integer division)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/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/10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/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2 do?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4B9-BAAF-4183-9B6A-0AA15BDC2A5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1: Type Conver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ou can convert a variable’s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Use the type’s </a:t>
            </a:r>
            <a:r>
              <a:rPr b="1" lang="en-GB" sz="2800" spc="-1" strike="noStrike">
                <a:solidFill>
                  <a:srgbClr val="010199"/>
                </a:solidFill>
                <a:latin typeface="Arial"/>
              </a:rPr>
              <a:t>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2514600"/>
          <a:ext cx="8610480" cy="3487680"/>
        </p:xfrm>
        <a:graphic>
          <a:graphicData uri="http://schemas.openxmlformats.org/drawingml/2006/table">
            <a:tbl>
              <a:tblPr/>
              <a:tblGrid>
                <a:gridCol w="3657600"/>
                <a:gridCol w="2209680"/>
                <a:gridCol w="27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version Function/Constructo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Value Returned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3.77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“33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1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2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2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2.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&lt;any value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99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9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C27-574F-411B-8D15-7F55FBE6CE2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2: Arithmetic Shorthan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54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alled </a:t>
            </a:r>
            <a:r>
              <a:rPr b="1" lang="en-GB" sz="3200" spc="-1" strike="noStrike">
                <a:solidFill>
                  <a:srgbClr val="010199"/>
                </a:solidFill>
                <a:latin typeface="Arial"/>
              </a:rPr>
              <a:t>extended assignment operators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x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+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e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 x –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-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nd oth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/= 2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mount *= 1.05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69F-7987-430B-A1CE-F72CEE08990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37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Revise average three numbers to make result have type </a:t>
            </a:r>
            <a:r>
              <a:rPr b="0" lang="en-GB" sz="3200" spc="-1" strike="noStrike">
                <a:solidFill>
                  <a:srgbClr val="020202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two approach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elsius to Fahrenhei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F = (9/5)C + 3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4A7-5994-4C11-8746-6BF07794C2C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41148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I feel ” + “sleepy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Oops! “ *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219320"/>
          <a:ext cx="8534160" cy="2251080"/>
        </p:xfrm>
        <a:graphic>
          <a:graphicData uri="http://schemas.openxmlformats.org/drawingml/2006/table">
            <a:tbl>
              <a:tblPr/>
              <a:tblGrid>
                <a:gridCol w="1752480"/>
                <a:gridCol w="2666880"/>
                <a:gridCol w="41148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n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ntax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1 + str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two strings into one str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 * num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string </a:t>
                      </a: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num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im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the following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the string variabl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promp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or th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so that it prompts the user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8640" y="1828800"/>
            <a:ext cx="32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IN = “1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AX=“10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 = input( prompt 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95288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 a scale of 1 to 10, how much do you like Matt Damon?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1040" y="62485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sca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tomorr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some little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view your notes about programm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other half of Four Problems in Cyberspace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79440" y="15638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ound sig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190760" y="1828800"/>
            <a:ext cx="1600200" cy="30492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392-7799-47F2-B31E-1D048F86C7E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Assignment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ssignment statements are NOT math equ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ount = count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se are command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x +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What’s the value of 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42A-5ADD-492D-9E06-A865B89029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398600"/>
          <a:ext cx="8229600" cy="3584520"/>
        </p:xfrm>
        <a:graphic>
          <a:graphicData uri="http://schemas.openxmlformats.org/drawingml/2006/table">
            <a:tbl>
              <a:tblPr/>
              <a:tblGrid>
                <a:gridCol w="1936800"/>
                <a:gridCol w="3625560"/>
                <a:gridCol w="26672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ssociativit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igh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20920" y="5511960"/>
            <a:ext cx="65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ual precedence rules (P E - DM% AS)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29520" y="62485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g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333760" y="5867280"/>
            <a:ext cx="75960" cy="60984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T Math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to write out all operations explicit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math class, a (b+1) meant a * (b+1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6080" y="2514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Write this way in 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287760" y="1636200"/>
            <a:ext cx="304920" cy="1450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800 h 1450800"/>
              <a:gd name="textAreaBottom" fmla="*/ 1413000 h 145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4025880"/>
            <a:ext cx="29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5+3*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-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wo Types of Divi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7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Float Division: Result is a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.0/6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.0/3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one number must have a decimal, i.e., have typ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teger Division: Result is an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/6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/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/y, if both x and y are i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oth numbers ar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int</a:t>
            </a: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F63-E548-4C0C-8CB0-ED09C1FAE57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ivision Practice (NOT Math class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x = 6/4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 = 4 / 6 * 5.0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 = 6/12.0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b = 6.0/12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.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5360" y="1231920"/>
            <a:ext cx="808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What is the result?  What is the </a:t>
            </a:r>
            <a:r>
              <a:rPr b="1" lang="en-US" sz="2800" spc="-1" strike="noStrike">
                <a:solidFill>
                  <a:srgbClr val="2017b8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 of the value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404-A615-4B92-AACC-6701575EC67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8T15:12:04Z</dcterms:modified>
  <cp:revision>407</cp:revision>
  <dc:subject/>
  <dc:title>PowerPoint Presentation</dc:title>
</cp:coreProperties>
</file>