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26A-DF89-4B00-9CD4-8A4942BE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21E-6F57-492D-A59B-D65BC3BA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78C-C9F4-4729-814F-1976510B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966-374E-4CA8-AC19-73DD4CF0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98763-615C-48D8-B051-7EAC4979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84CDA-B063-449F-AC7D-283ADC08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95DA0-27AF-4068-BAC2-03C7AC70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549FE-3825-4397-9082-51590BFF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46CE7-014F-4B39-A23C-11B0ABE6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D98FF-CB19-4212-831A-FC7BF6DF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9ABFF-8EC1-43EF-A6D3-3D94DBF2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C02-58DA-46AC-AC13-48833630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21D21-B5EB-47E5-A441-0C450D46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8B572-34FC-4FA8-A58A-992A689E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D5AD1-83A7-4057-A541-47BDA4B6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73735-0B2F-451A-A44C-C662E6A0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DAB36-65C4-4C9A-8CF9-41CE65FB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17B-BA7E-4FAE-AA59-48BE916C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0BA-C3B4-444D-A3A5-4E20BE1E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825-E386-4944-A020-6A543E46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073-8E9D-4172-BEAE-62425432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C61-5CBB-42AE-AFA7-7AFD2589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986F-DF62-4FDB-A724-59A3BF94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7F05-6BFE-480C-B4DE-38D8A558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FD70-9449-4E83-BA88-7884BE5B4BD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D47C-7665-4275-864D-4DF78E5FCAB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ssing arrays to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09F-0FDD-4D02-84C8-76D5B54E18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ssues: Open  sour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urce is available to be read/edit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nux kernel is open sour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nux kernel is fre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 distributions add additional software, charge for O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prietary vs. open-source softwa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o has control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you trust them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85E-2AC3-4986-9E22-A279E64989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5T22:45:01Z</dcterms:modified>
  <cp:revision>1459</cp:revision>
  <dc:subject/>
  <dc:title>PowerPoint Presentation</dc:title>
</cp:coreProperties>
</file>