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8252-773F-494B-91BF-8621FCC9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079A-E8A9-4FEF-99F0-E0A6257E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31F4-5D5C-4543-93A7-8704A839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94AD-5188-4DBF-A820-7F2687CF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01E91-AE09-4AB3-A715-369937BB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AC97C-4D1D-4465-88AB-E89A7C11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2B6E8-D567-455F-84DE-C8F12F19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DEF5C-B0AA-489B-8445-C58B0393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3FBBB-4DE3-4ADB-B834-90EC6EC1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60220-5D56-4C1C-9980-B64196AF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D0CB6-4681-4875-84DD-ED229215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98A-0135-485D-87A0-DB34B671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31867-D32D-440F-B84E-E86E629F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A6FD5-F54A-48E3-9955-734F126F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E0C60-4DB0-4BB7-AEDE-5B7D5766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F1A00-B92E-4F0A-9BFD-1D8F77BE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D3531-CEA9-4B24-8FBD-52D2D125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AD1A-C659-425F-BE3E-090EA03A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C1F8-0CF2-4506-9DFF-A1A6252F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5D43-221D-4494-B3FC-21D13833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801-40FC-41E5-9048-D9C44D6E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0CFF-6EE5-4012-8979-B2513437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4435-5404-46BB-94A1-EE47C2E3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AF5B-6171-44E5-8549-9DEDD41F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3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D8A2-5D2B-407B-B5D1-0B779E4CF494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60AF-3B1F-481D-AD9B-61884F58C25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mly Lab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nd Sanitiz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rgonomic inform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DA47-6E97-4E08-A125-43703A1EC2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905120"/>
            <a:ext cx="807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Encodes a lowercase string using a key, preserving spaces in # the string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a lowercase string to be encoded (toEncode) and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integer key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s the encoded string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encode(toEncode, key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1F61-E245-4642-A8B8-B6E439579A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Not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ll-named parameters make documentation easi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’m not strict on the pre/post format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Just need to be clear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the function does (at high level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es of parame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e of the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caller knows what to pass to the function and if they should assign the output to a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DAA7-612D-4833-A9CB-E35C882D9F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al or No Deal Over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ave 26 cases with various amounts of mone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mounts are know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layer selects a case (hope has the big jackpot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 each round, player opens up cas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veals amounts that are not in the case they chos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Banker makes an offer to buy the cas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layer decides if want to take the deal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Is the offer more than what is in the case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Make decision based on amounts that haven’t been opened yet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Games ends when only one more case to open or player takes the deal.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61D0-CE93-468B-A544-D2645E209C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: Deal or No De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lay the game, written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: partial solution in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r job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, understand given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ll in the functions for a complete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9BF5-B4B7-4021-A809-24BF0187B4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6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arm up problems using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al or No Dea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F65B-8691-4A1E-B289-93FB70D950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5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organiz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 functions at top of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statements at top of program (outside of any function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/algorithm improve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through the string as charac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ather than iterating through positions in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encode a letter if it’s not a spa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66680" y="5288040"/>
            <a:ext cx="46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ch != “ “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# convert to ASCII, etc.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9084-540C-48FC-96CE-A7A463AFA4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gic Numb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 lot of you used 97, 122, 26 explicitly in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metimes not documented (commented) wh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f ASCII values changed or used different representati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tter to use constants and lookup valu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65320" y="4640400"/>
            <a:ext cx="6835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OWER_BOUND = ord(‘a’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PPER_BOUND = ord(‘z’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ANGE = UPPER_BOUND-LOWER_BOUND +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D4FB-01B5-4B28-9583-6F4315A4B2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ability/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ed translateLet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d 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lightly decreased efficiency because adds another function cal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ayoff in readability domina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EC53-2428-4C2D-A2DD-651F642F35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 functions, programs/modules at high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 inside functions at low-level (implementation detail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derived from students’ submissions)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4365720"/>
            <a:ext cx="83059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This function calculates the speeding ticket fine, if speeding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s are two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ositiv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numbers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representing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peed limit and the clocked speed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 the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computed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fin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calculateFine(speed_limit, clock_speed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6845-48C2-4EC6-81F3-A75A038400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is This a Good Commen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2767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cribes the input parameters’ types and implies the type of the out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ys that if you give it negative numbers, you could get a goofy answer ba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include implementation detai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Tells caller how to use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066680"/>
            <a:ext cx="83055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This function calculates the speeding ticket fine, if speeding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s are two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ositiv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numbers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representing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peed limit and the clocked speed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 the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computed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fin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calculateFine(speed_limit, clock_speed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9B20-3442-4B15-9950-69713006FB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85680" y="373392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def translateLetter(char, key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D71-A827-4D0E-876E-DC8C93C26D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666880"/>
            <a:ext cx="80773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Encodes a single character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eters are a single,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 lowercas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character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tring (char) and an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nteger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key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s the encoded character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translateLetter(char, key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C5EF-FA57-4AA8-8407-9E96836776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666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def encode(toEncode, key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78DD-F6F7-4652-B711-08412C95F6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3T16:58:19Z</cp:lastPrinted>
  <dcterms:modified xsi:type="dcterms:W3CDTF">2007-10-23T18:50:03Z</dcterms:modified>
  <cp:revision>2297</cp:revision>
  <dc:subject/>
  <dc:title>PowerPoint Presentation</dc:title>
</cp:coreProperties>
</file>