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FEE-C22F-44F9-BDF2-55484DE4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9DA-D020-4EF2-ACE8-4C1B0FDD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EFB-C9D2-4832-BAC3-254D31C4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389-E9A6-4026-AB8F-F05BFA9D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BC2-5028-4E5C-A3ED-65804A84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398-F343-4907-A12E-64C0266D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64B-70D1-4517-80B9-4C77F288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CDF-39AE-400E-8ED5-174DBC94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44A-6696-40EA-B259-7C67316D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B52-001E-4EC7-8B49-32740BC1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B52-573A-42F9-9AAF-0E5362DE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CAA-BDF8-43BA-9BF4-D85300A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3470-7CFB-43F5-AA57-7BD5C6CA2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077320" cy="4419720"/>
          </a:xfrm>
          <a:prstGeom prst="rightArrow">
            <a:avLst>
              <a:gd name="adj1" fmla="val 50000"/>
              <a:gd name="adj2" fmla="val 45689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56:27Z</dcterms:created>
  <dc:creator>Sara Sprenkle</dc:creator>
  <dc:description/>
  <dc:language>en-US</dc:language>
  <cp:lastModifiedBy>Sara Sprenkle</cp:lastModifiedBy>
  <cp:lastPrinted>2007-10-22T15:56:42Z</cp:lastPrinted>
  <dcterms:modified xsi:type="dcterms:W3CDTF">2007-10-22T15:57:07Z</dcterms:modified>
  <cp:revision>1</cp:revision>
  <dc:subject/>
  <dc:title>PowerPoint Presentation</dc:title>
</cp:coreProperties>
</file>