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DA20-ECC4-4BFD-80B7-4A1408AA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FEDD-9A26-4A19-AFD0-6220A9CD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9EC3-427F-4E3B-B707-9D2DD892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1E0-04DC-4380-9297-74AC7429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EB0C0-A98F-4F56-AD85-758B4266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E6440-72B1-4255-A2CD-2474C0B6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0FE7B-4459-4F6F-835B-BAACFCF3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9398E-FCA9-43B9-B4FC-549547C7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C1CD1-D710-4665-82D3-19306F38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A0A78-D245-410E-9EC5-5B99A6AA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F6B7D-AC82-45B4-AD89-27F08F65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A20-3D62-4CE2-8610-F9AA1C12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D3549-89F4-4AC8-8105-912806BA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A3880-C284-4469-87A6-3AA46B88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9E7D3-156D-4900-8425-5E092E17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9119B-F687-4E64-9083-406D4EA3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42AE3-CB25-4B69-BCD5-55A12410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102-264A-47F9-B770-9E264C47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9C9-324F-44EB-BBFC-6F0C2BA8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24E-A8C8-43FC-9142-07B7311E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0B60-7862-4D3C-BA54-B25EF877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40D-81AB-4F67-A6E6-6D3C0BF3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ED3-3EA8-4A94-99CA-0A0FC76B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346-39F3-4935-9C83-4B7728BC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3FC3-9ED8-4927-AC38-F5A2C0D8B5EE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FDCD-21D4-4C28-A000-E7E481E203C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nnouncement: Midterm prep docu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method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07D0-55F7-4B33-AC82-DAB02B93D7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arison of Code Us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thout function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nu_withoutfunc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th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nu_withfunctions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18D-AD57-46B7-B799-4F7F9D5BDE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2, Problem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place to make a functi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place that has some useful code that we may want to reus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CC96-A45C-4ADC-9BF4-623E0C2F85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 ft/s to mp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3352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put: ft/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utput: mp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152388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tpersTo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8080" y="220968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45160" y="220968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040" y="197820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4960" y="1978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66080" y="17496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Ft/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66000" y="1749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3A0-287E-459A-A5BF-7ACCE1CC37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yntax of Function Defin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27040" y="1600200"/>
            <a:ext cx="838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SECOND_TO_HOUR = 3600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FEET_TO_MILE = (1.0/5280)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result = ftps * SECOND_TO_HOUR * FEET_TO_MILE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" y="12841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12400" y="1270080"/>
            <a:ext cx="125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000"/>
            </a:b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75160" y="114300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Input Name/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-368640" y="2728800"/>
            <a:ext cx="220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Body (or function definition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8040" y="510552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How to give outpu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96920" y="1676520"/>
            <a:ext cx="0" cy="8380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68520" y="1905120"/>
            <a:ext cx="0" cy="5331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882600" y="1752480"/>
            <a:ext cx="338040" cy="6652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54120" y="4419720"/>
            <a:ext cx="351000" cy="7617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438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Function head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AC9-0134-413D-9925-4C8F9147C7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are functions in the cod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be defined in script before use (calling i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be in separat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to use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enu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 in modules when functions are reusable for many different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enefits: shorter code (no function defns), isolate testing of function, write “test driver” scripts to test functions separately from use in scrip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905-F87B-401E-8E28-8AA65A596B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inputs to a function are called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call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/using functions, parameters must appear in same order as in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round(x, 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float to roun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integer of decimal places to round to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B7AE-F0CE-4FF7-91A9-08D817F243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orm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named in the the function definition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Actu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or literals that really get used when the function is called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round(x, n) :</a:t>
            </a:r>
            <a:br>
              <a:rPr sz="3200"/>
            </a:b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Celc = round(celc,2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l &amp; actual parameters must match in order, number, and type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orm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648320" y="3429000"/>
            <a:ext cx="12189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105520" y="3429000"/>
            <a:ext cx="7617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590920" y="3276720"/>
            <a:ext cx="12189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048120" y="3276720"/>
            <a:ext cx="7617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4CD-4AF4-4CBC-964A-A29DE4A467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the code reaches a statement lik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x is the output returned to the place where function called and the function st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functions that don’t have explicit output, return does not have a value with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ptional: don’t need to have return (see </a:t>
            </a:r>
            <a:r>
              <a:rPr b="0" lang="en-US" sz="2600" spc="-1" strike="noStrike">
                <a:solidFill>
                  <a:srgbClr val="00c600"/>
                </a:solidFill>
                <a:latin typeface="Arial"/>
              </a:rPr>
              <a:t>menu.py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54D8-D4C9-4A29-971B-76E1572104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alling your own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ennifer_mph = ftpsToMPH(jen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ura_mph = ftpsToMPH(laura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enus_mph = ftpsToMPH(venus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8862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Output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is assigned to venus_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720" y="405432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400"/>
            </a:b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50480" y="41148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447920" y="3352680"/>
            <a:ext cx="1143000" cy="5335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962520" y="3504960"/>
            <a:ext cx="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019920" y="3504960"/>
            <a:ext cx="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2971800"/>
            <a:ext cx="2133360" cy="533520"/>
          </a:xfrm>
          <a:prstGeom prst="rect">
            <a:avLst/>
          </a:prstGeom>
          <a:solidFill>
            <a:srgbClr val="6699ff">
              <a:alpha val="31000"/>
            </a:srgbClr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B0B-AC09-4CDF-A0E6-716277B53A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en you call the function, the computer jumps to the function and executes i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en it is done, it returns to the same place in the first code where it left off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98720" y="3427560"/>
            <a:ext cx="391536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2HR = 3600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FT2MI = (1.0/5280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result = ftps * S2HR * FT2MI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666880" y="3580920"/>
            <a:ext cx="1981440" cy="129564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809880" y="4952880"/>
            <a:ext cx="1447920" cy="763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6800" y="3733920"/>
            <a:ext cx="36248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URT_LEN = 78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#Make calculations to ft/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j_ft_s = COURT_LEN / j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j_mi_hr = ftpersToMPH(j_ft_s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4160" y="597384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: not great variable na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7454-CF71-4688-80C0-A6A3149C42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stants Re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: don’t change for “life” of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uring one program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’s a constant always (like PI), that’s tr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play Rainbow Dice to 10, 100, or 100000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kes easy to change program once at t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736F-7489-440B-9C61-C70B8451B1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4876920"/>
            <a:ext cx="4343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The max is”, z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86200"/>
            <a:ext cx="22096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z=max(x, y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8" idx="2"/>
            <a:endCxn id="167" idx="0"/>
          </p:cNvCxnSpPr>
          <p:nvPr/>
        </p:nvCxnSpPr>
        <p:spPr>
          <a:xfrm>
            <a:off x="2323800" y="43578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endCxn id="168" idx="0"/>
          </p:cNvCxnSpPr>
          <p:nvPr/>
        </p:nvCxnSpPr>
        <p:spPr>
          <a:xfrm>
            <a:off x="2323800" y="34434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8" idx="3"/>
            <a:endCxn id="172" idx="1"/>
          </p:cNvCxnSpPr>
          <p:nvPr/>
        </p:nvCxnSpPr>
        <p:spPr>
          <a:xfrm flipV="1">
            <a:off x="3443040" y="1371240"/>
            <a:ext cx="1267560" cy="274392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74" idx="1"/>
            <a:endCxn id="168" idx="3"/>
          </p:cNvCxnSpPr>
          <p:nvPr/>
        </p:nvCxnSpPr>
        <p:spPr>
          <a:xfrm rot="10800000">
            <a:off x="3443400" y="4114080"/>
            <a:ext cx="1953000" cy="144864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 flipV="1">
            <a:off x="1828800" y="3962520"/>
            <a:ext cx="1219320" cy="304560"/>
          </a:xfrm>
          <a:prstGeom prst="line">
            <a:avLst/>
          </a:prstGeom>
          <a:ln w="63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33526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Gets replaced with function’s output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13372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2971800"/>
            <a:ext cx="28195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y = input(“Enter 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7" idx="2"/>
            <a:endCxn id="178" idx="0"/>
          </p:cNvCxnSpPr>
          <p:nvPr/>
        </p:nvCxnSpPr>
        <p:spPr>
          <a:xfrm>
            <a:off x="2323800" y="2604600"/>
            <a:ext cx="1080" cy="35316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 flipH="1" flipV="1">
            <a:off x="761760" y="2437920"/>
            <a:ext cx="15228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37160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To </a:t>
            </a:r>
            <a:r>
              <a:rPr b="1" lang="en-US" sz="2200" spc="-1" strike="noStrike">
                <a:solidFill>
                  <a:srgbClr val="010199"/>
                </a:solidFill>
                <a:latin typeface="Tahoma"/>
              </a:rPr>
              <a:t>input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 function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1" idx="2"/>
            <a:endCxn id="178" idx="1"/>
          </p:cNvCxnSpPr>
          <p:nvPr/>
        </p:nvCxnSpPr>
        <p:spPr>
          <a:xfrm flipH="1" rot="16200000">
            <a:off x="390240" y="2691360"/>
            <a:ext cx="727560" cy="29124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4648320" y="4114800"/>
            <a:ext cx="22096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304812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6" idx="2"/>
            <a:endCxn id="184" idx="0"/>
          </p:cNvCxnSpPr>
          <p:nvPr/>
        </p:nvCxnSpPr>
        <p:spPr>
          <a:xfrm>
            <a:off x="6667200" y="25290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5715000" y="2057400"/>
            <a:ext cx="19051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02400" y="35053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3468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411480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3" idx="2"/>
            <a:endCxn id="174" idx="0"/>
          </p:cNvCxnSpPr>
          <p:nvPr/>
        </p:nvCxnSpPr>
        <p:spPr>
          <a:xfrm>
            <a:off x="5752800" y="4586040"/>
            <a:ext cx="110556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5410080" y="5334120"/>
            <a:ext cx="28958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4" idx="2"/>
            <a:endCxn id="183" idx="0"/>
          </p:cNvCxnSpPr>
          <p:nvPr/>
        </p:nvCxnSpPr>
        <p:spPr>
          <a:xfrm flipH="1">
            <a:off x="5752800" y="351936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2" idx="2"/>
            <a:endCxn id="186" idx="0"/>
          </p:cNvCxnSpPr>
          <p:nvPr/>
        </p:nvCxnSpPr>
        <p:spPr>
          <a:xfrm>
            <a:off x="6667200" y="16146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4724280" y="1143000"/>
            <a:ext cx="38862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max(num1, num2)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4" idx="2"/>
            <a:endCxn id="189" idx="0"/>
          </p:cNvCxnSpPr>
          <p:nvPr/>
        </p:nvCxnSpPr>
        <p:spPr>
          <a:xfrm>
            <a:off x="6667560" y="351936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9" idx="2"/>
            <a:endCxn id="174" idx="0"/>
          </p:cNvCxnSpPr>
          <p:nvPr/>
        </p:nvCxnSpPr>
        <p:spPr>
          <a:xfrm flipH="1">
            <a:off x="6857280" y="4586040"/>
            <a:ext cx="118188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4867920" y="25884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 gets the value of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 gets the value of 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1595-5EE0-4A08-8065-057FFFD78A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lse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267080"/>
            <a:ext cx="22096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201" idx="2"/>
            <a:endCxn id="199" idx="0"/>
          </p:cNvCxnSpPr>
          <p:nvPr/>
        </p:nvCxnSpPr>
        <p:spPr>
          <a:xfrm flipH="1">
            <a:off x="66672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53215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34680" y="37339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426708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199" idx="2"/>
            <a:endCxn id="198" idx="0"/>
          </p:cNvCxnSpPr>
          <p:nvPr/>
        </p:nvCxnSpPr>
        <p:spPr>
          <a:xfrm flipH="1">
            <a:off x="5752800" y="367200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45720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(num1, num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99" idx="2"/>
            <a:endCxn id="204" idx="0"/>
          </p:cNvCxnSpPr>
          <p:nvPr/>
        </p:nvCxnSpPr>
        <p:spPr>
          <a:xfrm>
            <a:off x="6667560" y="367200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4" idx="2"/>
          </p:cNvCxnSpPr>
          <p:nvPr/>
        </p:nvCxnSpPr>
        <p:spPr>
          <a:xfrm rot="5400000">
            <a:off x="7035840" y="4178880"/>
            <a:ext cx="443520" cy="156276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822040" y="533412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9" name=""/>
          <p:cNvCxnSpPr/>
          <p:nvPr/>
        </p:nvCxnSpPr>
        <p:spPr>
          <a:xfrm rot="5400000">
            <a:off x="48261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8FE8-7842-4530-BB97-28D1075475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4267080"/>
            <a:ext cx="22100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3" idx="0"/>
          </p:cNvCxnSpPr>
          <p:nvPr/>
        </p:nvCxnSpPr>
        <p:spPr>
          <a:xfrm flipH="1">
            <a:off x="62100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48643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571500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3" idx="2"/>
            <a:endCxn id="212" idx="0"/>
          </p:cNvCxnSpPr>
          <p:nvPr/>
        </p:nvCxnSpPr>
        <p:spPr>
          <a:xfrm flipH="1">
            <a:off x="5142960" y="3672000"/>
            <a:ext cx="106740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41148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7" idx="2"/>
          </p:cNvCxnSpPr>
          <p:nvPr/>
        </p:nvCxnSpPr>
        <p:spPr>
          <a:xfrm rot="5400000">
            <a:off x="5054760" y="5626800"/>
            <a:ext cx="44352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2441160" y="57150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21" name=""/>
          <p:cNvCxnSpPr/>
          <p:nvPr/>
        </p:nvCxnSpPr>
        <p:spPr>
          <a:xfrm rot="5400000">
            <a:off x="41403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3" idx="2"/>
            <a:endCxn id="217" idx="0"/>
          </p:cNvCxnSpPr>
          <p:nvPr/>
        </p:nvCxnSpPr>
        <p:spPr>
          <a:xfrm rot="5400000">
            <a:off x="5119200" y="4609800"/>
            <a:ext cx="2029320" cy="153000"/>
          </a:xfrm>
          <a:prstGeom prst="curvedConnector5">
            <a:avLst>
              <a:gd name="adj1" fmla="val 71504"/>
              <a:gd name="adj2" fmla="val 50000"/>
              <a:gd name="adj3" fmla="val 71504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311880" y="4657680"/>
            <a:ext cx="2832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mplicit false branch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Only way got here is if the condition was not tru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BD9-A95A-477E-A32D-AA396D9F51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ssing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pi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the actual parameters are given to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actual parameters in the calling code do not change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wap 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wap two values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put into a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21B-B85A-4997-8EDB-C1E41B1655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ethod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available operations to perform on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ightly different tha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method: find(substring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s the index where substring is in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-1 if substring isn’t fou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call a method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tring&gt;.methodname([argument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ilename.find(“.py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8320" y="61261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xecuted on 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048120" y="5866920"/>
            <a:ext cx="304560" cy="3049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682-511C-49F2-9414-F4ED494838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920" y="1143000"/>
          <a:ext cx="8610480" cy="4959360"/>
        </p:xfrm>
        <a:graphic>
          <a:graphicData uri="http://schemas.openxmlformats.org/drawingml/2006/table">
            <a:tbl>
              <a:tblPr/>
              <a:tblGrid>
                <a:gridCol w="3581280"/>
                <a:gridCol w="5029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enter(width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string centered within the given number of column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unt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# of non-overlapping occurrences of substring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the string.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ndswith(sub), startswith(sub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ends with/starts with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first index where substring 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salpha(), isdigit(), isspac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contains letters/digits/whitespace only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wer(), uppe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string converted to lowercase/lowercase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5312160" y="632448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metho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38C-A1EF-4892-8FD2-0A931A980F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Methods vs.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: all “input” as arguments/parame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le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built-i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lled as len(st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: “input” are argument/parameter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string the method was called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 call: str.upper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C9C-BA80-4E6B-B31A-A537D875F9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Using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binaryToDecimal.py to verify that the entered string contains only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one of the string method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make sure that it contains only 0s and 1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8F57-F29D-441E-8FF1-967574DDD3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ve used several built-i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en, input, raw_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unctions from modules, e.g., math and rando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Functions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e small pieces of code that can be used in other pieces of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ubprograms that have been given a 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ave 0 or more inpu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duce 0 or 1 outpu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fine our own func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95A-7288-4F2C-820C-22CD5585BE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is a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black bo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lementation doesn’t mat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care that function generates appropriate output, given appropriate input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care how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 was implemen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73360" y="464832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aw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8080" y="533412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45160" y="533412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040" y="510228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64960" y="5029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17240" y="48006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rom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89720" y="48006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er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5715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e saved output in a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D8B-82B1-4C1E-9E35-FB2174A51F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write function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llows you to break up a hard problem into smaller, more manageable part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your code easier to understan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ides implementation details (</a:t>
            </a: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abstrac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ovides interface (input, output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part of the code reusable so that you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ly have to type code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debug it all a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solates error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make changes in one function (maintainability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481B-B3C4-426B-AF9C-A639AAC613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8T20:55:54Z</dcterms:modified>
  <cp:revision>1293</cp:revision>
  <dc:subject/>
  <dc:title>PowerPoint Presentation</dc:title>
</cp:coreProperties>
</file>