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712-FE7F-4A67-BB5F-8FA0754C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4284-AA8B-41A1-A33C-2DD3104F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34D-502F-492F-9FD5-0D68D3DF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00A-64A6-4F2F-9F0E-379F0E76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35DF4-9987-425F-BD2F-5621493C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64F1E-4F88-4887-8031-B5F734B9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C93D6-71BA-4395-B606-73720921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FAB9E-10AC-423A-AF52-F124B60D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01E68-1E87-4365-9FF0-CB6F34FD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18CE1-ADA8-4C5E-B7AE-2F444A00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CFFEA-928A-4849-A04C-1C66C96C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47A-67EE-49E9-B8AA-A9135785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5D485-A7C4-4B8A-BF00-5F00777B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5231E-D477-49B1-8B69-46122696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80C28-57DA-4039-983F-8A147624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507E4-FF75-4042-94A4-45B541EB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12A91-9603-4159-A65B-3D9C6776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F0B-5985-468B-BAD4-06E78042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7E5-B1DD-4F8B-AE7B-6215106C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37A-5BD0-4C98-96F7-5E877355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D5B1-4A4A-4F1C-A9DF-E2B91600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8BD-02AC-4C8D-8990-86985025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ADA-B42D-42DB-A95F-53E95478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926-CFC5-4D22-B65B-22ADC435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3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805A-CAF5-48B0-ABDE-12A9A80041D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1BAF-0995-4AB0-90DD-9C06F2168C12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mly Lab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nd Sanitiz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rgonomic inform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46C-11F5-4C0F-9ABF-7F54E15345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90512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Encodes a lowercase string using a key, preserving spaces in # the string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a lowercase string to be encoded (toEncode) and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integer key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s the encoded string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encode(toEncode, key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1FD1-3483-4A55-A4E1-7AF2C57611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Not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ll-named parameters make documentation easi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’m not strict on the pre/post format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ust need to be clear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the function does (at high level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es of parame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e of the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caller knows what to pass to the function and if they should assign the output to a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A54-15A5-441F-BA99-9701045A31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al or No Deal Over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ave 26 cases with various amounts of mone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mounts are know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layer selects a case (hope has the big jackpot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 each round, player opens up cas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veals amounts that are not in the case they chos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Banker makes an offer to buy the cas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layer decides if want to take the deal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Is the offer more than what is in the case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Make decision based on amounts that haven’t been opened yet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Games ends when only one more case to open or player takes the deal.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7EE-8CBA-4559-84A8-ACF370BDD4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: Deal or No De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lay the game, written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: partial solution in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r job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, understand given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ll in the functions for a complete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317-9218-4583-8010-902CB54B6C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6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arm up problems using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al or No Dea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A96A-482F-4EC0-BC06-55C0209D50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5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organiz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 functions at top of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statements at top of program (outside of any function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/algorithm improve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through the string as charac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ather than iterating through positions in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encode a letter if it’s not a spa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66680" y="5288040"/>
            <a:ext cx="46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ch != “ “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# convert to ASCII, etc.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841-430D-4BB2-A457-F538383806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gic Numb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 lot of you used 97, 122, 26 explicitly in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metimes not documented (commented) wh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f ASCII values changed or used different representati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tter to use constants and lookup valu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65320" y="4640400"/>
            <a:ext cx="6835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OWER_BOUND = ord(‘a’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PPER_BOUND = ord(‘z’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ANGE = UPPER_BOUND-LOWER_BOUND +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AD6B-D21A-436E-930C-ACA843895A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ability/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ed translateL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d 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lightly decreased efficiency because adds another function cal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ayoff in readability domina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04C3-6E8F-49DF-8D0D-CC1435AE6B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 functions, programs/modules at high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 inside functions at low-level (implementation detail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derived from students’ submissions)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4365720"/>
            <a:ext cx="83059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This function calculates the speeding ticket fine, if speeding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s are two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numbers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representing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peed limit and the clocked speed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 the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computed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fin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calculateFine(speed_limit, clock_speed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EA5F-3190-4EE8-8C6D-E575F97DE2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is This a Good Commen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2767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cribes the input parameters’ types and implies the type of the out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ys that if you give it negative numbers, you could get a goofy answer ba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include implementation detai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Tells caller how to use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066680"/>
            <a:ext cx="83055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This function calculates the speeding ticket fine, if speeding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s are two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numbers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representing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peed limit and the clocked speed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 the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computed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fin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calculateFine(speed_limit, clock_speed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11A-7DC3-4F3D-8393-1DBD623A49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85680" y="373392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def translateLetter(char, key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6257-D78C-48D5-A416-5D37DAE4F6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666880"/>
            <a:ext cx="8077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Encodes a single character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eters are a single,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 lowercas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character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tring (char) and an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nteger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key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s the encoded character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translateLetter(char, key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80C-3B7B-4930-8A18-6485541F31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666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def encode(toEncode, key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E966-FA50-4AEE-88EC-824B32CDE7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3T16:58:19Z</cp:lastPrinted>
  <dcterms:modified xsi:type="dcterms:W3CDTF">2007-10-23T18:50:03Z</dcterms:modified>
  <cp:revision>2297</cp:revision>
  <dc:subject/>
  <dc:title>PowerPoint Presentation</dc:title>
</cp:coreProperties>
</file>