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D284-45F6-4C85-B525-EC8F93A13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836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158B-40D2-4FA8-8D87-68394F515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928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7616-CB09-4726-AC99-EE606CC32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12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00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12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00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5CD5-2E16-4065-BC77-8B5FB6587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8997-D9E5-43E9-9D55-E14D0320C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E6FC-DA6F-47F3-9C39-C1D17A8A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884C-56F2-4546-B7B7-BA8AA6E01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54F5-D79A-47DA-AB37-5A5F678F0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5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2E7F-D17D-42DC-A2A1-35BB9B7EC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B8D6-BAEA-4613-B29B-5D4CA6D7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928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34EF-47EB-461A-A62E-1A3C4ECD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33CC-9B37-4B28-9309-3CCC8CDE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3" marL="1596960" indent="-287280">
              <a:lnSpc>
                <a:spcPct val="102000"/>
              </a:lnSpc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4" marL="2004840" indent="-290160">
              <a:lnSpc>
                <a:spcPct val="102000"/>
              </a:lnSpc>
              <a:spcBef>
                <a:spcPts val="799"/>
              </a:spcBef>
              <a:buClr>
                <a:srgbClr val="010199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5" marL="2004840" indent="-29016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6" marL="2004840" indent="-29016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ep 12, 2007</a:t>
            </a:r>
            <a:endParaRPr b="0" lang="en-US" sz="1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07A2B0-FC72-4C7C-ACDC-06668A80CA2B}" type="slidenum">
              <a:rPr b="0" lang="en-GB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Review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Linux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Why programming languages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Compiled vs. Interpreted Language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Programming in Python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Data typ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Express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Variab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Commen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Arithmetic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89CA-47F8-4FA3-B102-561239EBFE9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iled vs. Interpreted Languag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6095880" y="4038480"/>
            <a:ext cx="2057400" cy="6098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Compil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352680" y="3886200"/>
            <a:ext cx="1600200" cy="91440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Program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text fi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5562720"/>
            <a:ext cx="1371600" cy="83808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44" name=""/>
          <p:cNvCxnSpPr>
            <a:stCxn id="142" idx="3"/>
            <a:endCxn id="141" idx="1"/>
          </p:cNvCxnSpPr>
          <p:nvPr/>
        </p:nvCxnSpPr>
        <p:spPr>
          <a:xfrm>
            <a:off x="4952520" y="4343040"/>
            <a:ext cx="114372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6" idx="1"/>
            <a:endCxn id="143" idx="3"/>
          </p:cNvCxnSpPr>
          <p:nvPr/>
        </p:nvCxnSpPr>
        <p:spPr>
          <a:xfrm flipH="1">
            <a:off x="5638320" y="5981400"/>
            <a:ext cx="99144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304920" y="3962520"/>
            <a:ext cx="2057400" cy="7617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bfa"/>
                </a:solidFill>
                <a:latin typeface="Tahoma"/>
              </a:rPr>
              <a:t>Text Edito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7" idx="3"/>
            <a:endCxn id="142" idx="1"/>
          </p:cNvCxnSpPr>
          <p:nvPr/>
        </p:nvCxnSpPr>
        <p:spPr>
          <a:xfrm>
            <a:off x="2361960" y="4343040"/>
            <a:ext cx="99108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46" name=""/>
          <p:cNvSpPr/>
          <p:nvPr/>
        </p:nvSpPr>
        <p:spPr>
          <a:xfrm>
            <a:off x="6629400" y="5486400"/>
            <a:ext cx="1752480" cy="9907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Bytecode o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Machine cod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49" name=""/>
          <p:cNvCxnSpPr>
            <a:stCxn id="141" idx="3"/>
            <a:endCxn id="146" idx="3"/>
          </p:cNvCxnSpPr>
          <p:nvPr/>
        </p:nvCxnSpPr>
        <p:spPr>
          <a:xfrm>
            <a:off x="8152920" y="4343040"/>
            <a:ext cx="229320" cy="1639080"/>
          </a:xfrm>
          <a:prstGeom prst="bentConnector3">
            <a:avLst>
              <a:gd name="adj1" fmla="val 200000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6095880" y="1523880"/>
            <a:ext cx="2057400" cy="68580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Interpret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52680" y="1371600"/>
            <a:ext cx="1600200" cy="99072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Program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text fi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0" y="2892600"/>
            <a:ext cx="1371600" cy="76500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51" idx="3"/>
            <a:endCxn id="150" idx="1"/>
          </p:cNvCxnSpPr>
          <p:nvPr/>
        </p:nvCxnSpPr>
        <p:spPr>
          <a:xfrm>
            <a:off x="4952520" y="1866600"/>
            <a:ext cx="114372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55" idx="0"/>
            <a:endCxn id="150" idx="2"/>
          </p:cNvCxnSpPr>
          <p:nvPr/>
        </p:nvCxnSpPr>
        <p:spPr>
          <a:xfrm flipH="1" flipV="1">
            <a:off x="7124040" y="2208960"/>
            <a:ext cx="572040" cy="6836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56" name=""/>
          <p:cNvSpPr/>
          <p:nvPr/>
        </p:nvSpPr>
        <p:spPr>
          <a:xfrm>
            <a:off x="304920" y="1447920"/>
            <a:ext cx="2057400" cy="8380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bfa"/>
                </a:solidFill>
                <a:latin typeface="Tahoma"/>
              </a:rPr>
              <a:t>Text Edito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57" name=""/>
          <p:cNvCxnSpPr>
            <a:stCxn id="156" idx="3"/>
            <a:endCxn id="151" idx="1"/>
          </p:cNvCxnSpPr>
          <p:nvPr/>
        </p:nvCxnSpPr>
        <p:spPr>
          <a:xfrm>
            <a:off x="2361960" y="1866600"/>
            <a:ext cx="99108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6934320" y="2892600"/>
            <a:ext cx="1523880" cy="76500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bytecod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50" idx="3"/>
            <a:endCxn id="155" idx="3"/>
          </p:cNvCxnSpPr>
          <p:nvPr/>
        </p:nvCxnSpPr>
        <p:spPr>
          <a:xfrm>
            <a:off x="8152920" y="1866600"/>
            <a:ext cx="305640" cy="1408680"/>
          </a:xfrm>
          <a:prstGeom prst="bentConnector3">
            <a:avLst>
              <a:gd name="adj1" fmla="val 175000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50" idx="2"/>
            <a:endCxn id="152" idx="0"/>
          </p:cNvCxnSpPr>
          <p:nvPr/>
        </p:nvCxnSpPr>
        <p:spPr>
          <a:xfrm flipH="1">
            <a:off x="5257440" y="2209320"/>
            <a:ext cx="1867680" cy="6836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60" name=""/>
          <p:cNvSpPr/>
          <p:nvPr/>
        </p:nvSpPr>
        <p:spPr>
          <a:xfrm>
            <a:off x="4952880" y="1981080"/>
            <a:ext cx="12193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1 “line” at a tim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0280" y="3505320"/>
            <a:ext cx="16711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d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0" y="990720"/>
            <a:ext cx="18752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preted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60560" y="4724280"/>
            <a:ext cx="303804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Validates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whole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program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12360" y="2692440"/>
            <a:ext cx="31708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+ immediate feedback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9040" y="5257800"/>
            <a:ext cx="26618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+ execution speed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arts of an Algorith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Primitive operation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What data you have, what you can do to the data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Naming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dentify things we’re using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equence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of operation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Conditional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andle special cas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Repetition/Loop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Subroutine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all, reuse similar techniqu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 rot="2493000">
            <a:off x="5218920" y="3566880"/>
            <a:ext cx="346068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An overview for the semester!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49EE-F3F8-4D32-A96D-A0FCB130887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imitive Typ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36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Variable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ypes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 are the kind of thing a variable can hold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Broadly, the categories of primitive types ar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056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umeric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056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oolea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056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tring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589A-2853-4BDF-8985-9A53D9FDDB8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Numeric Primitive Typ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52280" y="1143000"/>
          <a:ext cx="8686800" cy="4987800"/>
        </p:xfrm>
        <a:graphic>
          <a:graphicData uri="http://schemas.openxmlformats.org/drawingml/2006/table">
            <a:tbl>
              <a:tblPr/>
              <a:tblGrid>
                <a:gridCol w="1828800"/>
                <a:gridCol w="2362320"/>
                <a:gridCol w="449568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Type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cription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s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94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in integers (32-bit precision)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14, -2, 0, 2, 100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nge: -2</a:t>
                      </a:r>
                      <a:r>
                        <a:rPr b="0" lang="en-GB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to 2</a:t>
                      </a:r>
                      <a:r>
                        <a:rPr b="0" lang="en-GB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3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loa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14480"/>
                          <a:tab algn="l" pos="228600"/>
                          <a:tab algn="l" pos="343080"/>
                          <a:tab algn="l" pos="457200"/>
                          <a:tab algn="l" pos="571680"/>
                          <a:tab algn="l" pos="685800"/>
                          <a:tab algn="l" pos="800280"/>
                          <a:tab algn="l" pos="914400"/>
                          <a:tab algn="l" pos="1028880"/>
                          <a:tab algn="l" pos="1143000"/>
                          <a:tab algn="l" pos="1257480"/>
                          <a:tab algn="l" pos="1371600"/>
                          <a:tab algn="l" pos="1486080"/>
                          <a:tab algn="l" pos="1600200"/>
                          <a:tab algn="l" pos="1714680"/>
                          <a:tab algn="l" pos="1828800"/>
                          <a:tab algn="l" pos="1943280"/>
                          <a:tab algn="l" pos="2057400"/>
                          <a:tab algn="l" pos="2171880"/>
                          <a:tab algn="l" pos="2286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l numbers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001, -1.234, 1000.1, 0.00, 2.45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ng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gger integers (neg or pos, precision limited by computer memory)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47483648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mplex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aginary numbers (have real and imaginary part)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* 1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-&gt; (-1+0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6169320" y="6434280"/>
            <a:ext cx="1675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Arial"/>
              </a:rPr>
              <a:t>Copy on board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B31B-3366-48D0-9A78-A328306C7C8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-46440"/>
            <a:ext cx="86868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How big (or small or precise) can we get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We cannot represent all value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Problem: Computer has a finite capacity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The computer only has so much memory that it can devote to one value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Eventually, reach a cutoff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2" marL="1193760" indent="-28584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20202"/>
                </a:solidFill>
                <a:latin typeface="Tahoma"/>
              </a:rPr>
              <a:t>Limits size of value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20202"/>
                </a:solidFill>
                <a:latin typeface="Tahoma"/>
              </a:rPr>
              <a:t>Limits precision of value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143000" y="5181480"/>
            <a:ext cx="5791320" cy="533520"/>
          </a:xfrm>
          <a:prstGeom prst="rect">
            <a:avLst/>
          </a:prstGeom>
          <a:noFill/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24240" y="5867280"/>
            <a:ext cx="815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In reality, computers represent data in </a:t>
            </a: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binary</a:t>
            </a: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, using only 0s and 1s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05320" y="5181480"/>
            <a:ext cx="144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09880" y="5181480"/>
            <a:ext cx="180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191120" y="5181480"/>
            <a:ext cx="144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952880" y="5181480"/>
            <a:ext cx="180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369800" y="5181480"/>
            <a:ext cx="5304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10199"/>
                </a:solidFill>
                <a:latin typeface="Tahoma"/>
              </a:rPr>
              <a:t>0  0  0  0  0  3  .  1  4  1  5  9  2  6  5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5181480"/>
            <a:ext cx="180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0" y="5181480"/>
            <a:ext cx="144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743200" y="5181480"/>
            <a:ext cx="144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362320" y="5181480"/>
            <a:ext cx="144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81080" y="5181480"/>
            <a:ext cx="180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00200" y="5181480"/>
            <a:ext cx="144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34120" y="5181480"/>
            <a:ext cx="144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715000" y="5181480"/>
            <a:ext cx="144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095880" y="5181480"/>
            <a:ext cx="180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477120" y="5181480"/>
            <a:ext cx="144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934320" y="5181480"/>
            <a:ext cx="144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943600" y="4114800"/>
            <a:ext cx="32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PI </a:t>
            </a: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has more decimals, but we’re out of space! 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7084800" y="4876920"/>
            <a:ext cx="384120" cy="533160"/>
          </a:xfrm>
          <a:prstGeom prst="line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63CF-BA5F-4470-8164-7DA025BE656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Strings: </a:t>
            </a:r>
            <a:r>
              <a:rPr b="1" lang="en-GB" sz="4000" spc="-1" strike="noStrike">
                <a:solidFill>
                  <a:srgbClr val="2017b8"/>
                </a:solidFill>
                <a:latin typeface="Courier New"/>
              </a:rPr>
              <a:t>st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Indicated by double quotes “” or single quotes ‘’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reat what is in the “” or ‘’ literally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55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Known as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tring litera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Examples: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55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ello, world!”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55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”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55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at is Sara’s cat”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51D6-6016-468A-95C2-FEAF7D56584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ooleans: </a:t>
            </a:r>
            <a:r>
              <a:rPr b="1" lang="en-US" sz="4000" spc="-1" strike="noStrike">
                <a:solidFill>
                  <a:srgbClr val="2017b8"/>
                </a:solidFill>
                <a:latin typeface="Courier New"/>
              </a:rPr>
              <a:t>bool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2 value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urier New"/>
              </a:rPr>
              <a:t>Tru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urier New"/>
              </a:rPr>
              <a:t>Fals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More on these later… 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is the value’s type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990720" y="1422360"/>
          <a:ext cx="6858000" cy="421632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ue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pe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2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.01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+6j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“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”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047583648L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‘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’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25AE-5DD9-4970-9CD2-5994F26834FF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ntroduction to Variab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8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Variables have names, called </a:t>
            </a:r>
            <a:r>
              <a:rPr b="1" lang="en-US" sz="3200" spc="-1" strike="noStrike">
                <a:solidFill>
                  <a:srgbClr val="020202"/>
                </a:solidFill>
                <a:latin typeface="Tahoma"/>
              </a:rPr>
              <a:t>identifier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 variable name (identifier) can be any </a:t>
            </a:r>
            <a:r>
              <a:rPr b="1" lang="en-US" sz="3200" spc="-1" strike="noStrike">
                <a:solidFill>
                  <a:srgbClr val="020202"/>
                </a:solidFill>
                <a:latin typeface="Tahoma"/>
              </a:rPr>
              <a:t>one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 word that: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nsists of letters, numbers, or _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annot start with a numb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annot be a Python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reserved wor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2" marL="1193760" indent="-28584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like </a:t>
            </a:r>
            <a:r>
              <a:rPr b="0" lang="en-US" sz="2600" spc="-1" strike="noStrike">
                <a:solidFill>
                  <a:srgbClr val="3333cc"/>
                </a:solidFill>
                <a:latin typeface="Courier New"/>
              </a:rPr>
              <a:t>for</a:t>
            </a: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, </a:t>
            </a:r>
            <a:r>
              <a:rPr b="0" lang="en-US" sz="2600" spc="-1" strike="noStrike">
                <a:solidFill>
                  <a:srgbClr val="3333cc"/>
                </a:solidFill>
                <a:latin typeface="Courier New"/>
              </a:rPr>
              <a:t>while</a:t>
            </a: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, </a:t>
            </a:r>
            <a:r>
              <a:rPr b="0" lang="en-US" sz="2600" spc="-1" strike="noStrike">
                <a:solidFill>
                  <a:srgbClr val="3333cc"/>
                </a:solidFill>
                <a:latin typeface="Courier New"/>
              </a:rPr>
              <a:t>def</a:t>
            </a: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, etc.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Python is case-sensitive: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urier New"/>
              </a:rPr>
              <a:t>chang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isn’t the same as </a:t>
            </a:r>
            <a:r>
              <a:rPr b="0" lang="en-US" sz="2800" spc="-1" strike="noStrike">
                <a:solidFill>
                  <a:srgbClr val="3333cc"/>
                </a:solidFill>
                <a:latin typeface="Courier New"/>
              </a:rPr>
              <a:t>Chang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3447-472E-4B19-A21E-30F175256C4E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Variable Name Conven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07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Variables start with lowercase letter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Constants (values that won’t change) are in all capital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Example: Variable for the current year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currentYea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current_yea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current yea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CURRENT_YEA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1143000" y="4952880"/>
            <a:ext cx="1752480" cy="533520"/>
          </a:xfrm>
          <a:prstGeom prst="line">
            <a:avLst/>
          </a:prstGeom>
          <a:ln w="31680">
            <a:solidFill>
              <a:srgbClr val="dc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219320" y="5105520"/>
            <a:ext cx="1600200" cy="457200"/>
          </a:xfrm>
          <a:prstGeom prst="line">
            <a:avLst/>
          </a:prstGeom>
          <a:ln w="31680">
            <a:solidFill>
              <a:srgbClr val="dc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2A26-EBD7-4680-8540-059FBA7DFA0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Review: Linux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How do you …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Learn more about a Linux command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List the files in a directory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hange your current directory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ke a directory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ind out the current directory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What is the shortcut for …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urrent directory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parent directory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Variable Semantic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5867280" y="2743200"/>
            <a:ext cx="1676520" cy="281952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869800" y="1981080"/>
            <a:ext cx="151884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omputer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867280" y="3200400"/>
            <a:ext cx="16765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867280" y="4343400"/>
            <a:ext cx="16765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867280" y="4800600"/>
            <a:ext cx="16765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867280" y="5181480"/>
            <a:ext cx="16765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962520"/>
            <a:ext cx="16765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867280" y="3581280"/>
            <a:ext cx="16765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37360" y="3352680"/>
            <a:ext cx="135252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x = 5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y = x + 1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59400" y="2955960"/>
            <a:ext cx="333000" cy="4338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038480" y="3200400"/>
            <a:ext cx="1828800" cy="609480"/>
          </a:xfrm>
          <a:prstGeom prst="line">
            <a:avLst/>
          </a:prstGeom>
          <a:ln w="3168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945400" y="3581280"/>
            <a:ext cx="3499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675240" y="4191120"/>
            <a:ext cx="333000" cy="4338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62520" y="4419720"/>
            <a:ext cx="1904760" cy="152280"/>
          </a:xfrm>
          <a:prstGeom prst="line">
            <a:avLst/>
          </a:prstGeom>
          <a:ln w="3168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945400" y="4343400"/>
            <a:ext cx="3499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ssignmen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Variables can be given any value using the “=“ sign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called an </a:t>
            </a: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assignment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 statem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Syntax: </a:t>
            </a: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&lt;variable&gt; = &lt;expression&gt;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After a variable is given a value, the variable is said to be </a:t>
            </a:r>
            <a:r>
              <a:rPr b="1" lang="en-GB" sz="3200" spc="-1" strike="noStrike">
                <a:solidFill>
                  <a:srgbClr val="020202"/>
                </a:solidFill>
                <a:latin typeface="Tahoma"/>
              </a:rPr>
              <a:t>initialized</a:t>
            </a: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These aren’t equations! Read “=” as “gets”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current_year = 2007;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my_num = 3.4;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option = ‘q’;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7702-0C60-40A7-BB2D-7D6A62B37A90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Variables: The Ru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36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Only the variable(s) to the left of the = chang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You should initialize a variable before using it on the righthand side (rhs) of a rule.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You can only have one variable with any given name in a particular block.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7B9D-CE0A-423E-A43E-3B34CCB4A034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iteral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Pieces of data that are not variables are called </a:t>
            </a:r>
            <a:r>
              <a:rPr b="1" lang="en-GB" sz="3200" spc="-1" strike="noStrike">
                <a:solidFill>
                  <a:srgbClr val="020202"/>
                </a:solidFill>
                <a:latin typeface="Tahoma"/>
              </a:rPr>
              <a:t>literals</a:t>
            </a: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Ex: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4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3.2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‘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q’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“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books”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7985-DF7D-477E-A1B7-D338F81672AE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rithmetic Opera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371600" y="1398600"/>
          <a:ext cx="6095880" cy="3584520"/>
        </p:xfrm>
        <a:graphic>
          <a:graphicData uri="http://schemas.openxmlformats.org/drawingml/2006/table">
            <a:tbl>
              <a:tblPr/>
              <a:tblGrid>
                <a:gridCol w="2322360"/>
                <a:gridCol w="377352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mbol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aning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ition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14480"/>
                          <a:tab algn="l" pos="228600"/>
                          <a:tab algn="l" pos="343080"/>
                          <a:tab algn="l" pos="457200"/>
                          <a:tab algn="l" pos="571680"/>
                          <a:tab algn="l" pos="685800"/>
                          <a:tab algn="l" pos="800280"/>
                          <a:tab algn="l" pos="914400"/>
                          <a:tab algn="l" pos="1028880"/>
                          <a:tab algn="l" pos="1143000"/>
                          <a:tab algn="l" pos="1257480"/>
                          <a:tab algn="l" pos="1371600"/>
                          <a:tab algn="l" pos="1486080"/>
                          <a:tab algn="l" pos="1600200"/>
                          <a:tab algn="l" pos="1714680"/>
                          <a:tab algn="l" pos="1828800"/>
                          <a:tab algn="l" pos="1943280"/>
                          <a:tab algn="l" pos="2057400"/>
                          <a:tab algn="l" pos="2171880"/>
                          <a:tab algn="l" pos="2286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traction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plication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ision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mainder (“mod”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*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ponentiation (power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rithmetic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7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You can use the assignment operator (=) and arithmetic operators to do calculations.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Remember your order of operations! (PEMDAS) 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he thing on the left gets changed.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84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x = 4+3*10;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84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y = 3.0/2.0;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84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z = x+y;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3505320" y="4114800"/>
            <a:ext cx="350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The right-hand sides are </a:t>
            </a:r>
            <a:r>
              <a:rPr b="1" lang="en-US" sz="2400" spc="-1" strike="noStrike">
                <a:solidFill>
                  <a:srgbClr val="020202"/>
                </a:solidFill>
                <a:latin typeface="Arial"/>
              </a:rPr>
              <a:t>expressions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, just like in math.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5D50-43DD-4C5C-8E59-76335D52D6FB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inting Outpu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686800" cy="38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20202"/>
                </a:solidFill>
                <a:latin typeface="Tahoma"/>
              </a:rPr>
              <a:t>print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 is a function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unction: A command to do something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isplays the result of expression(s) to the termi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print “Hello, class”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print “Your answer is”, answer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 rot="16200000">
            <a:off x="2438280" y="2779200"/>
            <a:ext cx="381240" cy="2210040"/>
          </a:xfrm>
          <a:custGeom>
            <a:avLst/>
            <a:gdLst>
              <a:gd name="textAreaLeft" fmla="*/ 243720 w 381240"/>
              <a:gd name="textAreaRight" fmla="*/ 381600 w 381240"/>
              <a:gd name="textAreaTop" fmla="*/ 57600 h 2210040"/>
              <a:gd name="textAreaBottom" fmla="*/ 2152440 h 221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61040" y="4035600"/>
            <a:ext cx="19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string literal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0" y="3429000"/>
            <a:ext cx="457200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print</a:t>
            </a: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 automatically adds a ‘\n’ (carriage return) after it’s printed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3886200" y="3657600"/>
            <a:ext cx="838080" cy="0"/>
          </a:xfrm>
          <a:prstGeom prst="line">
            <a:avLst/>
          </a:prstGeom>
          <a:ln w="3168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657600" y="5028840"/>
            <a:ext cx="838080" cy="685800"/>
          </a:xfrm>
          <a:prstGeom prst="line">
            <a:avLst/>
          </a:prstGeom>
          <a:ln w="3168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066680" y="5089680"/>
            <a:ext cx="289584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Use commas to print multiple “things” in one line 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30AD-F6C4-4BFA-A4B4-DA9B0E1F1B99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etting Input From Us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20202"/>
                </a:solidFill>
                <a:latin typeface="Courier New"/>
              </a:rPr>
              <a:t>input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 and </a:t>
            </a:r>
            <a:r>
              <a:rPr b="1" lang="en-US" sz="3200" spc="-1" strike="noStrike">
                <a:solidFill>
                  <a:srgbClr val="020202"/>
                </a:solidFill>
                <a:latin typeface="Courier New"/>
              </a:rPr>
              <a:t>raw_input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 are function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rompts user for input, gets the user’s inpu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put: for number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aw_input for string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ypically used in assignment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idth = input(“Enter the width: “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In execution, terminal display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nter the width: ”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ssigns width the value the user enter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etting Input from Us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color = raw_input(“What is your favorite color? ”)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48" name=""/>
          <p:cNvSpPr/>
          <p:nvPr/>
        </p:nvSpPr>
        <p:spPr>
          <a:xfrm>
            <a:off x="383760" y="2590920"/>
            <a:ext cx="541584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python input_demo.py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your favorite color? </a:t>
            </a: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blue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l!  My favorite color is _light_ blue !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04920" y="2514600"/>
            <a:ext cx="6476760" cy="13716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21680" y="1981080"/>
            <a:ext cx="15537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Terminal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rot="5400000">
            <a:off x="4305240" y="2324160"/>
            <a:ext cx="609840" cy="838080"/>
          </a:xfrm>
          <a:custGeom>
            <a:avLst/>
            <a:gdLst>
              <a:gd name="textAreaLeft" fmla="*/ 389520 w 609840"/>
              <a:gd name="textAreaRight" fmla="*/ 610200 w 60984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631"/>
                </a:lnTo>
                <a:cubicBezTo>
                  <a:pt x="10800" y="9531"/>
                  <a:pt x="5400" y="10431"/>
                  <a:pt x="0" y="10431"/>
                </a:cubicBezTo>
                <a:cubicBezTo>
                  <a:pt x="5400" y="10431"/>
                  <a:pt x="10800" y="11331"/>
                  <a:pt x="10800" y="1223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03880" y="1752480"/>
            <a:ext cx="405432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Grabs every character up to the user presses “enter”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196720" y="4564080"/>
            <a:ext cx="47358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Assigns variable </a:t>
            </a:r>
            <a:r>
              <a:rPr b="1" lang="en-US" sz="2400" spc="-1" strike="noStrike">
                <a:solidFill>
                  <a:srgbClr val="00cc99"/>
                </a:solidFill>
                <a:latin typeface="Courier New"/>
              </a:rPr>
              <a:t>color</a:t>
            </a: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 that input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ocumenting Your Cod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Use English to describe what your program is doing in </a:t>
            </a:r>
            <a:r>
              <a:rPr b="0" lang="en-US" sz="3200" spc="-1" strike="noStrike">
                <a:solidFill>
                  <a:srgbClr val="00cc99"/>
                </a:solidFill>
                <a:latin typeface="Tahoma"/>
              </a:rPr>
              <a:t>comment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verything after a </a:t>
            </a:r>
            <a:r>
              <a:rPr b="0" lang="en-US" sz="2800" spc="-1" strike="noStrike">
                <a:solidFill>
                  <a:srgbClr val="00cc99"/>
                </a:solidFill>
                <a:latin typeface="Tahoma"/>
              </a:rPr>
              <a:t>#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is a comm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2" marL="1193760" indent="-285840">
              <a:lnSpc>
                <a:spcPct val="92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Color-coded in IDLE, jEdit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ython does not execute commen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Use Comment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ocument the author, high-level description of the program at the top of the progra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rovide an outline of an algorith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2" marL="1193760" indent="-285840">
              <a:lnSpc>
                <a:spcPct val="92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Identifies the steps of the algorithm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cribe difficult-to-understand cod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Review: Linux File Structur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>
            <a:off x="1290960" y="2117880"/>
            <a:ext cx="6044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usr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716520" y="2133720"/>
            <a:ext cx="5875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etc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8080" y="2133720"/>
            <a:ext cx="9428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home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4238280" y="-723600"/>
            <a:ext cx="304920" cy="5410080"/>
          </a:xfrm>
          <a:custGeom>
            <a:avLst/>
            <a:gdLst>
              <a:gd name="textAreaLeft" fmla="*/ 89640 w 304920"/>
              <a:gd name="textAreaRight" fmla="*/ 305280 w 304920"/>
              <a:gd name="textAreaTop" fmla="*/ 225360 h 5410080"/>
              <a:gd name="textAreaBottom" fmla="*/ 5184720 h 5410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48200" y="1600200"/>
            <a:ext cx="0" cy="5335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33360" y="1092240"/>
            <a:ext cx="2660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/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48200" y="2590920"/>
            <a:ext cx="0" cy="9903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5400000">
            <a:off x="4200480" y="-380880"/>
            <a:ext cx="380880" cy="7238880"/>
          </a:xfrm>
          <a:custGeom>
            <a:avLst/>
            <a:gdLst>
              <a:gd name="textAreaLeft" fmla="*/ 111960 w 380880"/>
              <a:gd name="textAreaRight" fmla="*/ 381240 w 380880"/>
              <a:gd name="textAreaTop" fmla="*/ 301320 h 7238880"/>
              <a:gd name="textAreaBottom" fmla="*/ 6937560 h 723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84720" y="3581280"/>
            <a:ext cx="13492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course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31880" y="3581280"/>
            <a:ext cx="13492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student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35800" y="3565440"/>
            <a:ext cx="8391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www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29280" y="3048120"/>
            <a:ext cx="0" cy="5331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19400" y="3048120"/>
            <a:ext cx="0" cy="5331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91040" y="3581280"/>
            <a:ext cx="6897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tmp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30400" y="3606840"/>
            <a:ext cx="10616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faculty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80960" y="4419720"/>
            <a:ext cx="160020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Your directorie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19400" y="3962520"/>
            <a:ext cx="0" cy="5331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17560" y="4444920"/>
            <a:ext cx="9928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cs111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25560" y="5511960"/>
            <a:ext cx="7383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lab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25560" y="6197760"/>
            <a:ext cx="7552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lab0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19400" y="5105520"/>
            <a:ext cx="0" cy="457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19400" y="5867280"/>
            <a:ext cx="0" cy="381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048200" y="3962520"/>
            <a:ext cx="0" cy="5331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08080" y="5207040"/>
            <a:ext cx="14335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handout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96640" y="5207040"/>
            <a:ext cx="9428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turnin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114880" y="4267080"/>
            <a:ext cx="184464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Your web page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9920" y="3962520"/>
            <a:ext cx="0" cy="380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581280" y="4800600"/>
            <a:ext cx="533520" cy="457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114800" y="4800600"/>
            <a:ext cx="1066680" cy="457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224400" y="5943600"/>
            <a:ext cx="268920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aths through tree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elative path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dentify the Pieces of a Progra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57" name=""/>
          <p:cNvSpPr/>
          <p:nvPr/>
        </p:nvSpPr>
        <p:spPr>
          <a:xfrm>
            <a:off x="228600" y="1295280"/>
            <a:ext cx="8610480" cy="29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Demonstrate numeric and string input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by Sara Sprenkle for CS111 on 9/12/07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color = raw_input("What is your favorite color? "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print "Cool!  My favorite color is _light_", color, "!"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scale = input("On a scale of 1 to 10, how much do you like Matt Damon? "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print "Cool!  I like him ", scale*1.8, " much!"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" y="4791240"/>
            <a:ext cx="815328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dentify the comments, variables, functions, expressions, assignments 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dentify the Pieces of a Progra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60" name=""/>
          <p:cNvSpPr/>
          <p:nvPr/>
        </p:nvSpPr>
        <p:spPr>
          <a:xfrm>
            <a:off x="228600" y="1295280"/>
            <a:ext cx="8915400" cy="29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# Demonstrate numeric and string input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# by Sara Sprenkle for CS111 on 9/12/07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#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color </a:t>
            </a:r>
            <a:r>
              <a:rPr b="0" lang="en-US" sz="2000" spc="-1" strike="noStrike">
                <a:solidFill>
                  <a:srgbClr val="de67b4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raw_input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(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"What is your favorite color? ”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 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rint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"Cool!  My favorite color is _light_”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 , color,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"!"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scale </a:t>
            </a:r>
            <a:r>
              <a:rPr b="0" lang="en-US" sz="2000" spc="-1" strike="noStrike">
                <a:solidFill>
                  <a:srgbClr val="de67b4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input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(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"On a scale of 1 to 10, how much do you like Matt Damon? ”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 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rint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"Cool!  I like him ”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 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e</a:t>
            </a:r>
            <a:r>
              <a:rPr b="0" lang="en-US" sz="2000" spc="-1" strike="noStrike">
                <a:solidFill>
                  <a:srgbClr val="fff4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1.8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" much!"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" y="4791240"/>
            <a:ext cx="815328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dentify the </a:t>
            </a: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comments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, functions, </a:t>
            </a:r>
            <a:r>
              <a:rPr b="0" lang="en-US" sz="2400" spc="-1" strike="noStrike">
                <a:solidFill>
                  <a:srgbClr val="ffcc13"/>
                </a:solidFill>
                <a:latin typeface="Arial"/>
              </a:rPr>
              <a:t>expressions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de67b4"/>
                </a:solidFill>
                <a:latin typeface="Arial"/>
              </a:rPr>
              <a:t>assignments, </a:t>
            </a: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literals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823120" y="4114800"/>
            <a:ext cx="16527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cc13"/>
                </a:solidFill>
                <a:latin typeface="Arial"/>
              </a:rPr>
              <a:t>expression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16200000">
            <a:off x="3429000" y="3504960"/>
            <a:ext cx="304920" cy="1066680"/>
          </a:xfrm>
          <a:custGeom>
            <a:avLst/>
            <a:gdLst>
              <a:gd name="textAreaLeft" fmla="*/ 194760 w 304920"/>
              <a:gd name="textAreaRight" fmla="*/ 305280 w 3049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cc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verage three number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43DA-430E-462F-9F3F-07F95D18C586}" type="slidenum">
              <a:t>32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15372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y Do We Need Programming Languages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536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omputers can’t understand English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oo ambiguous (PB&amp;J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Humans can’t easily write machine cod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2895480" y="3276720"/>
            <a:ext cx="5943600" cy="380880"/>
          </a:xfrm>
          <a:prstGeom prst="rect">
            <a:avLst/>
          </a:prstGeom>
          <a:solidFill>
            <a:srgbClr val="cb98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Statement (English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95480" y="3962520"/>
            <a:ext cx="5943600" cy="380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gorithm/Pseudocod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95480" y="5257800"/>
            <a:ext cx="59436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ytecod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895480" y="4648320"/>
            <a:ext cx="5943600" cy="3808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-level Programming Language (Python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95480" y="6019920"/>
            <a:ext cx="5943600" cy="380880"/>
          </a:xfrm>
          <a:prstGeom prst="rect">
            <a:avLst/>
          </a:prstGeom>
          <a:solidFill>
            <a:srgbClr val="ffb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hine code/Central Processing Unit (CPU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0" y="3200400"/>
            <a:ext cx="2819520" cy="1523880"/>
            <a:chOff x="0" y="3200400"/>
            <a:chExt cx="2819520" cy="1523880"/>
          </a:xfrm>
        </p:grpSpPr>
        <p:sp>
          <p:nvSpPr>
            <p:cNvPr id="84" name=""/>
            <p:cNvSpPr/>
            <p:nvPr/>
          </p:nvSpPr>
          <p:spPr>
            <a:xfrm>
              <a:off x="2666880" y="3352680"/>
              <a:ext cx="152640" cy="1371600"/>
            </a:xfrm>
            <a:custGeom>
              <a:avLst/>
              <a:gdLst>
                <a:gd name="textAreaLeft" fmla="*/ 44640 w 152640"/>
                <a:gd name="textAreaRight" fmla="*/ 153000 w 152640"/>
                <a:gd name="textAreaTop" fmla="*/ 56880 h 1371600"/>
                <a:gd name="textAreaBottom" fmla="*/ 131472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200400"/>
              <a:ext cx="2590920" cy="12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Programmer (YOU!)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ranslates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 from problem to algorithm (solution) to program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0" y="4846680"/>
            <a:ext cx="2819520" cy="943920"/>
            <a:chOff x="0" y="4846680"/>
            <a:chExt cx="2819520" cy="943920"/>
          </a:xfrm>
        </p:grpSpPr>
        <p:sp>
          <p:nvSpPr>
            <p:cNvPr id="87" name=""/>
            <p:cNvSpPr/>
            <p:nvPr/>
          </p:nvSpPr>
          <p:spPr>
            <a:xfrm>
              <a:off x="2666880" y="4923000"/>
              <a:ext cx="152640" cy="609480"/>
            </a:xfrm>
            <a:custGeom>
              <a:avLst/>
              <a:gdLst>
                <a:gd name="textAreaLeft" fmla="*/ 44640 w 152640"/>
                <a:gd name="textAreaRight" fmla="*/ 153000 w 152640"/>
                <a:gd name="textAreaTop" fmla="*/ 25200 h 609480"/>
                <a:gd name="textAreaBottom" fmla="*/ 58428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4846680"/>
              <a:ext cx="2590920" cy="94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Python 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interpreter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 translates into bytecode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15372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y Do We Need Programming Languages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536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omputers can’t understand English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oo ambiguous (PB&amp;J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Humans can’t easily write machine cod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2895480" y="3276720"/>
            <a:ext cx="5943600" cy="380880"/>
          </a:xfrm>
          <a:prstGeom prst="rect">
            <a:avLst/>
          </a:prstGeom>
          <a:solidFill>
            <a:srgbClr val="cb98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Statement (English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3962520"/>
            <a:ext cx="5943600" cy="380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gorithm/Pseudocod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95480" y="5257800"/>
            <a:ext cx="59436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ytecod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95480" y="4648320"/>
            <a:ext cx="5943600" cy="3808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-level Programming Language (Python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6019920"/>
            <a:ext cx="5943600" cy="380880"/>
          </a:xfrm>
          <a:prstGeom prst="rect">
            <a:avLst/>
          </a:prstGeom>
          <a:solidFill>
            <a:srgbClr val="ffb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hine code/Central Processing Unit (CPU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666880" y="5486400"/>
            <a:ext cx="152640" cy="609480"/>
          </a:xfrm>
          <a:custGeom>
            <a:avLst/>
            <a:gdLst>
              <a:gd name="textAreaLeft" fmla="*/ 44640 w 152640"/>
              <a:gd name="textAreaRight" fmla="*/ 153000 w 15264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320" y="5257800"/>
            <a:ext cx="259056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ython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terpreter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executes the bytecode in a “virtual machine”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ython Interpret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5360" cy="54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Validates the Python programming language expression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952560" indent="-2286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Time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Enforces Python syntax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952560" indent="-2286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Time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Reports syntax error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609480" indent="-6094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Simulates a computer (executes the expression)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952560" indent="-2286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Time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Runtime errors (e.g., divide by 0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952560" indent="-2286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Time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Semantic errors (not what you </a:t>
            </a:r>
            <a:r>
              <a:rPr b="0" i="1" lang="en-GB" sz="2400" spc="-1" strike="noStrike">
                <a:solidFill>
                  <a:srgbClr val="3333cc"/>
                </a:solidFill>
                <a:latin typeface="Tahoma"/>
              </a:rPr>
              <a:t>meant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952560"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6662880" y="4427640"/>
            <a:ext cx="1566720" cy="7538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Interpret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(python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9880" y="4386240"/>
            <a:ext cx="1219320" cy="87156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Python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expression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975200" y="5951520"/>
            <a:ext cx="1044720" cy="75420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101" idx="3"/>
            <a:endCxn id="100" idx="1"/>
          </p:cNvCxnSpPr>
          <p:nvPr/>
        </p:nvCxnSpPr>
        <p:spPr>
          <a:xfrm flipV="1">
            <a:off x="5029200" y="4804560"/>
            <a:ext cx="1634400" cy="1836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04" name=""/>
          <p:cNvCxnSpPr>
            <a:stCxn id="105" idx="0"/>
            <a:endCxn id="100" idx="2"/>
          </p:cNvCxnSpPr>
          <p:nvPr/>
        </p:nvCxnSpPr>
        <p:spPr>
          <a:xfrm flipH="1" flipV="1">
            <a:off x="7446600" y="5180760"/>
            <a:ext cx="402480" cy="77076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7162920" y="5951520"/>
            <a:ext cx="1371600" cy="75420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bytecod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0" idx="3"/>
            <a:endCxn id="105" idx="3"/>
          </p:cNvCxnSpPr>
          <p:nvPr/>
        </p:nvCxnSpPr>
        <p:spPr>
          <a:xfrm>
            <a:off x="8229240" y="4805280"/>
            <a:ext cx="305640" cy="1524960"/>
          </a:xfrm>
          <a:prstGeom prst="bentConnector3">
            <a:avLst>
              <a:gd name="adj1" fmla="val 175000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0" idx="2"/>
            <a:endCxn id="102" idx="0"/>
          </p:cNvCxnSpPr>
          <p:nvPr/>
        </p:nvCxnSpPr>
        <p:spPr>
          <a:xfrm flipH="1">
            <a:off x="5496840" y="5181120"/>
            <a:ext cx="1950120" cy="77076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419360" y="2311560"/>
            <a:ext cx="4648680" cy="433800"/>
            <a:chOff x="4419360" y="2311560"/>
            <a:chExt cx="4648680" cy="433800"/>
          </a:xfrm>
        </p:grpSpPr>
        <p:sp>
          <p:nvSpPr>
            <p:cNvPr id="109" name=""/>
            <p:cNvSpPr/>
            <p:nvPr/>
          </p:nvSpPr>
          <p:spPr>
            <a:xfrm>
              <a:off x="5091120" y="2311560"/>
              <a:ext cx="397692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Arial"/>
                </a:rPr>
                <a:t>Have a lot of these early on!</a:t>
              </a:r>
              <a:endParaRPr b="0" lang="en-US" sz="24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4419360" y="2514600"/>
              <a:ext cx="685800" cy="1522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228600" y="4724280"/>
            <a:ext cx="2987640" cy="14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93000"/>
              </a:lnSpc>
              <a:buClr>
                <a:srgbClr val="00cc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Good way to test expression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176040" indent="-176040">
              <a:lnSpc>
                <a:spcPct val="93000"/>
              </a:lnSpc>
              <a:buClr>
                <a:srgbClr val="00cc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What you were doing in the “shell”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ur Programming Proces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686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Programmer types a </a:t>
            </a:r>
            <a:r>
              <a:rPr b="0" lang="en-GB" sz="3000" spc="-1" strike="noStrike">
                <a:solidFill>
                  <a:srgbClr val="66ccff"/>
                </a:solidFill>
                <a:latin typeface="Tahoma"/>
              </a:rPr>
              <a:t>program/script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 into a </a:t>
            </a:r>
            <a:r>
              <a:rPr b="1" lang="en-GB" sz="3000" spc="-1" strike="noStrike">
                <a:solidFill>
                  <a:srgbClr val="010199"/>
                </a:solidFill>
                <a:latin typeface="Tahoma"/>
              </a:rPr>
              <a:t>text editor</a:t>
            </a:r>
            <a:r>
              <a:rPr b="1" lang="en-GB" sz="30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(jEdit or IDLE).</a:t>
            </a:r>
            <a:endParaRPr b="0" lang="en-US" sz="3000" spc="-1" strike="noStrike">
              <a:solidFill>
                <a:srgbClr val="020202"/>
              </a:solidFill>
              <a:latin typeface="Tahoma"/>
            </a:endParaRPr>
          </a:p>
          <a:p>
            <a:pPr marL="608040" indent="-60804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An </a:t>
            </a:r>
            <a:r>
              <a:rPr b="0" lang="en-GB" sz="3000" spc="-1" strike="noStrike">
                <a:solidFill>
                  <a:srgbClr val="ff00ff"/>
                </a:solidFill>
                <a:latin typeface="Tahoma"/>
              </a:rPr>
              <a:t>interpreter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 turns each expression into </a:t>
            </a:r>
            <a:r>
              <a:rPr b="0" lang="en-GB" sz="3000" spc="-1" strike="noStrike">
                <a:solidFill>
                  <a:srgbClr val="cb98fe"/>
                </a:solidFill>
                <a:latin typeface="Tahoma"/>
              </a:rPr>
              <a:t>bytecode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 and then executes each expression</a:t>
            </a:r>
            <a:endParaRPr b="0" lang="en-US" sz="30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6095880" y="3578400"/>
            <a:ext cx="2057400" cy="99036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Interpret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(python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52680" y="3502080"/>
            <a:ext cx="1600200" cy="114300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Program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text fi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program.py  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5102280"/>
            <a:ext cx="1371600" cy="9907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17" name=""/>
          <p:cNvCxnSpPr>
            <a:stCxn id="115" idx="3"/>
            <a:endCxn id="114" idx="1"/>
          </p:cNvCxnSpPr>
          <p:nvPr/>
        </p:nvCxnSpPr>
        <p:spPr>
          <a:xfrm>
            <a:off x="4952520" y="4073040"/>
            <a:ext cx="114372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19" idx="0"/>
            <a:endCxn id="114" idx="2"/>
          </p:cNvCxnSpPr>
          <p:nvPr/>
        </p:nvCxnSpPr>
        <p:spPr>
          <a:xfrm flipH="1" flipV="1">
            <a:off x="7124040" y="4568400"/>
            <a:ext cx="572040" cy="5342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304920" y="3578400"/>
            <a:ext cx="2057400" cy="9903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</a:rPr>
              <a:t>Text Edito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</a:rPr>
              <a:t>(jEdit or IDLE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20" idx="3"/>
            <a:endCxn id="115" idx="1"/>
          </p:cNvCxnSpPr>
          <p:nvPr/>
        </p:nvCxnSpPr>
        <p:spPr>
          <a:xfrm>
            <a:off x="2361960" y="4073040"/>
            <a:ext cx="99108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6934320" y="5102280"/>
            <a:ext cx="1523880" cy="9907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bytecod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22" name=""/>
          <p:cNvCxnSpPr>
            <a:stCxn id="114" idx="3"/>
            <a:endCxn id="119" idx="3"/>
          </p:cNvCxnSpPr>
          <p:nvPr/>
        </p:nvCxnSpPr>
        <p:spPr>
          <a:xfrm>
            <a:off x="8152920" y="4073400"/>
            <a:ext cx="305640" cy="1524960"/>
          </a:xfrm>
          <a:prstGeom prst="bentConnector3">
            <a:avLst>
              <a:gd name="adj1" fmla="val 231721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4" idx="2"/>
            <a:endCxn id="116" idx="0"/>
          </p:cNvCxnSpPr>
          <p:nvPr/>
        </p:nvCxnSpPr>
        <p:spPr>
          <a:xfrm flipH="1">
            <a:off x="5257440" y="4568760"/>
            <a:ext cx="1867680" cy="5342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029200" y="4264200"/>
            <a:ext cx="12193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1 “line” at a tim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320" y="4797360"/>
            <a:ext cx="4419360" cy="14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93000"/>
              </a:lnSpc>
              <a:buClr>
                <a:srgbClr val="02020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Get feedback about which line caused the problem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176040" indent="-176040">
              <a:lnSpc>
                <a:spcPct val="93000"/>
              </a:lnSpc>
              <a:buClr>
                <a:srgbClr val="02020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nterpreter stops validating/executing line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F81C-2C17-4D43-9A97-31B2916B28A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iled Languag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Examples: Java, C++, C, etc.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ompile whole program into bytecode/executable format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hen, execute the bytecode/machine cod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-49320"/>
            <a:ext cx="8686800" cy="13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iled Language Programming Proces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686800" cy="20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000" spc="-1" strike="noStrike">
                <a:solidFill>
                  <a:srgbClr val="de67b4"/>
                </a:solidFill>
                <a:latin typeface="Tahoma"/>
              </a:rPr>
              <a:t>Compiler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 compiles program</a:t>
            </a:r>
            <a:endParaRPr b="0" lang="en-US" sz="3000" spc="-1" strike="noStrike">
              <a:solidFill>
                <a:srgbClr val="020202"/>
              </a:solidFill>
              <a:latin typeface="Tahoma"/>
            </a:endParaRPr>
          </a:p>
          <a:p>
            <a:pPr lvl="1" marL="1093680" indent="-353880">
              <a:lnSpc>
                <a:spcPct val="100000"/>
              </a:lnSpc>
              <a:spcBef>
                <a:spcPts val="751"/>
              </a:spcBef>
              <a:buClr>
                <a:srgbClr val="6699ff"/>
              </a:buClr>
              <a:buFont typeface="Tahoma"/>
              <a:buChar char="•"/>
              <a:tabLst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2600" spc="-1" strike="noStrike">
                <a:solidFill>
                  <a:srgbClr val="3333cc"/>
                </a:solidFill>
                <a:latin typeface="Tahoma"/>
              </a:rPr>
              <a:t>Validate program, report syntax errors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1093680" indent="-353880">
              <a:lnSpc>
                <a:spcPct val="100000"/>
              </a:lnSpc>
              <a:spcBef>
                <a:spcPts val="751"/>
              </a:spcBef>
              <a:buClr>
                <a:srgbClr val="6699ff"/>
              </a:buClr>
              <a:buFont typeface="Tahoma"/>
              <a:buChar char="•"/>
              <a:tabLst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2600" spc="-1" strike="noStrike">
                <a:solidFill>
                  <a:srgbClr val="3333cc"/>
                </a:solidFill>
                <a:latin typeface="Tahoma"/>
              </a:rPr>
              <a:t>Creates </a:t>
            </a:r>
            <a:r>
              <a:rPr b="0" lang="en-GB" sz="2600" spc="-1" strike="noStrike">
                <a:solidFill>
                  <a:srgbClr val="cb98fe"/>
                </a:solidFill>
                <a:latin typeface="Tahoma"/>
              </a:rPr>
              <a:t>executable</a:t>
            </a:r>
            <a:r>
              <a:rPr b="0" lang="en-GB" sz="2600" spc="-1" strike="noStrike">
                <a:solidFill>
                  <a:srgbClr val="3333cc"/>
                </a:solidFill>
                <a:latin typeface="Tahoma"/>
              </a:rPr>
              <a:t> (bytecode or machine code)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Execute </a:t>
            </a:r>
            <a:r>
              <a:rPr b="0" lang="en-GB" sz="3000" spc="-1" strike="noStrike">
                <a:solidFill>
                  <a:srgbClr val="cb98fe"/>
                </a:solidFill>
                <a:latin typeface="Tahoma"/>
              </a:rPr>
              <a:t>executable</a:t>
            </a:r>
            <a:endParaRPr b="0" lang="en-US" sz="30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3809880"/>
            <a:ext cx="2057400" cy="76212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Compil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52680" y="3733920"/>
            <a:ext cx="1600200" cy="91440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Program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text fi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038480" y="5334120"/>
            <a:ext cx="1371600" cy="99036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33" name=""/>
          <p:cNvCxnSpPr>
            <a:stCxn id="131" idx="3"/>
            <a:endCxn id="130" idx="1"/>
          </p:cNvCxnSpPr>
          <p:nvPr/>
        </p:nvCxnSpPr>
        <p:spPr>
          <a:xfrm>
            <a:off x="4952520" y="4190760"/>
            <a:ext cx="114372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35" idx="1"/>
            <a:endCxn id="132" idx="3"/>
          </p:cNvCxnSpPr>
          <p:nvPr/>
        </p:nvCxnSpPr>
        <p:spPr>
          <a:xfrm flipH="1">
            <a:off x="5409360" y="5829120"/>
            <a:ext cx="122004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304920" y="3809880"/>
            <a:ext cx="2057400" cy="76212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bfa"/>
                </a:solidFill>
                <a:latin typeface="Tahoma"/>
              </a:rPr>
              <a:t>Text Edito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6" idx="3"/>
            <a:endCxn id="131" idx="1"/>
          </p:cNvCxnSpPr>
          <p:nvPr/>
        </p:nvCxnSpPr>
        <p:spPr>
          <a:xfrm>
            <a:off x="2361960" y="4190760"/>
            <a:ext cx="99108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6629400" y="5334120"/>
            <a:ext cx="1752480" cy="99036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Bytecode o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Machine cod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0" idx="3"/>
            <a:endCxn id="135" idx="3"/>
          </p:cNvCxnSpPr>
          <p:nvPr/>
        </p:nvCxnSpPr>
        <p:spPr>
          <a:xfrm>
            <a:off x="8152920" y="4190760"/>
            <a:ext cx="229320" cy="1639080"/>
          </a:xfrm>
          <a:prstGeom prst="bentConnector3">
            <a:avLst>
              <a:gd name="adj1" fmla="val 200000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5560560" y="3429000"/>
            <a:ext cx="303804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Validates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whole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program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A037-A3BF-4F39-8839-DC0B16102D7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lon University</dc:creator>
  <dc:description/>
  <dc:language>en-US</dc:language>
  <cp:lastModifiedBy>Sara Sprenkle</cp:lastModifiedBy>
  <cp:lastPrinted>2007-09-10T23:03:20Z</cp:lastPrinted>
  <dcterms:modified xsi:type="dcterms:W3CDTF">2007-09-13T00:58:36Z</dcterms:modified>
  <cp:revision>458</cp:revision>
  <dc:subject/>
  <dc:title>Intro to Java</dc:title>
</cp:coreProperties>
</file>