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C5B-3EB1-479C-8770-C67B8EDD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A8B-8CF3-4D5B-BE50-D30A9137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924-9D62-41C4-BF9E-5E6AA56C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943-723F-4B6D-9DBA-92C78AE6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E33D8-9001-41C3-9C75-DF63663F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D5065-671B-4BEF-8AC5-075B87BD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C7E51-F5F6-4598-9B9D-86338A62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E833C-1522-42DB-9E4C-A15AB5A3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44DBD-07FC-4011-933F-D5C329EE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2B69E-6A77-49CE-939F-FFB93143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BD983-C26F-4E0C-A168-5712A127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AA0-AF8F-4695-BBCA-E20F6DD1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026AA-AC9B-4F42-A62C-67A5B569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6718F-A3A6-4200-8A87-4937FDC6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9F628-EADA-4B4E-9B85-2B89DEC9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3DF9B-3674-4847-81B2-0F17330F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ABFB2-43FD-4C93-B737-E832E927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B7D-22DF-476C-900D-51E2A45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54D-9C07-41EA-B3B6-EDDC0AE3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5FE-CB21-4129-BE0A-B82460F7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1C2-4AFA-4C28-B947-B4DF1B2F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69B-480B-4279-85F9-053DAD81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D28-D02B-48F2-8612-932CB9A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545-8CEE-418E-A76A-6BAE91B4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C8C2-21A3-4908-915E-A31582BE275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D9B7-1034-416C-BBFE-555AB797989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Linux, documentation,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programming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ftware development pract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ebugg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dit the program, re-execute/test until everything 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 error is often called a “bug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iagnosing and fixing it is called </a:t>
            </a: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7800"/>
            <a:ext cx="2057400" cy="990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181480"/>
            <a:ext cx="175248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257800"/>
            <a:ext cx="18288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58" idx="1"/>
          </p:cNvCxnSpPr>
          <p:nvPr/>
        </p:nvCxnSpPr>
        <p:spPr>
          <a:xfrm>
            <a:off x="2514600" y="5752800"/>
            <a:ext cx="9151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3"/>
            <a:endCxn id="160" idx="1"/>
          </p:cNvCxnSpPr>
          <p:nvPr/>
        </p:nvCxnSpPr>
        <p:spPr>
          <a:xfrm>
            <a:off x="5486400" y="5752800"/>
            <a:ext cx="13723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09480" y="3505320"/>
            <a:ext cx="2057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(jEdit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9" idx="0"/>
          </p:cNvCxnSpPr>
          <p:nvPr/>
        </p:nvCxnSpPr>
        <p:spPr>
          <a:xfrm>
            <a:off x="1638000" y="4495320"/>
            <a:ext cx="1080" cy="6865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0"/>
            <a:endCxn id="163" idx="3"/>
          </p:cNvCxnSpPr>
          <p:nvPr/>
        </p:nvCxnSpPr>
        <p:spPr>
          <a:xfrm flipV="1" rot="16200000">
            <a:off x="2933280" y="3733200"/>
            <a:ext cx="1257840" cy="17917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091120" y="3581280"/>
            <a:ext cx="2431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ERROR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Identify bug, fi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0"/>
            <a:endCxn id="163" idx="3"/>
          </p:cNvCxnSpPr>
          <p:nvPr/>
        </p:nvCxnSpPr>
        <p:spPr>
          <a:xfrm flipV="1" rot="16200000">
            <a:off x="4590720" y="2075760"/>
            <a:ext cx="1257840" cy="510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567040" y="63244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bug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B73-8F7C-41C9-AFDC-C61B4057EA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Finishing Up Wednesday’s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63244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vera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D6D-F7D9-4F15-B185-852AD85718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DA4-C180-4E89-AEAD-B799219C03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1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d for tex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In general, I’ll use double quo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mpty string: “” or ‘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 triple quotes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for strings that go across multiple lin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8320" y="4800600"/>
            <a:ext cx="27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“““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long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ike, really long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E32-ECBD-403A-B6A7-A7AF320ABF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imple state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_not_ a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Displays the result of expression(s) to the termina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438280" y="3284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1040" y="45403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Tahoma"/>
                <a:ea typeface="Luxi Sans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78144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4162320"/>
            <a:ext cx="838080" cy="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5381280"/>
            <a:ext cx="838080" cy="68580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44212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1040" y="45435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Unless ends with 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7680" y="62485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mo_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1BB-C6A1-4CE3-9354-4059E173BAC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scape Sequen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scape Sequen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newline character (carriage return)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ab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quote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ackslash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print “To print a \\, you must use \”\\\\\”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34A-A2BD-4658-ABEB-F3B7283EF3E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To print a tab, you must use ‘\t’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I said, ”How are you?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0840" y="5983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escape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75F-2077-43BD-8857-97552C56DA3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the files in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 into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reate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out 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syntax for the copy command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“abbreviation” for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pa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ummarie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English, complete senten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chanics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st as 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om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keep the blog a bit more organ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llow instructions on “CS Issues” about what summary should contai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edit your own pos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want to write in a word processor and then copy over to blo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knew about MMOGs before reading this artic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may of you participated in this or something similar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read onlin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my PDF vers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the Web pag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ill L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72200" y="4723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ur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ill R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724280"/>
            <a:ext cx="1905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Jennifer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Keith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ath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8458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main points (so far)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ery advancement in technology has positive and negative impacts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the positive and negative impacts of email?  Of IM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65160"/>
            <a:ext cx="99072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52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828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4840" y="1523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7120" y="15238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5360" y="243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12960" y="243828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ublic_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868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596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00" y="458784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is a shortname for your home directory, i.e.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hort for 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/home/students/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06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 directory (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160" y="1905120"/>
            <a:ext cx="99036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905120"/>
            <a:ext cx="99072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95480"/>
            <a:ext cx="99036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99072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570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w would you copy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triangle.py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your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public_htm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director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8320" y="3925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iang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28640" y="3809880"/>
            <a:ext cx="304920" cy="1526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3680" y="217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6280" y="3328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5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20" idx="1"/>
            <a:endCxn id="117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16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0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4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9" idx="0"/>
            <a:endCxn id="124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5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3"/>
            <a:endCxn id="129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2"/>
            <a:endCxn id="126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80" y="990720"/>
            <a:ext cx="2891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Purely Interpret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’s Imple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ation of compiled and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active mode: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lidate, execute each li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“interpreter” in script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iles Python script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uns Python Virtual Machine that interprets the bytecode and execu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n to Use 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ument the author, high-level description of the program at the top of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vide an outline of an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parates the steps of the algorith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 difficult-to-understand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rr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ometimes the program doesn’t work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ypes of programming erro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yntax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Interpreter shows where the problem i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Logic/semantic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+3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dc0202"/>
                </a:solidFill>
                <a:latin typeface="Arial"/>
              </a:rPr>
              <a:t>anser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 is “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xceptions/Runtime erro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/0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Undefined variable nam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Expose when 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E94-35B9-4D9E-86A5-C5BF445E00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1752840" cy="762120"/>
          </a:xfrm>
          <a:prstGeom prst="rect">
            <a:avLst/>
          </a:prstGeom>
          <a:solidFill>
            <a:srgbClr val="fedc0f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143000"/>
            <a:ext cx="1676520" cy="762120"/>
          </a:xfrm>
          <a:prstGeom prst="rect">
            <a:avLst/>
          </a:prstGeom>
          <a:solidFill>
            <a:srgbClr val="33cccc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30800" y="1152360"/>
            <a:ext cx="1946520" cy="752760"/>
          </a:xfrm>
          <a:prstGeom prst="rect">
            <a:avLst/>
          </a:prstGeom>
          <a:solidFill>
            <a:srgbClr val="de6c70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920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Arial"/>
              </a:rPr>
              <a:t>Test Ca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146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case: input used to test the program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rify if </a:t>
            </a:r>
            <a:r>
              <a:rPr b="0" lang="en-US" sz="3200" spc="-1" strike="noStrike">
                <a:solidFill>
                  <a:srgbClr val="d7556d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what you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expected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</a:t>
            </a:r>
            <a:r>
              <a:rPr b="1" i="1" lang="en-US" sz="3200" spc="-1" strike="noStrike">
                <a:solidFill>
                  <a:srgbClr val="00b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test cas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help determine if program is correc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er plays devil’s advocat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ant to expos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gs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before customer/professor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5T16:08:20Z</dcterms:modified>
  <cp:revision>313</cp:revision>
  <dc:subject/>
  <dc:title>PowerPoint Presentation</dc:title>
</cp:coreProperties>
</file>