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3C86-3A4A-47C2-92C2-D5054A09F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4DEB-903F-4DD9-A315-AD764964B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2CE4-6999-4B8C-95A7-2124E18AC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E692-E687-4668-A243-59D5EA25A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42EFCE-67FC-4DF4-9B5F-911F21711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49F80F-62A4-4016-94AE-B3E2A2825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5CD7B4-1123-4961-9AD8-1B8719F70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7F6C95-F2A4-40DA-B1E2-239D2D45E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2430AC-4FF3-404B-BC56-00DD9221E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EE990D-B799-4BA4-AF4E-4E1FD6A8F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F3875A-6A4E-4419-90BF-6B5E6F279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2B0F-1534-43D5-AE70-B2FE54AD2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3BCF2A-6725-4EF1-9491-E01910E27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F8AE12-899D-4C7B-B048-0E92CA2BC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14D923-3E0A-40FC-9782-5DAE3AEEB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1EA612-1891-44B3-933F-4CABCACCF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FA19E6-13A3-4D53-A6DA-A072B3815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2F18-3B01-4146-94F1-7BF74B760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68EF-93EE-4AC8-8D86-428A961CF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9570-8F83-472E-A2A2-B05808D68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0336-2288-47A4-B68A-FF97DB335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A4F1-9C92-4875-91D3-AC6F5816E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4201-221F-460C-A665-0FC0B2869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7E04-DAE1-45A5-9E08-5E93E7FD2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Oct 24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36307-9BD9-431D-9FCF-A1A62BA97C08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85BB5-21D9-40B5-96C6-F8F8C173B661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ore on Dictionari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oose ends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sing/improving documenta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efault parameter valu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1BF4-3829-47F4-9548-871E8AB533F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pecial Value: </a:t>
            </a:r>
            <a:r>
              <a:rPr b="1" lang="en-US" sz="4000" spc="-1" strike="noStrike">
                <a:solidFill>
                  <a:srgbClr val="2017b8"/>
                </a:solidFill>
                <a:latin typeface="Tahoma"/>
              </a:rPr>
              <a:t>Non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pecial value we can us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77600" indent="-32976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.g., Return value from function when there is an erro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milar to </a:t>
            </a:r>
            <a:r>
              <a:rPr b="1" lang="en-US" sz="3200" spc="-1" strike="noStrike">
                <a:solidFill>
                  <a:srgbClr val="00c600"/>
                </a:solidFill>
                <a:latin typeface="Arial"/>
              </a:rPr>
              <a:t>null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in Java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f you execut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77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list = list.sort(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77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int lis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77600" indent="-32976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ints None because list.sort() does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return anyth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DCFD-8CDD-4DAC-9B1E-3B994360D26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Example Proble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iven a file of the for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lastname&gt; &lt;major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reate a mapping between the last names and major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232960" y="6248520"/>
            <a:ext cx="316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majors_dictionary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C2D8-45CF-490E-A8A3-790FCAC95B3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Example Proble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odify the previous program to keep track of the number of majors of each typ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ould we solve this using a list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149800" y="6324480"/>
            <a:ext cx="33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majors_dictionary2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E9B6-75B4-4432-9517-60F4AEBF471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Getting Documenta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600"/>
                </a:solidFill>
                <a:latin typeface="Courier New"/>
              </a:rPr>
              <a:t>dir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: function that returns a list of methods and attributes in an objec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ir(&lt;type&gt;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600"/>
                </a:solidFill>
                <a:latin typeface="Courier New"/>
              </a:rPr>
              <a:t>help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: get documenta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 the Python shel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elp(&lt;type&gt;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mport &lt;modulename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elp(&lt;modulename&gt;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9162-091C-427B-8C9E-8458FB2CAEB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ere is Documentation Coming From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mes from the code itself in “</a:t>
            </a:r>
            <a:r>
              <a:rPr b="1" lang="en-US" sz="3200" spc="-1" strike="noStrike">
                <a:solidFill>
                  <a:srgbClr val="00c600"/>
                </a:solidFill>
                <a:latin typeface="Arial"/>
              </a:rPr>
              <a:t>doc string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.e., “documentation strings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oc strings are simply strings </a:t>
            </a:r>
            <a:r>
              <a:rPr b="0" i="1" lang="en-US" sz="3200" spc="-1" strike="noStrike">
                <a:solidFill>
                  <a:srgbClr val="020202"/>
                </a:solidFill>
                <a:latin typeface="Arial"/>
              </a:rPr>
              <a:t>after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the function head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ypically use triple-quoted strings because documentation goes across several lin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4800600"/>
            <a:ext cx="70866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def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verse(animal, sound): 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“”” 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ints a verse of Old MacDonald, filling in the strings for animal and sound “”” 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61C3-2830-44AC-9A85-2AC5D0A1A08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efaults for Paramet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aw with the xrange func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idn’t have to specify start or increment when calling the func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efault start to 0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efault increment to 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an assign a default value to a paramet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n general, default parameter should come after all the parameters that need to be define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6692-3870-4722-BD77-C8C8692D615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sing Default Paramet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y default the rollDie function could assume that a die has 6 sid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68160" y="3201840"/>
            <a:ext cx="519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def rollDie(sides</a:t>
            </a:r>
            <a:r>
              <a:rPr b="0" lang="en-US" sz="2400" spc="-1" strike="noStrike">
                <a:solidFill>
                  <a:srgbClr val="00c600"/>
                </a:solidFill>
                <a:latin typeface="Arial"/>
              </a:rPr>
              <a:t>=6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return random.randint(1,sides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3200040" y="2789280"/>
            <a:ext cx="762120" cy="83808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46680" y="2286000"/>
            <a:ext cx="435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Assigns a value </a:t>
            </a: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ONLY IF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not passed a paramete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4240" y="4648320"/>
            <a:ext cx="483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Examples of calling the function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58800" y="5105520"/>
            <a:ext cx="165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rollDie(6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rollDie(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rollDie(12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84680" y="6248520"/>
            <a:ext cx="17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game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CC4A-8CF0-4051-AE80-7CF4F681989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blem: Student Majo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e want to keep track of the number of majors of each typ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wist: Not every student has a major (don’t declare until sophomore year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9AA5-73E5-4720-89B7-3EF8178A1DA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blem: Student Majors, revised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tudents can have more than one majo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hould count these separatel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ow can we modify the previous program to do that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5070-5132-4A6C-9765-177074E29C3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blem: Music Fi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e have an album file that has the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Artist name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Album name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Song name 1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Song length 1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Song name n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Song length n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iven an album file, print out the number of songs and the total length of the albu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86400" y="449568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Length has the format min:second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B1D8-81F8-42AB-AE4D-EDCF2CC8065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ictionaries in Pyth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ap </a:t>
            </a:r>
            <a:r>
              <a:rPr b="1" lang="en-US" sz="3200" spc="-1" strike="noStrike">
                <a:solidFill>
                  <a:srgbClr val="020202"/>
                </a:solidFill>
                <a:latin typeface="Arial"/>
              </a:rPr>
              <a:t>key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to </a:t>
            </a:r>
            <a:r>
              <a:rPr b="1" lang="en-US" sz="3200" spc="-1" strike="noStrike">
                <a:solidFill>
                  <a:srgbClr val="020202"/>
                </a:solidFill>
                <a:latin typeface="Arial"/>
              </a:rPr>
              <a:t>valu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Keys are not necessarily alphabetize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appings are from </a:t>
            </a:r>
            <a:r>
              <a:rPr b="0" i="1" lang="en-US" sz="2800" spc="-1" strike="noStrike">
                <a:solidFill>
                  <a:srgbClr val="010199"/>
                </a:solidFill>
                <a:latin typeface="Arial"/>
              </a:rPr>
              <a:t>one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key to one </a:t>
            </a:r>
            <a:r>
              <a:rPr b="0" i="1" lang="en-US" sz="2800" spc="-1" strike="noStrike">
                <a:solidFill>
                  <a:srgbClr val="010199"/>
                </a:solidFill>
                <a:latin typeface="Arial"/>
              </a:rPr>
              <a:t>or more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valu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Keys are </a:t>
            </a:r>
            <a:r>
              <a:rPr b="1" i="1" lang="en-US" sz="2600" spc="-1" strike="noStrike">
                <a:solidFill>
                  <a:srgbClr val="020202"/>
                </a:solidFill>
                <a:latin typeface="Arial"/>
              </a:rPr>
              <a:t>unique</a:t>
            </a: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, Values are not necessarily unique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lnSpc>
                <a:spcPct val="90000"/>
              </a:lnSpc>
              <a:spcBef>
                <a:spcPts val="601"/>
              </a:spcBef>
              <a:buClr>
                <a:srgbClr val="0101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Example: student ids --&gt; last name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Keys must be </a:t>
            </a:r>
            <a:r>
              <a:rPr b="1" lang="en-US" sz="2600" spc="-1" strike="noStrike">
                <a:solidFill>
                  <a:srgbClr val="020202"/>
                </a:solidFill>
                <a:latin typeface="Arial"/>
              </a:rPr>
              <a:t>immutable</a:t>
            </a: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 (numbers, strings)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milar to Hashtables/Hashmaps in other languag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2280" y="5788080"/>
            <a:ext cx="882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How would we handle if there is more than one value for a key?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AB3C-A836-42FE-956C-2E2549EE923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y Dictionaries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eful for </a:t>
            </a:r>
            <a:r>
              <a:rPr b="1" lang="en-US" sz="3200" spc="-1" strike="noStrike">
                <a:solidFill>
                  <a:srgbClr val="00c600"/>
                </a:solidFill>
                <a:latin typeface="Arial"/>
              </a:rPr>
              <a:t>fast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looku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Lookup by keywor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on’t need to look through entire list or sort list firs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24DF-60B9-46AD-818F-1FD1C4A4B4F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Examples of Dictionari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are the keys and values for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ictionar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extbook’s index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ookbook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RL (Uniform Resource Locator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s from clas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unction name --&gt; function defini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Variable name --&gt; valu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ASCII value --&gt; charact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9BFE-C274-47D3-84FC-C8A8716C49A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reating Dictionaries in Pyth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yntax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{&lt;key&gt;:&lt;value&gt;, …, &lt;key&gt;:&lt;value&gt;}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7280" y="3313080"/>
            <a:ext cx="71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empty = </a:t>
            </a:r>
            <a:r>
              <a:rPr b="1" lang="en-US" sz="3200" spc="-1" strike="noStrike">
                <a:solidFill>
                  <a:srgbClr val="010199"/>
                </a:solidFill>
                <a:latin typeface="Tahoma"/>
              </a:rPr>
              <a:t>{}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ascii =</a:t>
            </a:r>
            <a:r>
              <a:rPr b="1" lang="en-US" sz="3200" spc="-1" strike="noStrike">
                <a:solidFill>
                  <a:srgbClr val="010199"/>
                </a:solidFill>
                <a:latin typeface="Tahoma"/>
              </a:rPr>
              <a:t> {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 ‘a’</a:t>
            </a:r>
            <a:r>
              <a:rPr b="1" lang="en-US" sz="32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97, ‘b’</a:t>
            </a:r>
            <a:r>
              <a:rPr b="1" lang="en-US" sz="32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98, ‘c’</a:t>
            </a:r>
            <a:r>
              <a:rPr b="1" lang="en-US" sz="32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99, …, ‘z’</a:t>
            </a:r>
            <a:r>
              <a:rPr b="1" lang="en-US" sz="32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122 </a:t>
            </a:r>
            <a:r>
              <a:rPr b="1" lang="en-US" sz="3200" spc="-1" strike="noStrike">
                <a:solidFill>
                  <a:srgbClr val="010199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4295-E866-4340-A4F7-64A844E1C1A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ccessing Values using Key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yntax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45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dictionary&gt;[&lt;key&gt;]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600"/>
                </a:solidFill>
                <a:latin typeface="Tahoma"/>
              </a:rPr>
              <a:t>KeyError</a:t>
            </a:r>
            <a:r>
              <a:rPr b="0" lang="en-US" sz="32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if key is not in dictionar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68760" y="2779560"/>
            <a:ext cx="3966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ascii[‘z’]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directory[‘registrar’]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8C05-DAD9-467C-92A7-D52F829FC42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dding/Modifying Key-Value Pai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yntax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dictionary&gt;[&lt;key&gt;] = &lt;value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scii[‘a’] = 97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39160" y="6248520"/>
            <a:ext cx="27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ascii_dictionary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D971-867F-422E-9B08-4DF9B633FF2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ictionary Opera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143000" y="1397160"/>
          <a:ext cx="6858000" cy="290340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Indexing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dict&gt;[&lt;key&gt;]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ength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en(&lt;dict&gt;)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Iteration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or &lt;key&gt; in &lt;dict&gt;: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Membership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key&gt; in &lt;dict&gt;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Deletion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del &lt;dict&gt;[&lt;key&gt;]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"/>
          <p:cNvSpPr/>
          <p:nvPr/>
        </p:nvSpPr>
        <p:spPr>
          <a:xfrm>
            <a:off x="380880" y="4932360"/>
            <a:ext cx="830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Unlike strings and lists, doesn’t make sense to do slicing, concatenation, repetition for dictionaries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81F0-B43C-4213-893E-F762F561204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ictionary Method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04920" y="1397160"/>
          <a:ext cx="8458200" cy="3263760"/>
        </p:xfrm>
        <a:graphic>
          <a:graphicData uri="http://schemas.openxmlformats.org/drawingml/2006/table">
            <a:tbl>
              <a:tblPr/>
              <a:tblGrid>
                <a:gridCol w="3124080"/>
                <a:gridCol w="5334120"/>
              </a:tblGrid>
              <a:tr h="57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Method Name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unctionality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dict&gt;.clear(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move all items from dictionary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dict&gt;.keys(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s a copy of dictionary’s </a:t>
                      </a:r>
                      <a:r>
                        <a:rPr b="0" i="1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ist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of keys 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dict&gt;.values(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s a copy of dictionary’s </a:t>
                      </a:r>
                      <a:r>
                        <a:rPr b="0" i="1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ist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of values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dict&gt;.get(</a:t>
                      </a:r>
                      <a:r>
                        <a:rPr b="0" i="1" lang="en-US" sz="2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[,</a:t>
                      </a:r>
                      <a:r>
                        <a:rPr b="0" i="1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default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]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s &lt;dict&gt;[</a:t>
                      </a:r>
                      <a:r>
                        <a:rPr b="0" i="1" lang="en-US" sz="2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] if </a:t>
                      </a:r>
                      <a:r>
                        <a:rPr b="0" i="1" lang="en-US" sz="2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is a key; Otherwise, returns </a:t>
                      </a:r>
                      <a:r>
                        <a:rPr b="0" lang="en-US" sz="2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None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(or default value)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11C5-3B2B-4F7A-878A-E58644A76AF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cp:lastPrinted>2007-10-22T19:45:41Z</cp:lastPrinted>
  <dcterms:modified xsi:type="dcterms:W3CDTF">2007-10-24T01:38:19Z</dcterms:modified>
  <cp:revision>2268</cp:revision>
  <dc:subject/>
  <dc:title>PowerPoint Presentation</dc:title>
</cp:coreProperties>
</file>