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B94-B090-451F-926D-8E9D5AFD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B14-BB37-4A09-8A71-6F026171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9D1-FDD8-405A-8CE5-A6FAAAF6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943-63D0-4227-8BE6-02287459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70109-243A-449F-8C99-E92C3F3F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E5859-FE49-4BC7-9BD6-CFBAE790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64022-5269-45FC-A7CD-0F44B368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FEFC5-E793-4125-8C17-85091DA3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832AD-4C53-45B9-B996-2B738AEF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C6471-2F6A-4EE0-8435-A1BE55F4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0A231-7E6D-4871-90A9-6389C256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87CA-CE01-4477-A846-368B7758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83B87-3A3F-4019-8EE4-74C37D96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EB321-BDF1-4DE4-B502-2BEC0B32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ADE9D-2FCF-4103-B9CB-0EF36628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21009-3877-4507-BF19-296C9EB7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14C6C-4CFF-4CD5-8873-328BBC26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D94-BAB0-43D1-95FC-8AC5F2DA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134-049D-4548-958A-92C62CE0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BC8-A671-48D4-8D34-9F544ADF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95E-B030-4F5E-92B3-9DDC23EA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A7B-3CE9-4149-B7E9-EFC9F8C1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B39-0740-4DCD-8850-13E660B6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553-46BB-4D59-A80B-BE098CDF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DDCA-22D7-4ED6-B194-2858D4A9970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47AF-AB0A-4EA3-9831-6B82F15942D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efinite for loops, xran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 Puzzles From Cyberspa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1E7-1F81-4FCC-B735-2E9F47472B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 with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uts spaces around numbers when they get printed o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39000" y="2666880"/>
            <a:ext cx="4260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13.54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, x, “.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BFC-197E-4E35-84B0-884FA879BF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constructor/converter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constructor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 when printing output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0AA-6318-48C8-9C52-7AAB8AFD23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other problem with 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46520" y="1522440"/>
            <a:ext cx="877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SALES_TAX=.05 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# the sales tax in V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value = input("How much does your item cost?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tax = value * (1+SALES_TAX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value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)"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tax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with tax"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43040" y="61722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ales_tax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38D-9837-4F0B-8425-32098636AB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28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ormat specifiers give control over how output is displayed to us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ight, left justificatio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3560" y="232884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)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value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 with tax”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t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1566720"/>
            <a:ext cx="0" cy="7621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6095880" y="278604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8800" y="35020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7467480" y="248112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 rot="16200000">
            <a:off x="5790600" y="1828440"/>
            <a:ext cx="457200" cy="762120"/>
          </a:xfrm>
          <a:custGeom>
            <a:avLst/>
            <a:gdLst>
              <a:gd name="textAreaLeft" fmla="*/ 0 w 457200"/>
              <a:gd name="textAreaRight" fmla="*/ 164880 w 4572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8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27760" y="15969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Format specifi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F97-0DAD-41C0-84D0-E98B295151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+: adds a + sign before positive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 (default is right-justification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341-0EE9-4F61-8297-9599F20A13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dicates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/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ay to forma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F76-43DE-4465-BAAE-666FFA3B46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62880" y="22860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6629400" y="685440"/>
            <a:ext cx="380880" cy="3124080"/>
          </a:xfrm>
          <a:custGeom>
            <a:avLst/>
            <a:gdLst>
              <a:gd name="textAreaLeft" fmla="*/ 0 w 380880"/>
              <a:gd name="textAreaRight" fmla="*/ 137520 w 3808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07F-00B4-4C7E-BCBE-FE3B64EB3B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6C7-0834-4BB4-8C78-D36AEC83D4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DC3-2896-48C1-AFFE-73EA8CB2AD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57B-FC79-4607-8908-9CAE116972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00c600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005-7FC3-4740-BBA4-F0B74EBEA6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Exciting Conclusion of Four Puzzles in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text: Book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ode v2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Lawrence Lessi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read Chapter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sents the problems, not the author’s proposed solu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C96-583E-4705-B104-138B0A48E2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uzzles in Cyberspace 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main themes/puzzles of the boo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ch is the most important puzzle to solv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CS information would you need to know to be able to propose 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0B5-F771-47FD-8631-1B2EB57248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876920" y="42670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38862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349740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961-C615-4101-8C76-CFBBA45FA6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coun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331-7613-40ED-A16C-CC2D99690E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 argument: xrange(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arguments: xrange(start, 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3 arguments: xrange(start, stop, ste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19112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02080" y="4568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4495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14840" y="4495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424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72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6736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50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64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78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92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9068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8840" y="44956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80700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9520" y="44928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97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1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2160" y="58644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[start, stop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0384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40384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59320" y="521172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0,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86F-CD97-4189-B20B-CB5BFF22C8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49568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02080" y="487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4800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14840" y="480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5424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6736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58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50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64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78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92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068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8840" y="48006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11156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520" y="4797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97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11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200" y="365760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5, -15, -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34016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05740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02080" y="2435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36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1484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5424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01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6736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50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64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478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92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9068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8840" y="23623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16732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9520" y="23590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097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11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520" y="121932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1, 15, 3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19018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434340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895480"/>
            <a:ext cx="3048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94920" y="5562720"/>
            <a:ext cx="44197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72600" y="61722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ew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08C-5195-4D73-B206-37EB594166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7EE-2A27-4B4F-B657-2A7DDEE4CB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ep through in mem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533-FA8A-490A-AC8F-918E15B4CD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p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str() 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mat specifi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23D-FAEB-4784-A4ED-2A0F70FE77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4T17:57:21Z</dcterms:modified>
  <cp:revision>341</cp:revision>
  <dc:subject/>
  <dc:title>PowerPoint Presentation</dc:title>
</cp:coreProperties>
</file>