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237-1B8E-4F44-B754-09D69B8F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AA9-F4F7-420F-9B12-41724108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6C3-E3A6-4AA3-9D83-D06D744B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053-EB8C-4288-B514-3276782A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96DD7-564A-4B13-9605-14FF2951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E0F05-4554-4304-9ABF-AA4593FA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3F991-AFBB-45A8-9FBF-426DFD0F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E9E8F-E0B0-4EB0-A3E2-3A50D7AA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1A0B0-A364-43B2-A07B-AE76EC68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EF75F-5CF3-4024-AF54-F5E9E131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CFD17-BA46-4022-80FF-963F8A98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E7B-0A00-4D05-8499-6CE9F7A4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3AE94-8097-4997-B17B-BC60D364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B8CC0-95BA-4CFE-B5B5-848C54B2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7BA78-8D7A-453E-A7C6-B83F21A6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25AEB-F04B-49E7-894E-1637533F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EF482-DB6E-40A6-A837-92381A71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61F-672C-43B7-AC77-014D8DE7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405-6DD0-4904-A0BD-9784AF7B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8CD-367E-4D2B-B779-FBD7F418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C79-3E51-4C28-A478-87C876F5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522-2F8B-403B-9A10-83CC8335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7D9-072C-4CDD-8F6D-97ED59CF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C27-FA96-4F9A-A6DC-8DB6405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5435-1FB4-4746-A542-FBA51426027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A5FB-17A6-4F2A-9476-767C68B8464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presentation: ASCI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 Issue: Environmental Monito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2880" y="682776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6F6-0DF9-4B1D-9902-21AD38D676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string is a sequence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character is stored as a binary number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SCII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American Standard Code for Information Interchange) is one standard encoding for charact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problem with ASCII is that it is based on the English langua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not represent other types of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nicode is a new stand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out: fix second ‘Q’ and ‘R’ to lowerca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0080" y="62452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 Table Hando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33D-46BD-40EA-8D8C-DD8F0DFEDD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D98-E055-44A5-B1AD-9EF20427A8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97--1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65--9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C25-56C7-47AB-A042-A2357CCEEA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anslating to/from ASCI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 character into its ASCII numeric code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d('a') ==&gt; 97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n ASCII numeric code into its character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ch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r(97) ==&gt; 'a'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1520" y="595296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tab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26F-667C-4BBF-B3A8-75A63707AE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ncryp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cess of encoding information to keep it secu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technique: Substitution Cip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ch character in message is replaced by a new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esar Cip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place with a character X places aw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Julius Caesar used it to communicate with his genera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ap around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ite program(s) to do this in lab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60D-6887-4E5A-BC0C-B9A3971CA1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Comparis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me operations as with numb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==, !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, &l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gt;, &g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in conditions for if statements and 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800" y="25146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phabetical comparis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286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08200" y="624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compa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698-77BC-4888-A4B9-BD048F98FC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0E4-C581-4924-BF3A-6121FEB651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FB9-5302-4AD8-9F9E-FF131A3BCF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len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EE5-3B5F-48A4-AA5F-1C02190031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14B-6037-47BC-92EA-6697DD16D5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A48-4DBD-4283-ABB8-41BAD1F1C0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Environmental Monito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disciplinary projects involving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ant new-ish CS research are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claimer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a seismologist or a biolog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9720" y="480060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8160" y="483084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32960" y="4822920"/>
            <a:ext cx="99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4F0-531C-4C21-9561-C12FD3FB10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CS challenges to both projec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challenges only applicable to one projec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e environment impact the CS research problems/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id the researchers address these challenge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ddress the challenge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1C72-2B38-4807-A5EB-B54516DCB1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 CSists thought that efficiency didn’t matter anymo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B of memory, terabytes of storage on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w: small and embedded dev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efficient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D78-3BE5-4BB2-93CE-1D453A5270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issing data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nnectivity (good signal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uplicate data (different sources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ead sensor node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libration of data (time synchronization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stand extreme weather, condition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ttery lif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obustness: recover from software failure/malfunction or bad dat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856-4F66-428B-863D-FE839A406C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curately simulate conditions (which will vary widely over long periods of tim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fferent goals from domain scient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S: push boundaries of sensor network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ample: Improve reliability of data to 95%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eismologists: need 100% reliable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82E-455E-4158-BFD6-BF447847C0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ar-powered batter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ify all when data gets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ZebraNet: 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nly transmit if zebra gives data to bas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olcano: only when “interesting”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4A4-F57D-40F6-A074-7FB7B374D4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ndancy of data -- verify/validate it is corr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send to zebras with history of reporting back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ather proof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tteries: solar-panels to rechar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8B5-DA8D-4491-9A09-C8C3E46502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vel simul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environment/scenarios on compu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zebras with hor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ush software to make sure it “recovers” appropriately from errors or bad information 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65A-3404-4089-88D7-7053EA47A9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 “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r each character in the string 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BCD-A932-454A-AFFE-133C92668D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05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86160" y="63244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A6C-0AB4-40B2-ADBE-9C874174D2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112-8183-401B-AD83-8FC4C6927F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heck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arch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0EC-EE5C-402A-A4C8-FBC893B401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5760" y="6245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2DA-2B80-4443-B002-C51C8C6DF9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lternative Solution by Cath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binaryToDecimal2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erate through string using an integer as the index and the substring([]) op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veloping solutions: if iterating (through whatever) in one direction doesn’t work, try the ot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8AC-E1BB-41B4-8A37-B81A4DFE5D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0600" y="556272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520" y="55926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tuit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4B2-B9C4-4FF5-9F47-0ADEB4F8DA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05T20:18:44Z</cp:lastPrinted>
  <dcterms:modified xsi:type="dcterms:W3CDTF">2007-10-05T20:22:41Z</dcterms:modified>
  <cp:revision>1264</cp:revision>
  <dc:subject/>
  <dc:title>PowerPoint Presentation</dc:title>
</cp:coreProperties>
</file>