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8947-C930-4093-80F6-41E9086C20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 isn’t about computer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know something about computers and how they work to be able to use them.   And, we need to know the terminology used to talk about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DC0-79A5-4C13-A4ED-A8C49872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3F6-7A38-40B1-ADF2-3B2FE98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A16-FDC1-40FD-BB3E-B417A93A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000-FED2-49D0-8F19-9D283195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8CDC-B652-49C2-9D00-CC62265C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C98F7-8A8A-4B16-8C73-C39A8CB4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AEC3F-D9B4-4C5E-BCC0-2D65CE42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47AFE-3CB0-46D2-8353-59D450D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01AA7-90E7-4725-88C9-3C474F97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9AB6F-0E6C-4D09-BD81-30691BD5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1EF21-6CF2-4F07-86C1-65760D24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68A-AEA2-467F-A63F-ED1547D5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84725-49EB-488E-91B5-03AA07E7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72FFB-87C3-4EF6-AF0B-4E9D450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549D1-F86F-41BD-AD8E-AF8211B0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8A5E4-55D4-4C1C-8B28-BB326806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E2D26-551C-4C40-B95E-3C0155AA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8BA-1E4D-44C8-AEAE-3C09F75C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DEB-6CA5-499E-A44B-0FEC8245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3AC-6276-47B5-9780-4B027BA7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C52-B0DE-466B-B992-392F8E3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669-6E72-4D4B-BB3A-31FDE4C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B26-8C36-4FD7-8DFA-4BD63910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3AE-59C7-4982-B1BC-0B2E9EA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ep 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prenkle - CS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0BAF-DEB7-4EB1-9D6B-50102CD56141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A18E-C100-42E5-A76A-AA902B4CEC8E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90792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3" marL="1309680" algn="ctr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4" marL="171468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5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6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CS111</a:t>
            </a:r>
            <a:br>
              <a:rPr sz="4800"/>
            </a:b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Fall 2007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ptember 7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annie Albrech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461767"/>
                </a:solidFill>
                <a:latin typeface="Tahoma"/>
              </a:rPr>
              <a:t>Williams Colle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software that is running and communicating on computers around the wor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bbies: surfing, ultimate, rugb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3657600" cy="365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4520" y="3506760"/>
            <a:ext cx="450720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D23-A96C-4E11-9EDC-108A67E100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ff Forb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of the practice at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uke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795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6360" y="3048120"/>
            <a:ext cx="4981320" cy="375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0600" y="2819520"/>
            <a:ext cx="4105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 education, intelligent control and robotics, reinforcement learning, and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arambee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 education via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AA4-EA2A-4955-AFD4-B27C56B600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e Lis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ent graduate of 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University of Delawar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uble major in CS and Psycholog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erested in decreasing the division between the technological haves and have no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nly 3% of Africans have Internet acces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ell phones are commonly used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8640" y="1219320"/>
            <a:ext cx="4483080" cy="351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47991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Lucida Grande"/>
              </a:rPr>
              <a:t>Sue with Alex, one of the computer teachers at Ketasco Secondary School, in the computer lab in Keta, Ghana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219320"/>
            <a:ext cx="4496040" cy="457200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A53-902A-471C-A3CA-998B170686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ina Bhatt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P Labs Principal Scientis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eads design for novel mobile technologi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ystem for matching your foundation, using pictures from your cell pho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7560" y="393696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87956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066-F124-44F7-8367-95F4C88B17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asic Computer Archite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4114800"/>
            <a:ext cx="7620120" cy="993240"/>
            <a:chOff x="380880" y="4114800"/>
            <a:chExt cx="7620120" cy="993240"/>
          </a:xfrm>
        </p:grpSpPr>
        <p:sp>
          <p:nvSpPr>
            <p:cNvPr id="144" name=""/>
            <p:cNvSpPr/>
            <p:nvPr/>
          </p:nvSpPr>
          <p:spPr>
            <a:xfrm>
              <a:off x="4572000" y="4114800"/>
              <a:ext cx="3429000" cy="990720"/>
            </a:xfrm>
            <a:prstGeom prst="rect">
              <a:avLst/>
            </a:prstGeom>
            <a:solidFill>
              <a:srgbClr val="020202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Hard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19112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The machine, made up of CPU, memory, hard drive, keyboard, etc.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600" y="3124080"/>
            <a:ext cx="7664400" cy="990720"/>
            <a:chOff x="336600" y="3124080"/>
            <a:chExt cx="7664400" cy="990720"/>
          </a:xfrm>
        </p:grpSpPr>
        <p:sp>
          <p:nvSpPr>
            <p:cNvPr id="147" name=""/>
            <p:cNvSpPr/>
            <p:nvPr/>
          </p:nvSpPr>
          <p:spPr>
            <a:xfrm>
              <a:off x="4572000" y="3124080"/>
              <a:ext cx="3429000" cy="990720"/>
            </a:xfrm>
            <a:prstGeom prst="rect">
              <a:avLst/>
            </a:prstGeom>
            <a:solidFill>
              <a:srgbClr val="010199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Operating System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600" y="327672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Manages hardware resource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72600" y="2403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MSOffice Applications (Excel, Word),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Solitaire, Firefox, Internet Explor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65200" y="1066680"/>
            <a:ext cx="2891880" cy="1067040"/>
            <a:chOff x="5065200" y="1066680"/>
            <a:chExt cx="2891880" cy="1067040"/>
          </a:xfrm>
        </p:grpSpPr>
        <p:sp>
          <p:nvSpPr>
            <p:cNvPr id="151" name=""/>
            <p:cNvSpPr/>
            <p:nvPr/>
          </p:nvSpPr>
          <p:spPr>
            <a:xfrm>
              <a:off x="5065200" y="1066680"/>
              <a:ext cx="28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What we create in CS111!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720" y="1447920"/>
              <a:ext cx="76176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447920"/>
              <a:ext cx="76212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920" y="35686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Windows, OSX, UNIX, Linux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2280" y="480060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Dell, Apple, IBM, HP, Toshiba, …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2360" y="2070000"/>
            <a:ext cx="7568640" cy="1054080"/>
            <a:chOff x="432360" y="2070000"/>
            <a:chExt cx="7568640" cy="1054080"/>
          </a:xfrm>
        </p:grpSpPr>
        <p:sp>
          <p:nvSpPr>
            <p:cNvPr id="157" name=""/>
            <p:cNvSpPr/>
            <p:nvPr/>
          </p:nvSpPr>
          <p:spPr>
            <a:xfrm>
              <a:off x="45720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360" y="2070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Solve problem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001000" y="2133720"/>
            <a:ext cx="761760" cy="1981080"/>
            <a:chOff x="8001000" y="2133720"/>
            <a:chExt cx="761760" cy="1981080"/>
          </a:xfrm>
        </p:grpSpPr>
        <p:sp>
          <p:nvSpPr>
            <p:cNvPr id="162" name=""/>
            <p:cNvSpPr/>
            <p:nvPr/>
          </p:nvSpPr>
          <p:spPr>
            <a:xfrm>
              <a:off x="8001000" y="2133720"/>
              <a:ext cx="457200" cy="1981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400000">
              <a:off x="8009280" y="294588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Tahoma"/>
                </a:rPr>
                <a:t>Software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B9A-CE5A-47ED-86FA-B293AD7BB6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5F5-F8C6-4C97-9A6C-5619618B49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CE8-67D0-4BDC-8881-A74FCF59FD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his Course Is Abo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1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lgorithms, dealing with informat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gramming (Python)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broader issues in C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0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rvey of computer science topics: algorithms, circuits, low-level instructions, web/databas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4C5-AE1B-44F6-9E89-BA0C435677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o Expect from this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rst programming co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ts to learn!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s to a lot of new idea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ifferent way of thin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imilar yet different from math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y get stuck but ask me for help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A78-DCCA-4185-8AE7-6F82A6A085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ttp://www.cs.wlu.edu/~sprenkle/cs111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heck frequently for up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nday, Wednesday, Friday lectur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lides posted after class, in handout, PDF forma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n’t copy down slides verbati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 lot isn’t on the slid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Use slides later to review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esday lab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ogramming projects due on Frida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D30-B405-4A4E-952F-AF390BFE57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rvey Says…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176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year are you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a computer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the Internet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made a web pag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written a program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y are you taking this cours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4F2-7C77-4BA6-98FE-327352A6D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3 Exa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2 Midterms (see schedule online for dates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na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Tahoma"/>
              </a:rPr>
              <a:t>Discussion of broader issues in CS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rticles about computer science’s effect on </a:t>
            </a:r>
            <a:r>
              <a:rPr b="0" i="1" lang="en-US" sz="2600" spc="-1" strike="noStrike">
                <a:solidFill>
                  <a:srgbClr val="020202"/>
                </a:solidFill>
                <a:latin typeface="Tahoma"/>
              </a:rPr>
              <a:t>everything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Write up on blog, due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Discussion on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Opportunities for extra credit for finding, reading, summarizing additional articl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490-B8B5-48EF-908E-768BACB410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tructor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eep your interest in C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mpt, constructive feedback o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Office hour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ednesday: 3:30-4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ursday: 12:30-3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mail for appointm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pond within 24 hours to emailed ques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A8B-F98D-4563-9A87-626AC3E7E2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udent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heck W&amp;L email and course web page frequently for updat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ew entire syllabus onli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ttend and participate in class and lectu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ndatory attendan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e respectful to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rive promptly to lecture/lab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rn off cell phon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e patient, flexible, and learn from mistak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A30-9064-4F60-88A5-B68455F1A4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nor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discuss programming assignments informally with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a solution is an honor violation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should know where to draw the line between getting legitimate outside assistance with course material and outright cheat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ho obtain too much assistance without learning the material ultimately cheat themselves the most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any uncertainty about what this means, consult with me before you collaborate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ritten assignments should be done individually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929-CF28-445E-AE4B-90652C669B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Your TODO List: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view the 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idterm 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ad Chapter 1 of Text Book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nly skim 1.4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ue next Frida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rst CS issues reading/writeup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uesday’s lab/assignmen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068-328C-408C-9AE6-F55619901B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eet &amp; gr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is clas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BBA-48A5-45F1-8E33-DC5ADE2421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: 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now any famous computer scientist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8F2-8EBE-4CE8-8FAD-7F7AF70F9D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abl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can we compute X most effectively/efficiently/accurately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timize speed, space using optimum data structures, algorith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ccurate modeling of “world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Computer Science is no more about computers than astronomy is about telescopes.”             --Edsger Dijkstr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133-A57A-4076-B662-1A589937CE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ut programming is a foundation to do much, much more!</a:t>
            </a:r>
            <a:endParaRPr b="0" lang="en-US" sz="2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04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08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9A3-9786-47DC-A236-0FF3653CF9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t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hardw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Windows (or other operating system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Office (or other desktop application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1D3-9347-4626-A6D4-F1DCB6773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erests: Software testing, empirical studies, distributed syst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cus: Automated web application test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5F6-03C5-4E35-9B9B-62B7E44A15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47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44600" y="444492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ahoma"/>
              </a:rPr>
              <a:t>Find the error(s)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688-6E9E-46AD-91C4-D57A2D242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tt Wels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a10000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distributed systems and networ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nsor networks to monitor volcano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ote </a:t>
            </a: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Running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228600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84600" y="76320"/>
            <a:ext cx="448308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2920" y="4191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of. Welsh at </a:t>
            </a:r>
            <a:r>
              <a:rPr b="0" lang="en-US" sz="2400" spc="-1" strike="noStrike">
                <a:solidFill>
                  <a:srgbClr val="a10000"/>
                </a:solidFill>
                <a:latin typeface="Tahoma"/>
              </a:rPr>
              <a:t>Volcán Reventad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 Ecuador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3048120"/>
            <a:ext cx="457200" cy="12189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0B6-0736-4CDF-9F52-D2E78223D9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23:27Z</dcterms:created>
  <dc:creator>Elon University</dc:creator>
  <dc:description/>
  <dc:language>en-US</dc:language>
  <cp:lastModifiedBy>Sara Sprenkle</cp:lastModifiedBy>
  <cp:lastPrinted>2007-09-07T15:41:18Z</cp:lastPrinted>
  <dcterms:modified xsi:type="dcterms:W3CDTF">2007-09-07T15:43:18Z</dcterms:modified>
  <cp:revision>728</cp:revision>
  <dc:subject/>
  <dc:title>Intro to Java</dc:title>
</cp:coreProperties>
</file>