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6BD9-9FB9-430C-9F8B-B30A8DAAF7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 isn’t about computers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know something about computers and how they work to be able to use them.   And, we need to know the terminology used to talk about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249-AC3C-4872-94B7-42DFA7B4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44C-40FD-4D8F-8B15-572E759E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2E9-C3D3-44BF-B0DA-1997C124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EB5-ED1C-4A25-A070-BCDF7376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EBB06-32CC-4AD6-8BA5-7483BE9A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864F4-89A8-4624-AFB3-774C5268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4B837-3258-4058-B184-E29E7E56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C441F-E3F3-4242-94E7-0DBA6B80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F403E-4C50-4FF5-A75D-F1F822B4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5CCAF-C938-4A2F-AA5A-E8A78F5E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3A53C-94B5-45B8-B69C-4BBE7F77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1D7-F563-4731-98CF-8CE18ADC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C33C5-881A-48FB-BC1A-F3E1D900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6D1C1-34E0-46C2-90C1-35F4D81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8D729-E9B5-431A-A3DF-2C6B46DD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75224-A1CC-4A90-AD2E-C5860527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23B87-4232-47C5-BF47-920C2297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850-EB7F-4167-A442-3258F250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682-21C3-454E-967B-B9C16694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816-061B-44C1-8169-93CEF684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DE7-A6EC-4EFE-9991-21C2EDF1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802-0524-4000-B443-B24F65D8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A45-6D44-4D50-B686-94A5A586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3ED-DCA4-4A4A-8E70-3EB2B8A3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ep 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prenkle - CS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22D0-1800-4516-AF1E-D1ED672634BB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1EB-A249-419C-BFCD-1CE597D51B11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907920" algn="ctr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3" marL="1309680" algn="ctr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4" marL="1714680" algn="ctr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5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6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CS111</a:t>
            </a:r>
            <a:br>
              <a:rPr sz="4800"/>
            </a:b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Fall 2007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ptember 7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annie Albrech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461767"/>
                </a:solidFill>
                <a:latin typeface="Tahoma"/>
              </a:rPr>
              <a:t>Williams Colle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software that is running and communicating on computers around the wor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bbies: surfing, ultimate, rugb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3657600" cy="365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4520" y="3506760"/>
            <a:ext cx="450720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375-C1B2-4767-AF59-9BD71484FD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ff Forb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562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of the practice at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uke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879560" cy="224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86360" y="3048120"/>
            <a:ext cx="4981320" cy="3755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0600" y="2819520"/>
            <a:ext cx="410508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 education, intelligent control and robotics, reinforcement learning, and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arambee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S education via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60B-7D85-4DCD-A127-2763248CBC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e Lis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ent graduate of 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University of Delawar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uble major in CS and Psycholog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erested in decreasing the division between the technological haves and have no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nly 3% of Africans have Internet acces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ell phones are commonly used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8640" y="1219320"/>
            <a:ext cx="4483080" cy="3514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95680" y="479916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Lucida Grande"/>
              </a:rPr>
              <a:t>Sue with Alex, one of the computer teachers at Ketasco Secondary School, in the computer lab in Keta, Ghana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1219320"/>
            <a:ext cx="4496040" cy="457200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06C-CBC7-47B5-BBF9-C2018C0DDC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ina Bhatt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P Labs Principal Scientis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eads design for novel mobile technologi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ystem for matching your foundation, using pictures from your cell pho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7560" y="393696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87956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7F7-1CA3-44D9-805F-6A8D19997E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asic Computer Archite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4114800"/>
            <a:ext cx="7620120" cy="993240"/>
            <a:chOff x="380880" y="4114800"/>
            <a:chExt cx="7620120" cy="993240"/>
          </a:xfrm>
        </p:grpSpPr>
        <p:sp>
          <p:nvSpPr>
            <p:cNvPr id="144" name=""/>
            <p:cNvSpPr/>
            <p:nvPr/>
          </p:nvSpPr>
          <p:spPr>
            <a:xfrm>
              <a:off x="4572000" y="4114800"/>
              <a:ext cx="3429000" cy="990720"/>
            </a:xfrm>
            <a:prstGeom prst="rect">
              <a:avLst/>
            </a:prstGeom>
            <a:solidFill>
              <a:srgbClr val="020202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Hard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4191120"/>
              <a:ext cx="388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The machine, made up of CPU, memory, hard drive, keyboard, etc.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6600" y="3124080"/>
            <a:ext cx="7664400" cy="990720"/>
            <a:chOff x="336600" y="3124080"/>
            <a:chExt cx="7664400" cy="990720"/>
          </a:xfrm>
        </p:grpSpPr>
        <p:sp>
          <p:nvSpPr>
            <p:cNvPr id="147" name=""/>
            <p:cNvSpPr/>
            <p:nvPr/>
          </p:nvSpPr>
          <p:spPr>
            <a:xfrm>
              <a:off x="4572000" y="3124080"/>
              <a:ext cx="3429000" cy="990720"/>
            </a:xfrm>
            <a:prstGeom prst="rect">
              <a:avLst/>
            </a:prstGeom>
            <a:solidFill>
              <a:srgbClr val="010199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Operating System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6600" y="3276720"/>
              <a:ext cx="33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Manages hardware resource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72600" y="2403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MSOffice Applications (Excel, Word),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Solitaire, Firefox, Internet Explor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65200" y="1066680"/>
            <a:ext cx="2891880" cy="1067040"/>
            <a:chOff x="5065200" y="1066680"/>
            <a:chExt cx="2891880" cy="1067040"/>
          </a:xfrm>
        </p:grpSpPr>
        <p:sp>
          <p:nvSpPr>
            <p:cNvPr id="151" name=""/>
            <p:cNvSpPr/>
            <p:nvPr/>
          </p:nvSpPr>
          <p:spPr>
            <a:xfrm>
              <a:off x="5065200" y="1066680"/>
              <a:ext cx="289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What we create in CS111!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62720" y="1447920"/>
              <a:ext cx="76176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447920"/>
              <a:ext cx="76212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3920" y="35686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Windows, OSX, UNIX, Linux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2280" y="480060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Dell, Apple, IBM, HP, Toshiba, …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32360" y="2070000"/>
            <a:ext cx="7568640" cy="1054080"/>
            <a:chOff x="432360" y="2070000"/>
            <a:chExt cx="7568640" cy="1054080"/>
          </a:xfrm>
        </p:grpSpPr>
        <p:sp>
          <p:nvSpPr>
            <p:cNvPr id="157" name=""/>
            <p:cNvSpPr/>
            <p:nvPr/>
          </p:nvSpPr>
          <p:spPr>
            <a:xfrm>
              <a:off x="45720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2438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2360" y="2070000"/>
              <a:ext cx="18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Solve problem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001000" y="2133720"/>
            <a:ext cx="761760" cy="1981080"/>
            <a:chOff x="8001000" y="2133720"/>
            <a:chExt cx="761760" cy="1981080"/>
          </a:xfrm>
        </p:grpSpPr>
        <p:sp>
          <p:nvSpPr>
            <p:cNvPr id="162" name=""/>
            <p:cNvSpPr/>
            <p:nvPr/>
          </p:nvSpPr>
          <p:spPr>
            <a:xfrm>
              <a:off x="8001000" y="2133720"/>
              <a:ext cx="457200" cy="19810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5400000">
              <a:off x="8009280" y="2945880"/>
              <a:ext cx="113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Tahoma"/>
                </a:rPr>
                <a:t>Software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5FB-47E0-4212-BC18-FA6C790223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DAA-39E5-4165-92B2-0D1D9AD276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D32-E102-42BA-BF50-6234107577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his Course Is Abo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1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lgorithms, dealing with informat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gramming (Python)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broader issues in C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0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rvey of computer science topics: algorithms, circuits, low-level instructions, web/databas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91C-DEB9-4B9E-9999-5FA29E69C4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o Expect from this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rst programming co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ts to learn!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s to a lot of new idea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ifferent way of thin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imilar yet different from math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y get stuck but ask me for help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FEE-8132-4C35-A968-5E94B69DCD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ttp://www.cs.wlu.edu/~sprenkle/cs111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heck frequently for up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nday, Wednesday, Friday lectur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lides posted after class, in handout, PDF forma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n’t copy down slides verbati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 lot isn’t on the slid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Use slides later to review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esday lab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ogramming projects due on Frida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E86-C570-4A87-99C4-C46B1E7BC3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rvey Says…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176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year are you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a computer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the Internet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made a web pag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written a program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y are you taking this cours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BA2-548F-4734-85A1-3FF864490A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3 Exa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2 Midterms (see schedule online for dates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na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Tahoma"/>
              </a:rPr>
              <a:t>Discussion of broader issues in CS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rticles about computer science’s effect on </a:t>
            </a:r>
            <a:r>
              <a:rPr b="0" i="1" lang="en-US" sz="2600" spc="-1" strike="noStrike">
                <a:solidFill>
                  <a:srgbClr val="020202"/>
                </a:solidFill>
                <a:latin typeface="Tahoma"/>
              </a:rPr>
              <a:t>everything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Write up on blog, due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Discussion on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Opportunities for extra credit for finding, reading, summarizing additional articl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67A-3BF8-4EB3-998A-D269A1D1FA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tructor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eep your interest in C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mpt, constructive feedback o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Office hour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ednesday: 3:30-4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ursday: 12:30-3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mail for appointm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pond within 24 hours to emailed ques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F76-AA93-4814-99C5-A127637D28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udent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heck W&amp;L email and course web page frequently for updat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ew entire syllabus onli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ttend and participate in class and lectu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ndatory attendan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e respectful to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rive promptly to lecture/lab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rn off cell phon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e patient, flexible, and learn from mistak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6F7-767B-4A96-99A4-3D8072D74D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nor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ay discuss programming assignments informally with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ing a solution is an honor violation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should know where to draw the line between getting legitimate outside assistance with course material and outright cheat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who obtain too much assistance without learning the material ultimately cheat themselves the most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have any uncertainty about what this means, consult with me before you collaborate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written assignments should be done individually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4CD-037D-4DB4-8ECA-A616B48067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Your TODO List: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view the 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idterm 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ad Chapter 1 of Text Book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nly skim 1.4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ue next Frida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rst CS issues reading/writeup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uesday’s lab/assignmen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F85-0D70-42EF-AC98-51CB019B35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eet &amp; gr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is clas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B2F-FA73-4488-8E8E-8248C8B542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: 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now any famous computer scientist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57B-992D-40D6-B550-894C10D6DD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abl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can we compute X most effectively/efficiently/accurately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timize speed, space using optimum data structures, algorith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ccurate modeling of “world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0666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Computer Science is no more about computers than astronomy is about telescopes.”             --Edsger Dijkstr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BA1-EDD3-4F0D-82B6-1BA3E47EC1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ut programming is a foundation to do much, much more!</a:t>
            </a:r>
            <a:endParaRPr b="0" lang="en-US" sz="2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04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08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6E1-1FA7-46F3-AA97-DBE4371225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t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hardw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Windows (or other operating system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Office (or other desktop application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F44-78ED-4626-ABA8-C18E544A44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erests: Software testing, empirical studies, distributed syst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cus: Automated web application test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4CA-BB52-4EA3-A87B-8E9FEC7ACF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238880" cy="479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44600" y="444492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ahoma"/>
              </a:rPr>
              <a:t>Find the error(s)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721-CB62-4809-AE8B-6334B4E6AE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tt Wels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a10000"/>
                </a:solidFill>
                <a:latin typeface="Tahoma"/>
              </a:rPr>
              <a:t>Harvard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distributed systems and networ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nsor networks to monitor volcano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ote </a:t>
            </a:r>
            <a:r>
              <a:rPr b="0" i="1" lang="en-US" sz="3200" spc="-1" strike="noStrike">
                <a:solidFill>
                  <a:srgbClr val="020202"/>
                </a:solidFill>
                <a:latin typeface="Tahoma"/>
              </a:rPr>
              <a:t>Running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2286000" cy="299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84600" y="76320"/>
            <a:ext cx="448308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62920" y="41911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of. Welsh at </a:t>
            </a:r>
            <a:r>
              <a:rPr b="0" lang="en-US" sz="2400" spc="-1" strike="noStrike">
                <a:solidFill>
                  <a:srgbClr val="a10000"/>
                </a:solidFill>
                <a:latin typeface="Tahoma"/>
              </a:rPr>
              <a:t>Volcán Reventad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 Ecuador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7543800" y="3048120"/>
            <a:ext cx="457200" cy="12189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412-B581-426F-A6CC-D9E5594FEC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1:23:27Z</dcterms:created>
  <dc:creator>Elon University</dc:creator>
  <dc:description/>
  <dc:language>en-US</dc:language>
  <cp:lastModifiedBy>Sara Sprenkle</cp:lastModifiedBy>
  <cp:lastPrinted>2007-09-07T15:41:18Z</cp:lastPrinted>
  <dcterms:modified xsi:type="dcterms:W3CDTF">2007-09-07T15:43:18Z</dcterms:modified>
  <cp:revision>728</cp:revision>
  <dc:subject/>
  <dc:title>Intro to Java</dc:title>
</cp:coreProperties>
</file>