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pct" ContentType="image/x-pict"/>
  <Override PartName="/ppt/media/image2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978A-4E69-411D-A351-0E6C367D5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6CD3-F755-48F8-BCA5-18631DAD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6654-6186-4C32-947E-EBC60BFD8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B6CD-CE96-455D-AF62-262A2F39A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14510-0ADA-4DAC-9C49-F2BCEAAE7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64C39-8E9A-43C5-BEB7-C622A54A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8BD256-86A0-430D-AEE2-1549B57B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CCA9D8-F283-4CC2-B5D2-92AD9B61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440E8-0795-420D-B92A-9EF27C2E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894188-CDD8-4783-BFFD-6C1DDD5C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5729F-7AE2-48B2-9415-E202DDF4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61AB-04AF-4DDC-8A84-33ED95B7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DB192-1731-499B-81F1-1918015B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40CF9-E783-4979-B7A5-FADB5823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BDA7D-54A0-4A6F-B724-722D617E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BF63C2-370B-4506-AD81-A5ED9D9CC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3549BE-EF01-41B7-ACF9-AD3E25D3B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F54C-FF99-4BD7-B7A2-ADFA1C9A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73DC-7288-4FE1-A483-DCA58B7D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81A9-90B9-4C6F-98D6-7565E24A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D767-C6AF-40F4-A541-05D283AE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3452-0708-4915-9EFE-AB6C3F23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F8AF-3EB7-44AD-879F-492C4F77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5067-73DA-452A-BB20-F261F120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22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41F1-6DEB-41DB-8C42-8125277EF692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AFB3-2191-4C52-B9B6-740746A6B8BC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re on Lis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ing in function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ctionari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8ADA-C6C6-4263-8CFC-3FC9DD5F9E7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ibonacci Sequen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nt the first 15 Fibonacci numbers</a:t>
            </a:r>
            <a:endParaRPr b="0" lang="en-US" sz="3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12880" y="3124080"/>
            <a:ext cx="702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 = range(15)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# creates a list of size 15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[0] = 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[1] = 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or x in xrange(2,15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ewfib = fibs[x-1]+fibs[x-2]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[x] = newfib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or num in fibs: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# print each num on sep lin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nu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75120" y="632160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ibs2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31320" y="1914480"/>
            <a:ext cx="391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imilar to xrang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an use same parameter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352680" y="2286000"/>
            <a:ext cx="1371600" cy="91440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BCED-2DC8-4443-9707-C8EAC0D78C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sts vs. Array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riefly, lists are similar to arrays in other languag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ore similar to </a:t>
            </a:r>
            <a:r>
              <a:rPr b="0" i="1" lang="en-US" sz="2800" spc="-1" strike="noStrike">
                <a:solidFill>
                  <a:srgbClr val="010199"/>
                </a:solidFill>
                <a:latin typeface="Arial"/>
              </a:rPr>
              <a:t>Vector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n C++ and </a:t>
            </a:r>
            <a:r>
              <a:rPr b="0" i="1" lang="en-US" sz="2800" spc="-1" strike="noStrike">
                <a:solidFill>
                  <a:srgbClr val="010199"/>
                </a:solidFill>
                <a:latin typeface="Arial"/>
              </a:rPr>
              <a:t>ArrayList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n Jav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ypically, arrays have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static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ength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’t insert and remove elements from arrays so that the length of the array chang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eed to make the array as big as you’ll think you’ll ne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C76E-C1ED-427D-8187-9ECF91E5E0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sts vs. String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rings are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immutab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’t be mutated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r, can’t be modified/chang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ists can be chang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utable!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8680" y="3962520"/>
            <a:ext cx="81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groceryList=[“milk”, “eggs”, “bread”, “Doritos”, “OJ”, “sugar”]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4080" y="4471920"/>
            <a:ext cx="406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roceryList[0] = “skim milk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roceryList[3] = “popcorn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5462640"/>
            <a:ext cx="797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groceryList is now [“skim milk”, “eggs”, “bread”, “popcorn”, “OJ”, “sugar”]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FCCB-6E4E-4B6A-B937-87D854BDFF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pies of Lis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does the following code output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x = [1, 2, 3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y = 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y[0] = -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0608-7FEA-4E36-9C20-AF2EF9A69E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st Identifiers are Poin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3352320"/>
            <a:ext cx="8686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y is not a copy of x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oints to what x points to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to make a copy of y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y = x + [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R: y= [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y.extend(x)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200400" y="1806480"/>
          <a:ext cx="3505320" cy="51732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5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818280" y="1600200"/>
            <a:ext cx="36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x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2720" y="2471760"/>
            <a:ext cx="3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y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1806480"/>
            <a:ext cx="1828800" cy="22860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371600" y="2263680"/>
            <a:ext cx="1676520" cy="60984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2EDC-798D-4ABB-974D-0985EAF5A6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sts as Parameters to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f modify a list passed as a parameter into a function, the list is modified outside the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ists are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passed-by-val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fferent from immutable types (e.g., numbers, strings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arameter is actually a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pointe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o the list in memory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E8C3-9632-4CDE-AE60-CEEAA46650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: Sort a list of 3 numbers, in descending ord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with list method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we do this using only three comparisons?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2400" y="3222720"/>
            <a:ext cx="669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# order list such that list[0] &gt;= list[1] &gt;= list[2]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Tahoma"/>
              </a:rPr>
              <a:t>def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descendSort3Nums( list3 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25720" y="6278400"/>
            <a:ext cx="23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descendSort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08200" y="460224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alled as: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73240" y="5211720"/>
            <a:ext cx="359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list = …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descendSort3Nums(list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A6CA-08C1-4FE1-8E4C-F589FB8CDC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How Does </a:t>
            </a:r>
            <a:r>
              <a:rPr b="1" lang="en-US" sz="4000" spc="-1" strike="noStrike">
                <a:solidFill>
                  <a:srgbClr val="2017b8"/>
                </a:solidFill>
                <a:latin typeface="Tahoma"/>
              </a:rPr>
              <a:t>in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 Work for List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 x in groceries, where groceries is a lis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each element in list, checks if element equals (==) x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 the worst case, how many elements does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have to check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could we improve the search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9010-24E1-4E2A-8564-BFADEA4A61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earch Improve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ort the Lis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helps search?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63960" y="624528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Hi-Low gam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11EC-6F80-488C-A392-438CFE711B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aster Lookup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f I wanted to know the Registrar’s phone number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ould I search through an alphabetized list of phone number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o, I would look up the Registrar and find the phone number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associated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with the Registr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s type of data structure is known as a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dictionary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n Pyth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ps a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key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to a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val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C21B-9E24-407D-8B1B-6197F5F1197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ther Sequences of Data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commonly group a sequence of data together and refer to them by one nam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ays of the week: Sunday, Monday, Tuesday, 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onths of the year: January, February, March, 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hopping lis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n represent this data as a </a:t>
            </a:r>
            <a:r>
              <a:rPr b="1" lang="en-US" sz="3200" spc="-1" strike="noStrike">
                <a:solidFill>
                  <a:srgbClr val="6699ff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n Pyth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imilar to </a:t>
            </a:r>
            <a:r>
              <a:rPr b="1" lang="en-US" sz="2800" spc="-1" strike="noStrike">
                <a:solidFill>
                  <a:srgbClr val="6699ff"/>
                </a:solidFill>
                <a:latin typeface="Arial"/>
              </a:rPr>
              <a:t>arrays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 other languag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6116-9D97-4AEE-965C-8E765FD133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s of Dictionari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are the keys and values for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ctiona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extbook’s inde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okbook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RL (Uniform Resource Locator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ny other things we’ve done/used in clas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IN CLASS ANSWERS: variable names --&gt; values, function names --&gt; function definitions, ascii value --&gt; character, character --&gt; ascii value 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6053-1C67-4654-B573-53F13137338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s of Dictionari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are the keys and values for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-3330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ctiona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extbook’s inde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okbook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RL (Uniform Resource Locator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ny other things we’ve done/used in clas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Keys are not necessarily alphabetiz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appings are from </a:t>
            </a:r>
            <a:r>
              <a:rPr b="0" i="1" lang="en-US" sz="3200" spc="-1" strike="noStrike">
                <a:solidFill>
                  <a:srgbClr val="020202"/>
                </a:solidFill>
                <a:latin typeface="Arial"/>
              </a:rPr>
              <a:t>on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key to one </a:t>
            </a:r>
            <a:r>
              <a:rPr b="0" i="1" lang="en-US" sz="3200" spc="-1" strike="noStrike">
                <a:solidFill>
                  <a:srgbClr val="020202"/>
                </a:solidFill>
                <a:latin typeface="Arial"/>
              </a:rPr>
              <a:t>or mor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valu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-3330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Keys are </a:t>
            </a:r>
            <a:r>
              <a:rPr b="1" i="1" lang="en-US" sz="2800" spc="-1" strike="noStrike">
                <a:solidFill>
                  <a:srgbClr val="010199"/>
                </a:solidFill>
                <a:latin typeface="Arial"/>
              </a:rPr>
              <a:t>unique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, Values are not necessarily uniq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242E-EF63-452C-9F0D-42B1E89793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reating Dictionaries in Pyth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{&lt;key&gt;:&lt;value&gt;, …, &lt;key&gt;:&lt;value&gt;}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7280" y="3313080"/>
            <a:ext cx="71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empty = 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{}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ascii =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 {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‘a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97, ‘b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98, ‘c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99, …, ‘z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122 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557D-EB90-4EBE-881A-824CB78A3E1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ccessing Values using Key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45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dictionary&gt;[&lt;key&gt;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Tahoma"/>
              </a:rPr>
              <a:t>KeyError</a:t>
            </a:r>
            <a:r>
              <a:rPr b="0" lang="en-US" sz="32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f key is not in dictionar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68760" y="2779560"/>
            <a:ext cx="396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ascii[‘z’]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directory[‘registrar’]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326F-2E14-43E5-9D54-4203CCA0DB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nserting Key-Value Pai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dictionary&gt;[&lt;key&gt;] = &lt;value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scii[‘a’] = 97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39160" y="624852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scii_dictionary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90BF-C307-4AFA-9392-31BA499621A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roader Issues: Diversity in Computer Scien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56383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cience &amp; Engineering: near 50%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143000" y="1266840"/>
          <a:ext cx="6324480" cy="42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66840"/>
                    <a:ext cx="632448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D268-B7D0-4EA5-9CD7-12357B56B58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: Music Fi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have an album file that has the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Artist name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Album name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name 1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length 1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name n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length n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iven an album file, print out the number of songs and the total length of the albu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44956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Length has the format min:second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01C9-BCD8-40FC-93AD-56B7CBEC829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roader Issues: Diversity in Computer Science 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55623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2001, S&amp;E: 11% full, 22% assoc, 36% asst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CS: 8%, 13%, 14%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914400" y="1143000"/>
          <a:ext cx="7238880" cy="4424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43000"/>
                    <a:ext cx="7238880" cy="44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8464-452C-4654-82B2-C7BCF644C5D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enefits of Lis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roup related items togeth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ame with a single variable name instead of creating many separate variabl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E.g., sunday = “Sun”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ist has an </a:t>
            </a:r>
            <a:r>
              <a:rPr b="0" i="1" lang="en-US" sz="2800" spc="-1" strike="noStrike">
                <a:solidFill>
                  <a:srgbClr val="00c600"/>
                </a:solidFill>
                <a:latin typeface="Arial"/>
              </a:rPr>
              <a:t>ord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venient for dealing with large amounts of dat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could keep all the temperature data in a list if needed to reuse lat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s and methods for handling, manipulating lis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FEE8-8EDA-4EF0-B06A-724501447A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sts: A Closer Loo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419112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&lt;listname&gt;[&lt;int_expr&gt;]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imilar to accessing characters in a str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aysInWeek[-1] is “Sat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aysInWeek[0] is “Sun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43000" y="1803240"/>
          <a:ext cx="7620120" cy="1015920"/>
        </p:xfrm>
        <a:graphic>
          <a:graphicData uri="http://schemas.openxmlformats.org/drawingml/2006/table">
            <a:tbl>
              <a:tblPr/>
              <a:tblGrid>
                <a:gridCol w="1089000"/>
                <a:gridCol w="1087560"/>
                <a:gridCol w="1089000"/>
                <a:gridCol w="1154160"/>
                <a:gridCol w="1023840"/>
                <a:gridCol w="1087560"/>
                <a:gridCol w="1089000"/>
              </a:tblGrid>
              <a:tr h="52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un”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on”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ue”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Wed”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hu”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ri”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at”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5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6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87480" y="113976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leme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320" y="290520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osition/index in the lis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1371600"/>
            <a:ext cx="533160" cy="3808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057400" y="2895120"/>
            <a:ext cx="914400" cy="38124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13280" y="3200400"/>
            <a:ext cx="31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len(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daysInWeek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) is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07680" y="12193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daysInWee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CD72-0052-48F2-88F2-6B345178DD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st Oper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143000" y="1397160"/>
          <a:ext cx="6858000" cy="406368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oncatenat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seq&gt; + &lt;seq&gt;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petit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seq&gt; * &lt;int-expr&gt;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dexing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seq&gt;[&lt;int-expr&gt;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n(&lt;seq&gt;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licing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seq&gt;[: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terat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or &lt;var&gt; in &lt;seq&gt;: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embership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expr&gt; in &lt;seq&gt;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187560" y="5770440"/>
            <a:ext cx="54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Similar to operations for strings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DF30-0C61-4C45-AC40-CD92512AF1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terating through a Lis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a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 every element in the list 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quivalent to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56000" y="3317760"/>
            <a:ext cx="274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for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tem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list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int item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39960" y="2316240"/>
            <a:ext cx="29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n item in the lis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38200" y="228600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list objec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962520" y="2666880"/>
            <a:ext cx="761760" cy="7621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51080" y="2895480"/>
            <a:ext cx="457200" cy="5335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1760" y="5146560"/>
            <a:ext cx="419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for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xrange(len(list))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int list[x]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24480" y="51148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terates through </a:t>
            </a:r>
            <a:r>
              <a:rPr b="0" i="1" lang="en-US" sz="2400" spc="-1" strike="noStrike">
                <a:solidFill>
                  <a:srgbClr val="00c600"/>
                </a:solidFill>
                <a:latin typeface="Tahoma"/>
              </a:rPr>
              <a:t>positions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in list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28195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terates through </a:t>
            </a:r>
            <a:r>
              <a:rPr b="0" i="1" lang="en-US" sz="2400" spc="-1" strike="noStrike">
                <a:solidFill>
                  <a:srgbClr val="00c600"/>
                </a:solidFill>
                <a:latin typeface="Tahoma"/>
              </a:rPr>
              <a:t>items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in list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83000" y="6278400"/>
            <a:ext cx="23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daysOfWeek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D6FA-6C65-4061-8B2F-E6FAE1580F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embershi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Check if a list contains an element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Example problem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enrolledstudents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is a list of students who are enrolled in the clas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Want to check if a student who attends the class is enrolled in the clas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0202"/>
                </a:solidFill>
                <a:latin typeface="Arial"/>
              </a:rPr>
              <a:t>Problem: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If have a list </a:t>
            </a:r>
            <a:r>
              <a:rPr b="1" lang="en-US" sz="2800" spc="-1" strike="noStrike">
                <a:solidFill>
                  <a:srgbClr val="020202"/>
                </a:solidFill>
                <a:latin typeface="Arial"/>
              </a:rPr>
              <a:t>attendingstudents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, check if each attending student is an enrolled student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71080" y="3962520"/>
            <a:ext cx="540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if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not student </a:t>
            </a: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enrolledstudents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student, “is not enrolled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CF96-3256-4353-A461-1F4910132D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st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80880" y="1417680"/>
          <a:ext cx="8305920" cy="4865760"/>
        </p:xfrm>
        <a:graphic>
          <a:graphicData uri="http://schemas.openxmlformats.org/drawingml/2006/table">
            <a:tbl>
              <a:tblPr/>
              <a:tblGrid>
                <a:gridCol w="2819520"/>
                <a:gridCol w="54864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ethod Name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unctionality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append(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dd element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to the end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sort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ort the list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reverse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verse the list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2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index(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the index of the first occurrence of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, Error if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s not in the list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insert(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,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sert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nto list at index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2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count(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the number of occurrences of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n list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remove(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letes the first occurrence of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n list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2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pop(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letes the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th element of the list and returns its value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528A-F81E-4F7B-B682-95B412CF87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ibonacci Sequen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nt the first 15 Fibonacci numbers</a:t>
            </a:r>
            <a:endParaRPr b="0" lang="en-US" sz="3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0480" y="3200400"/>
            <a:ext cx="7980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 = []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# create an empty lis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.append(1)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# append the first two Fib number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.append(1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or x in xrange(2,16):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# compute the next 13 num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ewfib = fibs[x-1]+fibs[x-2]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.append(newfib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fibs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# print out the lis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31000" y="6324480"/>
            <a:ext cx="11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ibs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BE78-3928-4883-A62A-8E5B165FBD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10-22T19:41:06Z</cp:lastPrinted>
  <dcterms:modified xsi:type="dcterms:W3CDTF">2007-10-22T19:51:30Z</dcterms:modified>
  <cp:revision>2147</cp:revision>
  <dc:subject/>
  <dc:title>PowerPoint Presentation</dc:title>
</cp:coreProperties>
</file>