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2BC9-FF9F-4483-9924-7C6F88E74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0390-E99E-42F9-8CE8-3B7AC7C6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A76C-762E-4688-A739-7C5DBB16D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CEAB-2CEF-464F-B74F-9B82BDFC8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C950C-6EE7-47EF-A67B-5608345E8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4869B-37F6-4EB9-BC75-F344CFE7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A0F59-D5A3-4937-8549-1634A770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FCAC1-FE92-414F-B757-12F8B02F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C6B1E-CFB3-4F04-A7EF-338EF254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3B5DB-9485-4AA0-9E0E-05ABEF53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4AE63-0A7A-49E1-BC99-6D8CB693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FE27-5BB3-4FBB-B008-EABD2FDA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E71B8-8E08-4DA7-A72D-E6BE2AB0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6B27D-0493-411A-8751-463E6D15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A5114-D4C5-4ED9-8EFF-F5940F10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20D6C-9848-4F83-81C8-93837E411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B1F9B-8B11-4E1D-AA41-98F27FDFF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88CA-63CA-44A0-A172-5B87D6BB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F737-C55D-4E8A-BBE8-B60281A6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8C46-62D3-4CBD-B1C1-3CF5E21C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1634-B167-456B-B14E-2F4DB4BC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6315-C0F4-4AE5-854F-55FB40BB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FBCD-4681-4CB7-886D-3FE23523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D84A-2E74-4796-A5A3-B137D1CC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2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F20D-9E6F-48F5-9F60-E11A80EFB998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5700-128C-4E51-8838-4BC043E47153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andshak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terminism vs. Non-Determinis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f no input and no randomnes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gram always executes the same way with the same out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Known as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deterministic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ur programs have been deterministic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dding the random functions will make our program non-deterministic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ecuting program multiple times will result in different execution, out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2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etter code readability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etter variable na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scriptive, useful comm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 blank lines with comments to separate code “blocks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etty Co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3080" y="1066680"/>
            <a:ext cx="8169480" cy="5582520"/>
          </a:xfrm>
          <a:prstGeom prst="rect">
            <a:avLst/>
          </a:prstGeom>
          <a:solidFill>
            <a:srgbClr val="fffb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#Make first calculations to ft/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jenny_ft_s = COURT_LENGTH / jennyspee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laura_ft_s = COURT_LENGTH / lauraspee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venus_ft_s = COURT_LENGTH / venusspee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#Make second calculations to mi/hr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jenny_mi_hr = (jenny_ft_s * SECOND_TO_HOUR) * FEET_TO_MIL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laura_mi_hr = (laura_ft_s * SECOND_TO_HOUR) * FEET_TO_MIL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venus_mi_hr = (venus_ft_s * SECOND_TO_HOUR) * FEET_TO_MIL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#Display output nicely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      CISC111 Tennis Pros"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--------------------------------"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\t\t ft/s\t  mi/hr"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Laura\t\t%5.2f\t %6.2f" % (laura_ft_s, laura_mi_hr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Jennifer \t%5.2f\t %6.2f" % (jenny_ft_s, jenny_mi_hr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Venus\t\t%5.2f\t %6.2f" % (venus_ft_s, venus_mi_hr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243828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600"/>
                </a:solidFill>
                <a:latin typeface="Arial"/>
              </a:rPr>
              <a:t>Comments, Space between blocks of cod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495680" y="2819520"/>
            <a:ext cx="1371600" cy="0"/>
          </a:xfrm>
          <a:prstGeom prst="line">
            <a:avLst/>
          </a:prstGeom>
          <a:ln w="3168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44720" y="380880"/>
            <a:ext cx="324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600"/>
                </a:solidFill>
                <a:latin typeface="Arial"/>
              </a:rPr>
              <a:t>Descriptive variable name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600"/>
                </a:solidFill>
                <a:latin typeface="Arial"/>
              </a:rPr>
              <a:t>Use of constant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523520" y="762120"/>
            <a:ext cx="2971800" cy="914400"/>
          </a:xfrm>
          <a:prstGeom prst="line">
            <a:avLst/>
          </a:prstGeom>
          <a:ln w="3168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733560" y="914400"/>
            <a:ext cx="990360" cy="838080"/>
          </a:xfrm>
          <a:prstGeom prst="line">
            <a:avLst/>
          </a:prstGeom>
          <a:ln w="3168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838080"/>
            <a:ext cx="380880" cy="914400"/>
          </a:xfrm>
          <a:prstGeom prst="line">
            <a:avLst/>
          </a:prstGeom>
          <a:ln w="3168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2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emplate string with format specifi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include other characters besides format specifi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have more than one replacement 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print “Venus %20.2f %10.2f” % (fpers, mph)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print “%3d|” % (x*y) 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83400" y="545004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Needs to be in parenthes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352680" y="4572000"/>
            <a:ext cx="609840" cy="914400"/>
          </a:xfrm>
          <a:prstGeom prst="line">
            <a:avLst/>
          </a:prstGeom>
          <a:ln w="3168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2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member to remove ~ files before print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aves paper because extra file isn’t getting printed o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23:02:33Z</dcterms:created>
  <dc:creator>Sara Sprenkle</dc:creator>
  <dc:description/>
  <dc:language>en-US</dc:language>
  <cp:lastModifiedBy>Sara Sprenkle</cp:lastModifiedBy>
  <cp:lastPrinted>2007-10-02T17:42:22Z</cp:lastPrinted>
  <dcterms:modified xsi:type="dcterms:W3CDTF">2007-10-02T18:19:23Z</dcterms:modified>
  <cp:revision>29</cp:revision>
  <dc:subject/>
  <dc:title>PowerPoint Presentation</dc:title>
</cp:coreProperties>
</file>