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093C-17A5-4075-9B51-0BC36FD6A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673D-1E47-41FE-8D2A-660D944E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DEF2-F585-440A-9579-6C765FAAC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E4B1-ECFF-428D-9B92-565566BE3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16C5D0-46EF-4982-9B9D-07168C7A3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2CB48B-2C3D-46C0-8581-4BE281059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1F130D-EB71-4BF5-A56B-FE69F9BB2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7CD36F-7C3A-4EE1-91F6-CB7A44163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314C0C-15C2-4F52-B61C-56E11D866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BFDAD2-A381-4565-AD8A-0F83EAEBC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1C0C0B-A517-49D6-8B36-C9554651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07EA-D69F-49F8-A87A-DC48F441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67D678-F23E-4A7D-AE7F-91E35325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329307-C912-45D3-919A-D6E77091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ABC2E8-D069-424D-AF4E-07AD6AD93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9AA8A9-714B-4C9A-ADDF-FC76BF80D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711AFF-EC97-4697-B9F4-D45C28112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F4D8-6828-47A0-8E2D-0889FD45E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0F9A-0F4C-47DA-858E-51C3D6E0A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8CB5-672D-4E79-8BE2-7C94BDC46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1FBC-CFF0-4393-A2E7-50A150C81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CEBC-C099-4F3A-A555-293E0578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A9FB-7CE0-4B9D-A066-23253745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EE84-213C-4115-B201-EDA6D67F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ept 19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C53CD-8BC7-4230-8AA3-6969ADAE6300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75406-C21F-4EC8-9675-96949EE40DE3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view: Precedence/Arithmetic, importing modul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finite for lo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EC15-B675-4EFD-8A06-EA017D25436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ooping/Repeti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33720" y="2133720"/>
            <a:ext cx="502740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Make PB&amp;J sandwic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4862520"/>
            <a:ext cx="495144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Make PB&amp;J sandwic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38480" y="3871800"/>
            <a:ext cx="342900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peat 10 time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0" name=""/>
          <p:cNvCxnSpPr>
            <a:stCxn id="119" idx="2"/>
            <a:endCxn id="118" idx="0"/>
          </p:cNvCxnSpPr>
          <p:nvPr/>
        </p:nvCxnSpPr>
        <p:spPr>
          <a:xfrm>
            <a:off x="5752800" y="4343400"/>
            <a:ext cx="1080" cy="50544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8" idx="2"/>
            <a:endCxn id="119" idx="1"/>
          </p:cNvCxnSpPr>
          <p:nvPr/>
        </p:nvCxnSpPr>
        <p:spPr>
          <a:xfrm flipV="1" rot="16200000">
            <a:off x="4271400" y="3852000"/>
            <a:ext cx="1234440" cy="1729440"/>
          </a:xfrm>
          <a:prstGeom prst="bentConnector4">
            <a:avLst>
              <a:gd name="adj1" fmla="val -33459"/>
              <a:gd name="adj2" fmla="val 156464"/>
            </a:avLst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 flipH="1">
            <a:off x="2208960" y="3733920"/>
            <a:ext cx="381240" cy="2361960"/>
          </a:xfrm>
          <a:custGeom>
            <a:avLst/>
            <a:gdLst>
              <a:gd name="textAreaLeft" fmla="*/ -360 w 381240"/>
              <a:gd name="textAreaRight" fmla="*/ 137160 w 38124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421596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17b8"/>
                </a:solidFill>
                <a:latin typeface="Tahoma"/>
              </a:rPr>
              <a:t>Make 10 PB&amp;J sandwiche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FF88-A2BF-440F-AFC6-F63A21D74C5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he </a:t>
            </a:r>
            <a:r>
              <a:rPr b="1" lang="en-US" sz="4000" spc="-1" strike="noStrike">
                <a:solidFill>
                  <a:srgbClr val="2017b8"/>
                </a:solidFill>
                <a:latin typeface="Courier New"/>
              </a:rPr>
              <a:t>for</a:t>
            </a: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 Loop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ood for when know how many times loop will execut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peat N tim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76720" y="4862520"/>
            <a:ext cx="495144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Make PB&amp;J sandwic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3871800"/>
            <a:ext cx="342900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202"/>
                </a:solidFill>
                <a:latin typeface="Tahoma"/>
              </a:rPr>
              <a:t>for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x </a:t>
            </a:r>
            <a:r>
              <a:rPr b="1" lang="en-US" sz="2400" spc="-1" strike="noStrike">
                <a:solidFill>
                  <a:srgbClr val="020202"/>
                </a:solidFill>
                <a:latin typeface="Tahoma"/>
              </a:rPr>
              <a:t>in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xrange(10)</a:t>
            </a:r>
            <a:r>
              <a:rPr b="1" lang="en-US" sz="2400" spc="-1" strike="noStrike">
                <a:solidFill>
                  <a:srgbClr val="020202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27" idx="2"/>
            <a:endCxn id="126" idx="0"/>
          </p:cNvCxnSpPr>
          <p:nvPr/>
        </p:nvCxnSpPr>
        <p:spPr>
          <a:xfrm>
            <a:off x="5752800" y="4343400"/>
            <a:ext cx="1080" cy="50544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26" idx="2"/>
            <a:endCxn id="127" idx="1"/>
          </p:cNvCxnSpPr>
          <p:nvPr/>
        </p:nvCxnSpPr>
        <p:spPr>
          <a:xfrm flipV="1" rot="16200000">
            <a:off x="4271400" y="3852000"/>
            <a:ext cx="1234440" cy="1729440"/>
          </a:xfrm>
          <a:prstGeom prst="bentConnector4">
            <a:avLst>
              <a:gd name="adj1" fmla="val -33459"/>
              <a:gd name="adj2" fmla="val 156464"/>
            </a:avLst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 flipH="1">
            <a:off x="2208960" y="3733920"/>
            <a:ext cx="381240" cy="2361960"/>
          </a:xfrm>
          <a:custGeom>
            <a:avLst/>
            <a:gdLst>
              <a:gd name="textAreaLeft" fmla="*/ -360 w 381240"/>
              <a:gd name="textAreaRight" fmla="*/ 137160 w 38124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421596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17b8"/>
                </a:solidFill>
                <a:latin typeface="Tahoma"/>
              </a:rPr>
              <a:t>Make 10 PB&amp;J sandwiche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530040" y="533412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Tahoma"/>
              </a:rPr>
              <a:t>Loop </a:t>
            </a:r>
            <a:r>
              <a:rPr b="1" lang="en-US" sz="2400" spc="-1" strike="noStrike">
                <a:solidFill>
                  <a:srgbClr val="33cccc"/>
                </a:solidFill>
                <a:latin typeface="Tahoma"/>
              </a:rPr>
              <a:t>bod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216120" y="3352680"/>
            <a:ext cx="20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ef4"/>
                </a:solidFill>
                <a:latin typeface="Tahoma"/>
              </a:rPr>
              <a:t>Loop</a:t>
            </a:r>
            <a:r>
              <a:rPr b="1" lang="en-US" sz="2400" spc="-1" strike="noStrike">
                <a:solidFill>
                  <a:srgbClr val="ff8ef4"/>
                </a:solidFill>
                <a:latin typeface="Tahoma"/>
              </a:rPr>
              <a:t> head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99040" y="2666880"/>
            <a:ext cx="211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Loop variabl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952880" y="3048120"/>
            <a:ext cx="76320" cy="990360"/>
          </a:xfrm>
          <a:prstGeom prst="line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25760" y="2968560"/>
            <a:ext cx="15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Keyword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3352680"/>
            <a:ext cx="914400" cy="60984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57600" y="3352680"/>
            <a:ext cx="1600200" cy="60984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62F7-80B2-4D28-B9B2-2509A1D326B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the</a:t>
            </a:r>
            <a:r>
              <a:rPr b="0" lang="en-US" sz="4000" spc="-1" strike="noStrike">
                <a:solidFill>
                  <a:srgbClr val="2017b8"/>
                </a:solidFill>
                <a:latin typeface="Courier New"/>
              </a:rPr>
              <a:t> </a:t>
            </a:r>
            <a:r>
              <a:rPr b="1" lang="en-US" sz="4000" spc="-1" strike="noStrike">
                <a:solidFill>
                  <a:srgbClr val="2017b8"/>
                </a:solidFill>
                <a:latin typeface="Courier New"/>
              </a:rPr>
              <a:t>For </a:t>
            </a: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oop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ood for when know how many times loop will execut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peat N tim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 x 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 xrange(10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atement_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atement_2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atement_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114800" y="3809880"/>
            <a:ext cx="838080" cy="1981440"/>
          </a:xfrm>
          <a:custGeom>
            <a:avLst/>
            <a:gdLst>
              <a:gd name="textAreaLeft" fmla="*/ 0 w 838080"/>
              <a:gd name="textAreaRight" fmla="*/ 302760 w 83808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14440" y="434340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 “Body” of for loop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6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Gets repeated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6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Note indentati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0" y="2133720"/>
            <a:ext cx="241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Tahoma"/>
              </a:rPr>
              <a:t>Times to repea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3733560" y="2590920"/>
            <a:ext cx="1904760" cy="6858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91B3-C89D-4A5A-8A58-529F4CE2ED1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the</a:t>
            </a:r>
            <a:r>
              <a:rPr b="0" lang="en-US" sz="4000" spc="-1" strike="noStrike">
                <a:solidFill>
                  <a:srgbClr val="2017b8"/>
                </a:solidFill>
                <a:latin typeface="Courier New"/>
              </a:rPr>
              <a:t> </a:t>
            </a:r>
            <a:r>
              <a:rPr b="1" lang="en-US" sz="4000" spc="-1" strike="noStrike">
                <a:solidFill>
                  <a:srgbClr val="2017b8"/>
                </a:solidFill>
                <a:latin typeface="Courier New"/>
              </a:rPr>
              <a:t>For </a:t>
            </a: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oop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f only </a:t>
            </a:r>
            <a:r>
              <a:rPr b="1" i="1" lang="en-US" sz="3200" spc="-1" strike="noStrike">
                <a:solidFill>
                  <a:srgbClr val="020202"/>
                </a:solidFill>
                <a:latin typeface="Arial"/>
              </a:rPr>
              <a:t>on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statement to repe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for x in xrange(5): print “Hello!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73600" y="6095880"/>
            <a:ext cx="21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imple_for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BC75-E7F6-4DEC-B99F-964256C9B57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Goes in the Loop Body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ake PB&amp;J Sandwich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ather materials (bread, PB, J, knives, plate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pen brea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ut 2 pieces of bread on plat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pread PB on one side of one slic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pread Jelly on one side of one slic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lace PB-side facedown on Jelly-side of brea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lose brea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lean knif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ut away material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95880" y="6095880"/>
            <a:ext cx="2725920" cy="36684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Make PB&amp;J sandwich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5181480"/>
            <a:ext cx="243828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0202"/>
                </a:solidFill>
                <a:latin typeface="Tahoma"/>
              </a:rPr>
              <a:t>for</a:t>
            </a: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 x </a:t>
            </a:r>
            <a:r>
              <a:rPr b="1" lang="en-US" sz="2000" spc="-1" strike="noStrike">
                <a:solidFill>
                  <a:srgbClr val="020202"/>
                </a:solidFill>
                <a:latin typeface="Tahoma"/>
              </a:rPr>
              <a:t>in</a:t>
            </a: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 xrange(10)</a:t>
            </a:r>
            <a:r>
              <a:rPr b="1" lang="en-US" sz="2000" spc="-1" strike="noStrike">
                <a:solidFill>
                  <a:srgbClr val="020202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52" name=""/>
          <p:cNvCxnSpPr>
            <a:stCxn id="151" idx="2"/>
            <a:endCxn id="150" idx="0"/>
          </p:cNvCxnSpPr>
          <p:nvPr/>
        </p:nvCxnSpPr>
        <p:spPr>
          <a:xfrm flipH="1">
            <a:off x="7459200" y="5652720"/>
            <a:ext cx="8640" cy="42948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2"/>
            <a:endCxn id="151" idx="1"/>
          </p:cNvCxnSpPr>
          <p:nvPr/>
        </p:nvCxnSpPr>
        <p:spPr>
          <a:xfrm flipV="1" rot="16200000">
            <a:off x="6312960" y="5330160"/>
            <a:ext cx="1067760" cy="1226160"/>
          </a:xfrm>
          <a:prstGeom prst="bentConnector4">
            <a:avLst>
              <a:gd name="adj1" fmla="val -20067"/>
              <a:gd name="adj2" fmla="val 129897"/>
            </a:avLst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7E99-AA66-49E0-980F-FCCD363EA1B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Goes in the Loop Body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ake PB&amp;J Sandwich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ather materials (bread, PB, J, knives, plate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pen brea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Put 2 pieces of bread on plat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Spread PB on one side of one slic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Spread Jelly on one side of one slic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Place PB-side facedown on Jelly-side of brea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lose brea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lean knif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ut away material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1752480"/>
            <a:ext cx="7924680" cy="990720"/>
          </a:xfrm>
          <a:prstGeom prst="rect">
            <a:avLst/>
          </a:prstGeom>
          <a:noFill/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2819520"/>
            <a:ext cx="7924680" cy="1904760"/>
          </a:xfrm>
          <a:prstGeom prst="rect">
            <a:avLst/>
          </a:prstGeom>
          <a:noFill/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4800600"/>
            <a:ext cx="7924680" cy="1523880"/>
          </a:xfrm>
          <a:prstGeom prst="rect">
            <a:avLst/>
          </a:prstGeom>
          <a:noFill/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77120" y="21337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202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6200000">
            <a:off x="-499680" y="355284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cc"/>
                </a:solidFill>
                <a:latin typeface="Tahoma"/>
              </a:rPr>
              <a:t>Loop Bod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97640" y="513540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202"/>
                </a:solidFill>
                <a:latin typeface="Tahoma"/>
              </a:rPr>
              <a:t>Finalizati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4DEA-9A02-4851-8AED-1F53434C778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the</a:t>
            </a:r>
            <a:r>
              <a:rPr b="0" lang="en-US" sz="4000" spc="-1" strike="noStrike">
                <a:solidFill>
                  <a:srgbClr val="2017b8"/>
                </a:solidFill>
                <a:latin typeface="Courier New"/>
              </a:rPr>
              <a:t> </a:t>
            </a:r>
            <a:r>
              <a:rPr b="1" lang="en-US" sz="4000" spc="-1" strike="noStrike">
                <a:solidFill>
                  <a:srgbClr val="2017b8"/>
                </a:solidFill>
                <a:latin typeface="Courier New"/>
              </a:rPr>
              <a:t>For </a:t>
            </a: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oop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ood for when know how many times loop will execut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peat N tim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 x 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 xrange(10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atement_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atement_2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atement_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3809880"/>
            <a:ext cx="838080" cy="1981440"/>
          </a:xfrm>
          <a:custGeom>
            <a:avLst/>
            <a:gdLst>
              <a:gd name="textAreaLeft" fmla="*/ 0 w 838080"/>
              <a:gd name="textAreaRight" fmla="*/ 302760 w 83808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14440" y="434340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 “Body” of for loop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6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Gets repeated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6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Note indentati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0" y="2133720"/>
            <a:ext cx="241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Tahoma"/>
              </a:rPr>
              <a:t>Times to repea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3733560" y="2590920"/>
            <a:ext cx="1904760" cy="6858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58B4-2F12-46FC-8B25-6600F56B9BC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nalyzing </a:t>
            </a:r>
            <a:r>
              <a:rPr b="0" lang="en-US" sz="4000" spc="-1" strike="noStrike">
                <a:solidFill>
                  <a:srgbClr val="2017b8"/>
                </a:solidFill>
                <a:latin typeface="Courier New"/>
              </a:rPr>
              <a:t>xrange()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Courier New"/>
              </a:rPr>
              <a:t>xrang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is a built-in func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does </a:t>
            </a:r>
            <a:r>
              <a:rPr b="0" lang="en-US" sz="3200" spc="-1" strike="noStrike">
                <a:solidFill>
                  <a:srgbClr val="010199"/>
                </a:solidFill>
                <a:latin typeface="Courier New"/>
              </a:rPr>
              <a:t>xrang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do, exactly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174720" y="6095880"/>
            <a:ext cx="28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xrange_analysis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19C8-9D4E-41BA-A716-2E3168E2F97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xrange</a:t>
            </a:r>
            <a:r>
              <a:rPr b="0" lang="en-US" sz="4000" spc="-1" strike="noStrike">
                <a:solidFill>
                  <a:srgbClr val="010199"/>
                </a:solidFill>
                <a:latin typeface="Tahoma"/>
              </a:rPr>
              <a:t>([start,] stop[, step])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does the above signature mean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5920-5891-408E-9191-EBEE3FA19FB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xrange</a:t>
            </a:r>
            <a:r>
              <a:rPr b="0" lang="en-US" sz="4000" spc="-1" strike="noStrike">
                <a:solidFill>
                  <a:srgbClr val="010199"/>
                </a:solidFill>
                <a:latin typeface="Tahoma"/>
              </a:rPr>
              <a:t>([start,] stop[, step])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1 argument: xrange(stop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2 arguments: xrange(start, stop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3 arguments: xrange(start, stop, step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446880" y="6168960"/>
            <a:ext cx="253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using_xrang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191E-7C4B-4324-B615-660E1F8A773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ponentia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oal: compute -3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uggested: </a:t>
            </a:r>
            <a:r>
              <a:rPr b="1" lang="en-US" sz="2800" spc="-1" strike="noStrike">
                <a:solidFill>
                  <a:srgbClr val="010199"/>
                </a:solidFill>
                <a:latin typeface="Courier New"/>
              </a:rPr>
              <a:t>pow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(-3, 2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Courier New"/>
              </a:rPr>
              <a:t>pow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 is a built-in function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else could we get that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fun, what is 2 ** -3 ** 2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4889-23AA-4A78-99D6-1F61CCA8C3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xrange</a:t>
            </a:r>
            <a:r>
              <a:rPr b="0" lang="en-US" sz="4000" spc="-1" strike="noStrike">
                <a:solidFill>
                  <a:srgbClr val="010199"/>
                </a:solidFill>
                <a:latin typeface="Tahoma"/>
              </a:rPr>
              <a:t>([start,] stop[, step])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1 argument: xrange(stop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terates from 0 to stop-1 with step=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2 arguments: xrange(start, stop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terates from start to stop-1 with step=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3 arguments: xrange(start, stop, step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terates from start to stop-1 with step size=step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ote that with negative numbers,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46880" y="6168960"/>
            <a:ext cx="253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using_xrang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C17F-46DA-40C9-8C6F-FDF5DB7EBA9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dd 5 numbers, inputted by the us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verage 5 numbers inputted by the us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F36C-A529-469E-8CFD-490C45C0F1F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ccumulator Design Patter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itialize accumulator variab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op until don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pdate the value of the accumulato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isplay resul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06E5-5EF5-4B3A-BD2E-B6103E4BF0C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ython Librari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ython has a rich library of functions and definitions available for your us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he library is broken into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modul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A </a:t>
            </a:r>
            <a:r>
              <a:rPr b="1" lang="en-US" sz="2800" spc="-1" strike="noStrike">
                <a:solidFill>
                  <a:srgbClr val="00c600"/>
                </a:solidFill>
                <a:latin typeface="Tahoma"/>
              </a:rPr>
              <a:t>module</a:t>
            </a: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 is a file containing Python definitions and statemen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enefits of functions/definitions in modul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on’t need to rewrite someone else’s cod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it’s in a module, it is a very efficient (in terms of computation speed and memory usage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D0FE-47AB-447B-8B8A-855D53799F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mporting Modu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To use the definitions in a module, you must first </a:t>
            </a: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import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 the module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Example: to use the </a:t>
            </a:r>
            <a:r>
              <a:rPr b="1" lang="en-US" sz="2400" spc="-1" strike="noStrike">
                <a:solidFill>
                  <a:srgbClr val="00c600"/>
                </a:solidFill>
                <a:latin typeface="Arial"/>
              </a:rPr>
              <a:t>math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module’s definitions, use the the import statement: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Typically import statements are at </a:t>
            </a:r>
            <a:r>
              <a:rPr b="0" i="1" lang="en-US" sz="2400" spc="-1" strike="noStrike">
                <a:solidFill>
                  <a:srgbClr val="010199"/>
                </a:solidFill>
                <a:latin typeface="Arial"/>
              </a:rPr>
              <a:t>top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of program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To use, prepend constant or function with “modulename.”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Examples for constants: 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th.e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Examples for functions: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th.sqrt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15880" y="2209680"/>
            <a:ext cx="232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import math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28120" y="6172200"/>
            <a:ext cx="29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module_exampl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584D-F6B7-4105-80FB-F702CDA7B4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Modu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lternatively can import only a subset of the module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yntax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from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&lt;library&gt;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impor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&lt;name1&gt;, &lt;name2&gt;, …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from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math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impor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pi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hen, can use just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pi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nstead of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math.pi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n program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A38A-E8F5-472F-9D7B-35DAE104925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inding Modules To Us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do I know if some code that I want already exist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ython Library Reference: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ttp://docs.python.org/lib/lib.html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example, </a:t>
            </a:r>
            <a:r>
              <a:rPr b="0" lang="en-US" sz="3200" spc="-1" strike="noStrike">
                <a:solidFill>
                  <a:srgbClr val="00c600"/>
                </a:solidFill>
                <a:latin typeface="Courier New"/>
              </a:rPr>
              <a:t>string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module has functions/constants for manipulating string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the most part, to practice, in the beginning you will write most of your code from scratch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8EBE-A46F-4A41-A733-E194955581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086600" y="5181480"/>
            <a:ext cx="1752480" cy="68580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gramming Building Block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655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ach type of statement is a building block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nitialization/Assignme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Arithmetic, string concatenation, input/raw_inpu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mpor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 can combine them to create more complex program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olutions to problem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57800" y="1981080"/>
            <a:ext cx="1523880" cy="60984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Assign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86600" y="4800600"/>
            <a:ext cx="1752480" cy="60948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Assign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086600" y="4343400"/>
            <a:ext cx="1752480" cy="60948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Assign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086600" y="3809880"/>
            <a:ext cx="1752480" cy="68580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086600" y="3429000"/>
            <a:ext cx="1752480" cy="60948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Assign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238880" y="1981080"/>
            <a:ext cx="1524240" cy="60984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86600" y="2971800"/>
            <a:ext cx="1752480" cy="609480"/>
          </a:xfrm>
          <a:prstGeom prst="cube">
            <a:avLst>
              <a:gd name="adj" fmla="val 25000"/>
            </a:avLst>
          </a:prstGeom>
          <a:solidFill>
            <a:srgbClr val="ff8ef4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mpor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1143000"/>
            <a:ext cx="1752840" cy="609480"/>
          </a:xfrm>
          <a:prstGeom prst="cube">
            <a:avLst>
              <a:gd name="adj" fmla="val 25000"/>
            </a:avLst>
          </a:prstGeom>
          <a:solidFill>
            <a:srgbClr val="ff8ef4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mpor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8F0D-57C2-4C5D-99A4-1EB5E7E384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esign Patter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, repeatable solution to a commonly occurring problem in software desig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late for solu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2E9D-87B5-4D09-AC45-9EDDE7213A1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876920" y="3886200"/>
            <a:ext cx="1752480" cy="68580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esign Patter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, repeatable solution to a commonly occurring problem in software desig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late for solu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 (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Standard Algorithm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et input from us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o some computa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splay outpu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Today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earn new building block, new design patter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76920" y="3505320"/>
            <a:ext cx="1752480" cy="60948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Assign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3048120"/>
            <a:ext cx="1752480" cy="60948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Assign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05720" y="3116160"/>
            <a:ext cx="22096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x = input(“…”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ns = …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int an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D57A-16EB-478A-982D-41E8CC3546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dcterms:modified xsi:type="dcterms:W3CDTF">2007-09-19T20:24:05Z</dcterms:modified>
  <cp:revision>229</cp:revision>
  <dc:subject/>
  <dc:title>PowerPoint Presentation</dc:title>
</cp:coreProperties>
</file>