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025-6D5A-49C2-9C4A-7D225A0D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51A-ED4B-45B6-AA81-C637C6D7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872-3215-43F3-865A-7BC26EAA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176-72DA-423D-9F4B-10359C85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1975A-FEF3-4E52-BCA4-379A41D2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F2F56-ADB2-4D7A-B110-0BE74164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C7617-74D6-41B3-B0BF-A43BF3F8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531D9-EEAF-4E1C-8C44-56562F69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3365B-DDCE-445F-9BDE-98495163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EB0F2-50EA-400C-8172-94AD53E5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61FFD-9568-4E74-B551-D5BA87D6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9C7-2C09-4A5D-9E04-15A0B249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66481-177C-41ED-97D9-8F7C63C1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6CFF0-648B-4FBB-86BF-B205D4E5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99411-8058-47D4-9600-C7DFE1AD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DFC22-4C80-4B52-A633-9CF9CEA4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E93E7-B7C2-4EE0-A635-E61C65AF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49C-FA54-4025-AC4D-A1BCA1F1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C46-2317-4F26-B7D0-AE56CD88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EFD-93C5-4FEC-8185-EF8D8A6B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5CF-0A45-4747-A287-D4CB660D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3BE-A101-4A0A-8AF2-5D65DF08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BF4-1E26-4D29-ACF2-5F56017C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41C-1C53-4F5F-823E-ED1B9AA6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704563-D591-4EDC-BBA6-BFA89140A8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19468-64A4-494E-AC31-54EB17FAA4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492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1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tart on paper --&gt; Web, after log i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nux worksh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ogi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en brows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vigate to Lab 0, from “Schedule”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ntinue on Web-based Lab 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hy programming language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tart lab #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ortal account (Blog for “Broader CS Issues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Web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ext Edito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488-C533-4B62-9BDA-67980D28EC7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5638680"/>
            <a:ext cx="5943600" cy="38124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70040" y="6102360"/>
            <a:ext cx="48628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000 00001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10 00110 00000 100000</a:t>
            </a:r>
            <a:endParaRPr b="0" lang="en-US" sz="19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100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103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n interpreter (a program)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3"/>
            <a:endCxn id="118" idx="1"/>
          </p:cNvCxnSpPr>
          <p:nvPr/>
        </p:nvCxnSpPr>
        <p:spPr>
          <a:xfrm>
            <a:off x="31237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23" idx="0"/>
            <a:endCxn id="118" idx="2"/>
          </p:cNvCxnSpPr>
          <p:nvPr/>
        </p:nvCxnSpPr>
        <p:spPr>
          <a:xfrm flipH="1" flipV="1">
            <a:off x="52952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1055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8" idx="3"/>
            <a:endCxn id="123" idx="3"/>
          </p:cNvCxnSpPr>
          <p:nvPr/>
        </p:nvCxnSpPr>
        <p:spPr>
          <a:xfrm>
            <a:off x="63241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8" idx="2"/>
            <a:endCxn id="120" idx="0"/>
          </p:cNvCxnSpPr>
          <p:nvPr/>
        </p:nvCxnSpPr>
        <p:spPr>
          <a:xfrm flipH="1">
            <a:off x="34286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26" name=""/>
          <p:cNvGrpSpPr/>
          <p:nvPr/>
        </p:nvGrpSpPr>
        <p:grpSpPr>
          <a:xfrm>
            <a:off x="4190760" y="2311560"/>
            <a:ext cx="4648680" cy="433800"/>
            <a:chOff x="4190760" y="2311560"/>
            <a:chExt cx="4648680" cy="433800"/>
          </a:xfrm>
        </p:grpSpPr>
        <p:sp>
          <p:nvSpPr>
            <p:cNvPr id="127" name=""/>
            <p:cNvSpPr/>
            <p:nvPr/>
          </p:nvSpPr>
          <p:spPr>
            <a:xfrm>
              <a:off x="48625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1907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086600" y="4267080"/>
            <a:ext cx="19051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ly if no syntax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3" idx="3"/>
            <a:endCxn id="132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7" idx="0"/>
            <a:endCxn id="132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2" idx="3"/>
            <a:endCxn id="137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2" idx="2"/>
            <a:endCxn id="134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40" name=""/>
          <p:cNvGrpSpPr/>
          <p:nvPr/>
        </p:nvGrpSpPr>
        <p:grpSpPr>
          <a:xfrm>
            <a:off x="4495320" y="2311560"/>
            <a:ext cx="4648680" cy="433800"/>
            <a:chOff x="4495320" y="2311560"/>
            <a:chExt cx="4648680" cy="433800"/>
          </a:xfrm>
        </p:grpSpPr>
        <p:sp>
          <p:nvSpPr>
            <p:cNvPr id="141" name=""/>
            <p:cNvSpPr/>
            <p:nvPr/>
          </p:nvSpPr>
          <p:spPr>
            <a:xfrm>
              <a:off x="516708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49532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12760" y="5248440"/>
            <a:ext cx="2987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7" idx="3"/>
            <a:endCxn id="146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51" idx="0"/>
            <a:endCxn id="146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3"/>
            <a:endCxn id="147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46" idx="3"/>
            <a:endCxn id="151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6" idx="2"/>
            <a:endCxn id="148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77C-34BA-4C67-8CCD-B81C092E058B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1T17:22:27Z</dcterms:modified>
  <cp:revision>241</cp:revision>
  <dc:subject/>
  <dc:title>Intro to Java</dc:title>
</cp:coreProperties>
</file>