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D07-FD95-4000-B3A5-0EE87D42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F78-84DB-4D39-A285-426BBD39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BCA-9EB8-4CCC-A22F-903F7CA1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034-4561-4154-8476-51FAE688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8DDD2-17B4-426A-8E15-48F7A068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8DA6F-F356-49B7-9C82-93988A5A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33ECB-F08C-4819-B9E2-E4B203AB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731F3-89D3-443E-AF37-F55554E3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31513-0361-4849-A296-8EE45807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DB75F-5900-4D86-987A-4AE71B83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005D9-2632-4396-9357-96C6EF68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629-D986-47B9-A899-13BE5870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FD97B-AC0F-4222-9B4B-B836A9E7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D1F13-F67A-48A1-8F20-48136B9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9EDCA-7C83-4AE1-9137-34AE3D96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D9A53-7122-4527-B958-54E12E90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F73BC-D1F9-401E-99D7-F6E40128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FD8-84C0-461A-9FEC-1D6DA91C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8B5-CDAD-444A-9386-ADA415D2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4A1-B77E-4C82-82C5-7F747A6A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F45-EDFB-4824-952F-09F4A0FC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174-9708-4C20-8FF8-80ACBC11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E37-B794-4D77-A61B-8A87508F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632-59C1-4AA6-A4A7-FCC7D4D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0674-2BA7-4FC5-8F10-E92EFAD5EB9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A245-5F4C-4FB6-B7A4-28E731BAA76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B11-38F5-4FD3-BA31-D37BA14D75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2"/>
            <a:endCxn id="125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endCxn id="126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1"/>
            <a:endCxn id="126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2"/>
            <a:endCxn id="136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2644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2"/>
            <a:endCxn id="132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  <a:endCxn id="141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0" idx="2"/>
            <a:endCxn id="144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2"/>
            <a:endCxn id="147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7" idx="2"/>
            <a:endCxn id="132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2FE-5EF2-46A6-AEA8-A0ED3FADDD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9" idx="2"/>
            <a:endCxn id="157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7" idx="2"/>
            <a:endCxn id="156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2"/>
            <a:endCxn id="161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3168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D13-5C17-45DF-A781-F07A25FFC0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return to “shortcut”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output as soon as know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are efficiency of two functions in binaryToDecimal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90D-043E-4E5E-9BDD-530C9F80D0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ed example with swap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F90-B0BE-409E-B565-B975C2C9EC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of program scrip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d before u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a separat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s code in ma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to reuse by importing from a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tains the “black box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E82-EBE7-45B0-94DB-6ECA3B50C0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any languages, you put the “driver” for your program in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ou can (and should) do this in Python as wel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thods go at the top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ers can quickly see what program do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usually takes no 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1520" y="48769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def main()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A8F-D110-43FC-8C45-4AC5F870C6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l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 at the bottom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de-effect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not need to define functions befo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an “see”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 tha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function that calls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20202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unction can call other functions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18660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ldmac.p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529-3ED1-487F-8163-87C0569A61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 with a main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ldmac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857-CF24-4ABE-855D-8BA33B9EC7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hy can we name two variables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E8A-F364-4882-A143-A21B31AA64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6320" y="426708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7680" y="60199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unction name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are like last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5486040"/>
            <a:ext cx="182880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232160"/>
            <a:ext cx="2743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Tahoma"/>
              </a:rPr>
              <a:t>Variable names</a:t>
            </a:r>
            <a:r>
              <a:rPr b="0" lang="en-US" sz="2300" spc="-1" strike="noStrike">
                <a:solidFill>
                  <a:srgbClr val="010199"/>
                </a:solidFill>
                <a:latin typeface="Tahoma"/>
              </a:rPr>
              <a:t> are like first names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24120" y="5029200"/>
            <a:ext cx="1143000" cy="3049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39F-391F-459B-9247-0027147511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it ou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FB3-335A-45EB-A985-92974A24D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(num1, num2)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733920"/>
            <a:ext cx="99036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3733920"/>
            <a:ext cx="129564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828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alled the 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, so need to add its parameters to 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414-E23D-4987-8A10-FE7B503231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011-9017-4787-9ADC-87CDCA3533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AB2-C4ED-457B-9E82-14CFCCCDB1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0574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returned, so we no longer have to keep track of its variables on the stack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ifetim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those variables is ov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4DE-7CB3-407C-872B-9F6D6B2F38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unctions can have the same parameter and variable names as other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ed to look at the variable’s </a:t>
            </a: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scop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determine which one you’re looking a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the stack to figure out which variable you’re us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Scope level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Loc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unction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Can only be seen within the function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ile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Whole program can acces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More on these later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92320" y="60958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cop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894-9C66-41A3-BB51-C38346226C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output of this program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user enters 4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720" y="2489040"/>
            <a:ext cx="67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square(n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n * 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 = input("Enter a number to be squared: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quare(num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e square is: ",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9EC-554C-46D6-AC2F-35F639838A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an “intuitive chunk”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oesn’t do too much or too little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reusable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Always have comment that tells what the function doe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5BC-225F-486B-BD7E-2B4CE75A2B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e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must be true in order for the function to work correctl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num must be eve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ost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will be true when function finishes (if precondition is true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the returned value is the max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125-512D-400B-8397-931A68E66B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good comments for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tyle: Each function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a com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ten at a high-leve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clude the precondition, postcond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be the parameters (their types) and the result (precondition and postcondition may cover thi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CEA-2768-448E-8FD5-F4A305E331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like functions, no special keyword to define a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dules are named by the file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, oldma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Python shell: import oldmac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plain what happen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A22-EF72-4BD3-A1B4-A636078985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E8F-9636-4AB8-B3DC-F7F3CE341E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 that our program doesn’t execute when it is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import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a program, at bottom, ad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__name__ == '__main__’ 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e files now listed in the direct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536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 important how this works; just know when to u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038480" y="2765520"/>
            <a:ext cx="13716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85D-5ABF-4093-A110-E44500271A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would you want to do thi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main function as driver to test functions in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access one of the defined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EIEI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968-0AA3-4706-B724-F438B44113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 Read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icrosoft Excel 2007 bu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9F9-9469-4B71-AB60-B39DCCE4C7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368640" y="267336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102-41B7-4F31-8325-CC023FF6CE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2B4-B415-491D-B99D-CE82CA61EA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C06-1AE1-49B9-8EF4-653DDBFF09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79D-9080-49E5-9B53-C4EE248443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Old McDonal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 verse of the song go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on that farm he had a dog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 a ruff, ruff 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a ruff, ruff t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ere a ruff, there a ruff, everywhere a ruff, ruff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rite a function to print a ver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y does it make sense to write a function for the ver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in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out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F70-A3F0-4867-BB71-ECF89963A1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output/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534-4DDE-4658-8B47-AB19FDCEFF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5T20:49:48Z</cp:lastPrinted>
  <dcterms:modified xsi:type="dcterms:W3CDTF">2007-10-15T20:53:54Z</dcterms:modified>
  <cp:revision>1444</cp:revision>
  <dc:subject/>
  <dc:title>PowerPoint Presentation</dc:title>
</cp:coreProperties>
</file>