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61F-AC80-402B-ACD6-57820892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0F5-0018-4F79-BDC2-B280D350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388-709A-418E-97ED-130D8A29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F63-99E3-4730-BFE9-EB1866A7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E774F-9CEE-4C13-8B04-B5211A78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8AE7F-F8A9-4260-9621-12C3B9D0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737C0-9AE1-4018-B3D0-D792068E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0B097-3BB4-40EF-B71A-5EE54A6A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EB697-FC0B-4C42-BF64-A0D78423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F2F6A-3FC2-4EB8-AEF0-BA82DE25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F765A-285F-4D41-A50C-DE7F6B9F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F15-6C45-4159-8D37-5DF520D4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31028-305A-4FB5-91A3-A46EF2D2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5429F-450F-40E2-A4F5-C40C9AE0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A86C6-BC85-4950-BC14-2AC5B47E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759DB-B5CB-4F7F-8E60-C1A17CE3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15360-4AAA-48C9-8489-381D81A0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04A-0B6B-4A3E-94DB-3498A481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FA5-D943-45D1-8D12-D05B6914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FFA-1BB8-44A8-957B-58AB51B8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5FA-9EE2-41C8-B530-19A29C2A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19A-16DF-4A5F-AF14-B6074B07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09E-C712-4202-9940-D6F8E48F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F9A-CFF4-4F70-85CD-EB529D1C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EBB5-8D30-40FA-91C8-89693858D90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D250-A599-4012-BC7B-1D0BD897B8B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roduction to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orking with 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D43-6493-40B8-8F54-2779BB0ADB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year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E45-F590-4A35-A731-F741CD8A9D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421-F457-4307-AE03-EC0C603A66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of reading from a file using file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file: data/years.d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is what Python printed different than the file’s conten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to fix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2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l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1752480"/>
            <a:ext cx="3787560" cy="1557000"/>
            <a:chOff x="5105520" y="1752480"/>
            <a:chExt cx="3787560" cy="1557000"/>
          </a:xfrm>
        </p:grpSpPr>
        <p:sp>
          <p:nvSpPr>
            <p:cNvPr id="132" name=""/>
            <p:cNvSpPr/>
            <p:nvPr/>
          </p:nvSpPr>
          <p:spPr>
            <a:xfrm>
              <a:off x="5638680" y="1752480"/>
              <a:ext cx="3254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Typically use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da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or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tx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file extension for these types of data/text files 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105520" y="2514240"/>
              <a:ext cx="9144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235-165B-48DF-9C13-BA3EE8693A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9320" y="42022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29718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3800" y="30942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038120" y="34750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37800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F8F-1075-4B63-904B-514C9F4B8C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search a file for some term.  We want to know which lines of the file contain that term and a count of the number of lines that contained that te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E93-2EF6-4543-9BE8-5220955879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ime, we want to ignore all lines that begin with “#” (a.k.a., the line is a commen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would we have comments in a data fi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ata/years2.da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we revise the previous solution to do thi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B3A-F11A-4380-91F2-C2C5595A8F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ling Numeric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been dealing with reading and writing string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 we need to do to read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numb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rom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write numbers to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2CD-D03D-46F6-9933-7978FD844B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to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file object in write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yFile = file(“years.txt”, “w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create a file from 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e_write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happens if execute the program again with different user inp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4760" y="634536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FC4-C167-40F4-9116-2A3763E22D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temp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8A6-9C9E-43FD-AD4F-2A4B2A4F4C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0D4-0D97-4D4F-870C-611FC22432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rger programs require functions to maintain readabilit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main() and other functions to break up your program into smaller, more manageable chunk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Abstrac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away” the detai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s before, you can still write smaller scripts without any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try out functions using smaller script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eed the main() function when using other functions to keep “driver” at top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therwise, functions need to be defined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477-C505-4018-9240-8DCAD9C895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9320" y="39736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27432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3800" y="28656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038120" y="32464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5514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95B-0BCC-4A2E-AFCF-FD34D6DB48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tional Useful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963720"/>
          <a:ext cx="8458200" cy="5387760"/>
        </p:xfrm>
        <a:graphic>
          <a:graphicData uri="http://schemas.openxmlformats.org/drawingml/2006/table">
            <a:tbl>
              <a:tblPr/>
              <a:tblGrid>
                <a:gridCol w="2971800"/>
                <a:gridCol w="548640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ip([chars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the string with the leading and trailing characters removed.  Defaults to whitespace if no characters specified.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--stripping whitespace from beginning and end and using whitespace characters as the delimiter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, using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as the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delimiter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string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start[,end]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lowest index in the string where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.  Return -1 if not fou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lace(old, new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copy of string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ld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replaced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ew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04E-9936-466C-B565-10EB91DF64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Paradigm: Imperativ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modern programming languages ar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erativ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numbers and strings in variable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operation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data using operations, such as + (addition and concatenation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and operations are separa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to imperative: object-oriented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FDB-8C1E-41CF-BCD8-EF13F2DDDC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is a collection of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mb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and method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interact by invoking methods on other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 perform some operation on obj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E5B-B70E-4C88-A9B3-81342DBBEB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been using objects and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Just didn’t call them objec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: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data type (or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 creat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type (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nimal = “cow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ound = “moo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029200"/>
            <a:ext cx="2895480" cy="10666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imal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c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u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moo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4100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58672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0800" y="45687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5114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Objects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 of type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800" y="5562720"/>
            <a:ext cx="137160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60" y="4975200"/>
            <a:ext cx="161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Variable names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identifi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562720"/>
            <a:ext cx="83844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18A-5218-4BEC-89CB-A070B3A0AE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efined methods that you can use on objects of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methods: lower, replace, find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 are similar to functions but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alled/us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ifferent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bjectname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name([parameter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 animal.upper(), sound.center(1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day: new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with its own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82F-50F2-4CFD-B4CC-E03BC6DE4D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ow if need to enter a lot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ror-pro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User enters the wrong value!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f want to run again after program gets modifi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900-1475-4333-A50B-ED36C13588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data once into a file, save it, and reuse it in your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for large amounts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s can use files to communic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able to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read 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write to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80060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48769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724280"/>
            <a:ext cx="121932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cri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3"/>
            <a:endCxn id="108" idx="1"/>
          </p:cNvCxnSpPr>
          <p:nvPr/>
        </p:nvCxnSpPr>
        <p:spPr>
          <a:xfrm>
            <a:off x="2228400" y="529560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3"/>
            <a:endCxn id="107" idx="1"/>
          </p:cNvCxnSpPr>
          <p:nvPr/>
        </p:nvCxnSpPr>
        <p:spPr>
          <a:xfrm>
            <a:off x="5047920" y="5295600"/>
            <a:ext cx="16390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733920" y="5864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086-3FD2-409C-A310-C743F6BC8A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Use of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05092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257720"/>
            <a:ext cx="167616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974960"/>
            <a:ext cx="121896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  <a:endCxn id="115" idx="1"/>
          </p:cNvCxnSpPr>
          <p:nvPr/>
        </p:nvCxnSpPr>
        <p:spPr>
          <a:xfrm>
            <a:off x="1923840" y="254592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4" idx="0"/>
          </p:cNvCxnSpPr>
          <p:nvPr/>
        </p:nvCxnSpPr>
        <p:spPr>
          <a:xfrm>
            <a:off x="4114440" y="3137040"/>
            <a:ext cx="1080" cy="11023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200400" y="1066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eb Page (Text File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42577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row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4" idx="3"/>
            <a:endCxn id="119" idx="1"/>
          </p:cNvCxnSpPr>
          <p:nvPr/>
        </p:nvCxnSpPr>
        <p:spPr>
          <a:xfrm>
            <a:off x="4971960" y="4676400"/>
            <a:ext cx="14104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564600" y="36781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irefo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22840" y="528804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nders” web page for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F46-5E6A-478D-9BBD-74F90DD5C5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7T21:27:22Z</cp:lastPrinted>
  <dcterms:modified xsi:type="dcterms:W3CDTF">2007-10-17T21:59:52Z</dcterms:modified>
  <cp:revision>1804</cp:revision>
  <dc:subject/>
  <dc:title>PowerPoint Presentation</dc:title>
</cp:coreProperties>
</file>