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2C0-E27C-423D-AEFC-8AABD3CD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34A-759A-4013-8F18-1895615D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8F3-394C-46D4-9189-CAAAD6A7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B81-6D89-4C09-8D7A-2D0E2D40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9FDAB-8726-4291-9CA9-4E9140CD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72CE3-E037-4F8F-A9E1-5058960F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315B5-2689-4A41-958D-C359FB5B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688DA-1D1E-4C79-8EBE-72AAB92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C1A6A-C7BC-4872-BF69-3781CF53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ED93E-CA4B-4054-A2C8-80599F91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1C974-6AA9-4E6C-B56C-748A99F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FF8-05F6-430F-B70C-F79DF864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1CA54-99BA-4082-9312-B0CA052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872CF-D9C1-4BEF-9137-350F8AC3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98B08-AFEC-40FB-9D78-A935E427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AB5E0-73E7-45DB-AE99-B82C3273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E3040-28A1-480B-9119-A5AF6434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A7D-8FA7-46DE-B0F9-B5C59A66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F31-004D-4FD8-BE1B-F0745522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AFC-4773-4DF2-A8FA-07F8C12C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640-045A-4142-A423-5FD2C2EC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BBC-FE59-4034-BDEC-79D0FE10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42E-1C35-41A1-B6D7-52786472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A1F-CA9F-4897-973D-2AD96D5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5C16-5665-420C-8F94-085FC54D0FD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1744-318A-4604-B21F-DA6801D1843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eat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ails got some of you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out co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py directory to turnin direct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practice (expressions into shel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page changes in index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47242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initions from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epend constant or function with “modulename.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pi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we write the expression e</a:t>
            </a:r>
            <a:r>
              <a:rPr b="0" lang="en-US" sz="2800" spc="-1" strike="noStrike" baseline="30000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101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+ 1 in Pyth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1280" y="62485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comments i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igh-level comments, authorshi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s for your algorithms, imple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more testing o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good test cases for your program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the output from those test cases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ut don’t go overboard, testing every possible number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nor Syst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edge the Honor Code on printed shee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Key -- onli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-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ng” listing form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s detailed info about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Last modified da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siz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wners, permiss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/home/courses/cs111/handouts/lab0/*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.py” extension in comm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s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rst one: more lenient in grad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ter: tougher on grammar, spelling errors, post as a comment, explicitly summarize the top three points, etc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elled out on “CS Issues” pa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ture rubr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log entry - 6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cussion - 4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Command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fill in the appropriate th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optional arg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Move or Rename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v &lt;sourcefile&gt; &lt;destinatio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&lt;destination&gt; is a directory, keeps the original source file’s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: mv ~/labs/file.py labs/lab1/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“file.py” will be in labs/lab1 direc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perform some tas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tak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 value that can be used in 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func_name(arg0, arg1, …, arg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the function, the arguments may or may not be required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[ ]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dicate an optional argu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67360" y="163836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2971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Argument/parameter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raw_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prompt is given as an argument, prints the prompt without a newline/carriage retur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prompt, just waits for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user’s input (up to “enter”) a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t return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1520" y="990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Known as function’s “signatur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371600"/>
            <a:ext cx="990360" cy="10666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920" y="14875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Template for how to “call” func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6080" y="1944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Optional argu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67080" y="2133720"/>
            <a:ext cx="1371600" cy="1522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Built-i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(x[,n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und the float t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digits after the decimal po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round to nearest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bs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absolute valu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e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the typ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95560" y="63216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unction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18T17:55:52Z</cp:lastPrinted>
  <dcterms:modified xsi:type="dcterms:W3CDTF">2007-09-18T18:53:02Z</dcterms:modified>
  <cp:revision>69</cp:revision>
  <dc:subject/>
  <dc:title>PowerPoint Presentation</dc:title>
</cp:coreProperties>
</file>