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566-774F-4B5C-8154-67E6922B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CD3-0A0E-4B7A-863A-2DC34039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4E3-77E4-40BD-BB4F-0307023D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CC3-4BCC-4143-A5B0-D1828185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5F2B4-94C6-4DAA-B18D-ED1F0781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AE274-1EEB-432C-AA5F-B14BA84C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81FD7-0D91-45C7-B0A6-B470E384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28C08-A2E2-4A21-9450-A43990D4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F573F-E926-4E10-A63A-349A884A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50733-72AE-432F-B7AB-DDF7D846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F5DDF-75E0-489A-98B2-7426CD90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9B28-CBCA-4510-B081-5BF370FC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0ACE0-F73D-424D-B067-DDE75437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9925E-280D-4F2D-967E-1A7B3483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D176E-6623-4E4A-8CAA-3973668E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348F2-65A3-4E85-B53B-5984F757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EB2C5-1F7A-4046-9AEC-E819EB2C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684-BE5D-4B3D-82AF-D8B0C677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FAA1-559D-4E84-8F7E-860C9C9E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422-0260-4ECF-B2A1-E0F9CE60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A77A-7FBC-4DEE-95D3-A917C566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DEA0-3A5E-492C-82C2-9931A404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C3AB-8DEE-41F8-A460-9E9E308D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4DD-D40E-4EE5-85CA-92CCA8E4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6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434B-063C-4854-8AD4-475B4C149D0B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2029-F81D-4C54-80B8-9BF3E5C7D4C6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ap-up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5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E91A-1EFC-40AB-ADE5-5808D4446B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Us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main(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This program converts binary numbers to decimal numbers."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nary_string = raw_input("Enter a number in binary: "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while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not isBinary(binary_string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Sorry, that is not a binary string"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nary_string = raw_input("Enter a number in binary: "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The decimal value is", binaryToDecimal(binary_string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5840" y="5867280"/>
            <a:ext cx="81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esents overview of what program does (hides details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3429000"/>
            <a:ext cx="287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uld we write this without functions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46C-0F1C-422D-93E3-E02CE3039D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e/Post Condi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re: binary_string is a string that contains only 0s and 1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ost: returns the decimal value for the binary string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naryToInt( binary_string 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# Alternatively, could do isBinary check here too,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# but, what would you </a:t>
            </a:r>
            <a:r>
              <a:rPr b="0" i="1" lang="en-US" sz="22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 in that case?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xponent = len(binary_string)-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c_value = 0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for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t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in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nary_string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t = int(bit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rint bit,"* 2^%d" % exponent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c_value += bit * (2 ** exponent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xponent -= 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dec_value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876560" y="4373640"/>
            <a:ext cx="4038840" cy="1191240"/>
            <a:chOff x="4876560" y="4373640"/>
            <a:chExt cx="4038840" cy="1191240"/>
          </a:xfrm>
        </p:grpSpPr>
        <p:sp>
          <p:nvSpPr>
            <p:cNvPr id="91" name=""/>
            <p:cNvSpPr/>
            <p:nvPr/>
          </p:nvSpPr>
          <p:spPr>
            <a:xfrm>
              <a:off x="5867280" y="437364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Commented out print statement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(No side effects)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876560" y="4800600"/>
              <a:ext cx="1143000" cy="2286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E98-FF05-483F-BC75-F4422C24D1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cop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Know “lifetime” of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during execution of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lated to idea of “scope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bout variables outside of func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get tricky, as I demonstrated yesterda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on_function_vars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F6C-120C-422E-BBDC-706EFE7B01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bugging Adv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uild up your program in ste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ways write only small pieces of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, debug. Repe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function body as part of main, te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separate out into its ow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 function separately from other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ment out irrelevant code to make sure that the function behaves as expec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916C-04E9-4870-AC65-5B166A8D90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s to iterate through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ch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print ch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x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xrange(len(s))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print s[x]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spa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ing method: replace(old, new[, count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:  s.replace(‘ ‘, ‘’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35053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 to replac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33526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 to replace w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4343400"/>
            <a:ext cx="304920" cy="4572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943240" y="4191120"/>
            <a:ext cx="152280" cy="6858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58C-98DF-4A83-A793-7BBF370D0E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efficient solution to determine if palindrom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decision: What should be part of the  isPalindrome functi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wer casing and removal of spac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83520" y="2362320"/>
            <a:ext cx="44218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x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xrange(len(string)/2)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str[-x-1]!=str[x]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F8E-B78C-4B6B-B02C-1AD5E1BF85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5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nish up problem from last la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rections in the lab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writing and us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writing your own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4BD8-9DA4-4E6C-ABE4-9B51BF0332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16T19:00:12Z</dcterms:modified>
  <cp:revision>1520</cp:revision>
  <dc:subject/>
  <dc:title>PowerPoint Presentation</dc:title>
</cp:coreProperties>
</file>