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3F8-1711-4301-85C7-BA3AD66B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A96-DD2B-4327-BBB4-1E637C64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161-166E-49C7-B8B2-11694AEF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3EA-7A35-46AF-9D42-066CBDFB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3C2EA-4EB6-4942-8D46-567122BC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86A52-9639-404D-ABAE-EC9BA4EE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7352E-CBBD-4C19-AEF7-9E9C7B0F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33201-ED0E-4615-ABC9-EEA75CE0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DAC3F-3BD8-41A3-9985-0B10E4A5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95ED8-BD45-4C07-AB88-1F94D1E2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22FFD-39E6-4F9D-A86B-388140B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C22-17AF-47ED-87A3-B0C252D4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EBD3C-197E-4C72-BE90-D6BBE67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80FF4-A6AD-4F1E-8267-516F5F5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0000-73E7-4735-A0C5-4DC89585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2DA16-2316-4D90-97F0-68E7D5C4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0A1EF-DFDF-408B-AF2C-3B3C1CA0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609-C1ED-43F7-B5E8-C3970B87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631-E9CB-4452-9B6A-246CF917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840-59B1-42A9-8717-AD967EB9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535-3714-4078-ACFD-D2E8DBE3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4D3-BE25-463A-BCCF-ABA7FD2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5B1-332A-4036-998A-7A6B6042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434-2511-4E98-9321-2C41BAB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DDDD-E070-4B59-A135-9A39CF8040B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38B5-F10B-498A-91B6-651C811B820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eat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ails got some of you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out co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py directory to turnin direct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practice (expressions into shel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page changes in index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47242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initions from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epend constant or function with “modulename.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pi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we write the expression e</a:t>
            </a:r>
            <a:r>
              <a:rPr b="0" lang="en-US" sz="2800" spc="-1" strike="noStrike" baseline="30000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101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+ 1 in Pyth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1280" y="62485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comments i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igh-level comments, authorshi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s for your algorithms, imple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more testing o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good test cases for your program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the output from those test cases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ut don’t go overboard, testing every possible number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nor Syst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edge the Honor Code on printed shee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Key -- onli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-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ng” listing form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s detailed info about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Last modified da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siz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wners, permiss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/home/courses/cs111/handouts/lab0/*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.py” extension in comm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s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rst one: more lenient in grad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ter: tougher on grammar, spelling errors, post as a comment, explicitly summarize the top three points, etc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elled out on “CS Issues” pa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ture rubr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log entry - 6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cussion - 4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Command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fill in the appropriate th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optional arg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Move or Rename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v &lt;sourcefile&gt; &lt;destinatio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&lt;destination&gt; is a directory, keeps the original source file’s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: mv ~/labs/file.py labs/lab1/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“file.py” will be in labs/lab1 direc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perform some tas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tak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 value that can be used in 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func_name(arg0, arg1, …, arg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the function, the arguments may or may not be required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[ ]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dicate an optional argu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67360" y="163836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2971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Argument/parameter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raw_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prompt is given as an argument, prints the prompt without a newline/carriage retur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prompt, just waits for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user’s input (up to “enter”) a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t return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1520" y="990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Known as function’s “signatur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371600"/>
            <a:ext cx="990360" cy="10666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920" y="14875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Template for how to “call” func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6080" y="1944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Optional argu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67080" y="2133720"/>
            <a:ext cx="1371600" cy="1522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Built-i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(x[,n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und the float t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digits after the decimal po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round to nearest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bs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absolute valu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e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the typ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95560" y="63216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unction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18T17:55:52Z</cp:lastPrinted>
  <dcterms:modified xsi:type="dcterms:W3CDTF">2007-09-18T18:53:02Z</dcterms:modified>
  <cp:revision>69</cp:revision>
  <dc:subject/>
  <dc:title>PowerPoint Presentation</dc:title>
</cp:coreProperties>
</file>