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C92-2099-4B6F-B56E-9698113B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E35-63C8-4433-BE71-DDB59BEC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E82-0BD7-4F7B-B5DE-62266CD3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83F-FEF2-47DD-A871-9A93F0A3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8A046-9EFE-46A6-865A-27C6B24D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E2CAF-29EF-42E4-9621-2728B249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93CE0-5583-4A16-8E69-0834B1B2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D99F0-3336-4819-A3FB-3B240B2F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5295C-AA7B-4AA9-BCD8-9CD9449B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5557D-9573-45F2-B745-861D1EE4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1F694-BADF-467C-925A-6387C080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7F0-B62D-4D42-AC7C-1EC85981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BC540-1A58-4EEF-9931-BDA70843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8E47F-0B6B-4B12-B0C2-DFEB365B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BAE18-D13B-4299-AB16-ABA8EE47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4EAF0-1AED-4372-A0BE-FC551CCE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75F32-E136-4E7F-82FE-5365EC15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983-C41A-42CA-8976-B8229FDD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25A-482B-493E-9A15-144B6711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C2E-B112-49A0-B404-9008B4B4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042-1C51-4572-9E26-592DB72F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73F-B110-488B-B9CE-DFDE9713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A8B-8A33-4C86-96E8-9247813D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1E5-197F-4F0A-B6DF-0ED944B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9871-5FDC-4647-BCC9-02A1D3057E1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5ABB-3397-411A-A8FF-D018FF034C9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efinite for loops, xran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 Puzzles From Cyberspa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680-9295-45E4-B7F2-868473445D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 with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uts spaces around numbers when they get printed o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39000" y="2666880"/>
            <a:ext cx="4260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13.54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, x, “.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BB9-2ABB-4FDB-8580-2FFF662B6D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constructor/converter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constructor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 when printing output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D21-6038-4448-8F7F-90EB005DE9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other problem with 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46520" y="152244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SALES_TAX=.05 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# the sales tax in V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value = input("How much does your item cost?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tax = value * (1+SALES_TAX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value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)"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tax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with tax"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43040" y="61722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ales_tax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35E-3C57-4258-BD96-A6384D36A0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ormat specifiers give control over how output is displayed to us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ight, left justificatio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3560" y="232884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)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value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 with tax”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t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566720"/>
            <a:ext cx="0" cy="7621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6095880" y="278604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8800" y="35020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7467480" y="248112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5790600" y="182844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8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27760" y="15969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Format specifi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BBC-217F-4115-9DD8-2373B011F2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+: adds a + sign before positive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 (default is right-justification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709-904C-444D-B0BF-A3CF8BA43A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dicates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/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ay to forma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D49-4855-4FE4-BA0D-984A3CD7E1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2880" y="2286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629400" y="685440"/>
            <a:ext cx="380880" cy="3124080"/>
          </a:xfrm>
          <a:custGeom>
            <a:avLst/>
            <a:gdLst>
              <a:gd name="textAreaLeft" fmla="*/ 0 w 380880"/>
              <a:gd name="textAreaRight" fmla="*/ 13752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B9A-2E2C-44F4-879D-604EEEC8B9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AED-A801-4A63-AFBD-4F68C5C473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B3B-9AFD-4BBC-8940-44B3A08D4F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83B-8493-489C-950A-0E66CCBFC5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00c600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987-4124-4298-A47A-50DF17CD8E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Exciting Conclusion of Four Puzzles in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text: Book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ode v2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Lawrence Lessi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read Chapter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sents the problems, not the author’s proposed solu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142-1439-47B4-8096-75B2E173DE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uzzles in Cyberspace 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main themes/puzzles of the boo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ch is the most important puzzle to solv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CS information would you need to know to be able to propose 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F7A-9DA8-4B27-A1CF-D3429DF266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76920" y="42670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38862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49740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3AE-6E65-4418-9CBE-5B4E8A3437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coun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924-633B-44E4-8F3A-665B5C15FC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 argument: xrange(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arguments: xrange(start, 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3 arguments: xrange(start, stop, ste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208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4495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1484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424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6736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50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64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78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92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068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44956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0700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520" y="4492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97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1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160" y="58644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[start, stop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384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0384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9320" y="52117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0,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34E-3635-42B3-B075-A01833E15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49568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2080" y="487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1484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424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673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50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78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92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068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8840" y="48006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1156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797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97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1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200" y="365760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5, -15, -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34016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02080" y="243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148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424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736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50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64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78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92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9068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23623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16732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9520" y="2359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520" y="121932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1, 15, 3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19018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34340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895480"/>
            <a:ext cx="3048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5562720"/>
            <a:ext cx="44197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72600" y="6172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ew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090-E9BC-4D24-B4AF-D0D8473995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B49-D3E6-4808-89F5-0177B19851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ep through in mem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043-9EF3-4092-A620-55A2089C60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p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str() 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mat specifi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DF5-AF04-4629-AA24-07A91F7D42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4T17:57:21Z</dcterms:modified>
  <cp:revision>341</cp:revision>
  <dc:subject/>
  <dc:title>PowerPoint Presentation</dc:title>
</cp:coreProperties>
</file>