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pct" ContentType="image/x-pict"/>
  <Override PartName="/ppt/media/image2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1A07-9E14-4938-B7C6-586068BCB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FAAB-5602-48C4-AD07-A05B214A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0058-6384-49B6-B473-913968C8C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9B25-E032-49A3-AA04-86C4F7AA1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C7B51-3A0E-48C7-A50C-F58B84ABC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D902F2-B90F-4110-AEA4-C223324A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FE36D-B717-4AA5-8031-9A6E763D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14B86-FB5A-4532-94C8-5CFDA7DC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F2C69-037B-4048-9B0A-23BAF9EF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9C08BF-F828-4361-9100-6944397D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B465B-43D0-4F1F-A42F-147DB0AA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BDA5-8FCA-4289-860A-5D482B09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D32F1-08D8-4241-93D5-FC069F83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44C38-1186-499A-8775-B1719983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EDCA2A-BCA0-46B8-906D-63539FB9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32685-A42A-458C-A12C-A49DAF01F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29D32-27DB-4EA1-BA55-D4A8B22A5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1FF6-BA14-4254-8EA8-E3449850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791C-CE94-435E-B6EC-D9062040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CB29-5180-4255-B896-C7880783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F181-D96E-4D11-9F30-F178EE86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E449-1DA9-4FC6-890D-81D4BC0D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1C79-5BE7-47C6-8F7B-A5D73EF7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D86F-2ABF-44E1-AB51-1682944A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22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7694-2E97-4196-81D1-07D57A52B16C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73B3-CB48-4FBF-A0EC-9D053B378AAF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re on Lis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ing in function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ctionari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23F9-9B9B-4025-BE95-8DA9088727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ibonacci Sequen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nt the first 15 Fibonacci numbers</a:t>
            </a:r>
            <a:endParaRPr b="0" lang="en-US" sz="3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12880" y="3124080"/>
            <a:ext cx="702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 = range(15)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# creates a list of size 15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[0] = 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[1] = 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or x in xrange(2,15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ewfib = fibs[x-1]+fibs[x-2]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[x] = newfib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or num in fibs: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# print each num on sep lin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nu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75120" y="632160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ibs2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31320" y="1914480"/>
            <a:ext cx="391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imilar to xrang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an use same paramet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352680" y="2286000"/>
            <a:ext cx="1371600" cy="91440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D197-D24F-41AD-921A-1888A63E3A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s vs. Array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riefly, lists are similar to arrays in other languag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ore similar to </a:t>
            </a:r>
            <a:r>
              <a:rPr b="0" i="1" lang="en-US" sz="2800" spc="-1" strike="noStrike">
                <a:solidFill>
                  <a:srgbClr val="010199"/>
                </a:solidFill>
                <a:latin typeface="Arial"/>
              </a:rPr>
              <a:t>Vector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n C++ and </a:t>
            </a:r>
            <a:r>
              <a:rPr b="0" i="1" lang="en-US" sz="2800" spc="-1" strike="noStrike">
                <a:solidFill>
                  <a:srgbClr val="010199"/>
                </a:solidFill>
                <a:latin typeface="Arial"/>
              </a:rPr>
              <a:t>ArrayList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n Jav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ypically, arrays have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static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ength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’t insert and remove elements from arrays so that the length of the array chang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eed to make the array as big as you’ll think you’ll ne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987D-2BE3-43F8-83DF-5F8A05C837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s vs. String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s are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immutab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’t be mutated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r, can’t be modified/chang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ists can be chang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utable!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8680" y="3962520"/>
            <a:ext cx="81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groceryList=[“milk”, “eggs”, “bread”, “Doritos”, “OJ”, “sugar”]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4080" y="4471920"/>
            <a:ext cx="406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roceryList[0] = “skim milk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roceryList[3] = “popcorn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5462640"/>
            <a:ext cx="797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groceryList is now [“skim milk”, “eggs”, “bread”, “popcorn”, “OJ”, “sugar”]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32FD-6D7E-408B-9454-803BF0DBC1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pies of Lis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does the following code output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x = [1, 2, 3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y = 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y[0] = -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2467-0896-4383-BA65-1020FAB968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 Identifiers are Poin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335232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y is not a copy of 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oints to what x points to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to make a copy of y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y = x + [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R: y= [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y.extend(x)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200400" y="1806480"/>
          <a:ext cx="3505320" cy="51732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5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818280" y="1600200"/>
            <a:ext cx="36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x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2720" y="2471760"/>
            <a:ext cx="3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y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1806480"/>
            <a:ext cx="1828800" cy="22860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371600" y="2263680"/>
            <a:ext cx="1676520" cy="60984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632E-3261-4957-9C84-F279C5211E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s as Parameters to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f modify a list passed as a parameter into a function, the list is modified outside the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ists are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passed-by-val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fferent from immutable types (e.g., numbers, strings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arameter is actually a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pointe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o the list in memory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6219-2C2B-4430-B757-6C3FCDD412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Sort a list of 3 numbers, in descending ord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with list method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we do this using only three comparisons?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2400" y="3222720"/>
            <a:ext cx="669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# order list such that list[0] &gt;= list[1] &gt;= list[2]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Tahoma"/>
              </a:rPr>
              <a:t>def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descendSort3Nums( list3 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25720" y="6278400"/>
            <a:ext cx="23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escendSort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08200" y="460224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alled as: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73240" y="5211720"/>
            <a:ext cx="359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ist = …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escendSort3Nums(list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52D9-A2A5-4EAE-8AD0-8476C8C578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ow Does </a:t>
            </a:r>
            <a:r>
              <a:rPr b="1" lang="en-US" sz="4000" spc="-1" strike="noStrike">
                <a:solidFill>
                  <a:srgbClr val="2017b8"/>
                </a:solidFill>
                <a:latin typeface="Tahoma"/>
              </a:rPr>
              <a:t>in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 Work for List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 x in groceries, where groceries is a lis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ach element in list, checks if element equals (==) 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 the worst case, how many elements does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have to check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could we improve the search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50AA-6D06-4B44-989E-7B68593B78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earch Improve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ort the Lis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helps search?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63960" y="624528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Hi-Low gam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53B8-FBA0-40F3-93DD-03B16D5ECCB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aster Looku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f I wanted to know the Registrar’s phone number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ould I search through an alphabetized list of phone number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, I would look up the Registrar and find the phone number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associated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with the Registr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s type of data structure is known as a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dictionary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n Pyth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ps a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key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to a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val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78D8-EAB7-4A55-AAB1-65A075F027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ther Sequences of Data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commonly group a sequence of data together and refer to them by one nam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ays of the week: Sunday, Monday, Tuesday, 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onths of the year: January, February, March, 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hopping li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n represent this data as a </a:t>
            </a:r>
            <a:r>
              <a:rPr b="1" lang="en-US" sz="3200" spc="-1" strike="noStrike">
                <a:solidFill>
                  <a:srgbClr val="6699ff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n Pyth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imilar to 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arrays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 other languag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896E-EA22-4992-8A66-4E7DAF6B32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s of Dictionari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are the keys and values for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ctiona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xtbook’s inde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okbook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RL (Uniform Resource Locator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ny other things we’ve done/used in clas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IN CLASS ANSWERS: variable names --&gt; values, function names --&gt; function definitions, ascii value --&gt; character, character --&gt; ascii value 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48A6-950B-42A4-AFA7-A8A2AEFA8B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s of Dictionari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are the keys and values for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ctiona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xtbook’s inde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okbook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RL (Uniform Resource Locator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ny other things we’ve done/used in clas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Keys are not necessarily alphabetiz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ppings are from </a:t>
            </a: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on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key to one </a:t>
            </a: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or mor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valu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Keys are </a:t>
            </a:r>
            <a:r>
              <a:rPr b="1" i="1" lang="en-US" sz="2800" spc="-1" strike="noStrike">
                <a:solidFill>
                  <a:srgbClr val="010199"/>
                </a:solidFill>
                <a:latin typeface="Arial"/>
              </a:rPr>
              <a:t>unique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, Values are not necessarily uniq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5488-E40D-4EFA-BF67-8518AD0955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reating Dictionaries in Pyth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{&lt;key&gt;:&lt;value&gt;, …, &lt;key&gt;:&lt;value&gt;}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7280" y="3313080"/>
            <a:ext cx="71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empty = 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{}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ascii =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 {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‘a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97, ‘b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98, ‘c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99, …, ‘z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122 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7AD4-6678-4ABA-B72E-80C064E2EC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ccessing Values using Key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45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dictionary&gt;[&lt;key&gt;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Tahoma"/>
              </a:rPr>
              <a:t>KeyError</a:t>
            </a:r>
            <a:r>
              <a:rPr b="0" lang="en-US" sz="32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f key is not in dictiona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68760" y="2779560"/>
            <a:ext cx="396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ascii[‘z’]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directory[‘registrar’]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1352-EA97-4D90-97A9-B6CA7791325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nserting Key-Value Pai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dictionary&gt;[&lt;key&gt;] = &lt;valu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scii[‘a’] = 97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39160" y="624852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cii_dictionary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A9D8-51B8-409C-9519-95604C1B233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roader Issues: Diversity in Computer Scien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56383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cience &amp; Engineering: near 50%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143000" y="1266840"/>
          <a:ext cx="6324480" cy="42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66840"/>
                    <a:ext cx="632448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853A-C1B2-4907-BDE3-FC27D667AB3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Music Fi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have an album file that has the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Artist nam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Album nam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name 1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length 1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name n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length n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iven an album file, print out the number of songs and the total length of the albu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44956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ength has the format min:second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2777-0543-4AA1-B2AA-E33CCABD048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roader Issues: Diversity in Computer Science 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55623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2001, S&amp;E: 11% full, 22% assoc, 36% asst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CS: 8%, 13%, 14%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914400" y="1143000"/>
          <a:ext cx="7238880" cy="442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43000"/>
                    <a:ext cx="7238880" cy="44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CEEB-AB94-44F3-AC3E-E1F2E89DA83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enefits of Lis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roup related items togeth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ame with a single variable name instead of creating many separate variab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E.g., sunday = “Sun”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ist has an </a:t>
            </a:r>
            <a:r>
              <a:rPr b="0" i="1" lang="en-US" sz="2800" spc="-1" strike="noStrike">
                <a:solidFill>
                  <a:srgbClr val="00c600"/>
                </a:solidFill>
                <a:latin typeface="Arial"/>
              </a:rPr>
              <a:t>ord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venient for dealing with large amounts of dat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could keep all the temperature data in a list if needed to reuse la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s and methods for handling, manipulating lis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93F4-DD6F-44F3-AAFE-659C4ACF75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s: A Closer Loo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419112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&lt;listname&gt;[&lt;int_expr&gt;]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imilar to accessing characters in a 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aysInWeek[-1] is “Sat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aysInWeek[0] is “Sun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43000" y="1803240"/>
          <a:ext cx="7620120" cy="1015920"/>
        </p:xfrm>
        <a:graphic>
          <a:graphicData uri="http://schemas.openxmlformats.org/drawingml/2006/table">
            <a:tbl>
              <a:tblPr/>
              <a:tblGrid>
                <a:gridCol w="1089000"/>
                <a:gridCol w="1087560"/>
                <a:gridCol w="1089000"/>
                <a:gridCol w="1154160"/>
                <a:gridCol w="1023840"/>
                <a:gridCol w="1087560"/>
                <a:gridCol w="1089000"/>
              </a:tblGrid>
              <a:tr h="52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un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on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ue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Wed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hu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ri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at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5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6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87480" y="113976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leme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320" y="29052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osition/index in the lis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1371600"/>
            <a:ext cx="533160" cy="3808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057400" y="2895120"/>
            <a:ext cx="914400" cy="38124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13280" y="320040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len(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aysInWeek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) is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07680" y="12193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daysInWee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520E-6363-44C6-811D-E2282DE1D5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 Oper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143000" y="1397160"/>
          <a:ext cx="6858000" cy="406368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oncatena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seq&gt; + &lt;seq&gt;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peti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seq&gt; * &lt;int-expr&gt;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dexing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seq&gt;[&lt;int-expr&gt;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n(&lt;seq&gt;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licing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seq&gt;[: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tera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or &lt;var&gt; in &lt;seq&gt;: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mbership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expr&gt; in &lt;seq&gt;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187560" y="577044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Similar to operations for strings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021A-F216-4189-8AE0-8E2DFFE1B5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terating through a Lis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a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every element in the list 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quivalent to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56000" y="3317760"/>
            <a:ext cx="274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tem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list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nt item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39960" y="2316240"/>
            <a:ext cx="29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n item in the lis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38200" y="228600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ist objec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962520" y="2666880"/>
            <a:ext cx="761760" cy="7621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51080" y="2895480"/>
            <a:ext cx="457200" cy="5335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1760" y="5146560"/>
            <a:ext cx="419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xrange(len(list))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nt list[x]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24480" y="51148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terates through </a:t>
            </a:r>
            <a:r>
              <a:rPr b="0" i="1" lang="en-US" sz="2400" spc="-1" strike="noStrike">
                <a:solidFill>
                  <a:srgbClr val="00c600"/>
                </a:solidFill>
                <a:latin typeface="Tahoma"/>
              </a:rPr>
              <a:t>positions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in list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28195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terates through </a:t>
            </a:r>
            <a:r>
              <a:rPr b="0" i="1" lang="en-US" sz="2400" spc="-1" strike="noStrike">
                <a:solidFill>
                  <a:srgbClr val="00c600"/>
                </a:solidFill>
                <a:latin typeface="Tahoma"/>
              </a:rPr>
              <a:t>items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in list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83000" y="6278400"/>
            <a:ext cx="23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aysOfWeek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422C-0A0F-4331-94AE-E4A73648CC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embershi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Check if a list contains an element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Example problem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enrolledstudents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is a list of students who are enrolled in the clas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Want to check if a student who attends the class is enrolled in the clas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0202"/>
                </a:solidFill>
                <a:latin typeface="Arial"/>
              </a:rPr>
              <a:t>Problem: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If have a list </a:t>
            </a:r>
            <a:r>
              <a:rPr b="1" lang="en-US" sz="2800" spc="-1" strike="noStrike">
                <a:solidFill>
                  <a:srgbClr val="020202"/>
                </a:solidFill>
                <a:latin typeface="Arial"/>
              </a:rPr>
              <a:t>attendingstudents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, check if each attending student is an enrolled student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71080" y="3962520"/>
            <a:ext cx="540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if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not student </a:t>
            </a: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enrolledstudents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student, “is not enrolled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0B3E-80E9-446A-9A2A-08076D86BE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80880" y="1417680"/>
          <a:ext cx="8305920" cy="4865760"/>
        </p:xfrm>
        <a:graphic>
          <a:graphicData uri="http://schemas.openxmlformats.org/drawingml/2006/table">
            <a:tbl>
              <a:tblPr/>
              <a:tblGrid>
                <a:gridCol w="2819520"/>
                <a:gridCol w="54864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ethod Name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unctionality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append(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dd element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to the end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sort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ort the lis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reverse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verse the lis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index(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the index of the first occurrence of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, Error if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s not in the lis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insert(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,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sert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nto list at index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count(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the number of occurrences of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n lis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remove(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letes the first occurrence of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n lis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pop(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letes the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th element of the list and returns its valu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3567-8742-4BFF-8A1A-1B91A4F013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ibonacci Sequen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nt the first 15 Fibonacci numbers</a:t>
            </a:r>
            <a:endParaRPr b="0" lang="en-US" sz="3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0480" y="3200400"/>
            <a:ext cx="7980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 = []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# create an empty lis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.append(1)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# append the first two Fib numb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.append(1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or x in xrange(2,16):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# compute the next 13 num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ewfib = fibs[x-1]+fibs[x-2]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.append(newfib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fibs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# print out the lis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31000" y="632448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ib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3923-17F0-4349-99F0-6775DD50C6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0-22T19:41:06Z</cp:lastPrinted>
  <dcterms:modified xsi:type="dcterms:W3CDTF">2007-10-22T19:51:30Z</dcterms:modified>
  <cp:revision>2147</cp:revision>
  <dc:subject/>
  <dc:title>PowerPoint Presentation</dc:title>
</cp:coreProperties>
</file>