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999120" cy="9285120"/>
          </a:xfrm>
          <a:custGeom>
            <a:avLst/>
            <a:gdLst>
              <a:gd name="textAreaLeft" fmla="*/ 360 w 6999120"/>
              <a:gd name="textAreaRight" fmla="*/ 6998760 w 699912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654">
                <a:moveTo>
                  <a:pt x="4" y="0"/>
                </a:moveTo>
                <a:arcTo wR="4" hR="4" stAng="16200000" swAng="-5400000"/>
                <a:lnTo>
                  <a:pt x="0" y="28650"/>
                </a:lnTo>
                <a:arcTo wR="4" hR="4" stAng="10800000" swAng="-5400000"/>
                <a:lnTo>
                  <a:pt x="21596" y="2865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68200" y="685440"/>
            <a:ext cx="46717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0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3908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87AAD-7910-454B-ABED-DBDD696AEE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6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040" y="4419720"/>
            <a:ext cx="51814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written and used algorithms even if you did not realiz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doing long division, for example, is an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es are anothe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B019-D2DF-45EB-82A9-2FFF14B3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1EC-8E53-44BD-B929-9A8E35E9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618-3761-41B6-A862-C8EB39EB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19CD-85E3-4550-BEEE-E9CA778B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06DC3-6893-476F-B44F-2C45E54A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6D604-634C-44D9-BFB2-463B93FB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F21C0-4B7E-4F74-9817-20E423AB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58139-D73C-4E0C-8CE0-01FD2DE1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3058E-C37E-40F9-B5E6-66DDCCBE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3588F-2FBA-4A13-952C-7CFDD0EF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4926D-6485-4F71-9E98-DABA0C26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F518-24D9-4934-85BF-E5A3E6C2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BFDD0-D721-425F-95D6-DBA0F2FB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AA229-D140-4E81-8172-77714AB6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D8DBD-5346-4C16-A7BB-DB388D78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E20BC-08FE-43C9-8763-AC857018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0092E-5824-484C-876E-D4F640BD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F7D6-570A-466B-81A7-F1DFB5FD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653-BE96-4F2E-A3D2-BA3E050C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833-EB92-4564-8630-413294E7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5692-12BE-4326-BFFE-97ABBDC7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37FB-FED3-48F6-9F39-4D59EB4B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DC4-E5B1-43C0-A996-10349551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ABB3-B000-4888-977E-51D48B2B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 10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2DDF08-AE1C-4C10-B660-F6827D4BF9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41D85-0097-4D17-9C66-7C7A53DD2A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1916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Introduction to Programming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eptember 10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Lessons To Rememb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cowboy’s wisdom: Good judgment comes from experienc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ow can you get experienc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ad judgment works every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 errors can have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bad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effec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event the bad effects--especially before you turn in your assignment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80A9-84F5-4A1F-AF08-7640EC92AC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125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DC4-7A2A-4FC1-BABC-18287DD9802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49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ming language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pecific rules for what is and isn’t allowed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ust be exac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uter carries out commands as they are give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Syntax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: the symbols give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Semantics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: what it mea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:  III * IV = 3 x 4 = 12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ming languages ar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nambiguou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691-9365-481B-ADB6-2DE382E51E2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A common </a:t>
            </a:r>
            <a:r>
              <a:rPr b="0" i="1" lang="en-GB" sz="3200" spc="-1" strike="noStrike">
                <a:solidFill>
                  <a:srgbClr val="3333cc"/>
                </a:solidFill>
                <a:latin typeface="Tahoma"/>
              </a:rPr>
              <a:t>interpreted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 programming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First released by Guido van Rossum in 199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Named after </a:t>
            </a:r>
            <a:r>
              <a:rPr b="0" i="1" lang="en-GB" sz="3200" spc="-1" strike="noStrike">
                <a:solidFill>
                  <a:srgbClr val="020202"/>
                </a:solidFill>
                <a:latin typeface="Tahoma"/>
              </a:rPr>
              <a:t>Monty Python’s Flying Circu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Minimalist syntax, emphasizes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Flexible, fast, useful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Used by scientists, engineers, systems programm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D292-BE80-43E3-8478-F4C80283626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20760" indent="-32076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Gives user immediate feedback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01640" indent="-26676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.g., if program contains error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Behind the scenes: </a:t>
            </a:r>
            <a:r>
              <a:rPr b="0" lang="en-GB" sz="26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 (a program itself) turns each expression into </a:t>
            </a:r>
            <a:r>
              <a:rPr b="0" lang="en-GB" sz="26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 and then executes the expression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207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36576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35812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51814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8" idx="3"/>
            <a:endCxn id="127" idx="1"/>
          </p:cNvCxnSpPr>
          <p:nvPr/>
        </p:nvCxnSpPr>
        <p:spPr>
          <a:xfrm>
            <a:off x="4723920" y="4152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32" idx="0"/>
            <a:endCxn id="127" idx="2"/>
          </p:cNvCxnSpPr>
          <p:nvPr/>
        </p:nvCxnSpPr>
        <p:spPr>
          <a:xfrm flipH="1" flipV="1">
            <a:off x="6895440" y="4647600"/>
            <a:ext cx="57204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705720" y="51814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7" idx="3"/>
            <a:endCxn id="132" idx="3"/>
          </p:cNvCxnSpPr>
          <p:nvPr/>
        </p:nvCxnSpPr>
        <p:spPr>
          <a:xfrm>
            <a:off x="7924320" y="4152600"/>
            <a:ext cx="305640" cy="152460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2"/>
            <a:endCxn id="129" idx="0"/>
          </p:cNvCxnSpPr>
          <p:nvPr/>
        </p:nvCxnSpPr>
        <p:spPr>
          <a:xfrm flipH="1">
            <a:off x="5028840" y="4647960"/>
            <a:ext cx="186768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(a program itself)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3809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373392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334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8" idx="3"/>
            <a:endCxn id="137" idx="1"/>
          </p:cNvCxnSpPr>
          <p:nvPr/>
        </p:nvCxnSpPr>
        <p:spPr>
          <a:xfrm>
            <a:off x="4952520" y="430488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42" idx="0"/>
            <a:endCxn id="137" idx="2"/>
          </p:cNvCxnSpPr>
          <p:nvPr/>
        </p:nvCxnSpPr>
        <p:spPr>
          <a:xfrm flipH="1" flipV="1">
            <a:off x="7124040" y="480024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04920" y="3809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3"/>
            <a:endCxn id="138" idx="1"/>
          </p:cNvCxnSpPr>
          <p:nvPr/>
        </p:nvCxnSpPr>
        <p:spPr>
          <a:xfrm>
            <a:off x="2361960" y="430488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6934320" y="5334120"/>
            <a:ext cx="15238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37" idx="3"/>
            <a:endCxn id="142" idx="3"/>
          </p:cNvCxnSpPr>
          <p:nvPr/>
        </p:nvCxnSpPr>
        <p:spPr>
          <a:xfrm>
            <a:off x="8152920" y="430524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7" idx="2"/>
            <a:endCxn id="139" idx="0"/>
          </p:cNvCxnSpPr>
          <p:nvPr/>
        </p:nvCxnSpPr>
        <p:spPr>
          <a:xfrm flipH="1">
            <a:off x="5257440" y="480060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6472-2B99-4192-AF71-A191A6048746}" type="slidenum">
              <a:t>1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NIX/Linux operating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Operating syst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Manages the computer’s resources, e.g., CPU, memory, disk spac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Examples: UNIX, Windows XP, Windows 2000, Mac OSX, Linux, etc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UNIX/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Command-line interface (not a GUI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Type commands into terminal window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Example commands: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cp file1.c file1copy.c       (copy a file)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mkdir cisc105                 (make a directory)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CA3D-2F33-4847-9488-53DC9B7A6ED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038480"/>
            <a:ext cx="495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In a Linux terminal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jedit &amp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  <a:ea typeface="Luxi Sans"/>
              </a:rPr>
              <a:t>or idle &amp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ython &lt;nameofscript&gt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  <a:ea typeface="Luxi Sans"/>
              </a:rPr>
              <a:t>E.g., python hello.p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1523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44792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048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2" idx="3"/>
            <a:endCxn id="151" idx="1"/>
          </p:cNvCxnSpPr>
          <p:nvPr/>
        </p:nvCxnSpPr>
        <p:spPr>
          <a:xfrm>
            <a:off x="4876560" y="201888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6" idx="0"/>
            <a:endCxn id="151" idx="2"/>
          </p:cNvCxnSpPr>
          <p:nvPr/>
        </p:nvCxnSpPr>
        <p:spPr>
          <a:xfrm flipH="1" flipV="1">
            <a:off x="7048080" y="2514240"/>
            <a:ext cx="57240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28600" y="1523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7" idx="3"/>
            <a:endCxn id="152" idx="1"/>
          </p:cNvCxnSpPr>
          <p:nvPr/>
        </p:nvCxnSpPr>
        <p:spPr>
          <a:xfrm>
            <a:off x="2286000" y="201888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6858000" y="3048120"/>
            <a:ext cx="15238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1" idx="3"/>
            <a:endCxn id="156" idx="3"/>
          </p:cNvCxnSpPr>
          <p:nvPr/>
        </p:nvCxnSpPr>
        <p:spPr>
          <a:xfrm>
            <a:off x="8077320" y="2019240"/>
            <a:ext cx="305280" cy="1524960"/>
          </a:xfrm>
          <a:prstGeom prst="bentConnector3">
            <a:avLst>
              <a:gd name="adj1" fmla="val 231759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1" idx="2"/>
            <a:endCxn id="153" idx="0"/>
          </p:cNvCxnSpPr>
          <p:nvPr/>
        </p:nvCxnSpPr>
        <p:spPr>
          <a:xfrm flipH="1">
            <a:off x="5181120" y="251460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F98-490F-4732-9259-C2C9B24E9EA6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problem solv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Pyth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160-6391-4903-875A-FA187BBBC5B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0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7CB5-E835-4008-9E2A-A39101317F5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: a well-defined recipe for solving a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as a finite number of steps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letes in a finite amount of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n algorithm written in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lso called cod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arge programs, solving many proble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F12-C122-474B-BEE4-F3133AFCDC6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on Algorith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s often have a defined type of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out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rrec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lgorithms give the intended output for a set of input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: Multiply by 1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/O for a correct algorithm: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5,50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.32, 3.2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x, 10x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re examples: Long division, recip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321000" y="4389480"/>
            <a:ext cx="1066680" cy="685800"/>
          </a:xfrm>
          <a:prstGeom prst="rect">
            <a:avLst/>
          </a:prstGeom>
          <a:solidFill>
            <a:srgbClr val="33cccc">
              <a:alpha val="72000"/>
            </a:srgbClr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nput 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30840" y="4191120"/>
            <a:ext cx="1981080" cy="1044360"/>
          </a:xfrm>
          <a:prstGeom prst="parallelogram">
            <a:avLst>
              <a:gd name="adj" fmla="val 47423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91520" y="4352760"/>
            <a:ext cx="1066680" cy="685800"/>
          </a:xfrm>
          <a:prstGeom prst="rect">
            <a:avLst/>
          </a:prstGeom>
          <a:solidFill>
            <a:srgbClr val="33cc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1" idx="3"/>
            <a:endCxn id="102" idx="1"/>
          </p:cNvCxnSpPr>
          <p:nvPr/>
        </p:nvCxnSpPr>
        <p:spPr>
          <a:xfrm flipV="1">
            <a:off x="4387320" y="4712400"/>
            <a:ext cx="691560" cy="19800"/>
          </a:xfrm>
          <a:prstGeom prst="straightConnector1">
            <a:avLst/>
          </a:prstGeom>
          <a:ln w="640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2" idx="3"/>
            <a:endCxn id="103" idx="1"/>
          </p:cNvCxnSpPr>
          <p:nvPr/>
        </p:nvCxnSpPr>
        <p:spPr>
          <a:xfrm flipV="1">
            <a:off x="6564240" y="4695480"/>
            <a:ext cx="828000" cy="18000"/>
          </a:xfrm>
          <a:prstGeom prst="straightConnector1">
            <a:avLst/>
          </a:prstGeom>
          <a:ln w="640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3711600" y="5079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68800" y="50799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DA57-9EC6-4995-9CA1-F23ECF5133C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-4644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king a Peanut Butter &amp; Jelly Sandwic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do you make a peanut butter and jelly sandwich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rite down the steps so that someone else can follow your instruc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ke no assumptions about the person’s knowledge of PB&amp;J sandwich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person has the following materials: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Loaf of bread, Jar of PB, Jelly, 2 Knives, paper plates, napkin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E37-62B8-41C9-9903-7085A072E6D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 of PB&amp;J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 computer: a blessing and a curs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cognize and meet the challenge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e unambiguous, descriptiv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ust be clear for the computer to understand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 what I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eant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!  Not what I said!”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reating/Implementing an algorith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reak down piec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ry it ou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vis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B389-2D4D-4CD4-B771-2528CA43C76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 of PB&amp;J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e prepared for special cas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ren’t necessarily spares in real lif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eed to write correct algorithms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using similar techniq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 the same thing with a little twis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oop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or repeating the same act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09E-A4E9-434B-94DC-0AFDB87155E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ts of an Algorith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mitive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data you have, what you can do to the data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m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dentify things we’re using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quenc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nditional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andle special case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petition/Loop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broutin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Call, reuse similar technique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rot="2493000">
            <a:off x="5218920" y="3566880"/>
            <a:ext cx="34606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n overview for the semester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5343-D48C-4D86-A5C5-0CC6C2F5F7A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dcterms:modified xsi:type="dcterms:W3CDTF">2007-09-19T01:21:11Z</dcterms:modified>
  <cp:revision>121</cp:revision>
  <dc:subject/>
  <dc:title>Intro to Java</dc:title>
</cp:coreProperties>
</file>