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76A8-9743-467F-B5AA-A72F5201B687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4D7F-B3C2-4C77-92B1-91559E272D77}" type="slidenum">
              <a:rPr b="0" lang="en-US" sz="12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352760"/>
            <a:ext cx="50770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EDA-128A-42FD-8201-E013DE42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D97-8199-4FDA-AD5F-5A329FF4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042-4676-4379-8444-E1F21459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C47-DE2E-42F6-9710-48840AB4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074AB-C64D-4788-84BB-A152CB5B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A4ADE-EBC8-46F1-8AA7-6D2602E4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2DC55-3824-4440-AB29-2788B8CF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EC0F7-69CB-4AA4-800F-C24C7285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04E8D-42F7-4FF8-90D9-8A1BB7F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04C2A-6769-44DF-B93F-124E131A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AD3AE-4A06-4CB5-941D-B812CE3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48B-6DE4-4892-A612-89ACD861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84761-723B-453B-82D8-BA4E4583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23E4E-B3B1-41DF-970D-0E9CCA2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995C3-3A51-4C79-B652-6D90ED69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EC3AD-6C60-4842-9096-E7ACBA24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ADFA4-6648-4C21-A402-18AF9A2B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2E0-AC9C-406A-80DC-AB0005EF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284-9DA2-4D4A-9902-A10FCFB9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A3B-DD69-44BF-A9D1-219C3F31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085-597C-4A67-8355-35A76470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96E-3C01-4884-BDC1-A373898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06A-F7BB-41BA-B05D-E045B875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FFD-036F-4102-A73E-9B89FFC5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4CD2-E1FC-4C3E-AED9-7273CB10B2F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9C35-FF39-4EF7-9B71-B00ED995209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format specifiers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sted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de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85D-F8EA-4DF2-8312-F664B33FD3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1120" y="2286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F4D-7908-45E5-BBBB-5E5A5003DB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1120" y="22860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ABB-09F8-4D0E-A680-032EA38CFC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affect Python’s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rt with a ‘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’ sig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ange one value (at top of program) to change value everywhere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exible program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s rid of “magic number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Give a clear name/purpose to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D63-999D-401D-AA5A-A202DB622E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9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 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F57-09B1-4839-BBA5-646D6C2949D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/Us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is program do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figure it o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ould you do to improve the program’s readability and usabilit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57150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befo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afte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843-6998-4F9F-A945-F30FC2577E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ence Post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some posts and some beams to connect the posts, build a fence that is X fenceposts lo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6440" y="6248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ence_po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C56-CB04-4C93-B79F-A2B7CF2237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ing Students to Gro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a for loop and the modulo (%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B05-E6EB-41B7-B44C-26859CCA28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“Why You Can’t Cite Wikipedia in My Class”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25B-6E5B-46D9-929E-EE347C4E20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-like Review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want to use functions or constants that are defined in a module, what type of statement do you u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odule_example.py, when we computed e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20202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+ 1, the answer wasn’t 0.  Why?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269-A15C-41C4-8D44-30587658C6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str() construc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formatting options for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 over how output is displayed to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ight, center, left 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18D-55D0-4E99-975E-0E76E9ED22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nstructor/conver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when printing output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20A-127B-4632-9E7E-66EBA79C8A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+: include a sign before positive integ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118-5021-49D0-B62E-7F8085B21A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or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413-7A58-4E26-8CA5-30E6386FD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2880" y="22096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629040" y="609480"/>
            <a:ext cx="381240" cy="3124080"/>
          </a:xfrm>
          <a:custGeom>
            <a:avLst/>
            <a:gdLst>
              <a:gd name="textAreaLeft" fmla="*/ 0 w 381240"/>
              <a:gd name="textAreaRight" fmla="*/ 13752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53F-5D35-431E-9A43-01379FA8D1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For more info: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http://docs.python.org/lib/typesseq-strings.html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0" y="6245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mat_specifier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651-3035-40DD-9DB2-2DCD7D0FD7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94A-CA79-47CA-AA12-AF8F344270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02:42:01Z</dcterms:modified>
  <cp:revision>312</cp:revision>
  <dc:subject/>
  <dc:title>PowerPoint Presentation</dc:title>
</cp:coreProperties>
</file>