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772-9B7B-46B6-A63B-486D8F11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824-8454-48A5-A9EF-348DF7A2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A9B-DAB3-4648-A248-9AC35864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CFF-9729-4C5E-B7D6-7F433EB2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5F86B-879B-4BA2-B096-D431A609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F7DD2-964D-4FE2-87E1-D72D6B0C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F4E75-134B-4E03-B74A-DD4A0749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03AA9-229D-46A6-A731-C9B96A58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06876-BF81-400B-A6B2-E568C337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8C8AF-D003-4244-ACE7-C89BAF2C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FBDB1-0F14-45E0-95FC-7483B1EE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D47-5FF0-43D6-AA1F-030EC73F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B9EEF-4A13-437F-8D3E-9D3BCCB7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45A49-E943-42BE-9ADB-CD6AD1F9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84A0A-1758-4132-ABC3-64D4DC78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D5EAA-C3EA-484F-88D8-A475C3D4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DC466-6645-4B7B-906C-2F102E37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283-9FEF-409C-8410-17BD8794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D09-97CA-41C5-B55C-5DCEF00C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EE2-B239-4D71-9411-79243397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2D1-D9CA-4D66-9CDA-A739FF98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C81-36DA-41E5-A3CE-D176EDD2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D36-BC31-4479-A6E1-AE4FF3C1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3D8-4FCE-4941-A175-AE845CA1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3AE8E4-8AF9-4957-B8D2-0AF7BB987E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3514E-00CE-49AB-8CC6-CDE0F20A7D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492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1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tart on paper --&gt; Web, after log i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nux worksh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ogi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en brows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vigate to Lab 0, from “Schedule”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ntinue on Web-based Lab 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hy programming language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tart lab #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ortal account (Blog for “Broader CS Issues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Web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ext Edito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8606-CDD7-4F01-B3C9-1BFA3404514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5638680"/>
            <a:ext cx="5943600" cy="38124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70040" y="6102360"/>
            <a:ext cx="48628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000 00001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10 00110 00000 100000</a:t>
            </a:r>
            <a:endParaRPr b="0" lang="en-US" sz="19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100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103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n interpreter (a program)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3"/>
            <a:endCxn id="118" idx="1"/>
          </p:cNvCxnSpPr>
          <p:nvPr/>
        </p:nvCxnSpPr>
        <p:spPr>
          <a:xfrm>
            <a:off x="31237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23" idx="0"/>
            <a:endCxn id="118" idx="2"/>
          </p:cNvCxnSpPr>
          <p:nvPr/>
        </p:nvCxnSpPr>
        <p:spPr>
          <a:xfrm flipH="1" flipV="1">
            <a:off x="52952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1055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8" idx="3"/>
            <a:endCxn id="123" idx="3"/>
          </p:cNvCxnSpPr>
          <p:nvPr/>
        </p:nvCxnSpPr>
        <p:spPr>
          <a:xfrm>
            <a:off x="63241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8" idx="2"/>
            <a:endCxn id="120" idx="0"/>
          </p:cNvCxnSpPr>
          <p:nvPr/>
        </p:nvCxnSpPr>
        <p:spPr>
          <a:xfrm flipH="1">
            <a:off x="34286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26" name=""/>
          <p:cNvGrpSpPr/>
          <p:nvPr/>
        </p:nvGrpSpPr>
        <p:grpSpPr>
          <a:xfrm>
            <a:off x="4190760" y="2311560"/>
            <a:ext cx="4648680" cy="433800"/>
            <a:chOff x="4190760" y="2311560"/>
            <a:chExt cx="4648680" cy="433800"/>
          </a:xfrm>
        </p:grpSpPr>
        <p:sp>
          <p:nvSpPr>
            <p:cNvPr id="127" name=""/>
            <p:cNvSpPr/>
            <p:nvPr/>
          </p:nvSpPr>
          <p:spPr>
            <a:xfrm>
              <a:off x="48625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1907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086600" y="4267080"/>
            <a:ext cx="19051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ly if no syntax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3" idx="3"/>
            <a:endCxn id="132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7" idx="0"/>
            <a:endCxn id="132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2" idx="3"/>
            <a:endCxn id="137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2" idx="2"/>
            <a:endCxn id="134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40" name=""/>
          <p:cNvGrpSpPr/>
          <p:nvPr/>
        </p:nvGrpSpPr>
        <p:grpSpPr>
          <a:xfrm>
            <a:off x="4495320" y="2311560"/>
            <a:ext cx="4648680" cy="433800"/>
            <a:chOff x="4495320" y="2311560"/>
            <a:chExt cx="4648680" cy="433800"/>
          </a:xfrm>
        </p:grpSpPr>
        <p:sp>
          <p:nvSpPr>
            <p:cNvPr id="141" name=""/>
            <p:cNvSpPr/>
            <p:nvPr/>
          </p:nvSpPr>
          <p:spPr>
            <a:xfrm>
              <a:off x="516708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49532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12760" y="5248440"/>
            <a:ext cx="2987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7" idx="3"/>
            <a:endCxn id="146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51" idx="0"/>
            <a:endCxn id="146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3"/>
            <a:endCxn id="147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46" idx="3"/>
            <a:endCxn id="151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6" idx="2"/>
            <a:endCxn id="148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2DD-F3CE-4969-AEDA-EB0D5579529F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1T17:22:27Z</dcterms:modified>
  <cp:revision>241</cp:revision>
  <dc:subject/>
  <dc:title>Intro to Java</dc:title>
</cp:coreProperties>
</file>