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B5AD-B7CD-4F94-87E8-F71180666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1483-3F0A-497F-B24D-9C035D1ED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FCF5-EF03-4F9D-B594-0328B294B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CE79-AA80-492E-B1FF-2FA2D9B4C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8DF1F1-CEC8-45A0-9660-CB6D9A32E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3D2E4A-BFFB-4554-95AC-B7C60BC16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7F9712-D77B-446F-AFC5-ADADEFEF6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26236A-A9FE-4E9A-BB48-C97621133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1A8F68-9C5D-4F03-B9B2-D6C11812B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0FA7A5-BD89-4348-8D47-4A5051A75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797BC0-0FE3-4C2E-AF4F-215D1537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26F6-6452-4395-B9E9-97E50F30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3E1DB4-3C88-4341-89BC-829D44BD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39FF3B-C29F-4DEC-B345-ACA0BC3E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461521-CDA8-42EE-9911-C91409027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47673A-7504-402B-B370-094DE1EF5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30AEE3-1CFE-477D-8DD0-0A58F67D9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9C0B-B84F-431F-9948-6141753D0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5A27-3F0B-4B1D-A315-5B5242B57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E37B-6991-41E3-BDBD-498DD412D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25CC-B120-418A-9AA8-0A345B6D1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DD81-64AB-430B-A42B-10481ACA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3C16-F3AA-4491-9652-B1A953DE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D811-ACF8-416B-B589-D6D794A4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ept 28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8950E-B587-4FD7-8661-AB8D3D71FC6F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5AC84-DFC1-4CA1-9203-DBAAF13ACBED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re on conditional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definite Lo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ikipedia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F416-9259-4E7E-9441-AFA3CC4049B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More Complex Condi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17b8"/>
                </a:solidFill>
                <a:latin typeface="Arial"/>
              </a:rPr>
              <a:t>Boolean</a:t>
            </a:r>
            <a:endParaRPr b="0" lang="en-US" sz="30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4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199"/>
                </a:solidFill>
                <a:latin typeface="Arial"/>
              </a:rPr>
              <a:t>Two logical values: True and False</a:t>
            </a:r>
            <a:endParaRPr b="0" lang="en-US" sz="26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20202"/>
                </a:solidFill>
                <a:latin typeface="Arial"/>
              </a:rPr>
              <a:t>Combine conditions with </a:t>
            </a:r>
            <a:r>
              <a:rPr b="0" lang="en-US" sz="3000" spc="-1" strike="noStrike">
                <a:solidFill>
                  <a:srgbClr val="2017b8"/>
                </a:solidFill>
                <a:latin typeface="Arial"/>
              </a:rPr>
              <a:t>Boolean operators</a:t>
            </a:r>
            <a:endParaRPr b="0" lang="en-US" sz="30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75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199"/>
                </a:solidFill>
                <a:latin typeface="Courier New"/>
              </a:rPr>
              <a:t>and</a:t>
            </a:r>
            <a:r>
              <a:rPr b="0" lang="en-US" sz="3000" spc="-1" strike="noStrike">
                <a:solidFill>
                  <a:srgbClr val="010199"/>
                </a:solidFill>
                <a:latin typeface="Arial"/>
              </a:rPr>
              <a:t> – True only if </a:t>
            </a:r>
            <a:r>
              <a:rPr b="1" lang="en-US" sz="3000" spc="-1" strike="noStrike">
                <a:solidFill>
                  <a:srgbClr val="010199"/>
                </a:solidFill>
                <a:latin typeface="Arial"/>
              </a:rPr>
              <a:t>both</a:t>
            </a:r>
            <a:r>
              <a:rPr b="0" lang="en-US" sz="3000" spc="-1" strike="noStrike">
                <a:solidFill>
                  <a:srgbClr val="010199"/>
                </a:solidFill>
                <a:latin typeface="Arial"/>
              </a:rPr>
              <a:t> operands are True</a:t>
            </a:r>
            <a:endParaRPr b="0" lang="en-US" sz="30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75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199"/>
                </a:solidFill>
                <a:latin typeface="Courier New"/>
              </a:rPr>
              <a:t>or</a:t>
            </a:r>
            <a:r>
              <a:rPr b="0" lang="en-US" sz="3000" spc="-1" strike="noStrike">
                <a:solidFill>
                  <a:srgbClr val="010199"/>
                </a:solidFill>
                <a:latin typeface="Arial"/>
              </a:rPr>
              <a:t> – True if </a:t>
            </a:r>
            <a:r>
              <a:rPr b="1" lang="en-US" sz="3000" spc="-1" strike="noStrike">
                <a:solidFill>
                  <a:srgbClr val="010199"/>
                </a:solidFill>
                <a:latin typeface="Arial"/>
              </a:rPr>
              <a:t>at least</a:t>
            </a:r>
            <a:r>
              <a:rPr b="0" lang="en-US" sz="3000" spc="-1" strike="noStrike">
                <a:solidFill>
                  <a:srgbClr val="010199"/>
                </a:solidFill>
                <a:latin typeface="Arial"/>
              </a:rPr>
              <a:t> one operand is True</a:t>
            </a:r>
            <a:endParaRPr b="0" lang="en-US" sz="30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64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199"/>
                </a:solidFill>
                <a:latin typeface="Courier New"/>
              </a:rPr>
              <a:t>not</a:t>
            </a:r>
            <a:r>
              <a:rPr b="0" lang="en-US" sz="3000" spc="-1" strike="noStrike">
                <a:solidFill>
                  <a:srgbClr val="010199"/>
                </a:solidFill>
                <a:latin typeface="Arial"/>
              </a:rPr>
              <a:t> – True if the operand is not True</a:t>
            </a:r>
            <a:r>
              <a:rPr b="0" lang="en-US" sz="2600" spc="-1" strike="noStrike">
                <a:solidFill>
                  <a:srgbClr val="01019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20202"/>
                </a:solidFill>
                <a:latin typeface="Arial"/>
              </a:rPr>
              <a:t>English examples</a:t>
            </a:r>
            <a:endParaRPr b="0" lang="en-US" sz="30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it is raining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and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it is col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it is Saturday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or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it is Sunda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8192-535D-4588-99DC-772060FEF9A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ruth Tab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52280" y="1863720"/>
          <a:ext cx="8793360" cy="326232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1523880"/>
                <a:gridCol w="1173240"/>
                <a:gridCol w="876240"/>
                <a:gridCol w="876240"/>
                <a:gridCol w="1433520"/>
                <a:gridCol w="1386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 </a:t>
                      </a: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nd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 </a:t>
                      </a: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or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A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A </a:t>
                      </a: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nd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 </a:t>
                      </a: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or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</a:tr>
              <a:tr h="57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7400" y="1371960"/>
            <a:ext cx="15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operand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8819-5EDE-4C2C-9DE8-50BF7DB2475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ruth Tab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52280" y="1863720"/>
          <a:ext cx="8793360" cy="326232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1523880"/>
                <a:gridCol w="1173240"/>
                <a:gridCol w="876240"/>
                <a:gridCol w="876240"/>
                <a:gridCol w="1433520"/>
                <a:gridCol w="1386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 </a:t>
                      </a: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nd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 </a:t>
                      </a: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or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A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A </a:t>
                      </a: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nd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 </a:t>
                      </a: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or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</a:tr>
              <a:tr h="57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7400" y="1368720"/>
            <a:ext cx="15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operand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B151-EDFA-4E53-8AD6-0A288091027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is the output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x = 2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y = 3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z = 4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b = x==2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c = not b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d = (y&lt;4) and (z&lt;3)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d = (y&lt;4) or (z&lt;3)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d = not d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print b, c, d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58440" y="6248520"/>
            <a:ext cx="20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eval_cond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385F-7BCC-4548-9EFD-B188F38426D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: Numeric Grade Input Rang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nforce that user must input a numeric grade between 0 and 100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ing </a:t>
            </a:r>
            <a:r>
              <a:rPr b="1" lang="en-US" sz="2800" spc="-1" strike="noStrike">
                <a:solidFill>
                  <a:srgbClr val="010199"/>
                </a:solidFill>
                <a:latin typeface="Courier New"/>
              </a:rPr>
              <a:t>an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ing </a:t>
            </a:r>
            <a:r>
              <a:rPr b="1" lang="en-US" sz="2800" spc="-1" strike="noStrike">
                <a:solidFill>
                  <a:srgbClr val="010199"/>
                </a:solidFill>
                <a:latin typeface="Courier New"/>
              </a:rPr>
              <a:t>o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63B0-1E5B-46F0-B551-DD7C5135D7A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hort-circuit Evalua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on’t necessarily need to evaluate all expressions in a compound express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A and B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A is false, compound expression is fals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A or B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A is true, compound expression is tru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o need to evaluate B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ut more important/limiting expression firs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87320" y="5516640"/>
            <a:ext cx="481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f count &gt; 0 </a:t>
            </a: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and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sum/count &gt; 10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do something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E1CA-CD7A-4537-96C8-EF579000B6D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ndefinite Loop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loops are </a:t>
            </a:r>
            <a:r>
              <a:rPr b="1" i="1" lang="en-US" sz="3200" spc="-1" strike="noStrike">
                <a:solidFill>
                  <a:srgbClr val="010199"/>
                </a:solidFill>
                <a:latin typeface="Arial"/>
              </a:rPr>
              <a:t>definit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o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ecute a fixed number of tim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definite loops: keeps iterating until certain conditions are me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pending on condition, no guarantee in advance of how many times the loop body will be execute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FCAB-0701-4496-ADFD-15653F3CCDA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ile Loop Syntax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9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while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017b8"/>
                </a:solidFill>
                <a:latin typeface="Arial"/>
              </a:rPr>
              <a:t>condition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0"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20202"/>
                </a:solidFill>
                <a:latin typeface="Arial"/>
              </a:rPr>
              <a:t>statements</a:t>
            </a:r>
            <a:endParaRPr b="0" lang="en-US" sz="3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3048120"/>
            <a:ext cx="8915400" cy="14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Like a looped </a:t>
            </a:r>
            <a:r>
              <a:rPr b="1" lang="en-US" sz="3200" spc="-1" strike="noStrike">
                <a:solidFill>
                  <a:srgbClr val="00c600"/>
                </a:solidFill>
                <a:latin typeface="Tahoma"/>
              </a:rPr>
              <a:t>if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 statement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Execute statements only when condition is true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70320" y="1600560"/>
            <a:ext cx="281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body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of while loop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3276360" y="1828800"/>
            <a:ext cx="1981080" cy="152280"/>
          </a:xfrm>
          <a:prstGeom prst="line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059B-07E6-408A-9622-2E369ABCB55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ile Loop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94240" y="2971800"/>
            <a:ext cx="358128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 “i equals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0" y="1981080"/>
            <a:ext cx="342900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 &lt; 1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73" name=""/>
          <p:cNvCxnSpPr>
            <a:stCxn id="172" idx="2"/>
            <a:endCxn id="171" idx="0"/>
          </p:cNvCxnSpPr>
          <p:nvPr/>
        </p:nvCxnSpPr>
        <p:spPr>
          <a:xfrm flipH="1">
            <a:off x="6284160" y="2452680"/>
            <a:ext cx="2520" cy="50544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72" idx="1"/>
          </p:cNvCxnSpPr>
          <p:nvPr/>
        </p:nvCxnSpPr>
        <p:spPr>
          <a:xfrm flipV="1" rot="16200000">
            <a:off x="4270680" y="2495880"/>
            <a:ext cx="2300760" cy="1728000"/>
          </a:xfrm>
          <a:prstGeom prst="bentConnector4">
            <a:avLst>
              <a:gd name="adj1" fmla="val -20845"/>
              <a:gd name="adj2" fmla="val 124255"/>
            </a:avLst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76" name=""/>
          <p:cNvSpPr/>
          <p:nvPr/>
        </p:nvSpPr>
        <p:spPr>
          <a:xfrm>
            <a:off x="4646520" y="990720"/>
            <a:ext cx="327672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 = 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324120" y="2435400"/>
            <a:ext cx="8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982280" y="170172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256360" y="4038480"/>
            <a:ext cx="205740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+=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79" name=""/>
          <p:cNvCxnSpPr>
            <a:stCxn id="171" idx="2"/>
            <a:endCxn id="175" idx="0"/>
          </p:cNvCxnSpPr>
          <p:nvPr/>
        </p:nvCxnSpPr>
        <p:spPr>
          <a:xfrm>
            <a:off x="6284520" y="3443400"/>
            <a:ext cx="1080" cy="5814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76" idx="2"/>
            <a:endCxn id="172" idx="0"/>
          </p:cNvCxnSpPr>
          <p:nvPr/>
        </p:nvCxnSpPr>
        <p:spPr>
          <a:xfrm>
            <a:off x="6284520" y="1461600"/>
            <a:ext cx="2520" cy="5058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81" name=""/>
          <p:cNvSpPr/>
          <p:nvPr/>
        </p:nvSpPr>
        <p:spPr>
          <a:xfrm>
            <a:off x="4722840" y="5486400"/>
            <a:ext cx="289548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 “Done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82" name=""/>
          <p:cNvCxnSpPr/>
          <p:nvPr/>
        </p:nvCxnSpPr>
        <p:spPr>
          <a:xfrm flipH="1">
            <a:off x="6170400" y="2209680"/>
            <a:ext cx="1845360" cy="3263040"/>
          </a:xfrm>
          <a:prstGeom prst="bentConnector4">
            <a:avLst>
              <a:gd name="adj1" fmla="val -24351"/>
              <a:gd name="adj2" fmla="val 92596"/>
            </a:avLst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83" name=""/>
          <p:cNvSpPr/>
          <p:nvPr/>
        </p:nvSpPr>
        <p:spPr>
          <a:xfrm>
            <a:off x="76320" y="1447920"/>
            <a:ext cx="411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i = 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while i &lt; 10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“i equals 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i+=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“Done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809880"/>
            <a:ext cx="4114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Questions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020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How many times will “i” get printed out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020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How many times is the condition evaluated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020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What is the value of i after the loop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677920" y="6321600"/>
            <a:ext cx="20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whilevsfor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170D-D719-4155-94E1-9EC7CB8CF0A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ile Loop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4494240" y="2971800"/>
            <a:ext cx="358128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 “i equals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0" y="1981080"/>
            <a:ext cx="342900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 &lt; 1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89" name=""/>
          <p:cNvCxnSpPr>
            <a:stCxn id="188" idx="2"/>
            <a:endCxn id="187" idx="0"/>
          </p:cNvCxnSpPr>
          <p:nvPr/>
        </p:nvCxnSpPr>
        <p:spPr>
          <a:xfrm flipH="1">
            <a:off x="6284160" y="2452680"/>
            <a:ext cx="2520" cy="50544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90" name=""/>
          <p:cNvCxnSpPr>
            <a:stCxn id="191" idx="2"/>
            <a:endCxn id="188" idx="1"/>
          </p:cNvCxnSpPr>
          <p:nvPr/>
        </p:nvCxnSpPr>
        <p:spPr>
          <a:xfrm flipV="1" rot="16200000">
            <a:off x="4270680" y="2495880"/>
            <a:ext cx="2300760" cy="1728000"/>
          </a:xfrm>
          <a:prstGeom prst="bentConnector4">
            <a:avLst>
              <a:gd name="adj1" fmla="val -20845"/>
              <a:gd name="adj2" fmla="val 124255"/>
            </a:avLst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92" name=""/>
          <p:cNvSpPr/>
          <p:nvPr/>
        </p:nvSpPr>
        <p:spPr>
          <a:xfrm>
            <a:off x="4646520" y="990720"/>
            <a:ext cx="327672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 = 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120" y="2435400"/>
            <a:ext cx="8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982280" y="170172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256360" y="4038480"/>
            <a:ext cx="205740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+=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87" idx="2"/>
            <a:endCxn id="191" idx="0"/>
          </p:cNvCxnSpPr>
          <p:nvPr/>
        </p:nvCxnSpPr>
        <p:spPr>
          <a:xfrm>
            <a:off x="6284520" y="3443400"/>
            <a:ext cx="1080" cy="5814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96" name=""/>
          <p:cNvCxnSpPr>
            <a:stCxn id="192" idx="2"/>
            <a:endCxn id="188" idx="0"/>
          </p:cNvCxnSpPr>
          <p:nvPr/>
        </p:nvCxnSpPr>
        <p:spPr>
          <a:xfrm>
            <a:off x="6284520" y="1461600"/>
            <a:ext cx="2520" cy="5058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97" name=""/>
          <p:cNvSpPr/>
          <p:nvPr/>
        </p:nvSpPr>
        <p:spPr>
          <a:xfrm>
            <a:off x="4722840" y="5486400"/>
            <a:ext cx="289548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 “Done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98" name=""/>
          <p:cNvCxnSpPr/>
          <p:nvPr/>
        </p:nvCxnSpPr>
        <p:spPr>
          <a:xfrm flipH="1">
            <a:off x="6170400" y="2209680"/>
            <a:ext cx="1845360" cy="3263040"/>
          </a:xfrm>
          <a:prstGeom prst="bentConnector4">
            <a:avLst>
              <a:gd name="adj1" fmla="val -24351"/>
              <a:gd name="adj2" fmla="val 92596"/>
            </a:avLst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99" name=""/>
          <p:cNvSpPr/>
          <p:nvPr/>
        </p:nvSpPr>
        <p:spPr>
          <a:xfrm>
            <a:off x="76320" y="1447920"/>
            <a:ext cx="411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i = 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while i &lt; 10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“i equals 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i+=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“Done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3809880"/>
            <a:ext cx="4114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Questions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020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How many times will “i” get printed out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020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How many times is the condition evaluated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020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What is the value of i after the loop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677920" y="6321600"/>
            <a:ext cx="20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whilevsfor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752480" y="91584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nitialize i before using in conditio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838080" y="1143000"/>
            <a:ext cx="914400" cy="380880"/>
          </a:xfrm>
          <a:prstGeom prst="line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EA9D-5ED6-4772-B5F4-D40BDC9B367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Quick Trick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inting the same string repeatedl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e the * operator for string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Quick way to draw the line in the multiplication tab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01800" y="3962520"/>
            <a:ext cx="314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for x in xrange(0,14)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tr += “-”*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int st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41DB-0907-43E3-BF1B-4E7D79AB98B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Will This Loop Do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unt = 1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ile count &gt; 0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int coun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unt += 1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3FC4-A0F9-4B7E-8ADE-45EADFDF100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nfinite Loop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ndition will never be false so keeps execut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o stop an executing program in Linux us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ntrol-C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F996-8078-4488-900B-1C2F28ABBBB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S Issue: Citing Wikipedia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were the major issues that the article brought up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does this article relate to this course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0200" y="4525920"/>
            <a:ext cx="129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Jennif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Maya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Will 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Mat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661120" y="4530600"/>
            <a:ext cx="103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Keit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Cath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Oliv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237640" y="4518000"/>
            <a:ext cx="111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lyse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Laura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Will 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262B-46BB-4FB3-ADD5-1CCC5CAD095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Google Algorithm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oogle founders: Larry Page and Sergey Bri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tanford CS graduate studen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ttp://infolab.stanford.edu/~backrub/google.html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ased on PageRank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a href=“webpage”&gt;description&lt;/a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ages linked with same description most get higher rank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ank pages linked from highly-ranked pages high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11B8-A78F-49AA-AB93-790D3BACD02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ikiScann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Virgil Griffith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rad student, trouble maker :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lso discovered vulnerabilities in Blackboar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mbines information from two databas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P addresses of anonymous edi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P addresses belong to what compani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510160" y="6324480"/>
            <a:ext cx="21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resolve_ips.s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3DC4-1CEB-40C8-8E42-CBA6C97A605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Google uses Linux Clust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eed high-performance cluster, high up-tim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erform various function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Load balanc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eb server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ata-gathering (spidering the Web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…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DD80-3678-4895-AC00-EC8853D3268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Relational Operato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yntax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75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10199"/>
                </a:solidFill>
                <a:latin typeface="Arial"/>
              </a:rPr>
              <a:t>&lt;expression&gt; &lt;relational_operator&gt;&lt;expression&gt;</a:t>
            </a:r>
            <a:endParaRPr b="0" lang="en-US" sz="2700" spc="-1" strike="noStrike">
              <a:solidFill>
                <a:srgbClr val="010199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219320" y="2362320"/>
          <a:ext cx="6858000" cy="4049640"/>
        </p:xfrm>
        <a:graphic>
          <a:graphicData uri="http://schemas.openxmlformats.org/drawingml/2006/table">
            <a:tbl>
              <a:tblPr/>
              <a:tblGrid>
                <a:gridCol w="2133360"/>
                <a:gridCol w="47246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Relational Operator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Meaning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ess than?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=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ess than or equal to?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gt;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Greater than?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gt;=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Greater than or equal to?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==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quals?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!=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Not equals?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 rot="16200000">
            <a:off x="-632880" y="4582080"/>
            <a:ext cx="26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Low precedenc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75E6-A11A-4677-B18A-9B71479BFD0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f-Else-If statement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1676520"/>
            <a:ext cx="198144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if x % 2 == 0 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2895480"/>
            <a:ext cx="16002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x is even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2"/>
            <a:endCxn id="93" idx="0"/>
          </p:cNvCxnSpPr>
          <p:nvPr/>
        </p:nvCxnSpPr>
        <p:spPr>
          <a:xfrm flipH="1">
            <a:off x="952200" y="2146320"/>
            <a:ext cx="876960" cy="73728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95" name=""/>
          <p:cNvSpPr/>
          <p:nvPr/>
        </p:nvSpPr>
        <p:spPr>
          <a:xfrm>
            <a:off x="2057400" y="2895480"/>
            <a:ext cx="182880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if x % 3 == 0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2" idx="2"/>
            <a:endCxn id="95" idx="0"/>
          </p:cNvCxnSpPr>
          <p:nvPr/>
        </p:nvCxnSpPr>
        <p:spPr>
          <a:xfrm>
            <a:off x="1828440" y="2146320"/>
            <a:ext cx="1143720" cy="73728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228600" y="5715000"/>
            <a:ext cx="198108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ext statement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93" idx="2"/>
            <a:endCxn id="97" idx="0"/>
          </p:cNvCxnSpPr>
          <p:nvPr/>
        </p:nvCxnSpPr>
        <p:spPr>
          <a:xfrm>
            <a:off x="952200" y="3365280"/>
            <a:ext cx="267120" cy="233748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5" idx="2"/>
            <a:endCxn id="100" idx="0"/>
          </p:cNvCxnSpPr>
          <p:nvPr/>
        </p:nvCxnSpPr>
        <p:spPr>
          <a:xfrm flipH="1">
            <a:off x="2552400" y="3365640"/>
            <a:ext cx="419760" cy="6606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635040" y="229860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00560" y="228600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19720" y="990720"/>
            <a:ext cx="4572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Tahoma"/>
              </a:rPr>
              <a:t>if x %2 == 0 : 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10199"/>
                </a:solidFill>
                <a:latin typeface="Tahoma"/>
              </a:rPr>
              <a:t>print x, “is a multiple of 2”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Tahoma"/>
              </a:rPr>
              <a:t>elif x%3==0 : 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10199"/>
                </a:solidFill>
                <a:latin typeface="Tahoma"/>
              </a:rPr>
              <a:t>print x, “ is a multiple of 3”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Tahoma"/>
              </a:rPr>
              <a:t>els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 lvl="2" marL="395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Tahoma"/>
              </a:rPr>
              <a:t>print x, “is not a multiple of 2 or 3”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4038480"/>
            <a:ext cx="236232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x is a multiple of 3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121120" y="344160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038480" y="3886200"/>
            <a:ext cx="2210040" cy="76212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x is not a 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multiple of 2 or 3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5" idx="2"/>
            <a:endCxn id="105" idx="0"/>
          </p:cNvCxnSpPr>
          <p:nvPr/>
        </p:nvCxnSpPr>
        <p:spPr>
          <a:xfrm>
            <a:off x="2971440" y="3365280"/>
            <a:ext cx="2172600" cy="50868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0" idx="2"/>
            <a:endCxn id="97" idx="0"/>
          </p:cNvCxnSpPr>
          <p:nvPr/>
        </p:nvCxnSpPr>
        <p:spPr>
          <a:xfrm flipH="1">
            <a:off x="1218960" y="4508640"/>
            <a:ext cx="1334160" cy="119448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2"/>
            <a:endCxn id="97" idx="0"/>
          </p:cNvCxnSpPr>
          <p:nvPr/>
        </p:nvCxnSpPr>
        <p:spPr>
          <a:xfrm flipH="1">
            <a:off x="1218600" y="4660560"/>
            <a:ext cx="3925080" cy="10422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4057920" y="327672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98F9-13A8-447E-A543-373D1CAEB4A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the building blocks: nesting if-else statement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319320" y="1298520"/>
            <a:ext cx="3620520" cy="31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f 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condition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f </a:t>
            </a:r>
            <a:r>
              <a:rPr b="0" lang="en-US" sz="2400" spc="-1" strike="noStrike">
                <a:solidFill>
                  <a:srgbClr val="2017b8"/>
                </a:solidFill>
                <a:latin typeface="Tahoma"/>
              </a:rPr>
              <a:t>condition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else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else 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86200" y="1752480"/>
            <a:ext cx="304920" cy="1905120"/>
          </a:xfrm>
          <a:custGeom>
            <a:avLst/>
            <a:gdLst>
              <a:gd name="textAreaLeft" fmla="*/ 0 w 304920"/>
              <a:gd name="textAreaRight" fmla="*/ 110160 w 30492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67080" y="2362320"/>
            <a:ext cx="403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if-else statement is </a:t>
            </a:r>
            <a:r>
              <a:rPr b="1" lang="en-US" sz="2400" spc="-1" strike="noStrike">
                <a:solidFill>
                  <a:srgbClr val="6699ff"/>
                </a:solidFill>
                <a:latin typeface="Tahoma"/>
              </a:rPr>
              <a:t>nested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inside the if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3480-E1EB-410C-8BAF-F0988A2AE7F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the building blocks: nesting if-else statement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319320" y="1298520"/>
            <a:ext cx="3620520" cy="35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f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condition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else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f </a:t>
            </a:r>
            <a:r>
              <a:rPr b="0" lang="en-US" sz="2400" spc="-1" strike="noStrike">
                <a:solidFill>
                  <a:srgbClr val="2017b8"/>
                </a:solidFill>
                <a:latin typeface="Tahoma"/>
              </a:rPr>
              <a:t>condition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else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2590920"/>
            <a:ext cx="380880" cy="2057400"/>
          </a:xfrm>
          <a:custGeom>
            <a:avLst/>
            <a:gdLst>
              <a:gd name="textAreaLeft" fmla="*/ 0 w 380880"/>
              <a:gd name="textAreaRight" fmla="*/ 137520 w 3808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19720" y="328608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if-else statement is </a:t>
            </a:r>
            <a:r>
              <a:rPr b="1" lang="en-US" sz="2400" spc="-1" strike="noStrike">
                <a:solidFill>
                  <a:srgbClr val="6699ff"/>
                </a:solidFill>
                <a:latin typeface="Tahoma"/>
              </a:rPr>
              <a:t>nested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inside the el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9880" y="4933800"/>
            <a:ext cx="472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This structure can be rewritten as an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f-elif-else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statemen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FC37-97DA-4FC1-91CB-896909E0A43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Modify: Check for Other Bad Inpu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print "This program determines your birth year"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print "given your age and current year"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print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age = input("Enter your age &gt;&gt; "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if age &gt; 110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print "Don't be ridiculous, you can't be that old."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else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currentYear = input("Enter the current year &gt;&gt; "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birthyear = currentYear - age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print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print "You were either born in", birthyear, "or", birthyear-1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0F25-B65C-4F89-A413-681C811ACDC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: Numeric to Letter Grad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termine if a numeric grade is a letter grade  (A, B, C, D, or F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066680" y="2685960"/>
          <a:ext cx="6858000" cy="310500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Numeric Grade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etter Grade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90 and above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80 to below 90 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70 to below 8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60 to below 7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Below 6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E214-F66C-4392-8F82-423B63B2723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esting with If Statement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ake sure have test cases that execute each branch in control flow diagra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.e., Each execution path is “covered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828800" y="2666880"/>
            <a:ext cx="198108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if x % 2 == 0 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3733920"/>
            <a:ext cx="16002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x is even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26" idx="2"/>
            <a:endCxn id="127" idx="0"/>
          </p:cNvCxnSpPr>
          <p:nvPr/>
        </p:nvCxnSpPr>
        <p:spPr>
          <a:xfrm flipH="1">
            <a:off x="1942920" y="3137040"/>
            <a:ext cx="876960" cy="58464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3048120" y="3733920"/>
            <a:ext cx="182880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if x % 3 == 0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26" idx="2"/>
            <a:endCxn id="129" idx="0"/>
          </p:cNvCxnSpPr>
          <p:nvPr/>
        </p:nvCxnSpPr>
        <p:spPr>
          <a:xfrm>
            <a:off x="2819160" y="3137040"/>
            <a:ext cx="1143720" cy="58464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295280" y="5943600"/>
            <a:ext cx="198144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ext statement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32" name=""/>
          <p:cNvCxnSpPr>
            <a:stCxn id="127" idx="2"/>
            <a:endCxn id="131" idx="0"/>
          </p:cNvCxnSpPr>
          <p:nvPr/>
        </p:nvCxnSpPr>
        <p:spPr>
          <a:xfrm>
            <a:off x="1943280" y="4203720"/>
            <a:ext cx="343440" cy="17280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2"/>
            <a:endCxn id="134" idx="0"/>
          </p:cNvCxnSpPr>
          <p:nvPr/>
        </p:nvCxnSpPr>
        <p:spPr>
          <a:xfrm flipH="1">
            <a:off x="3543120" y="4203720"/>
            <a:ext cx="419760" cy="6606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1625760" y="328932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91280" y="327672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62320" y="4876920"/>
            <a:ext cx="236196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x is a multiple of 3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11840" y="428004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4724280"/>
            <a:ext cx="2209680" cy="76212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x is not a 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multiple of 2 or 3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39" name=""/>
          <p:cNvCxnSpPr>
            <a:stCxn id="129" idx="2"/>
            <a:endCxn id="138" idx="0"/>
          </p:cNvCxnSpPr>
          <p:nvPr/>
        </p:nvCxnSpPr>
        <p:spPr>
          <a:xfrm>
            <a:off x="3962520" y="4203360"/>
            <a:ext cx="2171880" cy="50868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40" name=""/>
          <p:cNvCxnSpPr>
            <a:stCxn id="134" idx="2"/>
            <a:endCxn id="131" idx="0"/>
          </p:cNvCxnSpPr>
          <p:nvPr/>
        </p:nvCxnSpPr>
        <p:spPr>
          <a:xfrm flipH="1">
            <a:off x="2285280" y="5346360"/>
            <a:ext cx="1258200" cy="5850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38" idx="2"/>
            <a:endCxn id="131" idx="0"/>
          </p:cNvCxnSpPr>
          <p:nvPr/>
        </p:nvCxnSpPr>
        <p:spPr>
          <a:xfrm flipH="1">
            <a:off x="2285280" y="5499000"/>
            <a:ext cx="3848760" cy="43272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5048640" y="411480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59000" y="3048120"/>
            <a:ext cx="1307880" cy="2895480"/>
          </a:xfrm>
          <a:custGeom>
            <a:avLst/>
            <a:gdLst/>
            <a:ahLst/>
            <a:rect l="l" t="t" r="r" b="b"/>
            <a:pathLst>
              <a:path w="824" h="1824">
                <a:moveTo>
                  <a:pt x="824" y="0"/>
                </a:moveTo>
                <a:cubicBezTo>
                  <a:pt x="516" y="64"/>
                  <a:pt x="208" y="128"/>
                  <a:pt x="104" y="432"/>
                </a:cubicBezTo>
                <a:cubicBezTo>
                  <a:pt x="0" y="736"/>
                  <a:pt x="184" y="1592"/>
                  <a:pt x="200" y="1824"/>
                </a:cubicBezTo>
              </a:path>
            </a:pathLst>
          </a:custGeom>
          <a:noFill/>
          <a:ln w="38160">
            <a:solidFill>
              <a:srgbClr val="00c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09680" y="3048120"/>
            <a:ext cx="1511280" cy="2895480"/>
          </a:xfrm>
          <a:custGeom>
            <a:avLst/>
            <a:gdLst/>
            <a:ahLst/>
            <a:rect l="l" t="t" r="r" b="b"/>
            <a:pathLst>
              <a:path w="952" h="1824">
                <a:moveTo>
                  <a:pt x="384" y="0"/>
                </a:moveTo>
                <a:cubicBezTo>
                  <a:pt x="628" y="132"/>
                  <a:pt x="872" y="264"/>
                  <a:pt x="912" y="480"/>
                </a:cubicBezTo>
                <a:cubicBezTo>
                  <a:pt x="952" y="696"/>
                  <a:pt x="776" y="1072"/>
                  <a:pt x="624" y="1296"/>
                </a:cubicBezTo>
                <a:cubicBezTo>
                  <a:pt x="472" y="1520"/>
                  <a:pt x="236" y="1672"/>
                  <a:pt x="0" y="1824"/>
                </a:cubicBezTo>
              </a:path>
            </a:pathLst>
          </a:custGeom>
          <a:noFill/>
          <a:ln w="38160">
            <a:solidFill>
              <a:srgbClr val="00c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8120" y="3048120"/>
            <a:ext cx="2717640" cy="2895480"/>
          </a:xfrm>
          <a:custGeom>
            <a:avLst/>
            <a:gdLst/>
            <a:ahLst/>
            <a:rect l="l" t="t" r="r" b="b"/>
            <a:pathLst>
              <a:path w="1712" h="1824">
                <a:moveTo>
                  <a:pt x="144" y="0"/>
                </a:moveTo>
                <a:cubicBezTo>
                  <a:pt x="336" y="188"/>
                  <a:pt x="528" y="376"/>
                  <a:pt x="768" y="576"/>
                </a:cubicBezTo>
                <a:cubicBezTo>
                  <a:pt x="1008" y="776"/>
                  <a:pt x="1712" y="992"/>
                  <a:pt x="1584" y="1200"/>
                </a:cubicBezTo>
                <a:cubicBezTo>
                  <a:pt x="1456" y="1408"/>
                  <a:pt x="728" y="1616"/>
                  <a:pt x="0" y="1824"/>
                </a:cubicBezTo>
              </a:path>
            </a:pathLst>
          </a:custGeom>
          <a:noFill/>
          <a:ln w="38160">
            <a:solidFill>
              <a:srgbClr val="00c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693040" y="3124080"/>
            <a:ext cx="337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hree execution path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AD36-B366-4602-BDB0-17E4B12464A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dcterms:modified xsi:type="dcterms:W3CDTF">2007-10-04T19:07:35Z</dcterms:modified>
  <cp:revision>667</cp:revision>
  <dc:subject/>
  <dc:title>PowerPoint Presentation</dc:title>
</cp:coreProperties>
</file>